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839-48F4-4D09-8F81-14CCA502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5D-4FB8-4203-BBC5-F759788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BE5-C3E8-4D53-A51D-32805DD3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911-00DC-40D9-B045-F27ED82B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840-C0CC-44A9-961F-5991A3D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1C0-0347-4A52-B583-60A55313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C16-6EC4-4357-8430-98F8DBA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3ED-F551-4BBF-BF99-A23A044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D33-4543-4CDA-AEEA-AA65F3A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956-DD0D-4291-990B-C77D59D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AA8-E97B-4F7B-BC97-34CDBD3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ADA-8A5B-4DD1-B332-3BA34B4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C19-2C4E-41B2-B21C-C0D02F269E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灰黄羽毛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9800" y="155700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E54-8098-4E55-AA0C-C74D3E944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6:17:03Z</dcterms:created>
  <dc:creator>http://www.eeppt.com</dc:creator>
  <dc:description>ppt模板下载网站 http://www.eeppt.com</dc:description>
  <dc:language>en-US</dc:language>
  <cp:lastModifiedBy/>
  <dcterms:modified xsi:type="dcterms:W3CDTF">2015-06-14T08:36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