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957D-4D13-4428-88C7-D7FC73341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BEA4-BDE5-4F92-81EF-184C658D0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0529-C175-435A-BC47-B65B5A5F8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C3E2-EC1C-4A7E-BC23-5F4761F9A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80B05-BA14-41AA-8236-75239C8C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C1A4E-31A4-4D43-93B8-CAD7D47E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FA9FC-B7E1-452C-8ECD-2D4F584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474D0-E8E2-4B21-95E6-9D682E3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7F951-F1A5-4478-9FE5-7B30126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1DAE-1679-437A-ADA1-935C857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B60E2-68B8-41B7-86ED-D83A6EE8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36BE-19AD-4D37-91E4-48DFC59D4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312E5-50AD-4722-9406-1EBC441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7F9EB-69B5-4F93-866C-EE1CD8D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52393-C1DA-4A5A-B292-40C05A8B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29F06-E5EF-4353-AD82-C4B78C86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EBC6-937B-4145-8429-057B66B7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DB70-BC94-4463-B276-CB76ECA6B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7534-0E66-4D7F-A411-16FFAA100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5BFF-2106-46C9-A44A-2B9B4A862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9BC5-6BDC-448A-A701-BA0A6F65C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9AD9-469D-4D15-853F-A711EBEED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816C-F866-4DB4-ACCA-A28B57BE6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562F-1EEF-4EF8-9FB4-60F0921E3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AC5-5B68-4FB3-ADB4-72BBDA6AFE77}" type="slidenum">
              <a:rPr b="0" lang="ko-K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85800"/>
            <a:ext cx="9144000" cy="23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917640"/>
            <a:ext cx="914400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775008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42472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3298680"/>
            <a:ext cx="9144000" cy="3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3691080"/>
            <a:ext cx="9144000" cy="20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4952880" y="3857760"/>
            <a:ext cx="954360" cy="741240"/>
          </a:xfrm>
          <a:custGeom>
            <a:avLst/>
            <a:gdLst>
              <a:gd name="textAreaLeft" fmla="*/ 0 w 954360"/>
              <a:gd name="textAreaRight" fmla="*/ 954720 w 9543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585792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67420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6564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22360" y="108108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903240" y="138096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447920" y="12175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1284120" y="1741320"/>
            <a:ext cx="16380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665360" y="212256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046240" y="174132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820800" y="20383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DFAD-950E-47C2-837E-56204C262C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moban/jianjie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灰色简单大方</a:t>
            </a:r>
            <a:r>
              <a:rPr b="1" lang="zh-CN" sz="5000" spc="-1" strike="noStrike">
                <a:solidFill>
                  <a:srgbClr val="ffffcc"/>
                </a:solidFill>
                <a:latin typeface="Verdana"/>
                <a:ea typeface="宋体"/>
              </a:rPr>
              <a:t>PPT</a:t>
            </a: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模板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89640" y="63817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hart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079720" y="152280"/>
            <a:ext cx="68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d5e494"/>
                </a:solidFill>
                <a:uFillTx/>
                <a:latin typeface="Lucida Sans Unicode"/>
                <a:hlinkClick r:id="rId3"/>
              </a:rPr>
              <a:t>简洁ppt模板</a:t>
            </a: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http://www.eeppt.com/moban/jianjie/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hart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82" name="Object 3" descr=""/>
          <p:cNvPicPr/>
          <p:nvPr/>
        </p:nvPicPr>
        <p:blipFill>
          <a:blip r:embed="rId1"/>
          <a:stretch/>
        </p:blipFill>
        <p:spPr>
          <a:xfrm>
            <a:off x="1720800" y="1523880"/>
            <a:ext cx="5978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Gulim"/>
              </a:rPr>
              <a:t>Thank you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cc"/>
                </a:solidFill>
                <a:latin typeface="Verdana"/>
              </a:rPr>
              <a:t>使用规范说明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Lucida Sans Unicode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D62C7-331F-4345-8C0F-CACD6DC75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ontents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Verdana"/>
              </a:rPr>
              <a:t>Content 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142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04920" y="4800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281640" y="4724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004720" y="4148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d5e494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84724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618640" y="46544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29000" y="272736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29000" y="48690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477120" y="417528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39546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9" name="AutoShape 9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1" name="AutoShape 11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3478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683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2952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82880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051440" y="22096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28488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560" y="638496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cce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Chart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69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4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File"/>
          <p:cNvSpPr/>
          <p:nvPr/>
        </p:nvSpPr>
        <p:spPr>
          <a:xfrm>
            <a:off x="8780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48320" y="259092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135080" y="2647800"/>
            <a:ext cx="29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Gulim"/>
              </a:rPr>
              <a:t>Diagram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" name="File"/>
          <p:cNvSpPr/>
          <p:nvPr/>
        </p:nvSpPr>
        <p:spPr>
          <a:xfrm>
            <a:off x="6494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06480" y="2647800"/>
            <a:ext cx="291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0" name="File"/>
          <p:cNvSpPr/>
          <p:nvPr/>
        </p:nvSpPr>
        <p:spPr>
          <a:xfrm>
            <a:off x="514512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402160" y="2647800"/>
            <a:ext cx="291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3" name="AutoShape 9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4" name=""/>
          <p:cNvSpPr/>
          <p:nvPr/>
        </p:nvSpPr>
        <p:spPr>
          <a:xfrm>
            <a:off x="167400" y="64771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0:58:10Z</dcterms:created>
  <dc:creator>http://www.eeppt.com</dc:creator>
  <dc:description>ppt模板下载网站 http://www.eeppt.com</dc:description>
  <dc:language>en-US</dc:language>
  <cp:lastModifiedBy/>
  <dcterms:modified xsi:type="dcterms:W3CDTF">2015-06-14T02:00:16Z</dcterms:modified>
  <cp:revision>7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