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F0D2-6C90-4B52-857B-9DEA11EEA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DE34-7E40-4870-BAF5-8174D3EB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901B-8ADA-436E-99CA-A419AF8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08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06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08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06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6405-98F6-4F96-8001-B519075587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8F89F-A043-4AB2-B940-0287111DB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F66D1-45EB-40CE-AF7C-62607D5A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049B6-BC2B-4615-B5AA-72B62FFB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80E90-9059-44E8-9794-D811D86F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19E32-0269-459E-81E5-5BF2187E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74F10-D9C0-4D6F-8857-E51A2BA3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B12BF-B13A-4D09-9A05-76F631E6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A154-B073-4096-A608-F3F5B566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E1D6E-47AD-448B-B2AA-4EB695BA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CEE87-3452-4859-97BE-56ACF117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6F3BF-BCA1-430D-BB70-A1583499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7A7FE-AA82-4F7A-BACE-321610EE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408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0600" y="17524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408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0600" y="4180680"/>
            <a:ext cx="262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8BDF3-EB0B-44C2-B238-5F0B2A7A33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F737-57CF-4C26-A919-036FD4AF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0261-FEB1-4B5B-B235-B499E816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0757-A98F-42F0-9EF6-1DAEFAC9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B868-7792-442B-8953-D21365A9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F2C3-337A-487F-BA82-966FB631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5360" y="41806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EAAC-F762-4DD7-B70A-CF73428E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360" y="1752480"/>
            <a:ext cx="397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80680"/>
            <a:ext cx="8153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CC72-9885-437D-90CF-FA4A2B93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ce1f4"/>
              </a:gs>
              <a:gs pos="100000">
                <a:srgbClr val="83b7e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efefe"/>
              </a:gs>
              <a:gs pos="100000">
                <a:srgbClr val="83b7e7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0FA4-933A-4374-8F80-79F5A562B97A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7200" y="64004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4648320" y="64004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51FE-1008-4C6A-A58B-A900EC78BCE9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1021000">
            <a:off x="5638680" y="3200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tongyong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3c7d"/>
                </a:solidFill>
                <a:latin typeface="Arial"/>
                <a:ea typeface="宋体"/>
              </a:rPr>
              <a:t>经典深蓝色</a:t>
            </a:r>
            <a:r>
              <a:rPr b="1" lang="en-US" sz="4800" spc="-1" strike="noStrike">
                <a:solidFill>
                  <a:srgbClr val="0f3c7d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0f3c7d"/>
                </a:solidFill>
                <a:latin typeface="Arial"/>
                <a:ea typeface="宋体"/>
              </a:rPr>
              <a:t>模板</a:t>
            </a:r>
            <a:endParaRPr b="1" lang="en-US" sz="48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894760" y="2133720"/>
            <a:ext cx="3197520" cy="2890800"/>
            <a:chOff x="2894760" y="2133720"/>
            <a:chExt cx="3197520" cy="2890800"/>
          </a:xfrm>
        </p:grpSpPr>
        <p:sp>
          <p:nvSpPr>
            <p:cNvPr id="253" name=""/>
            <p:cNvSpPr/>
            <p:nvPr/>
          </p:nvSpPr>
          <p:spPr>
            <a:xfrm flipH="1" rot="16200000">
              <a:off x="2812680" y="3245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de1f4"/>
                </a:gs>
                <a:gs pos="100000">
                  <a:srgbClr val="83b7e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5682960" y="3191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de1f4"/>
                </a:gs>
                <a:gs pos="100000">
                  <a:srgbClr val="83b7e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0800000">
              <a:off x="4250160" y="4697640"/>
              <a:ext cx="48996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de1f4"/>
                </a:gs>
                <a:gs pos="100000">
                  <a:srgbClr val="83b7e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22720" y="2133720"/>
              <a:ext cx="256788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69240" y="2278080"/>
              <a:ext cx="227340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02800" y="241308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2800" y="241308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4920" y="254484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4920" y="254484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7761240" y="205740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>
            <a:off x="4821120" y="205740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7143840" y="303228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3936960" y="303228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未知"/>
          <p:cNvSpPr/>
          <p:nvPr/>
        </p:nvSpPr>
        <p:spPr>
          <a:xfrm>
            <a:off x="6524640" y="399564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5910120" y="496260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2178000" y="496728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14400" y="593712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14400" y="496260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14400" y="400068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14400" y="304020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14400" y="206388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04840" y="205740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04840" y="306864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04840" y="401472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04840" y="496260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未知"/>
          <p:cNvSpPr/>
          <p:nvPr/>
        </p:nvSpPr>
        <p:spPr>
          <a:xfrm>
            <a:off x="2808360" y="224640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27600" y="268452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38760" y="3657600"/>
            <a:ext cx="3211200" cy="34596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未知"/>
          <p:cNvSpPr/>
          <p:nvPr/>
        </p:nvSpPr>
        <p:spPr>
          <a:xfrm>
            <a:off x="3059280" y="399564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60720" y="462744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76560" y="559584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2280" y="2433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42280" y="33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2280" y="439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2280" y="5327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67652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gradFill rotWithShape="0">
            <a:gsLst>
              <a:gs pos="0">
                <a:srgbClr val="b8d6f2"/>
              </a:gs>
              <a:gs pos="100000">
                <a:srgbClr val="1d44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3f255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733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d873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d873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481e"/>
              </a:gs>
              <a:gs pos="50000">
                <a:srgbClr val="dd8739"/>
              </a:gs>
              <a:gs pos="100000">
                <a:srgbClr val="7748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d8739">
                  <a:alpha val="0"/>
                </a:srgbClr>
              </a:gs>
              <a:gs pos="100000">
                <a:srgbClr val="8b55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24" name="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b14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95122"/>
              </a:gs>
              <a:gs pos="100000">
                <a:srgbClr val="5ab14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05f28"/>
              </a:gs>
              <a:gs pos="50000">
                <a:srgbClr val="5ab14b"/>
              </a:gs>
              <a:gs pos="100000">
                <a:srgbClr val="305f2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870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34" name="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39" name="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62120" y="1676520"/>
            <a:ext cx="8001000" cy="4495680"/>
            <a:chOff x="762120" y="1676520"/>
            <a:chExt cx="8001000" cy="4495680"/>
          </a:xfrm>
        </p:grpSpPr>
        <p:sp>
          <p:nvSpPr>
            <p:cNvPr id="351" name="未知"/>
            <p:cNvSpPr/>
            <p:nvPr/>
          </p:nvSpPr>
          <p:spPr>
            <a:xfrm>
              <a:off x="914400" y="21337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5ab14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895840" y="3989520"/>
              <a:ext cx="1981080" cy="2030400"/>
              <a:chOff x="2895840" y="3989520"/>
              <a:chExt cx="1981080" cy="2030400"/>
            </a:xfrm>
          </p:grpSpPr>
          <p:pic>
            <p:nvPicPr>
              <p:cNvPr id="3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5840" y="54756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3056040" y="398952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76920" y="399888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94200" y="40150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86360" y="4059360"/>
                <a:ext cx="140976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990720" y="3625920"/>
              <a:ext cx="1676520" cy="1631880"/>
              <a:chOff x="990720" y="3625920"/>
              <a:chExt cx="1676520" cy="16318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479448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1209960" y="36259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27240" y="363384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241640" y="3646440"/>
                <a:ext cx="1266840" cy="1244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314720" y="3681360"/>
                <a:ext cx="1126800" cy="1009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62120" y="2257560"/>
              <a:ext cx="1371600" cy="1204920"/>
              <a:chOff x="762120" y="2257560"/>
              <a:chExt cx="1371600" cy="1204920"/>
            </a:xfrm>
          </p:grpSpPr>
          <p:pic>
            <p:nvPicPr>
              <p:cNvPr id="3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2120" y="3084480"/>
                <a:ext cx="13716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965160" y="225756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78120" y="22622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89280" y="22734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043280" y="22989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362320" y="1676520"/>
              <a:ext cx="1066680" cy="828720"/>
              <a:chOff x="2362320" y="1676520"/>
              <a:chExt cx="1066680" cy="828720"/>
            </a:xfrm>
          </p:grpSpPr>
          <p:pic>
            <p:nvPicPr>
              <p:cNvPr id="3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362320" y="22100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2560680" y="167652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70400" y="16797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576520" y="168588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13240" y="170496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63124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62440" y="2606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3640" y="4105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73640" y="46166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43600" y="382428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3b7e7"/>
              </a:gs>
              <a:gs pos="100000">
                <a:srgbClr val="74a2cc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90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93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96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99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402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405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f255c"/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733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412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57760" y="31528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685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016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13040" y="2192400"/>
            <a:ext cx="642960" cy="642960"/>
            <a:chOff x="1913040" y="2192400"/>
            <a:chExt cx="642960" cy="642960"/>
          </a:xfrm>
        </p:grpSpPr>
        <p:sp>
          <p:nvSpPr>
            <p:cNvPr id="430" name=""/>
            <p:cNvSpPr/>
            <p:nvPr/>
          </p:nvSpPr>
          <p:spPr>
            <a:xfrm>
              <a:off x="19130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195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2744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339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677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0530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452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92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25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43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43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637320" y="2192400"/>
            <a:ext cx="642960" cy="642960"/>
            <a:chOff x="6637320" y="2192400"/>
            <a:chExt cx="642960" cy="642960"/>
          </a:xfrm>
        </p:grpSpPr>
        <p:sp>
          <p:nvSpPr>
            <p:cNvPr id="442" name=""/>
            <p:cNvSpPr/>
            <p:nvPr/>
          </p:nvSpPr>
          <p:spPr>
            <a:xfrm>
              <a:off x="663732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4380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5172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5820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9204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6777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6916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30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7500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81480" y="2197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8940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295880" y="2206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30800" y="2222640"/>
            <a:ext cx="512640" cy="460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15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0684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310680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15900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906080" y="3431520"/>
            <a:ext cx="1703880" cy="2679120"/>
            <a:chOff x="4906080" y="3431520"/>
            <a:chExt cx="1703880" cy="2679120"/>
          </a:xfrm>
        </p:grpSpPr>
        <p:grpSp>
          <p:nvGrpSpPr>
            <p:cNvPr id="464" name=""/>
            <p:cNvGrpSpPr/>
            <p:nvPr/>
          </p:nvGrpSpPr>
          <p:grpSpPr>
            <a:xfrm>
              <a:off x="4906080" y="3610080"/>
              <a:ext cx="1577160" cy="2500560"/>
              <a:chOff x="4906080" y="3610080"/>
              <a:chExt cx="1577160" cy="2500560"/>
            </a:xfrm>
          </p:grpSpPr>
          <p:sp>
            <p:nvSpPr>
              <p:cNvPr id="465" name="未知"/>
              <p:cNvSpPr/>
              <p:nvPr/>
            </p:nvSpPr>
            <p:spPr>
              <a:xfrm rot="3876600">
                <a:off x="4442760" y="45813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 rot="3876600">
                <a:off x="5947560" y="55497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400000" y="3431520"/>
              <a:ext cx="1209960" cy="1918800"/>
              <a:chOff x="5400000" y="3431520"/>
              <a:chExt cx="1209960" cy="1918800"/>
            </a:xfrm>
          </p:grpSpPr>
          <p:sp>
            <p:nvSpPr>
              <p:cNvPr id="468" name="未知"/>
              <p:cNvSpPr/>
              <p:nvPr/>
            </p:nvSpPr>
            <p:spPr>
              <a:xfrm flipV="1" rot="3876600">
                <a:off x="5044320" y="41770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 flipV="1" rot="3876600">
                <a:off x="6181560" y="49280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4427640" y="2509920"/>
            <a:ext cx="1439640" cy="1439640"/>
            <a:chOff x="4427640" y="2509920"/>
            <a:chExt cx="1439640" cy="1439640"/>
          </a:xfrm>
        </p:grpSpPr>
        <p:sp>
          <p:nvSpPr>
            <p:cNvPr id="471" name="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2680" y="26031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22680" y="260640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84600" y="266688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601880" y="2684160"/>
              <a:ext cx="1090440" cy="1091880"/>
              <a:chOff x="4601880" y="2684160"/>
              <a:chExt cx="1090440" cy="1091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601880" y="268416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15560" y="269028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27080" y="270072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86120" y="272844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7138080" y="3504600"/>
            <a:ext cx="1703880" cy="2679120"/>
            <a:chOff x="7138080" y="3504600"/>
            <a:chExt cx="1703880" cy="2679120"/>
          </a:xfrm>
        </p:grpSpPr>
        <p:grpSp>
          <p:nvGrpSpPr>
            <p:cNvPr id="482" name=""/>
            <p:cNvGrpSpPr/>
            <p:nvPr/>
          </p:nvGrpSpPr>
          <p:grpSpPr>
            <a:xfrm>
              <a:off x="7138080" y="3683160"/>
              <a:ext cx="1577160" cy="2500560"/>
              <a:chOff x="7138080" y="3683160"/>
              <a:chExt cx="1577160" cy="2500560"/>
            </a:xfrm>
          </p:grpSpPr>
          <p:sp>
            <p:nvSpPr>
              <p:cNvPr id="483" name="未知"/>
              <p:cNvSpPr/>
              <p:nvPr/>
            </p:nvSpPr>
            <p:spPr>
              <a:xfrm rot="3876600">
                <a:off x="6674760" y="465444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 rot="3876600">
                <a:off x="8179560" y="562284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7632000" y="3504600"/>
              <a:ext cx="1209960" cy="1918800"/>
              <a:chOff x="7632000" y="3504600"/>
              <a:chExt cx="1209960" cy="1918800"/>
            </a:xfrm>
          </p:grpSpPr>
          <p:sp>
            <p:nvSpPr>
              <p:cNvPr id="486" name="未知"/>
              <p:cNvSpPr/>
              <p:nvPr/>
            </p:nvSpPr>
            <p:spPr>
              <a:xfrm flipV="1" rot="3876600">
                <a:off x="7276320" y="42501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 flipV="1" rot="3876600">
                <a:off x="8413560" y="50011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558120" y="246384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59560" y="246708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32640" y="254016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653160" y="2560680"/>
            <a:ext cx="1311480" cy="1309680"/>
            <a:chOff x="6653160" y="2560680"/>
            <a:chExt cx="1311480" cy="1309680"/>
          </a:xfrm>
        </p:grpSpPr>
        <p:sp>
          <p:nvSpPr>
            <p:cNvPr id="494" name=""/>
            <p:cNvSpPr/>
            <p:nvPr/>
          </p:nvSpPr>
          <p:spPr>
            <a:xfrm>
              <a:off x="6653160" y="256068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69720" y="256788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83400" y="258048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54680" y="261396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858760" y="3431160"/>
            <a:ext cx="1703880" cy="2679480"/>
            <a:chOff x="2858760" y="3431160"/>
            <a:chExt cx="1703880" cy="2679480"/>
          </a:xfrm>
        </p:grpSpPr>
        <p:grpSp>
          <p:nvGrpSpPr>
            <p:cNvPr id="499" name=""/>
            <p:cNvGrpSpPr/>
            <p:nvPr/>
          </p:nvGrpSpPr>
          <p:grpSpPr>
            <a:xfrm>
              <a:off x="2858760" y="3610080"/>
              <a:ext cx="1577160" cy="2500560"/>
              <a:chOff x="2858760" y="3610080"/>
              <a:chExt cx="1577160" cy="2500560"/>
            </a:xfrm>
          </p:grpSpPr>
          <p:sp>
            <p:nvSpPr>
              <p:cNvPr id="500" name="未知"/>
              <p:cNvSpPr/>
              <p:nvPr/>
            </p:nvSpPr>
            <p:spPr>
              <a:xfrm rot="3876600">
                <a:off x="2395440" y="45813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 rot="3876600">
                <a:off x="3900240" y="55497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3352680" y="3431160"/>
              <a:ext cx="1209960" cy="1918800"/>
              <a:chOff x="3352680" y="3431160"/>
              <a:chExt cx="1209960" cy="1918800"/>
            </a:xfrm>
          </p:grpSpPr>
          <p:sp>
            <p:nvSpPr>
              <p:cNvPr id="503" name="未知"/>
              <p:cNvSpPr/>
              <p:nvPr/>
            </p:nvSpPr>
            <p:spPr>
              <a:xfrm flipV="1" rot="3876600">
                <a:off x="2997000" y="4176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 flipV="1" rot="3876600">
                <a:off x="4134240" y="4927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2379600" y="2509920"/>
            <a:ext cx="1440000" cy="1439640"/>
            <a:chOff x="2379600" y="2509920"/>
            <a:chExt cx="1440000" cy="1439640"/>
          </a:xfrm>
        </p:grpSpPr>
        <p:sp>
          <p:nvSpPr>
            <p:cNvPr id="506" name=""/>
            <p:cNvSpPr/>
            <p:nvPr/>
          </p:nvSpPr>
          <p:spPr>
            <a:xfrm>
              <a:off x="237960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7960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75000" y="26031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75000" y="260640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36920" y="266688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554200" y="2684160"/>
              <a:ext cx="1090800" cy="1091880"/>
              <a:chOff x="2554200" y="2684160"/>
              <a:chExt cx="1090800" cy="1091880"/>
            </a:xfrm>
          </p:grpSpPr>
          <p:sp>
            <p:nvSpPr>
              <p:cNvPr id="512" name=""/>
              <p:cNvSpPr/>
              <p:nvPr/>
            </p:nvSpPr>
            <p:spPr>
              <a:xfrm>
                <a:off x="2554200" y="268416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567880" y="269028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579400" y="270072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38440" y="272844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875880" y="3431160"/>
            <a:ext cx="1703880" cy="2679480"/>
            <a:chOff x="875880" y="3431160"/>
            <a:chExt cx="1703880" cy="2679480"/>
          </a:xfrm>
        </p:grpSpPr>
        <p:grpSp>
          <p:nvGrpSpPr>
            <p:cNvPr id="517" name=""/>
            <p:cNvGrpSpPr/>
            <p:nvPr/>
          </p:nvGrpSpPr>
          <p:grpSpPr>
            <a:xfrm>
              <a:off x="875880" y="3610080"/>
              <a:ext cx="1577160" cy="2500560"/>
              <a:chOff x="875880" y="3610080"/>
              <a:chExt cx="1577160" cy="2500560"/>
            </a:xfrm>
          </p:grpSpPr>
          <p:sp>
            <p:nvSpPr>
              <p:cNvPr id="518" name="未知"/>
              <p:cNvSpPr/>
              <p:nvPr/>
            </p:nvSpPr>
            <p:spPr>
              <a:xfrm rot="3876600">
                <a:off x="412560" y="45813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 rot="3876600">
                <a:off x="1917360" y="55497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1369800" y="3431160"/>
              <a:ext cx="1209960" cy="1918800"/>
              <a:chOff x="1369800" y="3431160"/>
              <a:chExt cx="1209960" cy="1918800"/>
            </a:xfrm>
          </p:grpSpPr>
          <p:sp>
            <p:nvSpPr>
              <p:cNvPr id="521" name="未知"/>
              <p:cNvSpPr/>
              <p:nvPr/>
            </p:nvSpPr>
            <p:spPr>
              <a:xfrm flipV="1" rot="3876600">
                <a:off x="1014120" y="4176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未知"/>
              <p:cNvSpPr/>
              <p:nvPr/>
            </p:nvSpPr>
            <p:spPr>
              <a:xfrm flipV="1" rot="3876600">
                <a:off x="2151360" y="4927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396720" y="2509920"/>
            <a:ext cx="1440000" cy="1439640"/>
            <a:chOff x="396720" y="2509920"/>
            <a:chExt cx="1440000" cy="1439640"/>
          </a:xfrm>
        </p:grpSpPr>
        <p:sp>
          <p:nvSpPr>
            <p:cNvPr id="524" name=""/>
            <p:cNvSpPr/>
            <p:nvPr/>
          </p:nvSpPr>
          <p:spPr>
            <a:xfrm>
              <a:off x="39672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720" y="250992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2120" y="26031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2120" y="260640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040" y="266688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71320" y="2684160"/>
              <a:ext cx="1090800" cy="1091880"/>
              <a:chOff x="571320" y="2684160"/>
              <a:chExt cx="1090800" cy="1091880"/>
            </a:xfrm>
          </p:grpSpPr>
          <p:sp>
            <p:nvSpPr>
              <p:cNvPr id="530" name=""/>
              <p:cNvSpPr/>
              <p:nvPr/>
            </p:nvSpPr>
            <p:spPr>
              <a:xfrm>
                <a:off x="571320" y="268416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5000" y="269028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6520" y="270072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560" y="272844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 rot="3925800">
            <a:off x="8964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3925800">
            <a:off x="14022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3925800">
            <a:off x="28728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3925800">
            <a:off x="33786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3925800">
            <a:off x="49302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3925800">
            <a:off x="54360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3925800">
            <a:off x="7144920" y="46126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3925800">
            <a:off x="7650720" y="4324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7796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6840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4984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95000" y="1817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6" name=""/>
          <p:cNvCxnSpPr>
            <a:stCxn id="542" idx="3"/>
            <a:endCxn id="543" idx="1"/>
          </p:cNvCxnSpPr>
          <p:nvPr/>
        </p:nvCxnSpPr>
        <p:spPr>
          <a:xfrm>
            <a:off x="1514160" y="204444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3" idx="3"/>
            <a:endCxn id="544" idx="1"/>
          </p:cNvCxnSpPr>
          <p:nvPr/>
        </p:nvCxnSpPr>
        <p:spPr>
          <a:xfrm>
            <a:off x="3504960" y="204444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44" idx="3"/>
            <a:endCxn id="545" idx="1"/>
          </p:cNvCxnSpPr>
          <p:nvPr/>
        </p:nvCxnSpPr>
        <p:spPr>
          <a:xfrm>
            <a:off x="5486040" y="204480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687708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86000" y="4618080"/>
            <a:ext cx="5562720" cy="1325520"/>
          </a:xfrm>
          <a:prstGeom prst="ellipse">
            <a:avLst/>
          </a:prstGeom>
          <a:solidFill>
            <a:srgbClr val="211e5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20601600">
            <a:off x="1560600" y="250488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20601600">
            <a:off x="1617480" y="234288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20601600">
            <a:off x="1531800" y="232884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rot="20602200">
            <a:off x="1509840" y="236016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20601600">
            <a:off x="1541520" y="234000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rot="20602200">
            <a:off x="1523880" y="23475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20601600">
            <a:off x="3078000" y="30571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93640" y="327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98400" y="2365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74920" y="28224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未知"/>
          <p:cNvSpPr/>
          <p:nvPr/>
        </p:nvSpPr>
        <p:spPr>
          <a:xfrm>
            <a:off x="6400800" y="335592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20539200">
            <a:off x="1536120" y="2358360"/>
            <a:ext cx="625752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未知"/>
          <p:cNvSpPr/>
          <p:nvPr/>
        </p:nvSpPr>
        <p:spPr>
          <a:xfrm>
            <a:off x="4700520" y="383688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974920" y="3813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22440" y="4575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173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20601600">
            <a:off x="3179880" y="330984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1d449c"/>
              </a:gs>
              <a:gs pos="100000">
                <a:srgbClr val="0d1f47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未知"/>
          <p:cNvSpPr/>
          <p:nvPr/>
        </p:nvSpPr>
        <p:spPr>
          <a:xfrm>
            <a:off x="4876920" y="4232160"/>
            <a:ext cx="1282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05120" y="2971800"/>
            <a:ext cx="5309640" cy="609480"/>
            <a:chOff x="1905120" y="2971800"/>
            <a:chExt cx="5309640" cy="609480"/>
          </a:xfrm>
        </p:grpSpPr>
        <p:grpSp>
          <p:nvGrpSpPr>
            <p:cNvPr id="90" name=""/>
            <p:cNvGrpSpPr/>
            <p:nvPr/>
          </p:nvGrpSpPr>
          <p:grpSpPr>
            <a:xfrm>
              <a:off x="1905120" y="2971800"/>
              <a:ext cx="609120" cy="609480"/>
              <a:chOff x="1905120" y="2971800"/>
              <a:chExt cx="609120" cy="609480"/>
            </a:xfrm>
          </p:grpSpPr>
          <p:sp>
            <p:nvSpPr>
              <p:cNvPr id="91" name=""/>
              <p:cNvSpPr/>
              <p:nvPr/>
            </p:nvSpPr>
            <p:spPr>
              <a:xfrm>
                <a:off x="1905120" y="29718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f7ad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05120" y="29718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2f7ad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44360" y="30114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178"/>
                  </a:gs>
                  <a:gs pos="50000">
                    <a:srgbClr val="2f7adf"/>
                  </a:gs>
                  <a:gs pos="100000">
                    <a:srgbClr val="1941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83960" y="30510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0"/>
                    </a:srgbClr>
                  </a:gs>
                  <a:gs pos="100000">
                    <a:srgbClr val="1d4d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73160" y="30384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81080" y="30463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87200" y="30495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92240" y="30528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16000" y="30654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414520" y="35337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43120" y="30002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35080" y="30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47960" y="4800600"/>
            <a:ext cx="5290560" cy="609480"/>
            <a:chOff x="1947960" y="4800600"/>
            <a:chExt cx="5290560" cy="609480"/>
          </a:xfrm>
        </p:grpSpPr>
        <p:grpSp>
          <p:nvGrpSpPr>
            <p:cNvPr id="104" name=""/>
            <p:cNvGrpSpPr/>
            <p:nvPr/>
          </p:nvGrpSpPr>
          <p:grpSpPr>
            <a:xfrm>
              <a:off x="1947960" y="4800600"/>
              <a:ext cx="609120" cy="609480"/>
              <a:chOff x="1947960" y="4800600"/>
              <a:chExt cx="609120" cy="6094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47960" y="48006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f7ad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47960" y="480060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2f7ad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87200" y="48402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178"/>
                  </a:gs>
                  <a:gs pos="50000">
                    <a:srgbClr val="2f7adf"/>
                  </a:gs>
                  <a:gs pos="100000">
                    <a:srgbClr val="1941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26800" y="48798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0"/>
                    </a:srgbClr>
                  </a:gs>
                  <a:gs pos="100000">
                    <a:srgbClr val="1d4d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16000" y="48672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23920" y="48751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30040" y="48783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35080" y="48816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58840" y="48942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53690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48355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87640" y="486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05120" y="2114640"/>
            <a:ext cx="5333400" cy="628560"/>
            <a:chOff x="1905120" y="2114640"/>
            <a:chExt cx="5333400" cy="628560"/>
          </a:xfrm>
        </p:grpSpPr>
        <p:sp>
          <p:nvSpPr>
            <p:cNvPr id="118" name=""/>
            <p:cNvSpPr/>
            <p:nvPr/>
          </p:nvSpPr>
          <p:spPr>
            <a:xfrm>
              <a:off x="2438280" y="26481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21146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905120" y="2133720"/>
              <a:ext cx="609120" cy="609480"/>
              <a:chOff x="1905120" y="2133720"/>
              <a:chExt cx="609120" cy="6094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905120" y="2133720"/>
                <a:ext cx="609120" cy="609480"/>
                <a:chOff x="1905120" y="2133720"/>
                <a:chExt cx="609120" cy="609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030400" y="22100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05120" y="213372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3f25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05120" y="213372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a52c8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33200" y="214308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2c6b"/>
                    </a:gs>
                    <a:gs pos="50000">
                      <a:srgbClr val="8a52c8"/>
                    </a:gs>
                    <a:gs pos="100000">
                      <a:srgbClr val="4a2c6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2920" y="217188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0"/>
                      </a:srgbClr>
                    </a:gs>
                    <a:gs pos="100000">
                      <a:srgbClr val="57337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62000" y="2190960"/>
                  <a:ext cx="47592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81080" y="2208240"/>
                  <a:ext cx="46152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87200" y="2211480"/>
                  <a:ext cx="44892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92240" y="2214720"/>
                  <a:ext cx="42804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016000" y="2227320"/>
                  <a:ext cx="3805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203040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1905120" y="3921120"/>
            <a:ext cx="5333400" cy="631800"/>
            <a:chOff x="1905120" y="3921120"/>
            <a:chExt cx="5333400" cy="631800"/>
          </a:xfrm>
        </p:grpSpPr>
        <p:sp>
          <p:nvSpPr>
            <p:cNvPr id="134" name=""/>
            <p:cNvSpPr/>
            <p:nvPr/>
          </p:nvSpPr>
          <p:spPr>
            <a:xfrm>
              <a:off x="2438280" y="44546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6880" y="39211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905120" y="3943440"/>
              <a:ext cx="609120" cy="609480"/>
              <a:chOff x="1905120" y="3943440"/>
              <a:chExt cx="609120" cy="6094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905120" y="3943440"/>
                <a:ext cx="609120" cy="609480"/>
                <a:chOff x="1905120" y="3943440"/>
                <a:chExt cx="609120" cy="6094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030400" y="40197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05120" y="394344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3f25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905120" y="394344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a52c8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33200" y="395280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2c6b"/>
                    </a:gs>
                    <a:gs pos="50000">
                      <a:srgbClr val="8a52c8"/>
                    </a:gs>
                    <a:gs pos="100000">
                      <a:srgbClr val="4a2c6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942920" y="398160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0"/>
                      </a:srgbClr>
                    </a:gs>
                    <a:gs pos="100000">
                      <a:srgbClr val="57337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62000" y="4000680"/>
                  <a:ext cx="47592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81080" y="4017960"/>
                  <a:ext cx="46152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87200" y="4021200"/>
                  <a:ext cx="44892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992240" y="4024440"/>
                  <a:ext cx="42804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016000" y="4037040"/>
                  <a:ext cx="3805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2030400" y="4019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85440" y="2488680"/>
            <a:ext cx="60786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4479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c7d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c7d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89604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3c7d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BEFD-1D8B-4902-8A7D-56F2FEF210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83b7e7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3b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3b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c7ec"/>
              </a:gs>
              <a:gs pos="100000">
                <a:srgbClr val="8a5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5c5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58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59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22760"/>
                  </a:gs>
                  <a:gs pos="100000">
                    <a:srgbClr val="8a52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cab1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4e2bf"/>
                </a:gs>
                <a:gs pos="100000">
                  <a:srgbClr val="5ab14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10400" y="3581280"/>
            <a:ext cx="188568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未知"/>
          <p:cNvSpPr/>
          <p:nvPr/>
        </p:nvSpPr>
        <p:spPr>
          <a:xfrm rot="20241600">
            <a:off x="1236600" y="28429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3b7e7"/>
              </a:gs>
              <a:gs pos="100000">
                <a:srgbClr val="f2f7fb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056200">
            <a:off x="4495320" y="28191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056200">
            <a:off x="7391160" y="30477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056200">
            <a:off x="2895120" y="60195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056200">
            <a:off x="5638320" y="54097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56200">
            <a:off x="1980720" y="434304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8640" y="1981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2f1c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54040" y="35053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7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36760" y="52023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02b4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11640" y="4572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3b7e7"/>
              </a:gs>
              <a:gs pos="100000">
                <a:srgbClr val="374d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0440" y="22096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b2e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06760" y="4038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98400" y="2438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0240" y="271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40320" y="5029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19360" y="5653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87760" y="39672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31960" y="22683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"/>
          <p:cNvCxnSpPr/>
          <p:nvPr/>
        </p:nvCxnSpPr>
        <p:spPr>
          <a:xfrm flipH="1">
            <a:off x="615600" y="22680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69336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52480" y="1809720"/>
            <a:ext cx="5562720" cy="1306440"/>
            <a:chOff x="1752480" y="1809720"/>
            <a:chExt cx="5562720" cy="1306440"/>
          </a:xfrm>
        </p:grpSpPr>
        <p:sp>
          <p:nvSpPr>
            <p:cNvPr id="190" name=""/>
            <p:cNvSpPr/>
            <p:nvPr/>
          </p:nvSpPr>
          <p:spPr>
            <a:xfrm>
              <a:off x="1752480" y="18097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74880" y="19303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941480" y="19987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2080" y="22226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92400" y="20113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752480" y="3252960"/>
            <a:ext cx="5562720" cy="1306440"/>
            <a:chOff x="1752480" y="3252960"/>
            <a:chExt cx="5562720" cy="1306440"/>
          </a:xfrm>
        </p:grpSpPr>
        <p:sp>
          <p:nvSpPr>
            <p:cNvPr id="196" name=""/>
            <p:cNvSpPr/>
            <p:nvPr/>
          </p:nvSpPr>
          <p:spPr>
            <a:xfrm>
              <a:off x="1752480" y="32529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74880" y="33735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941480" y="344196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2080" y="3667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92400" y="343080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52480" y="4713120"/>
            <a:ext cx="5562720" cy="1306440"/>
            <a:chOff x="1752480" y="4713120"/>
            <a:chExt cx="5562720" cy="1306440"/>
          </a:xfrm>
        </p:grpSpPr>
        <p:sp>
          <p:nvSpPr>
            <p:cNvPr id="202" name=""/>
            <p:cNvSpPr/>
            <p:nvPr/>
          </p:nvSpPr>
          <p:spPr>
            <a:xfrm>
              <a:off x="1752480" y="4713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74880" y="4833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941480" y="4902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72080" y="5126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92400" y="4890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209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210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8702f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9fc1ef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2a5e1"/>
                  </a:gs>
                  <a:gs pos="100000">
                    <a:srgbClr val="8a52c8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653e1a"/>
                  </a:gs>
                  <a:gs pos="100000">
                    <a:srgbClr val="dd8739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164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033640"/>
            <a:ext cx="3833640" cy="383364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ace91">
                  <a:alpha val="12156"/>
                </a:srgbClr>
              </a:gs>
              <a:gs pos="50000">
                <a:srgbClr val="5ab14b"/>
              </a:gs>
              <a:gs pos="100000">
                <a:srgbClr val="9ace91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233856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89b3e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2720" y="23637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83200" y="302580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c"/>
              </a:gs>
              <a:gs pos="100000">
                <a:srgbClr val="83b7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49600" y="36860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83200" y="434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c"/>
              </a:gs>
              <a:gs pos="100000">
                <a:srgbClr val="83b7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50086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9f3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720" y="31003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6280" y="76356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经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8a52c8"/>
                </a:solidFill>
                <a:uFillTx/>
                <a:latin typeface="Arial"/>
                <a:hlinkClick r:id="rId2"/>
              </a:rPr>
              <a:t>http://www.eeppt.com/moban/tongyon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31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32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36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42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47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59:52Z</dcterms:created>
  <dc:creator>http://www.eeppt.com</dc:creator>
  <dc:description>ppt模板下载网站 http://www.eeppt.com</dc:description>
  <dc:language>en-US</dc:language>
  <cp:lastModifiedBy/>
  <dcterms:modified xsi:type="dcterms:W3CDTF">2015-06-14T02:54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