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E4BC-2A7E-47CC-B0DC-082F5B82B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B0FF-6F73-4287-90DF-946607937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0176-4A62-4A35-9AF4-10726F698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CDAD-C8BF-418B-BE79-B16255EDB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2F84D-AA33-4A7B-87DD-F28E122E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8636B-EECA-4CC6-A0BB-A2988BC0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1F7FC-06F7-4B05-9874-9805B2A8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7FF9E-BD02-40EB-AC51-39E679C8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49277-EFEB-4ABC-982E-702C3B6B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D2D1B-A964-414E-953F-87413716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8F392-C3FE-4444-9BB2-8ECA522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07C6-677A-4FFD-9A89-B6D800E01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CE6A7-27C9-4507-A4C8-87F924B6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14812-0654-4CE8-80EE-6E09978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FA1C5-82A6-4DCC-AC30-8F41F515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E0DE1-AAE2-4712-9F2A-E766301D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F9E1A-A7AF-4FBD-92BF-5F7A89C2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6458-EB10-49E1-9565-301312892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4C43-F1A5-4117-92EC-04A956CF8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8858-F858-473D-9D1E-4830AC159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825C-AA3D-4228-BF57-7177B0970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7E31-BC82-442D-BBEE-7425028E8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56A7-4691-4B72-AEF5-19C8FE3E9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F582-2DE2-47F2-9BD5-5146702C3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e4f56"/>
                </a:solidFill>
                <a:latin typeface="Lucida Sans Unicode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Gulim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5053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2e4f56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C2FD-11AB-4A5E-9909-93211F4E7F84}" type="slidenum">
              <a:rPr b="0" lang="ko-KR" sz="1000" spc="-1" strike="noStrike">
                <a:solidFill>
                  <a:srgbClr val="2e4f56"/>
                </a:solidFill>
                <a:latin typeface="Times New Roman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936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1295280" cy="533520"/>
          </a:xfrm>
          <a:prstGeom prst="rect">
            <a:avLst/>
          </a:pr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fe33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cfe33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879B-1489-405E-AF78-3ABD0C8930BC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58120" y="5943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419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4f5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2e4f5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419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2e4f5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419366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2e4f5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2e4f5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2e4f5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fe33f"/>
                </a:solidFill>
                <a:latin typeface="Verdana"/>
                <a:ea typeface="Gulim"/>
              </a:rPr>
              <a:t>娇美的鲜花</a:t>
            </a:r>
            <a:r>
              <a:rPr b="1" lang="zh-CN" sz="4400" spc="-1" strike="noStrike">
                <a:solidFill>
                  <a:srgbClr val="cfe33f"/>
                </a:solidFill>
                <a:latin typeface="Verdana"/>
                <a:ea typeface="宋体"/>
              </a:rPr>
              <a:t>PPT</a:t>
            </a:r>
            <a:r>
              <a:rPr b="1" lang="en-US" sz="4400" spc="-1" strike="noStrike">
                <a:solidFill>
                  <a:srgbClr val="cfe33f"/>
                </a:solidFill>
                <a:latin typeface="Verdana"/>
                <a:ea typeface="Gulim"/>
              </a:rPr>
              <a:t>模板在线下载</a:t>
            </a:r>
            <a:endParaRPr b="1" lang="en-US" sz="4400" spc="-1" strike="noStrike">
              <a:solidFill>
                <a:srgbClr val="cfe33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  <a:ea typeface="Gulim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2635200" y="313380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5332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53" name="未知"/>
          <p:cNvSpPr/>
          <p:nvPr/>
        </p:nvSpPr>
        <p:spPr>
          <a:xfrm rot="7200000">
            <a:off x="4326480" y="205344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663280" y="1796400"/>
            <a:ext cx="2482920" cy="2629800"/>
            <a:chOff x="2663280" y="1796400"/>
            <a:chExt cx="2482920" cy="2629800"/>
          </a:xfrm>
        </p:grpSpPr>
        <p:sp>
          <p:nvSpPr>
            <p:cNvPr id="255" name=""/>
            <p:cNvSpPr/>
            <p:nvPr/>
          </p:nvSpPr>
          <p:spPr>
            <a:xfrm rot="12600000">
              <a:off x="2717280" y="350316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 rot="7200000">
              <a:off x="3112560" y="270792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 rot="7200000">
              <a:off x="4185720" y="178092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58" name="未知"/>
          <p:cNvSpPr/>
          <p:nvPr/>
        </p:nvSpPr>
        <p:spPr>
          <a:xfrm rot="14400000">
            <a:off x="4440600" y="390708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1394b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476240" y="2684520"/>
            <a:ext cx="2172960" cy="2759400"/>
            <a:chOff x="4476240" y="2684520"/>
            <a:chExt cx="2172960" cy="2759400"/>
          </a:xfrm>
        </p:grpSpPr>
        <p:sp>
          <p:nvSpPr>
            <p:cNvPr id="260" name=""/>
            <p:cNvSpPr/>
            <p:nvPr/>
          </p:nvSpPr>
          <p:spPr>
            <a:xfrm rot="19800000">
              <a:off x="4530600" y="3003120"/>
              <a:ext cx="1438200" cy="603360"/>
            </a:xfrm>
            <a:prstGeom prst="triangle">
              <a:avLst>
                <a:gd name="adj" fmla="val 50000"/>
              </a:avLst>
            </a:pr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 rot="14400000">
              <a:off x="4918680" y="3594240"/>
              <a:ext cx="150516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 rot="14400000">
              <a:off x="5743440" y="435096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627280" y="4338720"/>
            <a:ext cx="2493720" cy="1395000"/>
            <a:chOff x="2627280" y="4338720"/>
            <a:chExt cx="2493720" cy="1395000"/>
          </a:xfrm>
        </p:grpSpPr>
        <p:sp>
          <p:nvSpPr>
            <p:cNvPr id="264" name="未知"/>
            <p:cNvSpPr/>
            <p:nvPr/>
          </p:nvSpPr>
          <p:spPr>
            <a:xfrm>
              <a:off x="2627280" y="4338720"/>
              <a:ext cx="582120" cy="110232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4106160" y="4718880"/>
              <a:ext cx="1388520" cy="640800"/>
            </a:xfrm>
            <a:prstGeom prst="triangle">
              <a:avLst>
                <a:gd name="adj" fmla="val 50000"/>
              </a:avLst>
            </a:pr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3151800" y="4662000"/>
              <a:ext cx="1598400" cy="779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5564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0072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4000" y="15350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未知"/>
          <p:cNvSpPr/>
          <p:nvPr/>
        </p:nvSpPr>
        <p:spPr>
          <a:xfrm flipH="1">
            <a:off x="4788000" y="25956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b6cb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28680" y="1730160"/>
            <a:ext cx="4062240" cy="3858840"/>
            <a:chOff x="1228680" y="1730160"/>
            <a:chExt cx="4062240" cy="3858840"/>
          </a:xfrm>
        </p:grpSpPr>
        <p:sp>
          <p:nvSpPr>
            <p:cNvPr id="273" name=""/>
            <p:cNvSpPr/>
            <p:nvPr/>
          </p:nvSpPr>
          <p:spPr>
            <a:xfrm rot="16200000">
              <a:off x="3834360" y="2999880"/>
              <a:ext cx="1560600" cy="1352520"/>
            </a:xfrm>
            <a:prstGeom prst="hexagon">
              <a:avLst>
                <a:gd name="adj" fmla="val 28846"/>
                <a:gd name="vf" fmla="val 115470"/>
              </a:avLst>
            </a:prstGeom>
            <a:gradFill rotWithShape="0">
              <a:gsLst>
                <a:gs pos="0">
                  <a:srgbClr val="1d432f"/>
                </a:gs>
                <a:gs pos="100000">
                  <a:srgbClr val="419366"/>
                </a:gs>
              </a:gsLst>
              <a:lin ang="162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146040" y="1832400"/>
              <a:ext cx="1558440" cy="1353960"/>
            </a:xfrm>
            <a:prstGeom prst="hexagon">
              <a:avLst>
                <a:gd name="adj" fmla="val 28776"/>
                <a:gd name="vf" fmla="val 115470"/>
              </a:avLst>
            </a:prstGeom>
            <a:gradFill rotWithShape="0">
              <a:gsLst>
                <a:gs pos="0">
                  <a:srgbClr val="533221"/>
                </a:gs>
                <a:gs pos="50000">
                  <a:srgbClr val="b66d48"/>
                </a:gs>
                <a:gs pos="100000">
                  <a:srgbClr val="533221"/>
                </a:gs>
              </a:gsLst>
              <a:lin ang="189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190680" y="413352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533221"/>
                </a:gs>
                <a:gs pos="50000">
                  <a:srgbClr val="b66d48"/>
                </a:gs>
                <a:gs pos="100000">
                  <a:srgbClr val="533221"/>
                </a:gs>
              </a:gsLst>
              <a:lin ang="189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2472840" y="299844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5f681d"/>
                </a:gs>
                <a:gs pos="50000">
                  <a:srgbClr val="cfe33f"/>
                </a:gs>
                <a:gs pos="100000">
                  <a:srgbClr val="5f681d"/>
                </a:gs>
              </a:gsLst>
              <a:lin ang="162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1792800" y="183312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1d432f"/>
                </a:gs>
                <a:gs pos="100000">
                  <a:srgbClr val="419366"/>
                </a:gs>
              </a:gsLst>
              <a:lin ang="162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1791000" y="4133520"/>
              <a:ext cx="1558440" cy="1352520"/>
            </a:xfrm>
            <a:prstGeom prst="hexagon">
              <a:avLst>
                <a:gd name="adj" fmla="val 28806"/>
                <a:gd name="vf" fmla="val 115470"/>
              </a:avLst>
            </a:prstGeom>
            <a:gradFill rotWithShape="0">
              <a:gsLst>
                <a:gs pos="0">
                  <a:srgbClr val="1d432f"/>
                </a:gs>
                <a:gs pos="100000">
                  <a:srgbClr val="419366"/>
                </a:gs>
              </a:gsLst>
              <a:lin ang="162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1124280" y="299988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533221"/>
                </a:gs>
                <a:gs pos="50000">
                  <a:srgbClr val="b66d48"/>
                </a:gs>
                <a:gs pos="100000">
                  <a:srgbClr val="533221"/>
                </a:gs>
              </a:gsLst>
              <a:lin ang="189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rot="16200000">
            <a:off x="6042600" y="76428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e4f56"/>
                </a:solidFill>
                <a:latin typeface="Arial"/>
                <a:ea typeface="Gulim"/>
              </a:rPr>
              <a:t>Add title text</a:t>
            </a:r>
            <a:endParaRPr b="0" lang="en-US" sz="36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 flipH="1" rot="16200000">
            <a:off x="2257200" y="3101760"/>
            <a:ext cx="64764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b6cbda"/>
              </a:gs>
              <a:gs pos="100000">
                <a:srgbClr val="487da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5400000">
            <a:off x="6047640" y="3030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b6cbda"/>
              </a:gs>
              <a:gs pos="100000">
                <a:srgbClr val="487da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rot="10800000">
            <a:off x="4151880" y="501300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b6cbda"/>
              </a:gs>
              <a:gs pos="100000">
                <a:srgbClr val="487d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797200" y="162720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1916280"/>
            <a:ext cx="2803320" cy="280332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16480" y="2346480"/>
            <a:ext cx="1946160" cy="1949400"/>
            <a:chOff x="3516480" y="2346480"/>
            <a:chExt cx="1946160" cy="1949400"/>
          </a:xfrm>
        </p:grpSpPr>
        <p:sp>
          <p:nvSpPr>
            <p:cNvPr id="288" name="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66d4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43920" y="247392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623a26"/>
                </a:gs>
                <a:gs pos="50000">
                  <a:srgbClr val="b66d48"/>
                </a:gs>
                <a:gs pos="100000">
                  <a:srgbClr val="623a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43920" y="247392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583422"/>
                </a:gs>
                <a:gs pos="100000">
                  <a:srgbClr val="b66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8520" y="2558880"/>
              <a:ext cx="1521720" cy="1524240"/>
            </a:xfrm>
            <a:prstGeom prst="ellipse">
              <a:avLst/>
            </a:prstGeom>
            <a:gradFill rotWithShape="0">
              <a:gsLst>
                <a:gs pos="0">
                  <a:srgbClr val="53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11280" y="357192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292248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2274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120" y="3067200"/>
            <a:ext cx="12200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32720" y="3579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99629"/>
              </a:gs>
              <a:gs pos="50000">
                <a:srgbClr val="cfe33f"/>
              </a:gs>
              <a:gs pos="100000">
                <a:srgbClr val="8996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2720" y="29304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99629"/>
              </a:gs>
              <a:gs pos="50000">
                <a:srgbClr val="cfe33f"/>
              </a:gs>
              <a:gs pos="100000">
                <a:srgbClr val="8996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32720" y="228276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99629"/>
              </a:gs>
              <a:gs pos="50000">
                <a:srgbClr val="cfe33f"/>
              </a:gs>
              <a:gs pos="100000">
                <a:srgbClr val="8996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68360" y="5589720"/>
            <a:ext cx="4537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7708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3673440" y="410544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73440" y="3456000"/>
            <a:ext cx="180036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73440" y="280836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44960" y="1486080"/>
            <a:ext cx="280800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b6143"/>
              </a:gs>
              <a:gs pos="50000">
                <a:srgbClr val="419366"/>
              </a:gs>
              <a:gs pos="100000">
                <a:srgbClr val="2b61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32000" y="5446800"/>
            <a:ext cx="2808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c599d"/>
              </a:gs>
              <a:gs pos="50000">
                <a:srgbClr val="8c87ed"/>
              </a:gs>
              <a:gs pos="100000">
                <a:srgbClr val="5c59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2087640" y="3322800"/>
            <a:ext cx="1944720" cy="1008000"/>
          </a:xfrm>
          <a:prstGeom prst="upArrow">
            <a:avLst>
              <a:gd name="adj1" fmla="val 43843"/>
              <a:gd name="adj2" fmla="val 63148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rot="5400000">
            <a:off x="5002920" y="3359160"/>
            <a:ext cx="1944720" cy="934920"/>
          </a:xfrm>
          <a:prstGeom prst="upArrow">
            <a:avLst>
              <a:gd name="adj1" fmla="val 46778"/>
              <a:gd name="adj2" fmla="val 6349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0800000">
            <a:off x="4284360" y="4799160"/>
            <a:ext cx="647640" cy="57600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09920" y="2244600"/>
            <a:ext cx="648000" cy="50508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422440"/>
            <a:ext cx="1800000" cy="324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77">
                <a:moveTo>
                  <a:pt x="3600" y="0"/>
                </a:moveTo>
                <a:arcTo wR="3600" hR="3600" stAng="16200000" swAng="-5400000"/>
                <a:lnTo>
                  <a:pt x="0" y="35277"/>
                </a:lnTo>
                <a:arcTo wR="3600" hR="3600" stAng="10800000" swAng="-5400000"/>
                <a:lnTo>
                  <a:pt x="18000" y="38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76160" y="2711520"/>
            <a:ext cx="158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9366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88000" y="2351160"/>
            <a:ext cx="1800360" cy="3240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69">
                <a:moveTo>
                  <a:pt x="3600" y="0"/>
                </a:moveTo>
                <a:arcTo wR="3600" hR="3600" stAng="16200000" swAng="-5400000"/>
                <a:lnTo>
                  <a:pt x="0" y="35269"/>
                </a:lnTo>
                <a:arcTo wR="3600" hR="3600" stAng="10800000" swAng="-5400000"/>
                <a:lnTo>
                  <a:pt x="18000" y="38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80160" y="2639880"/>
            <a:ext cx="15843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e33f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rot="20239200">
            <a:off x="1115640" y="2363400"/>
            <a:ext cx="6519960" cy="3062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9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20240400">
            <a:off x="1255320" y="2572920"/>
            <a:ext cx="592632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1293840" y="28972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4280" y="1525680"/>
            <a:ext cx="1295640" cy="1218960"/>
          </a:xfrm>
          <a:prstGeom prst="ellipse">
            <a:avLst/>
          </a:prstGeom>
          <a:gradFill rotWithShape="0">
            <a:gsLst>
              <a:gs pos="0">
                <a:srgbClr val="487da4"/>
              </a:gs>
              <a:gs pos="100000">
                <a:srgbClr val="182a3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99360" y="19828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66d48"/>
              </a:gs>
              <a:gs pos="100000">
                <a:srgbClr val="3e25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25480" y="480204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22840" y="43448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17342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03520" y="34304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4f56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577880" y="1763640"/>
          <a:ext cx="7002360" cy="3976560"/>
        </p:xfrm>
        <a:graphic>
          <a:graphicData uri="http://schemas.openxmlformats.org/drawingml/2006/table">
            <a:tbl>
              <a:tblPr/>
              <a:tblGrid>
                <a:gridCol w="1574640"/>
                <a:gridCol w="1103400"/>
                <a:gridCol w="1068480"/>
                <a:gridCol w="1085760"/>
                <a:gridCol w="1089000"/>
                <a:gridCol w="1081080"/>
              </a:tblGrid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1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33221"/>
                        </a:gs>
                        <a:gs pos="50000">
                          <a:srgbClr val="b66d48"/>
                        </a:gs>
                        <a:gs pos="100000">
                          <a:srgbClr val="53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2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33221"/>
                        </a:gs>
                        <a:gs pos="50000">
                          <a:srgbClr val="b66d48"/>
                        </a:gs>
                        <a:gs pos="100000">
                          <a:srgbClr val="53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3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33221"/>
                        </a:gs>
                        <a:gs pos="50000">
                          <a:srgbClr val="b66d48"/>
                        </a:gs>
                        <a:gs pos="100000">
                          <a:srgbClr val="53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4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33221"/>
                        </a:gs>
                        <a:gs pos="50000">
                          <a:srgbClr val="b66d48"/>
                        </a:gs>
                        <a:gs pos="100000">
                          <a:srgbClr val="53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5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33221"/>
                        </a:gs>
                        <a:gs pos="50000">
                          <a:srgbClr val="b66d48"/>
                        </a:gs>
                        <a:gs pos="100000">
                          <a:srgbClr val="533221"/>
                        </a:gs>
                      </a:gsLst>
                      <a:lin ang="5400000"/>
                    </a:gradFill>
                  </a:tcPr>
                </a:tc>
              </a:tr>
              <a:tr h="85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1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432f"/>
                        </a:gs>
                        <a:gs pos="50000">
                          <a:srgbClr val="419366"/>
                        </a:gs>
                        <a:gs pos="100000">
                          <a:srgbClr val="1d43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89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2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432f"/>
                        </a:gs>
                        <a:gs pos="50000">
                          <a:srgbClr val="419366"/>
                        </a:gs>
                        <a:gs pos="100000">
                          <a:srgbClr val="1d43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88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3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432f"/>
                        </a:gs>
                        <a:gs pos="50000">
                          <a:srgbClr val="419366"/>
                        </a:gs>
                        <a:gs pos="100000">
                          <a:srgbClr val="1d43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868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4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432f"/>
                        </a:gs>
                        <a:gs pos="50000">
                          <a:srgbClr val="419366"/>
                        </a:gs>
                        <a:gs pos="100000">
                          <a:srgbClr val="1d43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75212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1394b"/>
              </a:gs>
              <a:gs pos="100000">
                <a:srgbClr val="487da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75212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5f1a"/>
              </a:gs>
              <a:gs pos="100000">
                <a:srgbClr val="cfe33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175212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e2b"/>
              </a:gs>
              <a:gs pos="100000">
                <a:srgbClr val="41936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50020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f6a4a"/>
              </a:gs>
              <a:gs pos="100000">
                <a:srgbClr val="41936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25002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96a42d"/>
              </a:gs>
              <a:gs pos="100000">
                <a:srgbClr val="cfe33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5002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d4f6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836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297160" y="1063800"/>
            <a:ext cx="5562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67816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893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581480" y="1553760"/>
            <a:ext cx="6437160" cy="1387800"/>
            <a:chOff x="1581480" y="1553760"/>
            <a:chExt cx="6437160" cy="1387800"/>
          </a:xfrm>
        </p:grpSpPr>
        <p:sp>
          <p:nvSpPr>
            <p:cNvPr id="343" name=""/>
            <p:cNvSpPr/>
            <p:nvPr/>
          </p:nvSpPr>
          <p:spPr>
            <a:xfrm rot="3418800">
              <a:off x="1791720" y="1778760"/>
              <a:ext cx="924480" cy="1003680"/>
            </a:xfrm>
            <a:prstGeom prst="rect">
              <a:avLst/>
            </a:prstGeom>
            <a:solidFill>
              <a:srgbClr val="487da4"/>
            </a:soli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756160" y="1950480"/>
              <a:ext cx="932040" cy="131760"/>
              <a:chOff x="2756160" y="1950480"/>
              <a:chExt cx="932040" cy="131760"/>
            </a:xfrm>
          </p:grpSpPr>
          <p:sp>
            <p:nvSpPr>
              <p:cNvPr id="345" name=""/>
              <p:cNvSpPr/>
              <p:nvPr/>
            </p:nvSpPr>
            <p:spPr>
              <a:xfrm>
                <a:off x="27561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8454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470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223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 rot="3418800">
              <a:off x="3512880" y="1712880"/>
              <a:ext cx="924480" cy="1003680"/>
            </a:xfrm>
            <a:prstGeom prst="rect">
              <a:avLst/>
            </a:prstGeom>
            <a:solidFill>
              <a:srgbClr val="419366"/>
            </a:soli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4477680" y="1950480"/>
              <a:ext cx="932040" cy="131760"/>
              <a:chOff x="4477680" y="1950480"/>
              <a:chExt cx="932040" cy="131760"/>
            </a:xfrm>
          </p:grpSpPr>
          <p:sp>
            <p:nvSpPr>
              <p:cNvPr id="351" name=""/>
              <p:cNvSpPr/>
              <p:nvPr/>
            </p:nvSpPr>
            <p:spPr>
              <a:xfrm>
                <a:off x="44776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6696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6860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4384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rot="3418800">
              <a:off x="5162400" y="1712880"/>
              <a:ext cx="924480" cy="1004040"/>
            </a:xfrm>
            <a:prstGeom prst="rect">
              <a:avLst/>
            </a:prstGeom>
            <a:solidFill>
              <a:srgbClr val="487da4"/>
            </a:soli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198840" y="1950480"/>
              <a:ext cx="1218600" cy="131760"/>
              <a:chOff x="6198840" y="1950480"/>
              <a:chExt cx="1218600" cy="131760"/>
            </a:xfrm>
          </p:grpSpPr>
          <p:sp>
            <p:nvSpPr>
              <p:cNvPr id="357" name=""/>
              <p:cNvSpPr/>
              <p:nvPr/>
            </p:nvSpPr>
            <p:spPr>
              <a:xfrm>
                <a:off x="619884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154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3276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3140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3418800">
              <a:off x="6883560" y="1712880"/>
              <a:ext cx="924480" cy="1004040"/>
            </a:xfrm>
            <a:prstGeom prst="rect">
              <a:avLst/>
            </a:prstGeom>
            <a:solidFill>
              <a:srgbClr val="419366"/>
            </a:soli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677960" y="20368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19620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196200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196200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4137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0601600">
            <a:off x="1636560" y="2023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e4f56"/>
              </a:gs>
              <a:gs pos="50000">
                <a:srgbClr val="cbd3d5"/>
              </a:gs>
              <a:gs pos="100000">
                <a:srgbClr val="2e4f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20601600">
            <a:off x="1699920" y="1870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0601600">
            <a:off x="1557000" y="18795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601600">
            <a:off x="1609560" y="184752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gradFill rotWithShape="0">
            <a:gsLst>
              <a:gs pos="0">
                <a:srgbClr val="2e4f56"/>
              </a:gs>
              <a:gs pos="100000">
                <a:srgbClr val="0a1113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20602200">
            <a:off x="1594080" y="1877760"/>
            <a:ext cx="57337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1394b"/>
              </a:gs>
            </a:gsLst>
            <a:lin ang="4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0601600">
            <a:off x="1630440" y="186768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533221"/>
              </a:gs>
              <a:gs pos="100000">
                <a:srgbClr val="b66d48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20602200">
            <a:off x="1599480" y="1866240"/>
            <a:ext cx="572580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17584f"/>
              </a:gs>
              <a:gs pos="100000">
                <a:srgbClr val="33c1ad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5" name="未知"/>
          <p:cNvSpPr/>
          <p:nvPr/>
        </p:nvSpPr>
        <p:spPr>
          <a:xfrm rot="20601600">
            <a:off x="4681440" y="3182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 rot="20601600">
            <a:off x="4574880" y="2930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2e4f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20712600">
            <a:off x="956520" y="1953000"/>
            <a:ext cx="6413400" cy="281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gradFill rotWithShape="0">
            <a:gsLst>
              <a:gs pos="0">
                <a:srgbClr val="132124"/>
              </a:gs>
              <a:gs pos="100000">
                <a:srgbClr val="2e4f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8" name="未知"/>
          <p:cNvSpPr/>
          <p:nvPr/>
        </p:nvSpPr>
        <p:spPr>
          <a:xfrm rot="20712600">
            <a:off x="4361040" y="3150720"/>
            <a:ext cx="1377720" cy="153684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1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78280" y="883800"/>
            <a:ext cx="6957360" cy="4863240"/>
            <a:chOff x="1178280" y="883800"/>
            <a:chExt cx="6957360" cy="4863240"/>
          </a:xfrm>
        </p:grpSpPr>
        <p:sp>
          <p:nvSpPr>
            <p:cNvPr id="380" name="未知"/>
            <p:cNvSpPr/>
            <p:nvPr/>
          </p:nvSpPr>
          <p:spPr>
            <a:xfrm rot="20712600">
              <a:off x="5736960" y="33188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 rot="20601600">
              <a:off x="6248160" y="32220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419366"/>
                </a:gs>
                <a:gs pos="100000">
                  <a:srgbClr val="a7c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539200">
              <a:off x="1498320" y="176976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gradFill rotWithShape="0">
              <a:gsLst>
                <a:gs pos="0">
                  <a:srgbClr val="419366"/>
                </a:gs>
                <a:gs pos="100000">
                  <a:srgbClr val="1d432f"/>
                </a:gs>
              </a:gsLst>
              <a:lin ang="64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 rot="20601600">
              <a:off x="4933440" y="3133080"/>
              <a:ext cx="1359000" cy="15940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295d40"/>
                </a:gs>
                <a:gs pos="100000">
                  <a:srgbClr val="419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rot="20601600">
            <a:off x="3154320" y="2576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601600">
            <a:off x="3254400" y="2828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2670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1832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2289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15000" y="3279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889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4118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On the </a:t>
            </a:r>
            <a:r>
              <a:rPr b="1" lang="en-US" sz="2400" spc="-1" strike="noStrike">
                <a:solidFill>
                  <a:srgbClr val="419366"/>
                </a:solidFill>
                <a:latin typeface="Verdana"/>
                <a:ea typeface="Gulim"/>
              </a:rPr>
              <a:t>[View]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menu, point to </a:t>
            </a:r>
            <a:r>
              <a:rPr b="1" lang="en-US" sz="2400" spc="-1" strike="noStrike">
                <a:solidFill>
                  <a:srgbClr val="419366"/>
                </a:solidFill>
                <a:latin typeface="Verdana"/>
                <a:ea typeface="Gulim"/>
              </a:rPr>
              <a:t>[Master]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and then click </a:t>
            </a:r>
            <a:r>
              <a:rPr b="1" lang="en-US" sz="2400" spc="-1" strike="noStrike">
                <a:solidFill>
                  <a:srgbClr val="419366"/>
                </a:solidFill>
                <a:latin typeface="Verdana"/>
                <a:ea typeface="Gulim"/>
              </a:rPr>
              <a:t>[Slide Master]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780920" y="2173320"/>
            <a:ext cx="5662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www.1ppt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66d48"/>
                    </a:gs>
                    <a:gs pos="100000">
                      <a:srgbClr val="2e4f56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66d48"/>
                  </a:gs>
                  <a:gs pos="100000">
                    <a:srgbClr val="2e4f56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e4f5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D870-723B-4934-8B96-50648B4212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92400" y="1932120"/>
            <a:ext cx="547380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6d48"/>
              </a:gs>
              <a:gs pos="100000">
                <a:srgbClr val="5332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6800" y="2789280"/>
            <a:ext cx="547344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2400" y="3639960"/>
            <a:ext cx="547380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fe33f"/>
              </a:gs>
              <a:gs pos="100000">
                <a:srgbClr val="5f68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92400" y="4518000"/>
            <a:ext cx="547380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7da4"/>
              </a:gs>
              <a:gs pos="100000">
                <a:srgbClr val="2139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503440" y="1871640"/>
            <a:ext cx="5095800" cy="560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Introduction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23960" y="2722680"/>
            <a:ext cx="5096160" cy="560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trategy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3581280"/>
            <a:ext cx="5095800" cy="560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hallenges Forward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452840"/>
            <a:ext cx="5095800" cy="560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clusion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731960"/>
            <a:ext cx="685800" cy="822240"/>
          </a:xfrm>
          <a:prstGeom prst="diamond">
            <a:avLst/>
          </a:prstGeom>
          <a:solidFill>
            <a:srgbClr val="b66d48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2570040"/>
            <a:ext cx="685800" cy="822600"/>
          </a:xfrm>
          <a:prstGeom prst="diamond">
            <a:avLst/>
          </a:prstGeom>
          <a:solidFill>
            <a:srgbClr val="419366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484440"/>
            <a:ext cx="685800" cy="822600"/>
          </a:xfrm>
          <a:prstGeom prst="diamond">
            <a:avLst/>
          </a:prstGeom>
          <a:solidFill>
            <a:srgbClr val="cfe33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322880"/>
            <a:ext cx="685800" cy="822240"/>
          </a:xfrm>
          <a:prstGeom prst="diamond">
            <a:avLst/>
          </a:prstGeom>
          <a:solidFill>
            <a:srgbClr val="487da4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22880" y="257976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4f56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250668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4f56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532320" y="1212840"/>
            <a:ext cx="3057480" cy="1487520"/>
            <a:chOff x="3532320" y="1212840"/>
            <a:chExt cx="3057480" cy="1487520"/>
          </a:xfrm>
        </p:grpSpPr>
        <p:sp>
          <p:nvSpPr>
            <p:cNvPr id="108" name=""/>
            <p:cNvSpPr/>
            <p:nvPr/>
          </p:nvSpPr>
          <p:spPr>
            <a:xfrm>
              <a:off x="3565800" y="1260360"/>
              <a:ext cx="3024000" cy="144000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295d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32320" y="1212840"/>
              <a:ext cx="3024360" cy="144000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aaceb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10" name="未知"/>
          <p:cNvSpPr/>
          <p:nvPr/>
        </p:nvSpPr>
        <p:spPr>
          <a:xfrm>
            <a:off x="3819600" y="2725560"/>
            <a:ext cx="92052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1dbcd"/>
              </a:gs>
              <a:gs pos="100000">
                <a:srgbClr val="419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 flipH="1">
            <a:off x="5348160" y="2725560"/>
            <a:ext cx="92088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6cfc4"/>
              </a:gs>
              <a:gs pos="100000">
                <a:srgbClr val="b66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76680" y="1066680"/>
            <a:ext cx="2736360" cy="1368720"/>
            <a:chOff x="3676680" y="1066680"/>
            <a:chExt cx="2736360" cy="1368720"/>
          </a:xfrm>
        </p:grpSpPr>
        <p:sp>
          <p:nvSpPr>
            <p:cNvPr id="113" name=""/>
            <p:cNvSpPr/>
            <p:nvPr/>
          </p:nvSpPr>
          <p:spPr>
            <a:xfrm>
              <a:off x="3676680" y="1066680"/>
              <a:ext cx="2736360" cy="136872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5332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11600" y="1074240"/>
              <a:ext cx="2670480" cy="1334520"/>
            </a:xfrm>
            <a:prstGeom prst="ellipse">
              <a:avLst/>
            </a:prstGeom>
            <a:gradFill rotWithShape="0">
              <a:gsLst>
                <a:gs pos="0">
                  <a:srgbClr val="e4cbbe"/>
                </a:gs>
                <a:gs pos="100000">
                  <a:srgbClr val="b66d4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0040" y="1087200"/>
              <a:ext cx="2539800" cy="1247040"/>
            </a:xfrm>
            <a:prstGeom prst="ellipse">
              <a:avLst/>
            </a:prstGeom>
            <a:gradFill rotWithShape="0">
              <a:gsLst>
                <a:gs pos="0">
                  <a:srgbClr val="b66d48">
                    <a:alpha val="48235"/>
                  </a:srgbClr>
                </a:gs>
                <a:gs pos="100000">
                  <a:srgbClr val="8f56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8720" y="1122120"/>
              <a:ext cx="2257560" cy="1011960"/>
            </a:xfrm>
            <a:prstGeom prst="ellipse">
              <a:avLst/>
            </a:prstGeom>
            <a:gradFill rotWithShape="0">
              <a:gsLst>
                <a:gs pos="0">
                  <a:srgbClr val="b66d4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4f56"/>
                  </a:solidFill>
                  <a:latin typeface="Verdana"/>
                  <a:ea typeface="Gulim"/>
                </a:rPr>
                <a:t>2Part Concept</a:t>
              </a:r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7040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66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46400" y="2133720"/>
            <a:ext cx="2089440" cy="2087280"/>
            <a:chOff x="4046400" y="2133720"/>
            <a:chExt cx="2089440" cy="2087280"/>
          </a:xfrm>
        </p:grpSpPr>
        <p:sp>
          <p:nvSpPr>
            <p:cNvPr id="120" name=""/>
            <p:cNvSpPr/>
            <p:nvPr/>
          </p:nvSpPr>
          <p:spPr>
            <a:xfrm>
              <a:off x="404640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66d4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640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8320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623a26"/>
                </a:gs>
                <a:gs pos="50000">
                  <a:srgbClr val="b66d48"/>
                </a:gs>
                <a:gs pos="100000">
                  <a:srgbClr val="623a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8320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583422"/>
                </a:gs>
                <a:gs pos="100000">
                  <a:srgbClr val="b66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73920" y="2360880"/>
              <a:ext cx="1633680" cy="1632240"/>
            </a:xfrm>
            <a:prstGeom prst="ellipse">
              <a:avLst/>
            </a:prstGeom>
            <a:gradFill rotWithShape="0">
              <a:gsLst>
                <a:gs pos="0">
                  <a:srgbClr val="53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264560" y="2997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09680" y="2133720"/>
            <a:ext cx="2089080" cy="2087280"/>
            <a:chOff x="1309680" y="2133720"/>
            <a:chExt cx="2089080" cy="2087280"/>
          </a:xfrm>
        </p:grpSpPr>
        <p:sp>
          <p:nvSpPr>
            <p:cNvPr id="127" name=""/>
            <p:cNvSpPr/>
            <p:nvPr/>
          </p:nvSpPr>
          <p:spPr>
            <a:xfrm>
              <a:off x="1309680" y="2133720"/>
              <a:ext cx="2089080" cy="2087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fe33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09680" y="2133720"/>
              <a:ext cx="2089080" cy="2087280"/>
            </a:xfrm>
            <a:prstGeom prst="ellipse">
              <a:avLst/>
            </a:prstGeom>
            <a:gradFill rotWithShape="0">
              <a:gsLst>
                <a:gs pos="0">
                  <a:srgbClr val="cfe33f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6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6f7a21"/>
                </a:gs>
                <a:gs pos="50000">
                  <a:srgbClr val="cfe33f"/>
                </a:gs>
                <a:gs pos="100000">
                  <a:srgbClr val="6f7a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6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646d1e"/>
                </a:gs>
                <a:gs pos="100000">
                  <a:srgbClr val="cfe3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37200" y="2360880"/>
              <a:ext cx="1633680" cy="1632240"/>
            </a:xfrm>
            <a:prstGeom prst="ellipse">
              <a:avLst/>
            </a:prstGeom>
            <a:gradFill rotWithShape="0">
              <a:gsLst>
                <a:gs pos="0">
                  <a:srgbClr val="5f681d"/>
                </a:gs>
                <a:gs pos="100000">
                  <a:srgbClr val="cfe3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99120" y="29988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81680" y="2133720"/>
            <a:ext cx="2089440" cy="2087280"/>
            <a:chOff x="6781680" y="2133720"/>
            <a:chExt cx="2089440" cy="2087280"/>
          </a:xfrm>
        </p:grpSpPr>
        <p:sp>
          <p:nvSpPr>
            <p:cNvPr id="134" name=""/>
            <p:cNvSpPr/>
            <p:nvPr/>
          </p:nvSpPr>
          <p:spPr>
            <a:xfrm>
              <a:off x="678168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193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8168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18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234f36"/>
                </a:gs>
                <a:gs pos="50000">
                  <a:srgbClr val="419366"/>
                </a:gs>
                <a:gs pos="100000">
                  <a:srgbClr val="234f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18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1f4731"/>
                </a:gs>
                <a:gs pos="100000">
                  <a:srgbClr val="419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9200" y="2360880"/>
              <a:ext cx="1633680" cy="1632240"/>
            </a:xfrm>
            <a:prstGeom prst="ellipse">
              <a:avLst/>
            </a:prstGeom>
            <a:gradFill rotWithShape="0">
              <a:gsLst>
                <a:gs pos="0">
                  <a:srgbClr val="1d432f"/>
                </a:gs>
                <a:gs pos="100000">
                  <a:srgbClr val="419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999840" y="29988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0568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0960" y="4797360"/>
            <a:ext cx="201636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040" y="4797360"/>
            <a:ext cx="201600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4760" y="4797360"/>
            <a:ext cx="201636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未知"/>
          <p:cNvSpPr/>
          <p:nvPr/>
        </p:nvSpPr>
        <p:spPr>
          <a:xfrm>
            <a:off x="974880" y="1419120"/>
            <a:ext cx="6408720" cy="46227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41936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03640" y="3435480"/>
            <a:ext cx="2181240" cy="2376000"/>
            <a:chOff x="3203640" y="3435480"/>
            <a:chExt cx="2181240" cy="2376000"/>
          </a:xfrm>
        </p:grpSpPr>
        <p:sp>
          <p:nvSpPr>
            <p:cNvPr id="147" name=""/>
            <p:cNvSpPr/>
            <p:nvPr/>
          </p:nvSpPr>
          <p:spPr>
            <a:xfrm>
              <a:off x="3203640" y="4889160"/>
              <a:ext cx="2181240" cy="92232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00480" y="3435480"/>
              <a:ext cx="1986840" cy="198720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26400" y="3445920"/>
              <a:ext cx="1938600" cy="19389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6560" y="3465000"/>
              <a:ext cx="1844640" cy="181188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53480" y="3516480"/>
              <a:ext cx="1640520" cy="1469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16200000">
            <a:off x="3934080" y="3993120"/>
            <a:ext cx="6678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4f56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387440" y="2859120"/>
            <a:ext cx="1744560" cy="1900080"/>
            <a:chOff x="1387440" y="2859120"/>
            <a:chExt cx="1744560" cy="1900080"/>
          </a:xfrm>
        </p:grpSpPr>
        <p:sp>
          <p:nvSpPr>
            <p:cNvPr id="154" name=""/>
            <p:cNvSpPr/>
            <p:nvPr/>
          </p:nvSpPr>
          <p:spPr>
            <a:xfrm>
              <a:off x="1387440" y="4021560"/>
              <a:ext cx="1744560" cy="73764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64840" y="2859120"/>
              <a:ext cx="1589040" cy="15890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85720" y="2867400"/>
              <a:ext cx="1550520" cy="15505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01920" y="2882880"/>
              <a:ext cx="1475280" cy="14486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7240" y="2923920"/>
              <a:ext cx="1312200" cy="1175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390680" y="1419120"/>
            <a:ext cx="1309680" cy="1425240"/>
            <a:chOff x="1390680" y="1419120"/>
            <a:chExt cx="1309680" cy="1425240"/>
          </a:xfrm>
        </p:grpSpPr>
        <p:sp>
          <p:nvSpPr>
            <p:cNvPr id="160" name=""/>
            <p:cNvSpPr/>
            <p:nvPr/>
          </p:nvSpPr>
          <p:spPr>
            <a:xfrm>
              <a:off x="1390680" y="2291040"/>
              <a:ext cx="1309680" cy="55332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9000" y="1419120"/>
              <a:ext cx="1193040" cy="119232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4120" y="1425240"/>
              <a:ext cx="1163880" cy="11631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76360" y="1436760"/>
              <a:ext cx="1107720" cy="108720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40800" y="1467720"/>
              <a:ext cx="984960" cy="88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701800" y="914400"/>
            <a:ext cx="871560" cy="949320"/>
            <a:chOff x="2701800" y="914400"/>
            <a:chExt cx="871560" cy="949320"/>
          </a:xfrm>
        </p:grpSpPr>
        <p:sp>
          <p:nvSpPr>
            <p:cNvPr id="166" name=""/>
            <p:cNvSpPr/>
            <p:nvPr/>
          </p:nvSpPr>
          <p:spPr>
            <a:xfrm>
              <a:off x="2701800" y="1495080"/>
              <a:ext cx="871560" cy="36864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0320" y="914400"/>
              <a:ext cx="793800" cy="79380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50760" y="918360"/>
              <a:ext cx="774720" cy="7747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59040" y="926280"/>
              <a:ext cx="736920" cy="72396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1520" y="946800"/>
              <a:ext cx="655560" cy="58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rot="16200000">
            <a:off x="1933560" y="3241800"/>
            <a:ext cx="60696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4f56"/>
                </a:solidFill>
                <a:latin typeface="Arial"/>
                <a:ea typeface="Gulim"/>
              </a:rPr>
              <a:t>Text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1787040" y="1706760"/>
            <a:ext cx="48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2934360" y="1098000"/>
            <a:ext cx="393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Arial"/>
                <a:ea typeface="Gulim"/>
              </a:rPr>
              <a:t>Text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6853320" y="1946160"/>
            <a:ext cx="5461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9254000">
            <a:off x="4932000" y="2549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131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851200">
            <a:off x="4932720" y="4420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79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3646400">
            <a:off x="3456360" y="25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187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7687200">
            <a:off x="3528360" y="45280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31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34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2987280" y="35190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1757520"/>
            <a:ext cx="3743280" cy="3744720"/>
          </a:xfrm>
          <a:prstGeom prst="ellipse">
            <a:avLst/>
          </a:prstGeom>
          <a:noFill/>
          <a:ln w="3816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592440" y="2684520"/>
            <a:ext cx="1946520" cy="1949400"/>
            <a:chOff x="3592440" y="2684520"/>
            <a:chExt cx="1946520" cy="1949400"/>
          </a:xfrm>
        </p:grpSpPr>
        <p:sp>
          <p:nvSpPr>
            <p:cNvPr id="185" name="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66d4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19880" y="281196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623a26"/>
                </a:gs>
                <a:gs pos="50000">
                  <a:srgbClr val="b66d48"/>
                </a:gs>
                <a:gs pos="100000">
                  <a:srgbClr val="623a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9880" y="281196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583422"/>
                </a:gs>
                <a:gs pos="100000">
                  <a:srgbClr val="b66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4480" y="289692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53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914040" y="34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79120" y="5284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54400" y="521352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19480" y="34686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50760" y="1612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38400" y="16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68000" y="3413160"/>
            <a:ext cx="1015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2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3494160"/>
            <a:ext cx="35856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197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2044800"/>
            <a:ext cx="35856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341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485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499752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92360" y="234936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dddddd"/>
              </a:gs>
              <a:gs pos="100000">
                <a:srgbClr val="f8f8f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1701720"/>
            <a:ext cx="504036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66d48"/>
              </a:gs>
              <a:gs pos="50000">
                <a:srgbClr val="fefefe"/>
              </a:gs>
              <a:gs pos="100000">
                <a:srgbClr val="b66d48"/>
              </a:gs>
            </a:gsLst>
            <a:lin ang="10800000"/>
          </a:gra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4f56"/>
                </a:solidFill>
                <a:latin typeface="Arial"/>
                <a:ea typeface="Gulim"/>
              </a:rPr>
              <a:t>Add Your Text here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714920" y="4222800"/>
            <a:ext cx="1512720" cy="1511280"/>
            <a:chOff x="4714920" y="4222800"/>
            <a:chExt cx="1512720" cy="1511280"/>
          </a:xfrm>
        </p:grpSpPr>
        <p:sp>
          <p:nvSpPr>
            <p:cNvPr id="207" name="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66d4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23a26"/>
                </a:gs>
                <a:gs pos="50000">
                  <a:srgbClr val="b66d48"/>
                </a:gs>
                <a:gs pos="100000">
                  <a:srgbClr val="623a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83422"/>
                </a:gs>
                <a:gs pos="100000">
                  <a:srgbClr val="b66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980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3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16000" y="4222800"/>
            <a:ext cx="1513080" cy="1511280"/>
            <a:chOff x="1116000" y="4222800"/>
            <a:chExt cx="1513080" cy="1511280"/>
          </a:xfrm>
        </p:grpSpPr>
        <p:sp>
          <p:nvSpPr>
            <p:cNvPr id="213" name="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fe33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cfe33f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f7a21"/>
                </a:gs>
                <a:gs pos="50000">
                  <a:srgbClr val="cfe33f"/>
                </a:gs>
                <a:gs pos="100000">
                  <a:srgbClr val="6f7a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46d1e"/>
                </a:gs>
                <a:gs pos="100000">
                  <a:srgbClr val="cfe3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80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5f681d"/>
                </a:gs>
                <a:gs pos="100000">
                  <a:srgbClr val="cfe3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588000" y="4222800"/>
            <a:ext cx="1513080" cy="1511280"/>
            <a:chOff x="6588000" y="4222800"/>
            <a:chExt cx="1513080" cy="1511280"/>
          </a:xfrm>
        </p:grpSpPr>
        <p:sp>
          <p:nvSpPr>
            <p:cNvPr id="219" name="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193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234f36"/>
                </a:gs>
                <a:gs pos="50000">
                  <a:srgbClr val="419366"/>
                </a:gs>
                <a:gs pos="100000">
                  <a:srgbClr val="234f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1f4731"/>
                </a:gs>
                <a:gs pos="100000">
                  <a:srgbClr val="419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52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1d432f"/>
                </a:gs>
                <a:gs pos="100000">
                  <a:srgbClr val="419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16360" y="4222800"/>
            <a:ext cx="1512720" cy="1511280"/>
            <a:chOff x="2916360" y="4222800"/>
            <a:chExt cx="1512720" cy="1511280"/>
          </a:xfrm>
        </p:grpSpPr>
        <p:sp>
          <p:nvSpPr>
            <p:cNvPr id="225" name="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ab82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ab82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16311"/>
                </a:gs>
                <a:gs pos="50000">
                  <a:srgbClr val="7ab820"/>
                </a:gs>
                <a:gs pos="100000">
                  <a:srgbClr val="4163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b590f"/>
                </a:gs>
                <a:gs pos="100000">
                  <a:srgbClr val="7ab8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8124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40e"/>
                </a:gs>
                <a:gs pos="100000">
                  <a:srgbClr val="7ab8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477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816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4972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9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943600" y="2311560"/>
            <a:ext cx="2160720" cy="502920"/>
          </a:xfrm>
          <a:prstGeom prst="roundRect">
            <a:avLst>
              <a:gd name="adj" fmla="val 50000"/>
            </a:avLst>
          </a:prstGeom>
          <a:solidFill>
            <a:srgbClr val="419366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2349360"/>
            <a:ext cx="2160720" cy="503280"/>
          </a:xfrm>
          <a:prstGeom prst="roundRect">
            <a:avLst>
              <a:gd name="adj" fmla="val 5000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437920" y="1628280"/>
            <a:ext cx="3979080" cy="3653280"/>
            <a:chOff x="2437920" y="1628280"/>
            <a:chExt cx="3979080" cy="3653280"/>
          </a:xfrm>
        </p:grpSpPr>
        <p:sp>
          <p:nvSpPr>
            <p:cNvPr id="238" name=""/>
            <p:cNvSpPr/>
            <p:nvPr/>
          </p:nvSpPr>
          <p:spPr>
            <a:xfrm>
              <a:off x="2999520" y="1929240"/>
              <a:ext cx="2921760" cy="28800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2e4f56"/>
                </a:gs>
                <a:gs pos="50000">
                  <a:srgbClr val="eaedee"/>
                </a:gs>
                <a:gs pos="100000">
                  <a:srgbClr val="2e4f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 rot="5400000">
              <a:off x="4437000" y="1852560"/>
              <a:ext cx="1436400" cy="146124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 rot="7200000">
              <a:off x="4706640" y="2311200"/>
              <a:ext cx="1436400" cy="146124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5f681d"/>
                </a:gs>
                <a:gs pos="100000">
                  <a:srgbClr val="cfe33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00000">
              <a:off x="4767120" y="3394080"/>
              <a:ext cx="1233360" cy="781560"/>
            </a:xfrm>
            <a:prstGeom prst="triangle">
              <a:avLst>
                <a:gd name="adj" fmla="val 50000"/>
              </a:avLst>
            </a:pr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164760" y="3304080"/>
              <a:ext cx="2516760" cy="1977480"/>
              <a:chOff x="3164760" y="3304080"/>
              <a:chExt cx="2516760" cy="1977480"/>
            </a:xfrm>
          </p:grpSpPr>
          <p:sp>
            <p:nvSpPr>
              <p:cNvPr id="243" name="未知"/>
              <p:cNvSpPr/>
              <p:nvPr/>
            </p:nvSpPr>
            <p:spPr>
              <a:xfrm rot="12600000">
                <a:off x="3961080" y="3573360"/>
                <a:ext cx="145800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b66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 rot="14400000">
                <a:off x="3438360" y="3560760"/>
                <a:ext cx="1436400" cy="14612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3221"/>
                  </a:gs>
                  <a:gs pos="100000">
                    <a:srgbClr val="b66d48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rot="9000000">
              <a:off x="2928960" y="3573000"/>
              <a:ext cx="1233360" cy="700560"/>
            </a:xfrm>
            <a:prstGeom prst="triangle">
              <a:avLst>
                <a:gd name="adj" fmla="val 50000"/>
              </a:avLst>
            </a:prstGeom>
            <a:solidFill>
              <a:srgbClr val="908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2437920" y="1866240"/>
              <a:ext cx="1987200" cy="2166480"/>
              <a:chOff x="2437920" y="1866240"/>
              <a:chExt cx="1987200" cy="2166480"/>
            </a:xfrm>
          </p:grpSpPr>
          <p:sp>
            <p:nvSpPr>
              <p:cNvPr id="247" name="未知"/>
              <p:cNvSpPr/>
              <p:nvPr/>
            </p:nvSpPr>
            <p:spPr>
              <a:xfrm rot="19800000">
                <a:off x="2700360" y="2323440"/>
                <a:ext cx="14580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08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2966760" y="1866240"/>
                <a:ext cx="145836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06e"/>
                  </a:gs>
                  <a:gs pos="100000">
                    <a:srgbClr val="908b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rot="16200000">
              <a:off x="3639600" y="1838520"/>
              <a:ext cx="1215720" cy="794880"/>
            </a:xfrm>
            <a:prstGeom prst="triangle">
              <a:avLst>
                <a:gd name="adj" fmla="val 50000"/>
              </a:avLst>
            </a:prstGeom>
            <a:solidFill>
              <a:srgbClr val="c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346560" y="5157720"/>
            <a:ext cx="2160360" cy="503280"/>
          </a:xfrm>
          <a:prstGeom prst="roundRect">
            <a:avLst>
              <a:gd name="adj" fmla="val 50000"/>
            </a:avLst>
          </a:prstGeom>
          <a:solidFill>
            <a:srgbClr val="2e4f56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17:48Z</dcterms:created>
  <dc:creator>http://www.eeppt.com</dc:creator>
  <dc:description>ppt模板下载网站 http://www.eeppt.com</dc:description>
  <dc:language>en-US</dc:language>
  <cp:lastModifiedBy/>
  <dcterms:modified xsi:type="dcterms:W3CDTF">2015-06-14T06:56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