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A4C1-3B32-4781-B225-0171F54BA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4FCB-677C-48CA-A880-A18E4E9E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19EE-5B54-447A-B139-BFDC33298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7E8F-4183-47FE-97B1-46B637386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702C-9E95-4BCB-808C-CD3D17A5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7978-D0B4-4C87-BD70-95D5D9F0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7D9F-AC92-4F77-9F5B-06199163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CF27-1349-4999-8337-F22C7F43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1685-3CD7-4E79-9792-ACDD83C6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0662-BED6-4F2B-A7A3-F58A3C05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524F-C771-41F9-BA53-B87BE446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A2D0-703D-45F5-8FE6-AC005ED3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7F7E-4C2F-47A9-B585-51E96A52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8199-6D50-499D-A56A-8E82168F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A8A9-F3DB-43BB-8951-C3622F5C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84FA-7177-4A34-980C-DAE87A8A7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52F6-CE1E-4E61-AA80-7DE059A2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16D1-F3C2-466D-998F-C1A41827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B3F0-D343-4D8E-B4B8-D50AB127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54A7-4CE7-4918-9CC9-B7CDA529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61D4-90A4-42A7-BA6C-CE7F54AA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6D42-F7E9-4F1B-B004-BAB7E32A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5FA8-B104-4C04-BA07-EE2AC156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2E20-C7DE-4D56-B953-6ECCA740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D005-D459-41B3-B706-50F7DC2C621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4E72-31E1-4696-8551-4A638CA622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C7FC-4F4F-4EFB-B717-EDCADCF4774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F212-14E3-401C-B31C-C84E077A0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201787-12062FS50673.jpg"/>
          <p:cNvPicPr/>
          <p:nvPr/>
        </p:nvPicPr>
        <p:blipFill>
          <a:blip r:embed="rId1"/>
          <a:stretch/>
        </p:blipFill>
        <p:spPr>
          <a:xfrm>
            <a:off x="1325520" y="0"/>
            <a:ext cx="7818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11:28:2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