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58B13-9516-4755-BE80-0C74665D2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492A-DFC3-4433-81D8-CADEE6DE5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14C1-A9B0-4E96-8C11-B3524D3292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50ADE-7FC4-41E6-A0A1-3CEFCAA59E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61C0-8773-4432-BA49-74E2A5DCC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4DA0-6ED1-4961-AFAB-AB242AAEFE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D772-B710-4AB9-BE19-4A0AD64606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A077-E5BD-460E-8281-D300DD642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CF4AC-DAFD-4A2C-9CA2-83BECF294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A1D5D-B860-4C84-B009-F814BB322A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F83C-0F5B-4951-A8DC-D74835462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31BA3-2C88-4B98-B375-1ED84AB8D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aab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13f71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13f71"/>
                </a:solidFill>
                <a:latin typeface="Verdana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13f7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D85B-CD69-470C-BF91-D4EB1D57E4A5}" type="slidenum">
              <a:rPr b="0" lang="en-US" sz="1400" spc="-1" strike="noStrike">
                <a:solidFill>
                  <a:srgbClr val="113f7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3ea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2e892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dac9a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7d7d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5aabcc"/>
              </a:gs>
              <a:gs pos="100000">
                <a:srgbClr val="a9d3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bd9e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b8d1ee"/>
              </a:gs>
              <a:gs pos="100000">
                <a:srgbClr val="2d7a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7983000" y="43920"/>
            <a:ext cx="697320" cy="688320"/>
            <a:chOff x="7983000" y="43920"/>
            <a:chExt cx="697320" cy="688320"/>
          </a:xfrm>
        </p:grpSpPr>
        <p:sp>
          <p:nvSpPr>
            <p:cNvPr id="19" name=""/>
            <p:cNvSpPr/>
            <p:nvPr/>
          </p:nvSpPr>
          <p:spPr>
            <a:xfrm rot="149400">
              <a:off x="8192880" y="258840"/>
              <a:ext cx="277920" cy="27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20" name=""/>
            <p:cNvGrpSpPr/>
            <p:nvPr/>
          </p:nvGrpSpPr>
          <p:grpSpPr>
            <a:xfrm>
              <a:off x="8447040" y="492840"/>
              <a:ext cx="152640" cy="133560"/>
              <a:chOff x="8447040" y="492840"/>
              <a:chExt cx="152640" cy="133560"/>
            </a:xfrm>
          </p:grpSpPr>
          <p:sp>
            <p:nvSpPr>
              <p:cNvPr id="21" name=""/>
              <p:cNvSpPr/>
              <p:nvPr/>
            </p:nvSpPr>
            <p:spPr>
              <a:xfrm rot="334800">
                <a:off x="8517600" y="552960"/>
                <a:ext cx="4284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4800">
                <a:off x="8562600" y="592920"/>
                <a:ext cx="3528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334800">
                <a:off x="8449560" y="496080"/>
                <a:ext cx="7020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8485560" y="364320"/>
              <a:ext cx="194760" cy="91800"/>
              <a:chOff x="8485560" y="364320"/>
              <a:chExt cx="194760" cy="91800"/>
            </a:xfrm>
          </p:grpSpPr>
          <p:sp>
            <p:nvSpPr>
              <p:cNvPr id="25" name=""/>
              <p:cNvSpPr/>
              <p:nvPr/>
            </p:nvSpPr>
            <p:spPr>
              <a:xfrm rot="19495200">
                <a:off x="8582400" y="389160"/>
                <a:ext cx="42480" cy="43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19495200">
                <a:off x="8639280" y="394560"/>
                <a:ext cx="34920" cy="31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9495200">
                <a:off x="8497080" y="378360"/>
                <a:ext cx="6984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8" name=""/>
            <p:cNvGrpSpPr/>
            <p:nvPr/>
          </p:nvGrpSpPr>
          <p:grpSpPr>
            <a:xfrm>
              <a:off x="8460360" y="176760"/>
              <a:ext cx="157320" cy="130680"/>
              <a:chOff x="8460360" y="176760"/>
              <a:chExt cx="157320" cy="130680"/>
            </a:xfrm>
          </p:grpSpPr>
          <p:sp>
            <p:nvSpPr>
              <p:cNvPr id="29" name=""/>
              <p:cNvSpPr/>
              <p:nvPr/>
            </p:nvSpPr>
            <p:spPr>
              <a:xfrm rot="16953000">
                <a:off x="8537760" y="20340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16953000">
                <a:off x="8581320" y="178560"/>
                <a:ext cx="3168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6953000">
                <a:off x="8469000" y="234000"/>
                <a:ext cx="63360" cy="69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2" name=""/>
            <p:cNvGrpSpPr/>
            <p:nvPr/>
          </p:nvGrpSpPr>
          <p:grpSpPr>
            <a:xfrm>
              <a:off x="8287200" y="540360"/>
              <a:ext cx="94680" cy="191880"/>
              <a:chOff x="8287200" y="540360"/>
              <a:chExt cx="94680" cy="191880"/>
            </a:xfrm>
          </p:grpSpPr>
          <p:sp>
            <p:nvSpPr>
              <p:cNvPr id="33" name=""/>
              <p:cNvSpPr/>
              <p:nvPr/>
            </p:nvSpPr>
            <p:spPr>
              <a:xfrm rot="2913000">
                <a:off x="8314920" y="632880"/>
                <a:ext cx="38520" cy="48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2913000">
                <a:off x="8319960" y="691200"/>
                <a:ext cx="3168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2913000">
                <a:off x="8302680" y="55224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6" name=""/>
            <p:cNvGrpSpPr/>
            <p:nvPr/>
          </p:nvGrpSpPr>
          <p:grpSpPr>
            <a:xfrm>
              <a:off x="8294400" y="43920"/>
              <a:ext cx="94680" cy="191880"/>
              <a:chOff x="8294400" y="43920"/>
              <a:chExt cx="94680" cy="191880"/>
            </a:xfrm>
          </p:grpSpPr>
          <p:sp>
            <p:nvSpPr>
              <p:cNvPr id="37" name=""/>
              <p:cNvSpPr/>
              <p:nvPr/>
            </p:nvSpPr>
            <p:spPr>
              <a:xfrm rot="13711800">
                <a:off x="8322480" y="94680"/>
                <a:ext cx="38520" cy="482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13711800">
                <a:off x="8324280" y="49680"/>
                <a:ext cx="31680" cy="349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3711800">
                <a:off x="8309880" y="153360"/>
                <a:ext cx="63360" cy="702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8086320" y="138960"/>
              <a:ext cx="145080" cy="150120"/>
              <a:chOff x="8086320" y="138960"/>
              <a:chExt cx="145080" cy="150120"/>
            </a:xfrm>
          </p:grpSpPr>
          <p:sp>
            <p:nvSpPr>
              <p:cNvPr id="41" name=""/>
              <p:cNvSpPr/>
              <p:nvPr/>
            </p:nvSpPr>
            <p:spPr>
              <a:xfrm rot="11530200">
                <a:off x="8121600" y="174600"/>
                <a:ext cx="42120" cy="44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1530200">
                <a:off x="8089200" y="141840"/>
                <a:ext cx="34560" cy="320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1530200">
                <a:off x="8155440" y="218160"/>
                <a:ext cx="69480" cy="64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7983000" y="342720"/>
              <a:ext cx="193320" cy="90720"/>
              <a:chOff x="7983000" y="342720"/>
              <a:chExt cx="193320" cy="90720"/>
            </a:xfrm>
          </p:grpSpPr>
          <p:sp>
            <p:nvSpPr>
              <p:cNvPr id="45" name=""/>
              <p:cNvSpPr/>
              <p:nvPr/>
            </p:nvSpPr>
            <p:spPr>
              <a:xfrm rot="8884800">
                <a:off x="8037000" y="361440"/>
                <a:ext cx="42480" cy="43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8884800">
                <a:off x="7988400" y="365760"/>
                <a:ext cx="34920" cy="31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884800">
                <a:off x="8094960" y="356040"/>
                <a:ext cx="69840" cy="63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8057520" y="483480"/>
              <a:ext cx="169200" cy="123120"/>
              <a:chOff x="8057520" y="483480"/>
              <a:chExt cx="169200" cy="123120"/>
            </a:xfrm>
          </p:grpSpPr>
          <p:sp>
            <p:nvSpPr>
              <p:cNvPr id="49" name=""/>
              <p:cNvSpPr/>
              <p:nvPr/>
            </p:nvSpPr>
            <p:spPr>
              <a:xfrm rot="6558000">
                <a:off x="8103600" y="535320"/>
                <a:ext cx="38520" cy="478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6558000">
                <a:off x="8063280" y="568440"/>
                <a:ext cx="31680" cy="345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6558000">
                <a:off x="8151480" y="489960"/>
                <a:ext cx="63360" cy="69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2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6484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0" y="510552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6648480"/>
            <a:ext cx="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63120" y="60199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 rot="5400000">
            <a:off x="790416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dce5e6"/>
              </a:gs>
              <a:gs pos="100000">
                <a:srgbClr val="c1d1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5715000"/>
            <a:ext cx="16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f71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07920" y="634320"/>
            <a:ext cx="1995840" cy="2065680"/>
            <a:chOff x="907920" y="634320"/>
            <a:chExt cx="1995840" cy="2065680"/>
          </a:xfrm>
        </p:grpSpPr>
        <p:sp>
          <p:nvSpPr>
            <p:cNvPr id="100" name=""/>
            <p:cNvSpPr/>
            <p:nvPr/>
          </p:nvSpPr>
          <p:spPr>
            <a:xfrm rot="292200">
              <a:off x="1514520" y="1253520"/>
              <a:ext cx="790200" cy="842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212560" y="1997640"/>
              <a:ext cx="424080" cy="428400"/>
              <a:chOff x="2212560" y="1997640"/>
              <a:chExt cx="424080" cy="428400"/>
            </a:xfrm>
          </p:grpSpPr>
          <p:sp>
            <p:nvSpPr>
              <p:cNvPr id="102" name=""/>
              <p:cNvSpPr/>
              <p:nvPr/>
            </p:nvSpPr>
            <p:spPr>
              <a:xfrm rot="477600">
                <a:off x="2409840" y="2192760"/>
                <a:ext cx="12096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477600">
                <a:off x="2530800" y="2320560"/>
                <a:ext cx="99360" cy="98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477600">
                <a:off x="2225160" y="2010240"/>
                <a:ext cx="198720" cy="197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2333880" y="1605240"/>
              <a:ext cx="569880" cy="274320"/>
              <a:chOff x="2333880" y="1605240"/>
              <a:chExt cx="569880" cy="274320"/>
            </a:xfrm>
          </p:grpSpPr>
          <p:sp>
            <p:nvSpPr>
              <p:cNvPr id="106" name=""/>
              <p:cNvSpPr/>
              <p:nvPr/>
            </p:nvSpPr>
            <p:spPr>
              <a:xfrm rot="19638000">
                <a:off x="2619720" y="1694520"/>
                <a:ext cx="12060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9638000">
                <a:off x="2785320" y="1725480"/>
                <a:ext cx="99000" cy="99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9638000">
                <a:off x="2371680" y="1642680"/>
                <a:ext cx="198000" cy="19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279520" y="1014120"/>
              <a:ext cx="473040" cy="404640"/>
              <a:chOff x="2279520" y="1014120"/>
              <a:chExt cx="473040" cy="404640"/>
            </a:xfrm>
          </p:grpSpPr>
          <p:sp>
            <p:nvSpPr>
              <p:cNvPr id="110" name=""/>
              <p:cNvSpPr/>
              <p:nvPr/>
            </p:nvSpPr>
            <p:spPr>
              <a:xfrm rot="17095800">
                <a:off x="2509200" y="1103040"/>
                <a:ext cx="12096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7095800">
                <a:off x="2642040" y="102528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7095800">
                <a:off x="2301480" y="1198080"/>
                <a:ext cx="19836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1732680" y="2133720"/>
              <a:ext cx="271800" cy="566280"/>
              <a:chOff x="1732680" y="2133720"/>
              <a:chExt cx="271800" cy="566280"/>
            </a:xfrm>
          </p:grpSpPr>
          <p:sp>
            <p:nvSpPr>
              <p:cNvPr id="114" name=""/>
              <p:cNvSpPr/>
              <p:nvPr/>
            </p:nvSpPr>
            <p:spPr>
              <a:xfrm rot="3570000">
                <a:off x="1779120" y="2409120"/>
                <a:ext cx="12060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3570000">
                <a:off x="1772280" y="258264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3570000">
                <a:off x="1769040" y="2170080"/>
                <a:ext cx="19836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857960" y="634320"/>
              <a:ext cx="272160" cy="567000"/>
              <a:chOff x="1857960" y="634320"/>
              <a:chExt cx="272160" cy="567000"/>
            </a:xfrm>
          </p:grpSpPr>
          <p:sp>
            <p:nvSpPr>
              <p:cNvPr id="118" name=""/>
              <p:cNvSpPr/>
              <p:nvPr/>
            </p:nvSpPr>
            <p:spPr>
              <a:xfrm rot="14344200">
                <a:off x="1961280" y="787680"/>
                <a:ext cx="12060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4344200">
                <a:off x="1987920" y="65268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4344200">
                <a:off x="1894680" y="965880"/>
                <a:ext cx="19836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242360" y="865440"/>
              <a:ext cx="405720" cy="471600"/>
              <a:chOff x="1242360" y="865440"/>
              <a:chExt cx="405720" cy="471600"/>
            </a:xfrm>
          </p:grpSpPr>
          <p:sp>
            <p:nvSpPr>
              <p:cNvPr id="122" name=""/>
              <p:cNvSpPr/>
              <p:nvPr/>
            </p:nvSpPr>
            <p:spPr>
              <a:xfrm rot="11673000">
                <a:off x="1338840" y="978480"/>
                <a:ext cx="120960" cy="1375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1673000">
                <a:off x="1253160" y="875880"/>
                <a:ext cx="99360" cy="99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1673000">
                <a:off x="1427400" y="1116360"/>
                <a:ext cx="198720" cy="1987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907920" y="1509120"/>
              <a:ext cx="563040" cy="269640"/>
              <a:chOff x="907920" y="1509120"/>
              <a:chExt cx="563040" cy="269640"/>
            </a:xfrm>
          </p:grpSpPr>
          <p:sp>
            <p:nvSpPr>
              <p:cNvPr id="126" name=""/>
              <p:cNvSpPr/>
              <p:nvPr/>
            </p:nvSpPr>
            <p:spPr>
              <a:xfrm rot="9028200">
                <a:off x="1068120" y="1543320"/>
                <a:ext cx="120600" cy="136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9028200">
                <a:off x="925560" y="1542600"/>
                <a:ext cx="99000" cy="98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9028200">
                <a:off x="1236960" y="1545120"/>
                <a:ext cx="198000" cy="1976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083240" y="1938600"/>
              <a:ext cx="507960" cy="379440"/>
              <a:chOff x="1083240" y="1938600"/>
              <a:chExt cx="507960" cy="379440"/>
            </a:xfrm>
          </p:grpSpPr>
          <p:sp>
            <p:nvSpPr>
              <p:cNvPr id="130" name=""/>
              <p:cNvSpPr/>
              <p:nvPr/>
            </p:nvSpPr>
            <p:spPr>
              <a:xfrm rot="6700800">
                <a:off x="1219680" y="2103480"/>
                <a:ext cx="120600" cy="137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6700800">
                <a:off x="1098000" y="2203920"/>
                <a:ext cx="99360" cy="99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6700800">
                <a:off x="1362960" y="1968120"/>
                <a:ext cx="198360" cy="19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eee6d7"/>
              </a:gs>
              <a:gs pos="100000">
                <a:srgbClr val="bd9e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4320" y="-6480"/>
            <a:ext cx="2098800" cy="31140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2549520" y="6553080"/>
            <a:ext cx="6230880" cy="31752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763120" y="-6480"/>
            <a:ext cx="380880" cy="31284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bdd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7ede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-2212920" y="2511360"/>
            <a:ext cx="4876560" cy="463680"/>
          </a:xfrm>
          <a:prstGeom prst="rect">
            <a:avLst/>
          </a:prstGeom>
          <a:gradFill rotWithShape="0">
            <a:gsLst>
              <a:gs pos="0">
                <a:srgbClr val="c7e2ed"/>
              </a:gs>
              <a:gs pos="100000">
                <a:srgbClr val="5aab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-574560" y="5520960"/>
            <a:ext cx="1600200" cy="4636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8c8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655812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c3e06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bd9e61"/>
              </a:gs>
              <a:gs pos="100000">
                <a:srgbClr val="ceb7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0" y="495288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63120" y="175248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63120" y="19051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43040" y="655308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672240" y="-36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13f71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13f71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3f7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13f71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13f71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13f7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3f7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jianji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52120" y="2057400"/>
            <a:ext cx="579132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简约</a:t>
            </a:r>
            <a:r>
              <a:rPr b="1" i="1" lang="zh-CN" sz="3600" spc="-1" strike="noStrike">
                <a:solidFill>
                  <a:srgbClr val="113f71"/>
                </a:solidFill>
                <a:latin typeface="Verdana"/>
                <a:ea typeface="宋体"/>
              </a:rPr>
              <a:t>PPT</a:t>
            </a:r>
            <a:r>
              <a:rPr b="1" i="1" lang="en-US" sz="3600" spc="-1" strike="noStrike">
                <a:solidFill>
                  <a:srgbClr val="113f71"/>
                </a:solidFill>
                <a:latin typeface="Verdana"/>
              </a:rPr>
              <a:t>模板在线下载</a:t>
            </a:r>
            <a:endParaRPr b="1" i="1" lang="en-US" sz="3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752120" y="399096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782400" y="61722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2d7a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a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5aab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5aabc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305c6d"/>
              </a:gs>
              <a:gs pos="50000">
                <a:srgbClr val="5aabcc"/>
              </a:gs>
              <a:gs pos="100000">
                <a:srgbClr val="305c6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aabcc">
                  <a:alpha val="0"/>
                </a:srgbClr>
              </a:gs>
              <a:gs pos="100000">
                <a:srgbClr val="386c8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d9e61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d9e61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655534"/>
              </a:gs>
              <a:gs pos="50000">
                <a:srgbClr val="bd9e61"/>
              </a:gs>
              <a:gs pos="100000">
                <a:srgbClr val="6555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bd9e61">
                  <a:alpha val="0"/>
                </a:srgbClr>
              </a:gs>
              <a:gs pos="100000">
                <a:srgbClr val="77633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413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2d7ac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14385f"/>
              </a:gs>
              <a:gs pos="100000">
                <a:srgbClr val="2d7ac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18416f"/>
              </a:gs>
              <a:gs pos="50000">
                <a:srgbClr val="2d7acf"/>
              </a:gs>
              <a:gs pos="100000">
                <a:srgbClr val="18416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2d7acf">
                  <a:alpha val="0"/>
                </a:srgbClr>
              </a:gs>
              <a:gs pos="100000">
                <a:srgbClr val="1c4d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423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428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36" name="未知"/>
          <p:cNvSpPr/>
          <p:nvPr/>
        </p:nvSpPr>
        <p:spPr>
          <a:xfrm>
            <a:off x="12193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2d7acf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86400" y="3352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446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3636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00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526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463760" y="2016000"/>
            <a:ext cx="95076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17760" y="2041560"/>
            <a:ext cx="84744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6369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305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52560" y="1542960"/>
            <a:ext cx="68292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622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687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05120" y="1571760"/>
            <a:ext cx="56340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231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06080" y="59436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62120" y="1295280"/>
            <a:ext cx="7619400" cy="4557240"/>
            <a:chOff x="762120" y="1295280"/>
            <a:chExt cx="7619400" cy="4557240"/>
          </a:xfrm>
        </p:grpSpPr>
        <p:sp>
          <p:nvSpPr>
            <p:cNvPr id="466" name=""/>
            <p:cNvSpPr/>
            <p:nvPr/>
          </p:nvSpPr>
          <p:spPr>
            <a:xfrm>
              <a:off x="2701800" y="2058840"/>
              <a:ext cx="3671280" cy="36417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2d7a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601800" y="2970000"/>
              <a:ext cx="1869840" cy="1960560"/>
              <a:chOff x="3601800" y="2970000"/>
              <a:chExt cx="1869840" cy="1960560"/>
            </a:xfrm>
          </p:grpSpPr>
          <p:sp>
            <p:nvSpPr>
              <p:cNvPr id="468" name=""/>
              <p:cNvSpPr/>
              <p:nvPr/>
            </p:nvSpPr>
            <p:spPr>
              <a:xfrm>
                <a:off x="3601800" y="2970000"/>
                <a:ext cx="1869840" cy="1960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9" name="未知"/>
              <p:cNvSpPr/>
              <p:nvPr/>
            </p:nvSpPr>
            <p:spPr>
              <a:xfrm>
                <a:off x="3815280" y="3002400"/>
                <a:ext cx="1442520" cy="73980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3875400" y="37400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4155840" y="1708200"/>
              <a:ext cx="623520" cy="606240"/>
              <a:chOff x="4155840" y="1708200"/>
              <a:chExt cx="623520" cy="606240"/>
            </a:xfrm>
          </p:grpSpPr>
          <p:grpSp>
            <p:nvGrpSpPr>
              <p:cNvPr id="472" name=""/>
              <p:cNvGrpSpPr/>
              <p:nvPr/>
            </p:nvGrpSpPr>
            <p:grpSpPr>
              <a:xfrm>
                <a:off x="4155840" y="1708200"/>
                <a:ext cx="623520" cy="606240"/>
                <a:chOff x="4155840" y="1708200"/>
                <a:chExt cx="623520" cy="60624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155840" y="1708200"/>
                  <a:ext cx="623520" cy="60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405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74" name="未知"/>
                <p:cNvSpPr/>
                <p:nvPr/>
              </p:nvSpPr>
              <p:spPr>
                <a:xfrm>
                  <a:off x="4227120" y="1717920"/>
                  <a:ext cx="480960" cy="2286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5" name=""/>
              <p:cNvSpPr/>
              <p:nvPr/>
            </p:nvSpPr>
            <p:spPr>
              <a:xfrm>
                <a:off x="4287600" y="18014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3550320" y="4729320"/>
              <a:ext cx="335880" cy="307080"/>
              <a:chOff x="3550320" y="4729320"/>
              <a:chExt cx="335880" cy="307080"/>
            </a:xfrm>
          </p:grpSpPr>
          <p:sp>
            <p:nvSpPr>
              <p:cNvPr id="477" name=""/>
              <p:cNvSpPr/>
              <p:nvPr/>
            </p:nvSpPr>
            <p:spPr>
              <a:xfrm rot="18226800">
                <a:off x="3575880" y="4887360"/>
                <a:ext cx="120960" cy="12672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7d684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18226800">
                <a:off x="3738960" y="4751280"/>
                <a:ext cx="121320" cy="12672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7d684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2977920" y="4995720"/>
              <a:ext cx="623520" cy="630360"/>
              <a:chOff x="2977920" y="4995720"/>
              <a:chExt cx="623520" cy="63036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2977920" y="4995720"/>
                <a:ext cx="623520" cy="630360"/>
                <a:chOff x="2977920" y="4995720"/>
                <a:chExt cx="623520" cy="6303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977920" y="4995720"/>
                  <a:ext cx="62352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9e61"/>
                    </a:gs>
                    <a:gs pos="100000">
                      <a:srgbClr val="2d261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2" name="未知"/>
                <p:cNvSpPr/>
                <p:nvPr/>
              </p:nvSpPr>
              <p:spPr>
                <a:xfrm>
                  <a:off x="3049200" y="5006160"/>
                  <a:ext cx="48096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d9e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3105720" y="511380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6028920" y="2970000"/>
              <a:ext cx="620640" cy="636840"/>
              <a:chOff x="6028920" y="2970000"/>
              <a:chExt cx="620640" cy="636840"/>
            </a:xfrm>
          </p:grpSpPr>
          <p:grpSp>
            <p:nvGrpSpPr>
              <p:cNvPr id="485" name=""/>
              <p:cNvGrpSpPr/>
              <p:nvPr/>
            </p:nvGrpSpPr>
            <p:grpSpPr>
              <a:xfrm>
                <a:off x="6028920" y="2970000"/>
                <a:ext cx="620640" cy="636840"/>
                <a:chOff x="6028920" y="2970000"/>
                <a:chExt cx="620640" cy="63684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028920" y="2970000"/>
                  <a:ext cx="620640" cy="63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9fcde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87" name="未知"/>
                <p:cNvSpPr/>
                <p:nvPr/>
              </p:nvSpPr>
              <p:spPr>
                <a:xfrm>
                  <a:off x="6099840" y="2980440"/>
                  <a:ext cx="478800" cy="2401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>
                <a:off x="6143760" y="305748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5472000" y="5000400"/>
              <a:ext cx="594720" cy="571680"/>
              <a:chOff x="5472000" y="5000400"/>
              <a:chExt cx="594720" cy="57168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5472000" y="5000400"/>
                <a:ext cx="594720" cy="571680"/>
                <a:chOff x="5472000" y="5000400"/>
                <a:chExt cx="594720" cy="5716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472000" y="5000400"/>
                  <a:ext cx="594720" cy="571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1d1d3"/>
                    </a:gs>
                    <a:gs pos="100000">
                      <a:srgbClr val="575e5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2" name="未知"/>
                <p:cNvSpPr/>
                <p:nvPr/>
              </p:nvSpPr>
              <p:spPr>
                <a:xfrm>
                  <a:off x="5539680" y="5009760"/>
                  <a:ext cx="459000" cy="2156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1d1d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" name=""/>
              <p:cNvSpPr/>
              <p:nvPr/>
            </p:nvSpPr>
            <p:spPr>
              <a:xfrm>
                <a:off x="5596200" y="503100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2493720" y="2970000"/>
              <a:ext cx="623520" cy="630360"/>
              <a:chOff x="2493720" y="2970000"/>
              <a:chExt cx="623520" cy="63036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2493720" y="2970000"/>
                <a:ext cx="623520" cy="630360"/>
                <a:chOff x="2493720" y="2970000"/>
                <a:chExt cx="623520" cy="6303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2493720" y="2970000"/>
                  <a:ext cx="623520" cy="63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14375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497" name="未知"/>
                <p:cNvSpPr/>
                <p:nvPr/>
              </p:nvSpPr>
              <p:spPr>
                <a:xfrm>
                  <a:off x="2565000" y="2980440"/>
                  <a:ext cx="480960" cy="237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d7a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2621880" y="30398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 rot="18226800">
              <a:off x="5403600" y="4853880"/>
              <a:ext cx="119160" cy="1252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8226800">
              <a:off x="5263920" y="4714200"/>
              <a:ext cx="119160" cy="12528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808a8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3162600" y="3364200"/>
              <a:ext cx="379440" cy="239760"/>
              <a:chOff x="3162600" y="3364200"/>
              <a:chExt cx="379440" cy="239760"/>
            </a:xfrm>
          </p:grpSpPr>
          <p:sp>
            <p:nvSpPr>
              <p:cNvPr id="502" name=""/>
              <p:cNvSpPr/>
              <p:nvPr/>
            </p:nvSpPr>
            <p:spPr>
              <a:xfrm rot="18226800">
                <a:off x="3187800" y="3386880"/>
                <a:ext cx="122400" cy="12636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1946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18226800">
                <a:off x="3394440" y="3454920"/>
                <a:ext cx="122040" cy="12636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153b64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4410720" y="2424960"/>
              <a:ext cx="171000" cy="428040"/>
              <a:chOff x="4410720" y="2424960"/>
              <a:chExt cx="171000" cy="428040"/>
            </a:xfrm>
          </p:grpSpPr>
          <p:sp>
            <p:nvSpPr>
              <p:cNvPr id="505" name=""/>
              <p:cNvSpPr/>
              <p:nvPr/>
            </p:nvSpPr>
            <p:spPr>
              <a:xfrm rot="18226800">
                <a:off x="4435560" y="2446920"/>
                <a:ext cx="120600" cy="1249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55c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8226800">
                <a:off x="4435560" y="2705400"/>
                <a:ext cx="120600" cy="1249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a620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 rot="18226800">
              <a:off x="5766480" y="3409920"/>
              <a:ext cx="118800" cy="124920"/>
            </a:xfrm>
            <a:prstGeom prst="ellipse">
              <a:avLst/>
            </a:prstGeom>
            <a:gradFill rotWithShape="0">
              <a:gsLst>
                <a:gs pos="0">
                  <a:srgbClr val="81bed7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8226800">
              <a:off x="5541120" y="3524040"/>
              <a:ext cx="119160" cy="124920"/>
            </a:xfrm>
            <a:prstGeom prst="ellipse">
              <a:avLst/>
            </a:prstGeom>
            <a:gradFill rotWithShape="0">
              <a:gsLst>
                <a:gs pos="0">
                  <a:srgbClr val="81bed7"/>
                </a:gs>
                <a:gs pos="100000">
                  <a:srgbClr val="5aab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2120" y="3109680"/>
              <a:ext cx="173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90560" y="1295280"/>
              <a:ext cx="38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49920" y="3122640"/>
              <a:ext cx="173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07720" y="5209920"/>
              <a:ext cx="173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95880" y="5209920"/>
              <a:ext cx="173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143000" y="1679400"/>
            <a:ext cx="2170080" cy="4035600"/>
            <a:chOff x="1143000" y="1679400"/>
            <a:chExt cx="2170080" cy="4035600"/>
          </a:xfrm>
        </p:grpSpPr>
        <p:sp>
          <p:nvSpPr>
            <p:cNvPr id="516" name=""/>
            <p:cNvSpPr/>
            <p:nvPr/>
          </p:nvSpPr>
          <p:spPr>
            <a:xfrm>
              <a:off x="114300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7648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9376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9376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948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93760" y="48686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1887480" y="1679400"/>
              <a:ext cx="642960" cy="642960"/>
              <a:chOff x="1887480" y="1679400"/>
              <a:chExt cx="642960" cy="642960"/>
            </a:xfrm>
          </p:grpSpPr>
          <p:sp>
            <p:nvSpPr>
              <p:cNvPr id="523" name=""/>
              <p:cNvSpPr/>
              <p:nvPr/>
            </p:nvSpPr>
            <p:spPr>
              <a:xfrm>
                <a:off x="188748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396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90188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90836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94220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202752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21932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505320" y="1679400"/>
            <a:ext cx="2166840" cy="4035600"/>
            <a:chOff x="3505320" y="1679400"/>
            <a:chExt cx="2166840" cy="4035600"/>
          </a:xfrm>
        </p:grpSpPr>
        <p:sp>
          <p:nvSpPr>
            <p:cNvPr id="531" name=""/>
            <p:cNvSpPr/>
            <p:nvPr/>
          </p:nvSpPr>
          <p:spPr>
            <a:xfrm>
              <a:off x="350532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38800" y="1995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5608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5608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49800" y="1679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56280" y="16840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64200" y="16873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70320" y="16938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305600" y="17096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38984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8164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085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55284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861160" y="1679400"/>
            <a:ext cx="2170080" cy="4035600"/>
            <a:chOff x="5861160" y="1679400"/>
            <a:chExt cx="2170080" cy="4035600"/>
          </a:xfrm>
        </p:grpSpPr>
        <p:sp>
          <p:nvSpPr>
            <p:cNvPr id="545" name=""/>
            <p:cNvSpPr/>
            <p:nvPr/>
          </p:nvSpPr>
          <p:spPr>
            <a:xfrm>
              <a:off x="5867640" y="1987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900760" y="19954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918400" y="4059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918400" y="2017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6612120" y="1679400"/>
              <a:ext cx="642960" cy="642960"/>
              <a:chOff x="6612120" y="1679400"/>
              <a:chExt cx="642960" cy="642960"/>
            </a:xfrm>
          </p:grpSpPr>
          <p:sp>
            <p:nvSpPr>
              <p:cNvPr id="550" name=""/>
              <p:cNvSpPr/>
              <p:nvPr/>
            </p:nvSpPr>
            <p:spPr>
              <a:xfrm>
                <a:off x="6612120" y="1679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618600" y="1684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26520" y="1688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33000" y="1693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66840" y="1709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6752160" y="1771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43600" y="2441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61160" y="48448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05440" y="48686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561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564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565" name="未知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6" name="未知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568" name="未知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69" name="未知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570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571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577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582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583" name="未知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84" name="未知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586" name="未知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87" name="未知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594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599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600" name="未知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01" name="未知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603" name="未知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04" name="未知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606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612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616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617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618" name="未知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19" name="未知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621" name="未知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22" name="未知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624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630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f71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643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cxnSp>
          <p:nvCxnSpPr>
            <p:cNvPr id="647" name=""/>
            <p:cNvCxnSpPr>
              <a:stCxn id="643" idx="3"/>
              <a:endCxn id="644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8" name=""/>
            <p:cNvCxnSpPr>
              <a:stCxn id="644" idx="3"/>
              <a:endCxn id="645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9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Progress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990720" y="2133720"/>
            <a:ext cx="6858000" cy="3428640"/>
            <a:chOff x="990720" y="2133720"/>
            <a:chExt cx="6858000" cy="3428640"/>
          </a:xfrm>
        </p:grpSpPr>
        <p:sp>
          <p:nvSpPr>
            <p:cNvPr id="652" name=""/>
            <p:cNvSpPr/>
            <p:nvPr/>
          </p:nvSpPr>
          <p:spPr>
            <a:xfrm>
              <a:off x="5285520" y="290304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7da4c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1381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bc3da"/>
                </a:gs>
                <a:gs pos="100000">
                  <a:srgbClr val="5aabcc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90720" y="290304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a1dc"/>
                </a:gs>
                <a:gs pos="100000">
                  <a:srgbClr val="2d7ac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9844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ba1dc"/>
                </a:gs>
                <a:gs pos="100000">
                  <a:srgbClr val="2d7ac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0696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bc3da"/>
                </a:gs>
                <a:gs pos="100000">
                  <a:srgbClr val="5aab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424120" y="213372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da4c"/>
                </a:gs>
                <a:gs pos="100000">
                  <a:srgbClr val="99cc00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9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1d1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664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294e5e"/>
                </a:gs>
              </a:gsLst>
              <a:lin ang="198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666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71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672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294e5e"/>
                </a:gs>
              </a:gsLst>
              <a:lin ang="198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677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678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2d7acf"/>
            </a:soli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782400" y="59436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Table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981000" y="2249640"/>
          <a:ext cx="7280280" cy="3124080"/>
        </p:xfrm>
        <a:graphic>
          <a:graphicData uri="http://schemas.openxmlformats.org/drawingml/2006/table">
            <a:tbl>
              <a:tblPr/>
              <a:tblGrid>
                <a:gridCol w="1641600"/>
                <a:gridCol w="1145880"/>
                <a:gridCol w="1122480"/>
                <a:gridCol w="1120680"/>
                <a:gridCol w="1128960"/>
                <a:gridCol w="112068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13f71"/>
                      </a:solidFill>
                    </a:lnR>
                    <a:lnT>
                      <a:noFill/>
                    </a:lnT>
                    <a:lnB w="5760">
                      <a:solidFill>
                        <a:srgbClr val="113f7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2d7acf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113f7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3f71"/>
                      </a:solidFill>
                    </a:lnL>
                    <a:lnR w="5760">
                      <a:solidFill>
                        <a:srgbClr val="113f71"/>
                      </a:solidFill>
                    </a:lnR>
                    <a:lnT w="5760">
                      <a:solidFill>
                        <a:srgbClr val="113f71"/>
                      </a:solidFill>
                    </a:lnT>
                    <a:lnB w="5760">
                      <a:solidFill>
                        <a:srgbClr val="113f71"/>
                      </a:solidFill>
                    </a:lnB>
                    <a:solidFill>
                      <a:srgbClr val="c1d1d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94" name=""/>
          <p:cNvSpPr/>
          <p:nvPr/>
        </p:nvSpPr>
        <p:spPr>
          <a:xfrm>
            <a:off x="2514600" y="228600"/>
            <a:ext cx="561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aabcc"/>
                </a:solidFill>
                <a:uFillTx/>
                <a:latin typeface="Arial"/>
                <a:hlinkClick r:id="rId1"/>
              </a:rPr>
              <a:t>简约ppt模板</a:t>
            </a:r>
            <a:r>
              <a:rPr b="0" lang="en-US" sz="1800" spc="-1" strike="noStrike">
                <a:solidFill>
                  <a:srgbClr val="113f71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6" name="未知"/>
          <p:cNvSpPr/>
          <p:nvPr/>
        </p:nvSpPr>
        <p:spPr>
          <a:xfrm flipH="1">
            <a:off x="4832280" y="272736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abcc"/>
              </a:gs>
              <a:gs pos="100000">
                <a:srgbClr val="aecff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875520" y="2018880"/>
            <a:ext cx="4125960" cy="3931560"/>
            <a:chOff x="875520" y="2018880"/>
            <a:chExt cx="4125960" cy="3931560"/>
          </a:xfrm>
        </p:grpSpPr>
        <p:sp>
          <p:nvSpPr>
            <p:cNvPr id="698" name=""/>
            <p:cNvSpPr/>
            <p:nvPr/>
          </p:nvSpPr>
          <p:spPr>
            <a:xfrm rot="5433000">
              <a:off x="3510000" y="32101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33000">
              <a:off x="2799000" y="2068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5433000">
              <a:off x="2874960" y="44020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2167200" y="325440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810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5433000">
              <a:off x="1484280" y="213048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5433000">
              <a:off x="1536840" y="445932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5433000">
              <a:off x="839880" y="3319560"/>
              <a:ext cx="1527120" cy="1441440"/>
            </a:xfrm>
            <a:prstGeom prst="hexagon">
              <a:avLst>
                <a:gd name="adj" fmla="val 26486"/>
                <a:gd name="vf" fmla="val 11547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8070000"/>
            </a:gradFill>
            <a:ln w="93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5362560" y="209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202000" y="216216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Block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1066680" y="1600200"/>
            <a:ext cx="7010280" cy="4419000"/>
            <a:chOff x="1066680" y="1600200"/>
            <a:chExt cx="7010280" cy="4419000"/>
          </a:xfrm>
        </p:grpSpPr>
        <p:sp>
          <p:nvSpPr>
            <p:cNvPr id="709" name=""/>
            <p:cNvSpPr/>
            <p:nvPr/>
          </p:nvSpPr>
          <p:spPr>
            <a:xfrm>
              <a:off x="1999080" y="2315880"/>
              <a:ext cx="5206320" cy="2576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2d7ac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83800" y="1600200"/>
              <a:ext cx="5451480" cy="539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aabcc"/>
                </a:gs>
                <a:gs pos="50000">
                  <a:srgbClr val="94c8dd"/>
                </a:gs>
                <a:gs pos="100000">
                  <a:srgbClr val="5aabcc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94960" y="28897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712" name=""/>
            <p:cNvGrpSpPr/>
            <p:nvPr/>
          </p:nvGrpSpPr>
          <p:grpSpPr>
            <a:xfrm>
              <a:off x="1066680" y="4075200"/>
              <a:ext cx="1486800" cy="1944000"/>
              <a:chOff x="1066680" y="4075200"/>
              <a:chExt cx="1486800" cy="194400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1066680" y="4075200"/>
                <a:ext cx="1398600" cy="1422360"/>
                <a:chOff x="1066680" y="4075200"/>
                <a:chExt cx="1398600" cy="1422360"/>
              </a:xfrm>
            </p:grpSpPr>
            <p:grpSp>
              <p:nvGrpSpPr>
                <p:cNvPr id="714" name=""/>
                <p:cNvGrpSpPr/>
                <p:nvPr/>
              </p:nvGrpSpPr>
              <p:grpSpPr>
                <a:xfrm>
                  <a:off x="1066680" y="4075200"/>
                  <a:ext cx="1398600" cy="1422360"/>
                  <a:chOff x="1066680" y="4075200"/>
                  <a:chExt cx="1398600" cy="14223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1066680" y="4075200"/>
                    <a:ext cx="1398600" cy="142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608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未知"/>
                  <p:cNvSpPr/>
                  <p:nvPr/>
                </p:nvSpPr>
                <p:spPr>
                  <a:xfrm>
                    <a:off x="1226520" y="4098600"/>
                    <a:ext cx="107892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7" name=""/>
                <p:cNvSpPr/>
                <p:nvPr/>
              </p:nvSpPr>
              <p:spPr>
                <a:xfrm>
                  <a:off x="1182960" y="479916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8" name=""/>
              <p:cNvSpPr/>
              <p:nvPr/>
            </p:nvSpPr>
            <p:spPr>
              <a:xfrm>
                <a:off x="1066680" y="5607720"/>
                <a:ext cx="1486800" cy="41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2859840" y="4075200"/>
              <a:ext cx="1522080" cy="1944000"/>
              <a:chOff x="2859840" y="4075200"/>
              <a:chExt cx="1522080" cy="194400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2859840" y="4075200"/>
                <a:ext cx="1433880" cy="1428480"/>
                <a:chOff x="2859840" y="4075200"/>
                <a:chExt cx="1433880" cy="14284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2859840" y="4075200"/>
                  <a:ext cx="1433880" cy="1428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2e57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2" name="未知"/>
                <p:cNvSpPr/>
                <p:nvPr/>
              </p:nvSpPr>
              <p:spPr>
                <a:xfrm>
                  <a:off x="3023640" y="40986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" name=""/>
              <p:cNvSpPr/>
              <p:nvPr/>
            </p:nvSpPr>
            <p:spPr>
              <a:xfrm>
                <a:off x="2931480" y="4760640"/>
                <a:ext cx="12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895480" y="5607720"/>
                <a:ext cx="1486440" cy="411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4797000" y="4033800"/>
              <a:ext cx="1535760" cy="1985400"/>
              <a:chOff x="4797000" y="4033800"/>
              <a:chExt cx="1535760" cy="198540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4797000" y="4033800"/>
                <a:ext cx="1434240" cy="1428120"/>
                <a:chOff x="4797000" y="4033800"/>
                <a:chExt cx="1434240" cy="142812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4797000" y="4033800"/>
                  <a:ext cx="1434240" cy="142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173e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728" name="未知"/>
                <p:cNvSpPr/>
                <p:nvPr/>
              </p:nvSpPr>
              <p:spPr>
                <a:xfrm>
                  <a:off x="4960800" y="4057200"/>
                  <a:ext cx="1106280" cy="5389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2d7a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4868640" y="4719240"/>
                <a:ext cx="129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846320" y="5608080"/>
                <a:ext cx="148644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6590160" y="4033800"/>
              <a:ext cx="1486800" cy="1985400"/>
              <a:chOff x="6590160" y="4033800"/>
              <a:chExt cx="1486800" cy="198540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6590160" y="4033800"/>
                <a:ext cx="1434240" cy="1438200"/>
                <a:chOff x="6590160" y="4033800"/>
                <a:chExt cx="1434240" cy="143820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6590160" y="4033800"/>
                  <a:ext cx="1434240" cy="1438200"/>
                  <a:chOff x="6590160" y="4033800"/>
                  <a:chExt cx="1434240" cy="1438200"/>
                </a:xfrm>
              </p:grpSpPr>
              <p:sp>
                <p:nvSpPr>
                  <p:cNvPr id="734" name=""/>
                  <p:cNvSpPr/>
                  <p:nvPr/>
                </p:nvSpPr>
                <p:spPr>
                  <a:xfrm>
                    <a:off x="6590160" y="4033800"/>
                    <a:ext cx="1434240" cy="143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d9e61"/>
                      </a:gs>
                      <a:gs pos="100000">
                        <a:srgbClr val="2d261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未知"/>
                  <p:cNvSpPr/>
                  <p:nvPr/>
                </p:nvSpPr>
                <p:spPr>
                  <a:xfrm>
                    <a:off x="6753960" y="4057560"/>
                    <a:ext cx="110628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bd9e6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6" name=""/>
                <p:cNvSpPr/>
                <p:nvPr/>
              </p:nvSpPr>
              <p:spPr>
                <a:xfrm>
                  <a:off x="6689880" y="47041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7" name=""/>
              <p:cNvSpPr/>
              <p:nvPr/>
            </p:nvSpPr>
            <p:spPr>
              <a:xfrm>
                <a:off x="6590160" y="5608080"/>
                <a:ext cx="1486800" cy="41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ontents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514600" y="1828800"/>
            <a:ext cx="3809880" cy="609480"/>
            <a:chOff x="2514600" y="1828800"/>
            <a:chExt cx="3809880" cy="609480"/>
          </a:xfrm>
        </p:grpSpPr>
        <p:grpSp>
          <p:nvGrpSpPr>
            <p:cNvPr id="196" name=""/>
            <p:cNvGrpSpPr/>
            <p:nvPr/>
          </p:nvGrpSpPr>
          <p:grpSpPr>
            <a:xfrm>
              <a:off x="2514600" y="1828800"/>
              <a:ext cx="533160" cy="609480"/>
              <a:chOff x="2514600" y="1828800"/>
              <a:chExt cx="533160" cy="609480"/>
            </a:xfrm>
          </p:grpSpPr>
          <p:sp>
            <p:nvSpPr>
              <p:cNvPr id="197" name="未知"/>
              <p:cNvSpPr/>
              <p:nvPr/>
            </p:nvSpPr>
            <p:spPr>
              <a:xfrm>
                <a:off x="2677680" y="182880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2514600" y="19573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2514600" y="211680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2674800" y="213228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2771640" y="21168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2771640" y="19537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2690280" y="205380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3353400" y="182880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8120" y="228600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14600" y="2514600"/>
            <a:ext cx="3809880" cy="609480"/>
            <a:chOff x="2514600" y="2514600"/>
            <a:chExt cx="3809880" cy="609480"/>
          </a:xfrm>
        </p:grpSpPr>
        <p:grpSp>
          <p:nvGrpSpPr>
            <p:cNvPr id="207" name=""/>
            <p:cNvGrpSpPr/>
            <p:nvPr/>
          </p:nvGrpSpPr>
          <p:grpSpPr>
            <a:xfrm>
              <a:off x="2514600" y="2514600"/>
              <a:ext cx="533160" cy="609480"/>
              <a:chOff x="2514600" y="2514600"/>
              <a:chExt cx="533160" cy="609480"/>
            </a:xfrm>
          </p:grpSpPr>
          <p:sp>
            <p:nvSpPr>
              <p:cNvPr id="208" name="未知"/>
              <p:cNvSpPr/>
              <p:nvPr/>
            </p:nvSpPr>
            <p:spPr>
              <a:xfrm>
                <a:off x="2677680" y="251460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09" name="未知"/>
              <p:cNvSpPr/>
              <p:nvPr/>
            </p:nvSpPr>
            <p:spPr>
              <a:xfrm>
                <a:off x="2514600" y="26431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0" name="未知"/>
              <p:cNvSpPr/>
              <p:nvPr/>
            </p:nvSpPr>
            <p:spPr>
              <a:xfrm>
                <a:off x="2514600" y="280260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1" name="未知"/>
              <p:cNvSpPr/>
              <p:nvPr/>
            </p:nvSpPr>
            <p:spPr>
              <a:xfrm>
                <a:off x="2674800" y="281808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2" name="未知"/>
              <p:cNvSpPr/>
              <p:nvPr/>
            </p:nvSpPr>
            <p:spPr>
              <a:xfrm>
                <a:off x="2771640" y="28026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3" name="未知"/>
              <p:cNvSpPr/>
              <p:nvPr/>
            </p:nvSpPr>
            <p:spPr>
              <a:xfrm>
                <a:off x="2771640" y="263952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2690280" y="273960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3353400" y="251460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8120" y="2971800"/>
              <a:ext cx="327636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514600" y="3276720"/>
            <a:ext cx="3809880" cy="609480"/>
            <a:chOff x="2514600" y="3276720"/>
            <a:chExt cx="3809880" cy="609480"/>
          </a:xfrm>
        </p:grpSpPr>
        <p:grpSp>
          <p:nvGrpSpPr>
            <p:cNvPr id="218" name=""/>
            <p:cNvGrpSpPr/>
            <p:nvPr/>
          </p:nvGrpSpPr>
          <p:grpSpPr>
            <a:xfrm>
              <a:off x="2514600" y="3276720"/>
              <a:ext cx="533160" cy="609480"/>
              <a:chOff x="2514600" y="3276720"/>
              <a:chExt cx="533160" cy="609480"/>
            </a:xfrm>
          </p:grpSpPr>
          <p:sp>
            <p:nvSpPr>
              <p:cNvPr id="219" name="未知"/>
              <p:cNvSpPr/>
              <p:nvPr/>
            </p:nvSpPr>
            <p:spPr>
              <a:xfrm>
                <a:off x="2677680" y="327672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2514600" y="340524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2514600" y="356472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2674800" y="358020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3" name="未知"/>
              <p:cNvSpPr/>
              <p:nvPr/>
            </p:nvSpPr>
            <p:spPr>
              <a:xfrm>
                <a:off x="2771640" y="356472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4" name="未知"/>
              <p:cNvSpPr/>
              <p:nvPr/>
            </p:nvSpPr>
            <p:spPr>
              <a:xfrm>
                <a:off x="2771640" y="340164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5" name="未知"/>
              <p:cNvSpPr/>
              <p:nvPr/>
            </p:nvSpPr>
            <p:spPr>
              <a:xfrm>
                <a:off x="2690280" y="350172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0e9dc"/>
                  </a:gs>
                  <a:gs pos="100000">
                    <a:srgbClr val="bd9e6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3353400" y="327672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48120" y="3733920"/>
              <a:ext cx="3276360" cy="0"/>
            </a:xfrm>
            <a:prstGeom prst="line">
              <a:avLst/>
            </a:prstGeom>
            <a:ln w="9360">
              <a:solidFill>
                <a:srgbClr val="bd9e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514600" y="4038480"/>
            <a:ext cx="3809880" cy="609480"/>
            <a:chOff x="2514600" y="4038480"/>
            <a:chExt cx="3809880" cy="609480"/>
          </a:xfrm>
        </p:grpSpPr>
        <p:grpSp>
          <p:nvGrpSpPr>
            <p:cNvPr id="229" name=""/>
            <p:cNvGrpSpPr/>
            <p:nvPr/>
          </p:nvGrpSpPr>
          <p:grpSpPr>
            <a:xfrm>
              <a:off x="2514600" y="4038480"/>
              <a:ext cx="533160" cy="609480"/>
              <a:chOff x="2514600" y="4038480"/>
              <a:chExt cx="533160" cy="60948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2677680" y="40384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2514600" y="41670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2514600" y="432648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2674800" y="434196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2771640" y="432648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2771640" y="41634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2690280" y="42634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8dae8"/>
                  </a:gs>
                  <a:gs pos="100000">
                    <a:srgbClr val="5aabc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353400" y="40384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48120" y="4495680"/>
              <a:ext cx="327636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14600" y="4724280"/>
            <a:ext cx="3809880" cy="609480"/>
            <a:chOff x="2514600" y="4724280"/>
            <a:chExt cx="3809880" cy="609480"/>
          </a:xfrm>
        </p:grpSpPr>
        <p:grpSp>
          <p:nvGrpSpPr>
            <p:cNvPr id="240" name=""/>
            <p:cNvGrpSpPr/>
            <p:nvPr/>
          </p:nvGrpSpPr>
          <p:grpSpPr>
            <a:xfrm>
              <a:off x="2514600" y="4724280"/>
              <a:ext cx="533160" cy="609480"/>
              <a:chOff x="2514600" y="4724280"/>
              <a:chExt cx="533160" cy="609480"/>
            </a:xfrm>
          </p:grpSpPr>
          <p:sp>
            <p:nvSpPr>
              <p:cNvPr id="241" name="未知"/>
              <p:cNvSpPr/>
              <p:nvPr/>
            </p:nvSpPr>
            <p:spPr>
              <a:xfrm>
                <a:off x="2677680" y="4724280"/>
                <a:ext cx="210240" cy="303480"/>
              </a:xfrm>
              <a:custGeom>
                <a:avLst/>
                <a:gdLst/>
                <a:ahLst/>
                <a:rect l="l" t="t" r="r" b="b"/>
                <a:pathLst>
                  <a:path w="299" h="434">
                    <a:moveTo>
                      <a:pt x="174" y="121"/>
                    </a:moveTo>
                    <a:lnTo>
                      <a:pt x="174" y="23"/>
                    </a:lnTo>
                    <a:lnTo>
                      <a:pt x="170" y="9"/>
                    </a:lnTo>
                    <a:lnTo>
                      <a:pt x="165" y="5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43" y="0"/>
                    </a:lnTo>
                    <a:lnTo>
                      <a:pt x="134" y="5"/>
                    </a:lnTo>
                    <a:lnTo>
                      <a:pt x="125" y="9"/>
                    </a:lnTo>
                    <a:lnTo>
                      <a:pt x="125" y="23"/>
                    </a:lnTo>
                    <a:lnTo>
                      <a:pt x="125" y="126"/>
                    </a:lnTo>
                    <a:lnTo>
                      <a:pt x="76" y="99"/>
                    </a:lnTo>
                    <a:lnTo>
                      <a:pt x="67" y="94"/>
                    </a:lnTo>
                    <a:lnTo>
                      <a:pt x="58" y="94"/>
                    </a:lnTo>
                    <a:lnTo>
                      <a:pt x="49" y="99"/>
                    </a:lnTo>
                    <a:lnTo>
                      <a:pt x="45" y="103"/>
                    </a:lnTo>
                    <a:lnTo>
                      <a:pt x="40" y="112"/>
                    </a:lnTo>
                    <a:lnTo>
                      <a:pt x="45" y="117"/>
                    </a:lnTo>
                    <a:lnTo>
                      <a:pt x="45" y="126"/>
                    </a:lnTo>
                    <a:lnTo>
                      <a:pt x="54" y="134"/>
                    </a:lnTo>
                    <a:lnTo>
                      <a:pt x="121" y="170"/>
                    </a:lnTo>
                    <a:lnTo>
                      <a:pt x="121" y="242"/>
                    </a:lnTo>
                    <a:lnTo>
                      <a:pt x="36" y="188"/>
                    </a:lnTo>
                    <a:lnTo>
                      <a:pt x="27" y="184"/>
                    </a:lnTo>
                    <a:lnTo>
                      <a:pt x="18" y="184"/>
                    </a:lnTo>
                    <a:lnTo>
                      <a:pt x="9" y="188"/>
                    </a:lnTo>
                    <a:lnTo>
                      <a:pt x="5" y="193"/>
                    </a:lnTo>
                    <a:lnTo>
                      <a:pt x="0" y="202"/>
                    </a:lnTo>
                    <a:lnTo>
                      <a:pt x="0" y="210"/>
                    </a:lnTo>
                    <a:lnTo>
                      <a:pt x="5" y="219"/>
                    </a:lnTo>
                    <a:lnTo>
                      <a:pt x="14" y="224"/>
                    </a:lnTo>
                    <a:lnTo>
                      <a:pt x="121" y="291"/>
                    </a:lnTo>
                    <a:lnTo>
                      <a:pt x="121" y="434"/>
                    </a:lnTo>
                    <a:lnTo>
                      <a:pt x="174" y="434"/>
                    </a:lnTo>
                    <a:lnTo>
                      <a:pt x="174" y="291"/>
                    </a:lnTo>
                    <a:lnTo>
                      <a:pt x="290" y="224"/>
                    </a:lnTo>
                    <a:lnTo>
                      <a:pt x="295" y="219"/>
                    </a:lnTo>
                    <a:lnTo>
                      <a:pt x="299" y="210"/>
                    </a:lnTo>
                    <a:lnTo>
                      <a:pt x="299" y="202"/>
                    </a:lnTo>
                    <a:lnTo>
                      <a:pt x="299" y="197"/>
                    </a:lnTo>
                    <a:lnTo>
                      <a:pt x="295" y="188"/>
                    </a:lnTo>
                    <a:lnTo>
                      <a:pt x="286" y="184"/>
                    </a:lnTo>
                    <a:lnTo>
                      <a:pt x="277" y="184"/>
                    </a:lnTo>
                    <a:lnTo>
                      <a:pt x="268" y="188"/>
                    </a:lnTo>
                    <a:lnTo>
                      <a:pt x="174" y="237"/>
                    </a:lnTo>
                    <a:lnTo>
                      <a:pt x="174" y="170"/>
                    </a:lnTo>
                    <a:lnTo>
                      <a:pt x="246" y="134"/>
                    </a:lnTo>
                    <a:lnTo>
                      <a:pt x="250" y="130"/>
                    </a:lnTo>
                    <a:lnTo>
                      <a:pt x="255" y="121"/>
                    </a:lnTo>
                    <a:lnTo>
                      <a:pt x="255" y="112"/>
                    </a:lnTo>
                    <a:lnTo>
                      <a:pt x="250" y="108"/>
                    </a:lnTo>
                    <a:lnTo>
                      <a:pt x="246" y="103"/>
                    </a:lnTo>
                    <a:lnTo>
                      <a:pt x="237" y="99"/>
                    </a:lnTo>
                    <a:lnTo>
                      <a:pt x="232" y="99"/>
                    </a:lnTo>
                    <a:lnTo>
                      <a:pt x="223" y="99"/>
                    </a:lnTo>
                    <a:lnTo>
                      <a:pt x="174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2514600" y="485280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121" y="71"/>
                    </a:moveTo>
                    <a:lnTo>
                      <a:pt x="36" y="22"/>
                    </a:lnTo>
                    <a:lnTo>
                      <a:pt x="27" y="18"/>
                    </a:lnTo>
                    <a:lnTo>
                      <a:pt x="18" y="18"/>
                    </a:lnTo>
                    <a:lnTo>
                      <a:pt x="9" y="22"/>
                    </a:lnTo>
                    <a:lnTo>
                      <a:pt x="5" y="31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5" y="58"/>
                    </a:lnTo>
                    <a:lnTo>
                      <a:pt x="9" y="62"/>
                    </a:lnTo>
                    <a:lnTo>
                      <a:pt x="98" y="116"/>
                    </a:lnTo>
                    <a:lnTo>
                      <a:pt x="54" y="143"/>
                    </a:lnTo>
                    <a:lnTo>
                      <a:pt x="45" y="147"/>
                    </a:lnTo>
                    <a:lnTo>
                      <a:pt x="40" y="156"/>
                    </a:lnTo>
                    <a:lnTo>
                      <a:pt x="40" y="165"/>
                    </a:lnTo>
                    <a:lnTo>
                      <a:pt x="40" y="174"/>
                    </a:lnTo>
                    <a:lnTo>
                      <a:pt x="49" y="178"/>
                    </a:lnTo>
                    <a:lnTo>
                      <a:pt x="54" y="183"/>
                    </a:lnTo>
                    <a:lnTo>
                      <a:pt x="63" y="183"/>
                    </a:lnTo>
                    <a:lnTo>
                      <a:pt x="72" y="183"/>
                    </a:lnTo>
                    <a:lnTo>
                      <a:pt x="139" y="143"/>
                    </a:lnTo>
                    <a:lnTo>
                      <a:pt x="197" y="178"/>
                    </a:lnTo>
                    <a:lnTo>
                      <a:pt x="112" y="223"/>
                    </a:lnTo>
                    <a:lnTo>
                      <a:pt x="103" y="232"/>
                    </a:lnTo>
                    <a:lnTo>
                      <a:pt x="98" y="241"/>
                    </a:lnTo>
                    <a:lnTo>
                      <a:pt x="98" y="246"/>
                    </a:lnTo>
                    <a:lnTo>
                      <a:pt x="98" y="254"/>
                    </a:lnTo>
                    <a:lnTo>
                      <a:pt x="103" y="263"/>
                    </a:lnTo>
                    <a:lnTo>
                      <a:pt x="112" y="268"/>
                    </a:lnTo>
                    <a:lnTo>
                      <a:pt x="121" y="268"/>
                    </a:lnTo>
                    <a:lnTo>
                      <a:pt x="130" y="263"/>
                    </a:lnTo>
                    <a:lnTo>
                      <a:pt x="241" y="201"/>
                    </a:lnTo>
                    <a:lnTo>
                      <a:pt x="366" y="272"/>
                    </a:lnTo>
                    <a:lnTo>
                      <a:pt x="393" y="228"/>
                    </a:lnTo>
                    <a:lnTo>
                      <a:pt x="268" y="156"/>
                    </a:lnTo>
                    <a:lnTo>
                      <a:pt x="268" y="22"/>
                    </a:lnTo>
                    <a:lnTo>
                      <a:pt x="268" y="13"/>
                    </a:lnTo>
                    <a:lnTo>
                      <a:pt x="264" y="9"/>
                    </a:lnTo>
                    <a:lnTo>
                      <a:pt x="255" y="4"/>
                    </a:lnTo>
                    <a:lnTo>
                      <a:pt x="250" y="0"/>
                    </a:lnTo>
                    <a:lnTo>
                      <a:pt x="241" y="0"/>
                    </a:lnTo>
                    <a:lnTo>
                      <a:pt x="232" y="4"/>
                    </a:lnTo>
                    <a:lnTo>
                      <a:pt x="228" y="13"/>
                    </a:lnTo>
                    <a:lnTo>
                      <a:pt x="228" y="22"/>
                    </a:lnTo>
                    <a:lnTo>
                      <a:pt x="223" y="129"/>
                    </a:lnTo>
                    <a:lnTo>
                      <a:pt x="165" y="94"/>
                    </a:lnTo>
                    <a:lnTo>
                      <a:pt x="170" y="18"/>
                    </a:lnTo>
                    <a:lnTo>
                      <a:pt x="165" y="9"/>
                    </a:lnTo>
                    <a:lnTo>
                      <a:pt x="161" y="4"/>
                    </a:lnTo>
                    <a:lnTo>
                      <a:pt x="156" y="0"/>
                    </a:lnTo>
                    <a:lnTo>
                      <a:pt x="148" y="0"/>
                    </a:lnTo>
                    <a:lnTo>
                      <a:pt x="139" y="0"/>
                    </a:lnTo>
                    <a:lnTo>
                      <a:pt x="134" y="4"/>
                    </a:lnTo>
                    <a:lnTo>
                      <a:pt x="130" y="9"/>
                    </a:lnTo>
                    <a:lnTo>
                      <a:pt x="125" y="18"/>
                    </a:lnTo>
                    <a:lnTo>
                      <a:pt x="121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2514600" y="5012280"/>
                <a:ext cx="276120" cy="19332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98" y="156"/>
                    </a:moveTo>
                    <a:lnTo>
                      <a:pt x="9" y="205"/>
                    </a:lnTo>
                    <a:lnTo>
                      <a:pt x="0" y="214"/>
                    </a:lnTo>
                    <a:lnTo>
                      <a:pt x="0" y="223"/>
                    </a:lnTo>
                    <a:lnTo>
                      <a:pt x="0" y="228"/>
                    </a:lnTo>
                    <a:lnTo>
                      <a:pt x="0" y="237"/>
                    </a:lnTo>
                    <a:lnTo>
                      <a:pt x="9" y="246"/>
                    </a:lnTo>
                    <a:lnTo>
                      <a:pt x="14" y="250"/>
                    </a:lnTo>
                    <a:lnTo>
                      <a:pt x="23" y="250"/>
                    </a:lnTo>
                    <a:lnTo>
                      <a:pt x="36" y="250"/>
                    </a:lnTo>
                    <a:lnTo>
                      <a:pt x="125" y="196"/>
                    </a:lnTo>
                    <a:lnTo>
                      <a:pt x="125" y="250"/>
                    </a:lnTo>
                    <a:lnTo>
                      <a:pt x="125" y="263"/>
                    </a:lnTo>
                    <a:lnTo>
                      <a:pt x="130" y="268"/>
                    </a:lnTo>
                    <a:lnTo>
                      <a:pt x="139" y="272"/>
                    </a:lnTo>
                    <a:lnTo>
                      <a:pt x="143" y="277"/>
                    </a:lnTo>
                    <a:lnTo>
                      <a:pt x="152" y="277"/>
                    </a:lnTo>
                    <a:lnTo>
                      <a:pt x="161" y="272"/>
                    </a:lnTo>
                    <a:lnTo>
                      <a:pt x="165" y="263"/>
                    </a:lnTo>
                    <a:lnTo>
                      <a:pt x="165" y="254"/>
                    </a:lnTo>
                    <a:lnTo>
                      <a:pt x="165" y="178"/>
                    </a:lnTo>
                    <a:lnTo>
                      <a:pt x="223" y="143"/>
                    </a:lnTo>
                    <a:lnTo>
                      <a:pt x="223" y="241"/>
                    </a:lnTo>
                    <a:lnTo>
                      <a:pt x="223" y="250"/>
                    </a:lnTo>
                    <a:lnTo>
                      <a:pt x="228" y="259"/>
                    </a:lnTo>
                    <a:lnTo>
                      <a:pt x="237" y="263"/>
                    </a:lnTo>
                    <a:lnTo>
                      <a:pt x="246" y="268"/>
                    </a:lnTo>
                    <a:lnTo>
                      <a:pt x="255" y="268"/>
                    </a:lnTo>
                    <a:lnTo>
                      <a:pt x="259" y="263"/>
                    </a:lnTo>
                    <a:lnTo>
                      <a:pt x="264" y="254"/>
                    </a:lnTo>
                    <a:lnTo>
                      <a:pt x="268" y="246"/>
                    </a:lnTo>
                    <a:lnTo>
                      <a:pt x="268" y="116"/>
                    </a:lnTo>
                    <a:lnTo>
                      <a:pt x="393" y="44"/>
                    </a:lnTo>
                    <a:lnTo>
                      <a:pt x="366" y="0"/>
                    </a:lnTo>
                    <a:lnTo>
                      <a:pt x="241" y="71"/>
                    </a:lnTo>
                    <a:lnTo>
                      <a:pt x="125" y="4"/>
                    </a:lnTo>
                    <a:lnTo>
                      <a:pt x="121" y="0"/>
                    </a:lnTo>
                    <a:lnTo>
                      <a:pt x="112" y="0"/>
                    </a:lnTo>
                    <a:lnTo>
                      <a:pt x="103" y="4"/>
                    </a:lnTo>
                    <a:lnTo>
                      <a:pt x="98" y="9"/>
                    </a:lnTo>
                    <a:lnTo>
                      <a:pt x="94" y="18"/>
                    </a:lnTo>
                    <a:lnTo>
                      <a:pt x="94" y="26"/>
                    </a:lnTo>
                    <a:lnTo>
                      <a:pt x="98" y="35"/>
                    </a:lnTo>
                    <a:lnTo>
                      <a:pt x="107" y="40"/>
                    </a:lnTo>
                    <a:lnTo>
                      <a:pt x="197" y="98"/>
                    </a:lnTo>
                    <a:lnTo>
                      <a:pt x="139" y="129"/>
                    </a:lnTo>
                    <a:lnTo>
                      <a:pt x="72" y="89"/>
                    </a:lnTo>
                    <a:lnTo>
                      <a:pt x="63" y="85"/>
                    </a:lnTo>
                    <a:lnTo>
                      <a:pt x="58" y="85"/>
                    </a:lnTo>
                    <a:lnTo>
                      <a:pt x="49" y="89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5" y="111"/>
                    </a:lnTo>
                    <a:lnTo>
                      <a:pt x="45" y="120"/>
                    </a:lnTo>
                    <a:lnTo>
                      <a:pt x="54" y="125"/>
                    </a:lnTo>
                    <a:lnTo>
                      <a:pt x="98" y="15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2674800" y="5027760"/>
                <a:ext cx="210240" cy="306000"/>
              </a:xfrm>
              <a:custGeom>
                <a:avLst/>
                <a:gdLst/>
                <a:ahLst/>
                <a:rect l="l" t="t" r="r" b="b"/>
                <a:pathLst>
                  <a:path w="299" h="438">
                    <a:moveTo>
                      <a:pt x="125" y="313"/>
                    </a:moveTo>
                    <a:lnTo>
                      <a:pt x="125" y="411"/>
                    </a:lnTo>
                    <a:lnTo>
                      <a:pt x="129" y="425"/>
                    </a:lnTo>
                    <a:lnTo>
                      <a:pt x="134" y="429"/>
                    </a:lnTo>
                    <a:lnTo>
                      <a:pt x="143" y="434"/>
                    </a:lnTo>
                    <a:lnTo>
                      <a:pt x="147" y="438"/>
                    </a:lnTo>
                    <a:lnTo>
                      <a:pt x="156" y="434"/>
                    </a:lnTo>
                    <a:lnTo>
                      <a:pt x="165" y="429"/>
                    </a:lnTo>
                    <a:lnTo>
                      <a:pt x="174" y="425"/>
                    </a:lnTo>
                    <a:lnTo>
                      <a:pt x="174" y="411"/>
                    </a:lnTo>
                    <a:lnTo>
                      <a:pt x="174" y="308"/>
                    </a:lnTo>
                    <a:lnTo>
                      <a:pt x="223" y="335"/>
                    </a:lnTo>
                    <a:lnTo>
                      <a:pt x="232" y="340"/>
                    </a:lnTo>
                    <a:lnTo>
                      <a:pt x="241" y="340"/>
                    </a:lnTo>
                    <a:lnTo>
                      <a:pt x="250" y="335"/>
                    </a:lnTo>
                    <a:lnTo>
                      <a:pt x="254" y="331"/>
                    </a:lnTo>
                    <a:lnTo>
                      <a:pt x="254" y="322"/>
                    </a:lnTo>
                    <a:lnTo>
                      <a:pt x="254" y="317"/>
                    </a:lnTo>
                    <a:lnTo>
                      <a:pt x="254" y="308"/>
                    </a:lnTo>
                    <a:lnTo>
                      <a:pt x="245" y="300"/>
                    </a:lnTo>
                    <a:lnTo>
                      <a:pt x="178" y="264"/>
                    </a:lnTo>
                    <a:lnTo>
                      <a:pt x="178" y="192"/>
                    </a:lnTo>
                    <a:lnTo>
                      <a:pt x="263" y="246"/>
                    </a:lnTo>
                    <a:lnTo>
                      <a:pt x="272" y="250"/>
                    </a:lnTo>
                    <a:lnTo>
                      <a:pt x="281" y="250"/>
                    </a:lnTo>
                    <a:lnTo>
                      <a:pt x="290" y="246"/>
                    </a:lnTo>
                    <a:lnTo>
                      <a:pt x="294" y="241"/>
                    </a:lnTo>
                    <a:lnTo>
                      <a:pt x="299" y="232"/>
                    </a:lnTo>
                    <a:lnTo>
                      <a:pt x="299" y="224"/>
                    </a:lnTo>
                    <a:lnTo>
                      <a:pt x="294" y="215"/>
                    </a:lnTo>
                    <a:lnTo>
                      <a:pt x="285" y="210"/>
                    </a:lnTo>
                    <a:lnTo>
                      <a:pt x="178" y="143"/>
                    </a:lnTo>
                    <a:lnTo>
                      <a:pt x="178" y="0"/>
                    </a:lnTo>
                    <a:lnTo>
                      <a:pt x="125" y="0"/>
                    </a:lnTo>
                    <a:lnTo>
                      <a:pt x="125" y="143"/>
                    </a:lnTo>
                    <a:lnTo>
                      <a:pt x="9" y="210"/>
                    </a:lnTo>
                    <a:lnTo>
                      <a:pt x="4" y="215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0" y="237"/>
                    </a:lnTo>
                    <a:lnTo>
                      <a:pt x="4" y="246"/>
                    </a:lnTo>
                    <a:lnTo>
                      <a:pt x="13" y="250"/>
                    </a:lnTo>
                    <a:lnTo>
                      <a:pt x="22" y="250"/>
                    </a:lnTo>
                    <a:lnTo>
                      <a:pt x="31" y="246"/>
                    </a:lnTo>
                    <a:lnTo>
                      <a:pt x="125" y="197"/>
                    </a:lnTo>
                    <a:lnTo>
                      <a:pt x="125" y="264"/>
                    </a:lnTo>
                    <a:lnTo>
                      <a:pt x="53" y="300"/>
                    </a:lnTo>
                    <a:lnTo>
                      <a:pt x="49" y="304"/>
                    </a:lnTo>
                    <a:lnTo>
                      <a:pt x="44" y="313"/>
                    </a:lnTo>
                    <a:lnTo>
                      <a:pt x="44" y="322"/>
                    </a:lnTo>
                    <a:lnTo>
                      <a:pt x="49" y="326"/>
                    </a:lnTo>
                    <a:lnTo>
                      <a:pt x="53" y="331"/>
                    </a:lnTo>
                    <a:lnTo>
                      <a:pt x="62" y="335"/>
                    </a:lnTo>
                    <a:lnTo>
                      <a:pt x="67" y="335"/>
                    </a:lnTo>
                    <a:lnTo>
                      <a:pt x="76" y="335"/>
                    </a:lnTo>
                    <a:lnTo>
                      <a:pt x="125" y="31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2771640" y="5012280"/>
                <a:ext cx="276120" cy="190080"/>
              </a:xfrm>
              <a:custGeom>
                <a:avLst/>
                <a:gdLst/>
                <a:ahLst/>
                <a:rect l="l" t="t" r="r" b="b"/>
                <a:pathLst>
                  <a:path w="393" h="272">
                    <a:moveTo>
                      <a:pt x="272" y="201"/>
                    </a:moveTo>
                    <a:lnTo>
                      <a:pt x="357" y="250"/>
                    </a:lnTo>
                    <a:lnTo>
                      <a:pt x="366" y="254"/>
                    </a:lnTo>
                    <a:lnTo>
                      <a:pt x="375" y="254"/>
                    </a:lnTo>
                    <a:lnTo>
                      <a:pt x="384" y="250"/>
                    </a:lnTo>
                    <a:lnTo>
                      <a:pt x="388" y="241"/>
                    </a:lnTo>
                    <a:lnTo>
                      <a:pt x="393" y="232"/>
                    </a:lnTo>
                    <a:lnTo>
                      <a:pt x="393" y="223"/>
                    </a:lnTo>
                    <a:lnTo>
                      <a:pt x="388" y="214"/>
                    </a:lnTo>
                    <a:lnTo>
                      <a:pt x="384" y="210"/>
                    </a:lnTo>
                    <a:lnTo>
                      <a:pt x="295" y="156"/>
                    </a:lnTo>
                    <a:lnTo>
                      <a:pt x="339" y="129"/>
                    </a:lnTo>
                    <a:lnTo>
                      <a:pt x="348" y="125"/>
                    </a:lnTo>
                    <a:lnTo>
                      <a:pt x="353" y="116"/>
                    </a:lnTo>
                    <a:lnTo>
                      <a:pt x="353" y="107"/>
                    </a:lnTo>
                    <a:lnTo>
                      <a:pt x="353" y="98"/>
                    </a:lnTo>
                    <a:lnTo>
                      <a:pt x="344" y="94"/>
                    </a:lnTo>
                    <a:lnTo>
                      <a:pt x="339" y="89"/>
                    </a:lnTo>
                    <a:lnTo>
                      <a:pt x="330" y="89"/>
                    </a:lnTo>
                    <a:lnTo>
                      <a:pt x="321" y="89"/>
                    </a:lnTo>
                    <a:lnTo>
                      <a:pt x="254" y="129"/>
                    </a:lnTo>
                    <a:lnTo>
                      <a:pt x="196" y="94"/>
                    </a:lnTo>
                    <a:lnTo>
                      <a:pt x="281" y="49"/>
                    </a:lnTo>
                    <a:lnTo>
                      <a:pt x="290" y="40"/>
                    </a:lnTo>
                    <a:lnTo>
                      <a:pt x="295" y="31"/>
                    </a:lnTo>
                    <a:lnTo>
                      <a:pt x="295" y="26"/>
                    </a:lnTo>
                    <a:lnTo>
                      <a:pt x="295" y="18"/>
                    </a:lnTo>
                    <a:lnTo>
                      <a:pt x="290" y="9"/>
                    </a:lnTo>
                    <a:lnTo>
                      <a:pt x="281" y="4"/>
                    </a:lnTo>
                    <a:lnTo>
                      <a:pt x="272" y="4"/>
                    </a:lnTo>
                    <a:lnTo>
                      <a:pt x="263" y="9"/>
                    </a:lnTo>
                    <a:lnTo>
                      <a:pt x="152" y="71"/>
                    </a:lnTo>
                    <a:lnTo>
                      <a:pt x="27" y="0"/>
                    </a:lnTo>
                    <a:lnTo>
                      <a:pt x="0" y="44"/>
                    </a:lnTo>
                    <a:lnTo>
                      <a:pt x="125" y="116"/>
                    </a:lnTo>
                    <a:lnTo>
                      <a:pt x="125" y="250"/>
                    </a:lnTo>
                    <a:lnTo>
                      <a:pt x="125" y="259"/>
                    </a:lnTo>
                    <a:lnTo>
                      <a:pt x="129" y="263"/>
                    </a:lnTo>
                    <a:lnTo>
                      <a:pt x="138" y="268"/>
                    </a:lnTo>
                    <a:lnTo>
                      <a:pt x="143" y="272"/>
                    </a:lnTo>
                    <a:lnTo>
                      <a:pt x="152" y="272"/>
                    </a:lnTo>
                    <a:lnTo>
                      <a:pt x="161" y="268"/>
                    </a:lnTo>
                    <a:lnTo>
                      <a:pt x="165" y="259"/>
                    </a:lnTo>
                    <a:lnTo>
                      <a:pt x="165" y="250"/>
                    </a:lnTo>
                    <a:lnTo>
                      <a:pt x="170" y="143"/>
                    </a:lnTo>
                    <a:lnTo>
                      <a:pt x="228" y="178"/>
                    </a:lnTo>
                    <a:lnTo>
                      <a:pt x="223" y="254"/>
                    </a:lnTo>
                    <a:lnTo>
                      <a:pt x="228" y="263"/>
                    </a:lnTo>
                    <a:lnTo>
                      <a:pt x="232" y="268"/>
                    </a:lnTo>
                    <a:lnTo>
                      <a:pt x="237" y="272"/>
                    </a:lnTo>
                    <a:lnTo>
                      <a:pt x="245" y="272"/>
                    </a:lnTo>
                    <a:lnTo>
                      <a:pt x="254" y="272"/>
                    </a:lnTo>
                    <a:lnTo>
                      <a:pt x="259" y="268"/>
                    </a:lnTo>
                    <a:lnTo>
                      <a:pt x="263" y="263"/>
                    </a:lnTo>
                    <a:lnTo>
                      <a:pt x="268" y="254"/>
                    </a:lnTo>
                    <a:lnTo>
                      <a:pt x="272" y="2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6" name="未知"/>
              <p:cNvSpPr/>
              <p:nvPr/>
            </p:nvSpPr>
            <p:spPr>
              <a:xfrm>
                <a:off x="2771640" y="4849200"/>
                <a:ext cx="276120" cy="193680"/>
              </a:xfrm>
              <a:custGeom>
                <a:avLst/>
                <a:gdLst/>
                <a:ahLst/>
                <a:rect l="l" t="t" r="r" b="b"/>
                <a:pathLst>
                  <a:path w="393" h="277">
                    <a:moveTo>
                      <a:pt x="295" y="121"/>
                    </a:moveTo>
                    <a:lnTo>
                      <a:pt x="384" y="72"/>
                    </a:lnTo>
                    <a:lnTo>
                      <a:pt x="393" y="63"/>
                    </a:lnTo>
                    <a:lnTo>
                      <a:pt x="393" y="54"/>
                    </a:lnTo>
                    <a:lnTo>
                      <a:pt x="393" y="49"/>
                    </a:lnTo>
                    <a:lnTo>
                      <a:pt x="393" y="40"/>
                    </a:lnTo>
                    <a:lnTo>
                      <a:pt x="384" y="31"/>
                    </a:lnTo>
                    <a:lnTo>
                      <a:pt x="379" y="27"/>
                    </a:lnTo>
                    <a:lnTo>
                      <a:pt x="370" y="27"/>
                    </a:lnTo>
                    <a:lnTo>
                      <a:pt x="357" y="27"/>
                    </a:lnTo>
                    <a:lnTo>
                      <a:pt x="268" y="81"/>
                    </a:lnTo>
                    <a:lnTo>
                      <a:pt x="268" y="27"/>
                    </a:lnTo>
                    <a:lnTo>
                      <a:pt x="268" y="14"/>
                    </a:lnTo>
                    <a:lnTo>
                      <a:pt x="263" y="9"/>
                    </a:lnTo>
                    <a:lnTo>
                      <a:pt x="254" y="5"/>
                    </a:lnTo>
                    <a:lnTo>
                      <a:pt x="250" y="0"/>
                    </a:lnTo>
                    <a:lnTo>
                      <a:pt x="241" y="5"/>
                    </a:lnTo>
                    <a:lnTo>
                      <a:pt x="232" y="5"/>
                    </a:lnTo>
                    <a:lnTo>
                      <a:pt x="228" y="14"/>
                    </a:lnTo>
                    <a:lnTo>
                      <a:pt x="228" y="23"/>
                    </a:lnTo>
                    <a:lnTo>
                      <a:pt x="228" y="99"/>
                    </a:lnTo>
                    <a:lnTo>
                      <a:pt x="170" y="134"/>
                    </a:lnTo>
                    <a:lnTo>
                      <a:pt x="170" y="36"/>
                    </a:lnTo>
                    <a:lnTo>
                      <a:pt x="170" y="27"/>
                    </a:lnTo>
                    <a:lnTo>
                      <a:pt x="165" y="18"/>
                    </a:lnTo>
                    <a:lnTo>
                      <a:pt x="156" y="14"/>
                    </a:lnTo>
                    <a:lnTo>
                      <a:pt x="147" y="9"/>
                    </a:lnTo>
                    <a:lnTo>
                      <a:pt x="138" y="9"/>
                    </a:lnTo>
                    <a:lnTo>
                      <a:pt x="134" y="14"/>
                    </a:lnTo>
                    <a:lnTo>
                      <a:pt x="129" y="23"/>
                    </a:lnTo>
                    <a:lnTo>
                      <a:pt x="125" y="31"/>
                    </a:lnTo>
                    <a:lnTo>
                      <a:pt x="125" y="161"/>
                    </a:lnTo>
                    <a:lnTo>
                      <a:pt x="0" y="233"/>
                    </a:lnTo>
                    <a:lnTo>
                      <a:pt x="27" y="277"/>
                    </a:lnTo>
                    <a:lnTo>
                      <a:pt x="152" y="206"/>
                    </a:lnTo>
                    <a:lnTo>
                      <a:pt x="268" y="273"/>
                    </a:lnTo>
                    <a:lnTo>
                      <a:pt x="272" y="277"/>
                    </a:lnTo>
                    <a:lnTo>
                      <a:pt x="281" y="277"/>
                    </a:lnTo>
                    <a:lnTo>
                      <a:pt x="290" y="273"/>
                    </a:lnTo>
                    <a:lnTo>
                      <a:pt x="295" y="268"/>
                    </a:lnTo>
                    <a:lnTo>
                      <a:pt x="299" y="259"/>
                    </a:lnTo>
                    <a:lnTo>
                      <a:pt x="299" y="251"/>
                    </a:lnTo>
                    <a:lnTo>
                      <a:pt x="295" y="242"/>
                    </a:lnTo>
                    <a:lnTo>
                      <a:pt x="286" y="237"/>
                    </a:lnTo>
                    <a:lnTo>
                      <a:pt x="196" y="179"/>
                    </a:lnTo>
                    <a:lnTo>
                      <a:pt x="254" y="148"/>
                    </a:lnTo>
                    <a:lnTo>
                      <a:pt x="321" y="188"/>
                    </a:lnTo>
                    <a:lnTo>
                      <a:pt x="330" y="192"/>
                    </a:lnTo>
                    <a:lnTo>
                      <a:pt x="335" y="192"/>
                    </a:lnTo>
                    <a:lnTo>
                      <a:pt x="344" y="188"/>
                    </a:lnTo>
                    <a:lnTo>
                      <a:pt x="348" y="179"/>
                    </a:lnTo>
                    <a:lnTo>
                      <a:pt x="348" y="175"/>
                    </a:lnTo>
                    <a:lnTo>
                      <a:pt x="348" y="166"/>
                    </a:lnTo>
                    <a:lnTo>
                      <a:pt x="348" y="157"/>
                    </a:lnTo>
                    <a:lnTo>
                      <a:pt x="339" y="152"/>
                    </a:lnTo>
                    <a:lnTo>
                      <a:pt x="295" y="1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2690280" y="4949280"/>
                <a:ext cx="184680" cy="159120"/>
              </a:xfrm>
              <a:custGeom>
                <a:avLst/>
                <a:gdLst/>
                <a:ahLst/>
                <a:rect l="l" t="t" r="r" b="b"/>
                <a:pathLst>
                  <a:path w="263" h="228">
                    <a:moveTo>
                      <a:pt x="0" y="116"/>
                    </a:moveTo>
                    <a:lnTo>
                      <a:pt x="49" y="67"/>
                    </a:lnTo>
                    <a:lnTo>
                      <a:pt x="67" y="0"/>
                    </a:lnTo>
                    <a:lnTo>
                      <a:pt x="134" y="23"/>
                    </a:lnTo>
                    <a:lnTo>
                      <a:pt x="201" y="0"/>
                    </a:lnTo>
                    <a:lnTo>
                      <a:pt x="214" y="67"/>
                    </a:lnTo>
                    <a:lnTo>
                      <a:pt x="263" y="116"/>
                    </a:lnTo>
                    <a:lnTo>
                      <a:pt x="214" y="161"/>
                    </a:lnTo>
                    <a:lnTo>
                      <a:pt x="201" y="228"/>
                    </a:lnTo>
                    <a:lnTo>
                      <a:pt x="134" y="210"/>
                    </a:lnTo>
                    <a:lnTo>
                      <a:pt x="67" y="228"/>
                    </a:lnTo>
                    <a:lnTo>
                      <a:pt x="49" y="161"/>
                    </a:lnTo>
                    <a:lnTo>
                      <a:pt x="0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f1c0"/>
                  </a:gs>
                  <a:gs pos="100000">
                    <a:srgbClr val="99cc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353400" y="4724280"/>
              <a:ext cx="267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lick to add Titl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48120" y="5181480"/>
              <a:ext cx="3276360" cy="0"/>
            </a:xfrm>
            <a:prstGeom prst="line">
              <a:avLst/>
            </a:prstGeom>
            <a:ln w="9360">
              <a:solidFill>
                <a:srgbClr val="7ba6f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516744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966b3"/>
              </a:solidFill>
              <a:latin typeface="Verdana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1752480" y="2895480"/>
            <a:ext cx="5759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d7acf"/>
                    </a:gs>
                    <a:gs pos="100000">
                      <a:srgbClr val="5aabcc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d7acf"/>
                  </a:gs>
                  <a:gs pos="100000">
                    <a:srgbClr val="5aabcc"/>
                  </a:gs>
                </a:gsLst>
                <a:lin ang="1080000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113f71"/>
                </a:solidFill>
                <a:latin typeface="Verdana"/>
              </a:rPr>
              <a:t>使用规范说明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aab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3f7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767C-F547-4B8B-B2F4-8D2B8D16D4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Hot Tip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6440" y="1523520"/>
            <a:ext cx="762948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aab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26"/>
              </a:spcBef>
              <a:buClr>
                <a:srgbClr val="5aab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2d7acf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113f71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113f71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317196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38400" y="33717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6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7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9e3ed"/>
              </a:gs>
              <a:gs pos="100000">
                <a:srgbClr val="5aab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259" name=""/>
            <p:cNvGrpSpPr/>
            <p:nvPr/>
          </p:nvGrpSpPr>
          <p:grpSpPr>
            <a:xfrm>
              <a:off x="3048120" y="1590840"/>
              <a:ext cx="2998440" cy="1458360"/>
              <a:chOff x="3048120" y="1590840"/>
              <a:chExt cx="2998440" cy="1458360"/>
            </a:xfrm>
          </p:grpSpPr>
          <p:sp>
            <p:nvSpPr>
              <p:cNvPr id="260" name=""/>
              <p:cNvSpPr/>
              <p:nvPr/>
            </p:nvSpPr>
            <p:spPr>
              <a:xfrm>
                <a:off x="3080880" y="163728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153b64"/>
                  </a:gs>
                  <a:gs pos="100000">
                    <a:srgbClr val="2d7ac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048120" y="159084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2d7acf"/>
                  </a:gs>
                  <a:gs pos="100000">
                    <a:srgbClr val="a1c3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189240" y="144792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294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24160" y="145584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4e0ec"/>
                </a:gs>
                <a:gs pos="100000">
                  <a:srgbClr val="5aabcc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51160" y="146844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5aabcc">
                    <a:alpha val="48235"/>
                  </a:srgbClr>
                </a:gs>
                <a:gs pos="100000">
                  <a:srgbClr val="4786a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82920" y="149544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5aabcc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882960" y="164772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34080" y="340056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 </a:t>
            </a: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ycle 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27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1d1d3"/>
                </a:gs>
                <a:gs pos="100000">
                  <a:srgbClr val="ebf0f0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1e3a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2d7acf"/>
                </a:gs>
                <a:gs pos="100000">
                  <a:srgbClr val="0e26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64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c1d1d3"/>
                </a:gs>
                <a:gs pos="100000">
                  <a:srgbClr val="444a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bd9e61"/>
                </a:gs>
                <a:gs pos="100000">
                  <a:srgbClr val="40362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13f71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113f7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cxnSp>
          <p:nvCxnSpPr>
            <p:cNvPr id="28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113f71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113f71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92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86061">
                    <a:alpha val="12156"/>
                  </a:srgbClr>
                </a:gs>
                <a:gs pos="100000">
                  <a:srgbClr val="c1d1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586061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1d1d3"/>
                </a:gs>
                <a:gs pos="100000">
                  <a:srgbClr val="d6e0e2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6e0e2">
                    <a:alpha val="12156"/>
                  </a:srgbClr>
                </a:gs>
                <a:gs pos="100000">
                  <a:srgbClr val="c1d1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6706080" y="59436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313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314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9a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aab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05c6d"/>
                  </a:gs>
                  <a:gs pos="50000">
                    <a:srgbClr val="5aabcc"/>
                  </a:gs>
                  <a:gs pos="100000">
                    <a:srgbClr val="305c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4385f"/>
                </a:gs>
                <a:gs pos="50000">
                  <a:srgbClr val="2d7acf"/>
                </a:gs>
                <a:gs pos="100000">
                  <a:srgbClr val="1438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113f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13f71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113f7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352" name="未知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94e5e"/>
                </a:gs>
                <a:gs pos="50000">
                  <a:srgbClr val="5aabcc"/>
                </a:gs>
                <a:gs pos="100000">
                  <a:srgbClr val="294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5aa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57482c"/>
                </a:gs>
                <a:gs pos="50000">
                  <a:srgbClr val="bd9e61"/>
                </a:gs>
                <a:gs pos="100000">
                  <a:srgbClr val="5748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71d34"/>
                </a:gs>
                <a:gs pos="50000">
                  <a:srgbClr val="113f71"/>
                </a:gs>
                <a:gs pos="100000">
                  <a:srgbClr val="071d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13f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6e9300"/>
                </a:gs>
                <a:gs pos="50000">
                  <a:srgbClr val="99cc00"/>
                </a:gs>
                <a:gs pos="100000">
                  <a:srgbClr val="6e9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417b93"/>
                </a:gs>
                <a:gs pos="50000">
                  <a:srgbClr val="5aabcc"/>
                </a:gs>
                <a:gs pos="100000">
                  <a:srgbClr val="417b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2" name="未知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bd9e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887246"/>
                </a:gs>
                <a:gs pos="50000">
                  <a:srgbClr val="bd9e61"/>
                </a:gs>
                <a:gs pos="100000">
                  <a:srgbClr val="8872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0c2d51"/>
                </a:gs>
                <a:gs pos="50000">
                  <a:srgbClr val="113f71"/>
                </a:gs>
                <a:gs pos="100000">
                  <a:srgbClr val="0c2d5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533520" y="1752480"/>
            <a:ext cx="7390800" cy="3886200"/>
            <a:chOff x="533520" y="1752480"/>
            <a:chExt cx="7390800" cy="3886200"/>
          </a:xfrm>
        </p:grpSpPr>
        <p:sp>
          <p:nvSpPr>
            <p:cNvPr id="366" name=""/>
            <p:cNvSpPr/>
            <p:nvPr/>
          </p:nvSpPr>
          <p:spPr>
            <a:xfrm>
              <a:off x="533520" y="4944960"/>
              <a:ext cx="5338440" cy="658800"/>
            </a:xfrm>
            <a:prstGeom prst="rect">
              <a:avLst/>
            </a:prstGeom>
            <a:gradFill rotWithShape="0">
              <a:gsLst>
                <a:gs pos="0">
                  <a:srgbClr val="bd9e61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5232240" y="4705200"/>
              <a:ext cx="987120" cy="933480"/>
              <a:chOff x="5232240" y="4705200"/>
              <a:chExt cx="987120" cy="933480"/>
            </a:xfrm>
          </p:grpSpPr>
          <p:sp>
            <p:nvSpPr>
              <p:cNvPr id="368" name=""/>
              <p:cNvSpPr/>
              <p:nvPr/>
            </p:nvSpPr>
            <p:spPr>
              <a:xfrm>
                <a:off x="5232240" y="4705200"/>
                <a:ext cx="987120" cy="933480"/>
              </a:xfrm>
              <a:prstGeom prst="ellipse">
                <a:avLst/>
              </a:prstGeom>
              <a:gradFill rotWithShape="0">
                <a:gsLst>
                  <a:gs pos="0">
                    <a:srgbClr val="bd9e61"/>
                  </a:gs>
                  <a:gs pos="100000">
                    <a:srgbClr val="2d26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69" name="未知"/>
              <p:cNvSpPr/>
              <p:nvPr/>
            </p:nvSpPr>
            <p:spPr>
              <a:xfrm>
                <a:off x="5344920" y="4720680"/>
                <a:ext cx="761400" cy="3520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d9e6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613480" y="47656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3520" y="3016080"/>
              <a:ext cx="3793680" cy="658800"/>
            </a:xfrm>
            <a:prstGeom prst="rect">
              <a:avLst/>
            </a:prstGeom>
            <a:gradFill rotWithShape="0">
              <a:gsLst>
                <a:gs pos="0">
                  <a:srgbClr val="2d7acf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014720" y="2784240"/>
              <a:ext cx="972360" cy="921960"/>
              <a:chOff x="4014720" y="2784240"/>
              <a:chExt cx="972360" cy="92196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4014720" y="2784240"/>
                <a:ext cx="972360" cy="921960"/>
                <a:chOff x="4014720" y="2784240"/>
                <a:chExt cx="972360" cy="9219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014720" y="2784240"/>
                  <a:ext cx="972360" cy="921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7acf"/>
                    </a:gs>
                    <a:gs pos="100000">
                      <a:srgbClr val="0d243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75" name="未知"/>
                <p:cNvSpPr/>
                <p:nvPr/>
              </p:nvSpPr>
              <p:spPr>
                <a:xfrm>
                  <a:off x="4125600" y="2799360"/>
                  <a:ext cx="750240" cy="347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d7a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4301640" y="291096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33520" y="3963960"/>
              <a:ext cx="4706640" cy="662040"/>
            </a:xfrm>
            <a:prstGeom prst="rect">
              <a:avLst/>
            </a:prstGeom>
            <a:gradFill rotWithShape="0">
              <a:gsLst>
                <a:gs pos="0">
                  <a:srgbClr val="5aabc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4717800" y="3706560"/>
              <a:ext cx="909000" cy="928440"/>
              <a:chOff x="4717800" y="3706560"/>
              <a:chExt cx="909000" cy="92844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4717800" y="3706560"/>
                <a:ext cx="909000" cy="928440"/>
                <a:chOff x="4717800" y="3706560"/>
                <a:chExt cx="909000" cy="9284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717800" y="3706560"/>
                  <a:ext cx="909000" cy="92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aabcc"/>
                    </a:gs>
                    <a:gs pos="100000">
                      <a:srgbClr val="15293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  <p:sp>
              <p:nvSpPr>
                <p:cNvPr id="381" name="未知"/>
                <p:cNvSpPr/>
                <p:nvPr/>
              </p:nvSpPr>
              <p:spPr>
                <a:xfrm>
                  <a:off x="4821480" y="3721680"/>
                  <a:ext cx="701280" cy="3502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aab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5034240" y="375624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533520" y="1812960"/>
              <a:ext cx="3883680" cy="916920"/>
              <a:chOff x="533520" y="1812960"/>
              <a:chExt cx="3883680" cy="916920"/>
            </a:xfrm>
          </p:grpSpPr>
          <p:sp>
            <p:nvSpPr>
              <p:cNvPr id="384" name=""/>
              <p:cNvSpPr/>
              <p:nvPr/>
            </p:nvSpPr>
            <p:spPr>
              <a:xfrm>
                <a:off x="533520" y="2064240"/>
                <a:ext cx="3440160" cy="658440"/>
              </a:xfrm>
              <a:prstGeom prst="rect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3522240" y="1812960"/>
                <a:ext cx="894960" cy="916920"/>
                <a:chOff x="3522240" y="1812960"/>
                <a:chExt cx="894960" cy="916920"/>
              </a:xfrm>
            </p:grpSpPr>
            <p:grpSp>
              <p:nvGrpSpPr>
                <p:cNvPr id="386" name=""/>
                <p:cNvGrpSpPr/>
                <p:nvPr/>
              </p:nvGrpSpPr>
              <p:grpSpPr>
                <a:xfrm>
                  <a:off x="3522240" y="1812960"/>
                  <a:ext cx="894960" cy="916920"/>
                  <a:chOff x="3522240" y="1812960"/>
                  <a:chExt cx="894960" cy="916920"/>
                </a:xfrm>
              </p:grpSpPr>
              <p:sp>
                <p:nvSpPr>
                  <p:cNvPr id="387" name=""/>
                  <p:cNvSpPr/>
                  <p:nvPr/>
                </p:nvSpPr>
                <p:spPr>
                  <a:xfrm>
                    <a:off x="3522240" y="1812960"/>
                    <a:ext cx="894960" cy="916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3b4f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未知"/>
                  <p:cNvSpPr/>
                  <p:nvPr/>
                </p:nvSpPr>
                <p:spPr>
                  <a:xfrm>
                    <a:off x="3624480" y="1828080"/>
                    <a:ext cx="69048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113f7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>
                  <a:off x="3798000" y="1914840"/>
                  <a:ext cx="39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2400" spc="-1" strike="noStrike">
                    <a:solidFill>
                      <a:srgbClr val="113f7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761760" y="2206440"/>
              <a:ext cx="252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240" y="3203280"/>
              <a:ext cx="24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99840" y="4125960"/>
              <a:ext cx="291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33360" y="5119560"/>
              <a:ext cx="29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75040" y="1752480"/>
              <a:ext cx="2249280" cy="1814400"/>
            </a:xfrm>
            <a:prstGeom prst="wedgeRoundRectCallout">
              <a:avLst>
                <a:gd name="adj1" fmla="val -44759"/>
                <a:gd name="adj2" fmla="val 84694"/>
                <a:gd name="adj3" fmla="val 16667"/>
              </a:avLst>
            </a:prstGeom>
            <a:solidFill>
              <a:srgbClr val="dddddd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d Your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xt here</a:t>
              </a:r>
              <a:endParaRPr b="0" lang="en-US" sz="24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13f71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http://www.eeppt.com</dc:creator>
  <dc:description>ppt模板下载网站 http://www.eeppt.com</dc:description>
  <dc:language>en-US</dc:language>
  <cp:lastModifiedBy/>
  <dcterms:modified xsi:type="dcterms:W3CDTF">2015-06-14T02:09:08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