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14D8-06A9-45D5-BFA8-291EF980E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E4D8-EFE3-42F5-811C-FAEB1B2C9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51A1-6C91-4B1C-ADB9-113CF4D95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0B7F-593E-491E-8AC5-1ADED906B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A6BC-9451-4AF3-BB93-B8068974B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CA2B-CA53-4ADB-9196-FA4FDC3E2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1602-DDE6-4776-B2D2-88E519A9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0C41-C9BC-494A-8B8A-8131DF761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FAD2-72EF-4B33-A858-254918DAF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B0D9-94B6-4F24-8557-1F4756345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432E-01C2-4F82-8765-3FED21E89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429B-9039-4481-98BB-691ECEC88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0f25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 rot="10768800">
              <a:off x="8766000" y="639864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923-759A-404B-AA3B-781B6DDEDE08}" type="slidenum">
              <a:rPr b="0" lang="en-US" sz="1400" spc="-1" strike="noStrike">
                <a:solidFill>
                  <a:srgbClr val="ffffe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6453360"/>
            <a:ext cx="7488360" cy="0"/>
          </a:xfrm>
          <a:prstGeom prst="line">
            <a:avLst/>
          </a:prstGeom>
          <a:ln w="9360">
            <a:solidFill>
              <a:srgbClr val="ff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51" name=""/>
            <p:cNvSpPr/>
            <p:nvPr/>
          </p:nvSpPr>
          <p:spPr>
            <a:xfrm>
              <a:off x="5148360" y="1456200"/>
              <a:ext cx="3744720" cy="3764160"/>
            </a:xfrm>
            <a:prstGeom prst="donut">
              <a:avLst>
                <a:gd name="adj" fmla="val 1481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708160" y="452484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6346440" y="262332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846120" y="257832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7185600" y="237780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055360" y="266112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5698440" y="330480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257240" y="199188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6613200" y="148572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5877360" y="263736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29812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089040" y="399348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7086600" y="172980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7375320" y="174096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873480" y="166824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976800" y="154908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148360" y="155880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466320" y="478152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336720" y="466524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361480" y="409896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54040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5705280" y="369468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6210000" y="178704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0f2535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81" name="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0768800">
              <a:off x="8766000" y="640008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99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440080" y="1676160"/>
            <a:ext cx="571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精致的毕业设计</a:t>
            </a:r>
            <a:r>
              <a:rPr b="1" lang="zh-CN" sz="35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9346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83b2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7" name=""/>
            <p:cNvSpPr/>
            <p:nvPr/>
          </p:nvSpPr>
          <p:spPr>
            <a:xfrm flipH="1" rot="16200000">
              <a:off x="2805480" y="32425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5400000">
              <a:off x="5675760" y="31881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752480"/>
            <a:ext cx="7467480" cy="3886200"/>
            <a:chOff x="1295280" y="1752480"/>
            <a:chExt cx="7467480" cy="3886200"/>
          </a:xfrm>
        </p:grpSpPr>
        <p:sp>
          <p:nvSpPr>
            <p:cNvPr id="292" name="未知"/>
            <p:cNvSpPr/>
            <p:nvPr/>
          </p:nvSpPr>
          <p:spPr>
            <a:xfrm>
              <a:off x="814212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20200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90552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29100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528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29528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29528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29528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9528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8572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8572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572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8572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1964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44016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4160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744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316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26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39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0"/>
                  </a:srgbClr>
                </a:gs>
                <a:gs pos="100000">
                  <a:srgbClr val="4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49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54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7060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367" name="未知"/>
            <p:cNvSpPr/>
            <p:nvPr/>
          </p:nvSpPr>
          <p:spPr>
            <a:xfrm>
              <a:off x="160020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26600">
              <a:off x="2087640" y="4317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29320" y="3335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042280" y="3349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13920" y="3385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752480" y="256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6560" y="199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0322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400760" y="1828800"/>
            <a:ext cx="7282440" cy="3770280"/>
            <a:chOff x="1400760" y="1828800"/>
            <a:chExt cx="7282440" cy="3770280"/>
          </a:xfrm>
        </p:grpSpPr>
        <p:sp>
          <p:nvSpPr>
            <p:cNvPr id="396" name=""/>
            <p:cNvSpPr/>
            <p:nvPr/>
          </p:nvSpPr>
          <p:spPr>
            <a:xfrm rot="17973000">
              <a:off x="5204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3465600">
              <a:off x="5255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4368800">
              <a:off x="4036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534800">
              <a:off x="3997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5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0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8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92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97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00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8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399200" y="3087720"/>
              <a:ext cx="1290600" cy="1278000"/>
              <a:chOff x="4399200" y="3087720"/>
              <a:chExt cx="1290600" cy="1278000"/>
            </a:xfrm>
          </p:grpSpPr>
          <p:sp>
            <p:nvSpPr>
              <p:cNvPr id="421" name=""/>
              <p:cNvSpPr/>
              <p:nvPr/>
            </p:nvSpPr>
            <p:spPr>
              <a:xfrm>
                <a:off x="4399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5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29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8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662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2039760"/>
            <a:ext cx="6887520" cy="3165480"/>
            <a:chOff x="1494000" y="2039760"/>
            <a:chExt cx="6887520" cy="3165480"/>
          </a:xfrm>
        </p:grpSpPr>
        <p:grpSp>
          <p:nvGrpSpPr>
            <p:cNvPr id="428" name=""/>
            <p:cNvGrpSpPr/>
            <p:nvPr/>
          </p:nvGrpSpPr>
          <p:grpSpPr>
            <a:xfrm>
              <a:off x="1494000" y="2039760"/>
              <a:ext cx="2163240" cy="3165480"/>
              <a:chOff x="1494000" y="2039760"/>
              <a:chExt cx="2163240" cy="3165480"/>
            </a:xfrm>
          </p:grpSpPr>
          <p:sp>
            <p:nvSpPr>
              <p:cNvPr id="429" name=""/>
              <p:cNvSpPr/>
              <p:nvPr/>
            </p:nvSpPr>
            <p:spPr>
              <a:xfrm>
                <a:off x="149400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712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440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4440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2238120" y="2039760"/>
                <a:ext cx="642600" cy="642960"/>
                <a:chOff x="2238120" y="2039760"/>
                <a:chExt cx="642600" cy="642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3812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4460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5216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5900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9284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37816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6996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217920" y="2039760"/>
              <a:ext cx="2163600" cy="3165480"/>
              <a:chOff x="6217920" y="2039760"/>
              <a:chExt cx="2163600" cy="3165480"/>
            </a:xfrm>
          </p:grpSpPr>
          <p:sp>
            <p:nvSpPr>
              <p:cNvPr id="442" name=""/>
              <p:cNvSpPr/>
              <p:nvPr/>
            </p:nvSpPr>
            <p:spPr>
              <a:xfrm>
                <a:off x="6217920" y="234756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51400" y="235584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686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686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962400" y="2039760"/>
                <a:ext cx="642960" cy="642960"/>
                <a:chOff x="6962400" y="2039760"/>
                <a:chExt cx="642960" cy="642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6240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6888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76800" y="204840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8328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1712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1024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42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855960" y="2039760"/>
              <a:ext cx="2163240" cy="3165480"/>
              <a:chOff x="3855960" y="2039760"/>
              <a:chExt cx="2163240" cy="3165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85596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8908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0636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1f0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0636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f6d3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00080" y="203976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06560" y="2044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14480" y="2047680"/>
                <a:ext cx="60768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2060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55880" y="2070000"/>
                <a:ext cx="5122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401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3192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68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96720" y="2292480"/>
              <a:ext cx="2183760" cy="3601080"/>
              <a:chOff x="396720" y="2292480"/>
              <a:chExt cx="2183760" cy="360108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870840" y="3207600"/>
                <a:ext cx="1709640" cy="2685960"/>
                <a:chOff x="870840" y="3207600"/>
                <a:chExt cx="1709640" cy="268596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870840" y="3387240"/>
                  <a:ext cx="1581480" cy="2506320"/>
                  <a:chOff x="870840" y="3387240"/>
                  <a:chExt cx="1581480" cy="2506320"/>
                </a:xfrm>
              </p:grpSpPr>
              <p:sp>
                <p:nvSpPr>
                  <p:cNvPr id="473" name="未知"/>
                  <p:cNvSpPr/>
                  <p:nvPr/>
                </p:nvSpPr>
                <p:spPr>
                  <a:xfrm rot="3876600">
                    <a:off x="40716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未知"/>
                  <p:cNvSpPr/>
                  <p:nvPr/>
                </p:nvSpPr>
                <p:spPr>
                  <a:xfrm rot="3876600">
                    <a:off x="191484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366920" y="3207600"/>
                  <a:ext cx="1213560" cy="1923120"/>
                  <a:chOff x="1366920" y="3207600"/>
                  <a:chExt cx="1213560" cy="1923120"/>
                </a:xfrm>
              </p:grpSpPr>
              <p:sp>
                <p:nvSpPr>
                  <p:cNvPr id="476" name="未知"/>
                  <p:cNvSpPr/>
                  <p:nvPr/>
                </p:nvSpPr>
                <p:spPr>
                  <a:xfrm flipV="1" rot="3876600">
                    <a:off x="101088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未知"/>
                  <p:cNvSpPr/>
                  <p:nvPr/>
                </p:nvSpPr>
                <p:spPr>
                  <a:xfrm flipV="1" rot="3876600">
                    <a:off x="215028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396720" y="2292480"/>
                <a:ext cx="1445760" cy="1442520"/>
                <a:chOff x="396720" y="2292480"/>
                <a:chExt cx="1445760" cy="14425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9672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9672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92480" y="23860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2480" y="23893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4400" y="24498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72040" y="2467080"/>
                  <a:ext cx="1095120" cy="1094400"/>
                  <a:chOff x="572040" y="2467080"/>
                  <a:chExt cx="1095120" cy="10944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7204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608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9724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664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 rot="3925800">
                <a:off x="90144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1401120" y="3943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379600" y="2292480"/>
              <a:ext cx="2183760" cy="3601080"/>
              <a:chOff x="2379600" y="2292480"/>
              <a:chExt cx="2183760" cy="36010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853720" y="3207600"/>
                <a:ext cx="1709640" cy="2685960"/>
                <a:chOff x="2853720" y="3207600"/>
                <a:chExt cx="1709640" cy="268596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853720" y="3387240"/>
                  <a:ext cx="1581480" cy="2506320"/>
                  <a:chOff x="2853720" y="3387240"/>
                  <a:chExt cx="1581480" cy="2506320"/>
                </a:xfrm>
              </p:grpSpPr>
              <p:sp>
                <p:nvSpPr>
                  <p:cNvPr id="494" name="未知"/>
                  <p:cNvSpPr/>
                  <p:nvPr/>
                </p:nvSpPr>
                <p:spPr>
                  <a:xfrm rot="3876600">
                    <a:off x="239004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未知"/>
                  <p:cNvSpPr/>
                  <p:nvPr/>
                </p:nvSpPr>
                <p:spPr>
                  <a:xfrm rot="3876600">
                    <a:off x="389772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3349800" y="3207600"/>
                  <a:ext cx="1213560" cy="1923120"/>
                  <a:chOff x="3349800" y="3207600"/>
                  <a:chExt cx="1213560" cy="1923120"/>
                </a:xfrm>
              </p:grpSpPr>
              <p:sp>
                <p:nvSpPr>
                  <p:cNvPr id="497" name="未知"/>
                  <p:cNvSpPr/>
                  <p:nvPr/>
                </p:nvSpPr>
                <p:spPr>
                  <a:xfrm flipV="1" rot="3876600">
                    <a:off x="299376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未知"/>
                  <p:cNvSpPr/>
                  <p:nvPr/>
                </p:nvSpPr>
                <p:spPr>
                  <a:xfrm flipV="1" rot="3876600">
                    <a:off x="413316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379600" y="2292480"/>
                <a:ext cx="1445760" cy="1442520"/>
                <a:chOff x="2379600" y="2292480"/>
                <a:chExt cx="1445760" cy="14425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37960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7960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475360" y="23860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5360" y="23893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37280" y="24498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2554920" y="2467080"/>
                  <a:ext cx="1095120" cy="1094400"/>
                  <a:chOff x="2554920" y="2467080"/>
                  <a:chExt cx="1095120" cy="10944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255492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6896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8012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63952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287784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3377160" y="3943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427640" y="2292480"/>
              <a:ext cx="2183400" cy="3601080"/>
              <a:chOff x="4427640" y="2292480"/>
              <a:chExt cx="2183400" cy="36010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901400" y="3207600"/>
                <a:ext cx="1709640" cy="2685960"/>
                <a:chOff x="4901400" y="3207600"/>
                <a:chExt cx="1709640" cy="26859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901400" y="3387240"/>
                  <a:ext cx="1581480" cy="2506320"/>
                  <a:chOff x="4901400" y="3387240"/>
                  <a:chExt cx="1581480" cy="2506320"/>
                </a:xfrm>
              </p:grpSpPr>
              <p:sp>
                <p:nvSpPr>
                  <p:cNvPr id="515" name="未知"/>
                  <p:cNvSpPr/>
                  <p:nvPr/>
                </p:nvSpPr>
                <p:spPr>
                  <a:xfrm rot="3876600">
                    <a:off x="443772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未知"/>
                  <p:cNvSpPr/>
                  <p:nvPr/>
                </p:nvSpPr>
                <p:spPr>
                  <a:xfrm rot="3876600">
                    <a:off x="594540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5397480" y="3207600"/>
                  <a:ext cx="1213560" cy="1923120"/>
                  <a:chOff x="5397480" y="3207600"/>
                  <a:chExt cx="1213560" cy="1923120"/>
                </a:xfrm>
              </p:grpSpPr>
              <p:sp>
                <p:nvSpPr>
                  <p:cNvPr id="518" name="未知"/>
                  <p:cNvSpPr/>
                  <p:nvPr/>
                </p:nvSpPr>
                <p:spPr>
                  <a:xfrm flipV="1" rot="3876600">
                    <a:off x="504144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未知"/>
                  <p:cNvSpPr/>
                  <p:nvPr/>
                </p:nvSpPr>
                <p:spPr>
                  <a:xfrm flipV="1" rot="3876600">
                    <a:off x="618084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4427640" y="2292480"/>
                <a:ext cx="1445400" cy="1442520"/>
                <a:chOff x="4427640" y="2292480"/>
                <a:chExt cx="1445400" cy="14425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427640" y="22924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27640" y="22924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23400" y="238608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523400" y="238932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85320" y="2449800"/>
                  <a:ext cx="112968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4602600" y="2467080"/>
                  <a:ext cx="1095120" cy="1094400"/>
                  <a:chOff x="4602600" y="2467080"/>
                  <a:chExt cx="1095120" cy="10944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460260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61664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62780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68720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493560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5434200" y="3943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442200" y="2133720"/>
              <a:ext cx="2400120" cy="3832560"/>
              <a:chOff x="6442200" y="2133720"/>
              <a:chExt cx="2400120" cy="38325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133400" y="3281040"/>
                <a:ext cx="1708920" cy="2685240"/>
                <a:chOff x="7133400" y="3281040"/>
                <a:chExt cx="1708920" cy="26852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133400" y="3460320"/>
                  <a:ext cx="1581120" cy="2505960"/>
                  <a:chOff x="7133400" y="3460320"/>
                  <a:chExt cx="1581120" cy="2505960"/>
                </a:xfrm>
              </p:grpSpPr>
              <p:sp>
                <p:nvSpPr>
                  <p:cNvPr id="536" name="未知"/>
                  <p:cNvSpPr/>
                  <p:nvPr/>
                </p:nvSpPr>
                <p:spPr>
                  <a:xfrm rot="3876600">
                    <a:off x="6669360" y="4433400"/>
                    <a:ext cx="25084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未知"/>
                  <p:cNvSpPr/>
                  <p:nvPr/>
                </p:nvSpPr>
                <p:spPr>
                  <a:xfrm rot="3876600">
                    <a:off x="8177040" y="540432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29120" y="3281040"/>
                  <a:ext cx="1213200" cy="1923120"/>
                  <a:chOff x="7629120" y="3281040"/>
                  <a:chExt cx="1213200" cy="1923120"/>
                </a:xfrm>
              </p:grpSpPr>
              <p:sp>
                <p:nvSpPr>
                  <p:cNvPr id="539" name="未知"/>
                  <p:cNvSpPr/>
                  <p:nvPr/>
                </p:nvSpPr>
                <p:spPr>
                  <a:xfrm flipV="1" rot="3876600">
                    <a:off x="7273080" y="4028040"/>
                    <a:ext cx="192492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未知"/>
                  <p:cNvSpPr/>
                  <p:nvPr/>
                </p:nvSpPr>
                <p:spPr>
                  <a:xfrm flipV="1" rot="3876600">
                    <a:off x="8412480" y="478044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1" name=""/>
              <p:cNvSpPr/>
              <p:nvPr/>
            </p:nvSpPr>
            <p:spPr>
              <a:xfrm>
                <a:off x="6442200" y="21337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2200" y="21337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58480" y="224640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59920" y="224964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33000" y="2323080"/>
                <a:ext cx="1357200" cy="135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653880" y="2343600"/>
                <a:ext cx="1315800" cy="1312200"/>
                <a:chOff x="6653880" y="2343600"/>
                <a:chExt cx="1315800" cy="13122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653880" y="2343600"/>
                  <a:ext cx="1315800" cy="13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70800" y="2350800"/>
                  <a:ext cx="128412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84120" y="2363400"/>
                  <a:ext cx="1221120" cy="11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5760" y="2396880"/>
                  <a:ext cx="1085400" cy="9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rot="3925800">
                <a:off x="7150320" y="4399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648560" y="4102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7" name=""/>
            <p:cNvCxnSpPr>
              <a:stCxn id="553" idx="3"/>
              <a:endCxn id="554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060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70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153c52"/>
                </a:gs>
                <a:gs pos="100000">
                  <a:srgbClr val="2e83b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28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29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36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37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44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52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53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209680" y="365724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87DF-3A80-4693-A248-758F1A494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163" name="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332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未知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dddd"/>
              </a:gs>
              <a:gs pos="100000">
                <a:srgbClr val="ff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52680" y="1371600"/>
            <a:ext cx="2998440" cy="1601280"/>
            <a:chOff x="3352680" y="1371600"/>
            <a:chExt cx="2998440" cy="1601280"/>
          </a:xfrm>
        </p:grpSpPr>
        <p:grpSp>
          <p:nvGrpSpPr>
            <p:cNvPr id="167" name=""/>
            <p:cNvGrpSpPr/>
            <p:nvPr/>
          </p:nvGrpSpPr>
          <p:grpSpPr>
            <a:xfrm>
              <a:off x="3352680" y="1371600"/>
              <a:ext cx="2998440" cy="1601280"/>
              <a:chOff x="3352680" y="1371600"/>
              <a:chExt cx="2998440" cy="16012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352680" y="1514520"/>
                <a:ext cx="2998440" cy="1458360"/>
                <a:chOff x="3352680" y="1514520"/>
                <a:chExt cx="2998440" cy="1458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8544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4a"/>
                    </a:gs>
                    <a:gs pos="100000">
                      <a:srgbClr val="ff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5268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e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34938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2872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dafe"/>
                  </a:gs>
                  <a:gs pos="100000">
                    <a:srgbClr val="6699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5572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48235"/>
                    </a:srgbClr>
                  </a:gs>
                  <a:gs pos="100000">
                    <a:srgbClr val="507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8748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18752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177" name="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56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未知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15600" y="1251000"/>
            <a:ext cx="7932240" cy="5225040"/>
            <a:chOff x="615600" y="1251000"/>
            <a:chExt cx="7932240" cy="5225040"/>
          </a:xfrm>
        </p:grpSpPr>
        <p:sp>
          <p:nvSpPr>
            <p:cNvPr id="182" name="未知"/>
            <p:cNvSpPr/>
            <p:nvPr/>
          </p:nvSpPr>
          <p:spPr>
            <a:xfrm rot="20241600">
              <a:off x="1236600" y="24616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eff4fe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056200">
              <a:off x="4572000" y="24379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56200">
              <a:off x="7467480" y="2666520"/>
              <a:ext cx="106704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56200">
              <a:off x="2971800" y="56383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5714640" y="502848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56200">
              <a:off x="2057040" y="396180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8640" y="15998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7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4040" y="31240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1f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36760" y="48211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8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11640" y="41907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0440" y="18284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98400" y="20570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30240" y="233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40320" y="4647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9360" y="52718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7760" y="35859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1960" y="18871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H="1">
              <a:off x="615600" y="18867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1" name="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04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10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16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96840" y="1447920"/>
            <a:ext cx="7383960" cy="4420800"/>
            <a:chOff x="996840" y="1447920"/>
            <a:chExt cx="7383960" cy="4420800"/>
          </a:xfrm>
        </p:grpSpPr>
        <p:grpSp>
          <p:nvGrpSpPr>
            <p:cNvPr id="223" name=""/>
            <p:cNvGrpSpPr/>
            <p:nvPr/>
          </p:nvGrpSpPr>
          <p:grpSpPr>
            <a:xfrm>
              <a:off x="2520720" y="1447920"/>
              <a:ext cx="4419360" cy="4376160"/>
              <a:chOff x="2520720" y="1447920"/>
              <a:chExt cx="4419360" cy="4376160"/>
            </a:xfrm>
          </p:grpSpPr>
          <p:sp>
            <p:nvSpPr>
              <p:cNvPr id="224" name="Puzzle3"/>
              <p:cNvSpPr/>
              <p:nvPr/>
            </p:nvSpPr>
            <p:spPr>
              <a:xfrm>
                <a:off x="467244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4060a1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Puzzle2"/>
              <p:cNvSpPr/>
              <p:nvPr/>
            </p:nvSpPr>
            <p:spPr>
              <a:xfrm>
                <a:off x="416772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1e6e6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Puzzle4"/>
              <p:cNvSpPr/>
              <p:nvPr/>
            </p:nvSpPr>
            <p:spPr>
              <a:xfrm>
                <a:off x="309456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fec9c9"/>
                  </a:gs>
                  <a:gs pos="100000">
                    <a:srgbClr val="ff999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Puzzle1"/>
              <p:cNvSpPr/>
              <p:nvPr/>
            </p:nvSpPr>
            <p:spPr>
              <a:xfrm>
                <a:off x="252072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63660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684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932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584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7060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1752480"/>
            <a:ext cx="7086600" cy="3833640"/>
            <a:chOff x="1371600" y="1752480"/>
            <a:chExt cx="7086600" cy="3833640"/>
          </a:xfrm>
        </p:grpSpPr>
        <p:sp>
          <p:nvSpPr>
            <p:cNvPr id="235" name=""/>
            <p:cNvSpPr/>
            <p:nvPr/>
          </p:nvSpPr>
          <p:spPr>
            <a:xfrm>
              <a:off x="13716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a1c0fe">
                    <a:alpha val="12156"/>
                  </a:srgbClr>
                </a:gs>
                <a:gs pos="50000">
                  <a:srgbClr val="6699ff"/>
                </a:gs>
                <a:gs pos="100000">
                  <a:srgbClr val="a1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8be1e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13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53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5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6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56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5:53:43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