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2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C5B-10CE-499C-8218-0099EF8A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19C-F9D9-400D-A3CE-C872E30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99A-3EEF-4177-832D-0B017E6E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016-51CB-440E-87BC-21A7B2E6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9B1-8E1A-42FC-BA46-70811C3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6D1-2493-443D-90A4-2A9EB548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D75-9EE5-425C-8A2C-740E507B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67C-6B33-46CB-8BC3-38C0D70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8DF-2DAF-4A1D-901E-CA5B1C8B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430-EE82-4553-AC76-7CF63549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D43-7FAD-40F3-A05F-D0D5370D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CF9-E7FA-45F1-9266-A1EE1D34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C1D2-D144-442B-8444-99D4CA05F3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9188-311D-4750-932A-24C0B8A6A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9120" y="806040"/>
            <a:ext cx="82058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卡通动物类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素材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2129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4724280"/>
            <a:ext cx="738360" cy="1905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1586160" cy="1905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0" y="304920"/>
            <a:ext cx="1405080" cy="188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3808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2590920"/>
            <a:ext cx="2432160" cy="1627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21240600">
            <a:off x="152280" y="472392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352680" y="259092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238880" y="2514600"/>
            <a:ext cx="1613160" cy="188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048120" y="304920"/>
            <a:ext cx="1709640" cy="153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62120" y="457200"/>
            <a:ext cx="1523880" cy="147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952880" y="4800600"/>
            <a:ext cx="1944720" cy="164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334120" y="2743200"/>
            <a:ext cx="1657080" cy="1596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6781680" y="5105520"/>
            <a:ext cx="9572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3D-B504-45BE-88CA-83171CA97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15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