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D63-DEB7-46D8-8F42-B06E6A00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9B7-CD61-4C16-88FF-44BE7741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746-2F85-4C6D-A6F2-8EC5963A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B61-DD99-4875-AA4C-9B36686B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8B2A-01A8-4B9F-974D-826A6A6C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2D6-2DC9-4113-BBB5-449E3BAC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736-630B-435C-9A9C-ABDF4E9C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F0D-F25C-4045-A7A1-B1FF6E96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768B-5DD9-4313-9354-FC179517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00C-D746-4E7A-A4B4-EB6DB3D0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61D8-44BD-4D26-922E-69CE0C71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8116-7209-4836-A690-19E57D8C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7272-AB07-4E58-9C15-0F735E0F86C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6CCD-C1BC-4785-B395-B34CB3AB6C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bstract-design-with-beautiful-flowers1"/>
          <p:cNvPicPr/>
          <p:nvPr/>
        </p:nvPicPr>
        <p:blipFill>
          <a:blip r:embed="rId1"/>
          <a:stretch/>
        </p:blipFill>
        <p:spPr>
          <a:xfrm>
            <a:off x="2597040" y="5573880"/>
            <a:ext cx="246240" cy="519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bstract-design-with-beautiful-flowers1"/>
          <p:cNvPicPr/>
          <p:nvPr/>
        </p:nvPicPr>
        <p:blipFill>
          <a:blip r:embed="rId2"/>
          <a:stretch/>
        </p:blipFill>
        <p:spPr>
          <a:xfrm>
            <a:off x="250920" y="4896000"/>
            <a:ext cx="40644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abstract-design-with-beautiful-flowers1"/>
          <p:cNvPicPr/>
          <p:nvPr/>
        </p:nvPicPr>
        <p:blipFill>
          <a:blip r:embed="rId3"/>
          <a:stretch/>
        </p:blipFill>
        <p:spPr>
          <a:xfrm>
            <a:off x="1285920" y="5048280"/>
            <a:ext cx="406440" cy="404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abstract-design-with-beautiful-flowers1"/>
          <p:cNvPicPr/>
          <p:nvPr/>
        </p:nvPicPr>
        <p:blipFill>
          <a:blip r:embed="rId4"/>
          <a:stretch/>
        </p:blipFill>
        <p:spPr>
          <a:xfrm>
            <a:off x="2124000" y="5543640"/>
            <a:ext cx="405000" cy="4064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15"/>
          <p:cNvSpPr/>
          <p:nvPr/>
        </p:nvSpPr>
        <p:spPr>
          <a:xfrm>
            <a:off x="358920" y="4221000"/>
            <a:ext cx="684000" cy="71928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2"/>
          <p:cNvSpPr/>
          <p:nvPr/>
        </p:nvSpPr>
        <p:spPr>
          <a:xfrm>
            <a:off x="6881760" y="4222800"/>
            <a:ext cx="611280" cy="71892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abstract-design-with-beautiful-flowers1"/>
          <p:cNvPicPr/>
          <p:nvPr/>
        </p:nvPicPr>
        <p:blipFill>
          <a:blip r:embed="rId5"/>
          <a:stretch/>
        </p:blipFill>
        <p:spPr>
          <a:xfrm>
            <a:off x="108000" y="4076640"/>
            <a:ext cx="2089080" cy="281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abstract-design-with-beautiful-flowers1"/>
          <p:cNvPicPr/>
          <p:nvPr/>
        </p:nvPicPr>
        <p:blipFill>
          <a:blip r:embed="rId6"/>
          <a:stretch/>
        </p:blipFill>
        <p:spPr>
          <a:xfrm>
            <a:off x="2124000" y="5157720"/>
            <a:ext cx="1293840" cy="1741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abstract-design-with-beautiful-flowers1"/>
          <p:cNvPicPr/>
          <p:nvPr/>
        </p:nvPicPr>
        <p:blipFill>
          <a:blip r:embed="rId7"/>
          <a:stretch/>
        </p:blipFill>
        <p:spPr>
          <a:xfrm>
            <a:off x="403200" y="5048280"/>
            <a:ext cx="406440" cy="404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abstract-design-with-beautiful-flowers1"/>
          <p:cNvPicPr/>
          <p:nvPr/>
        </p:nvPicPr>
        <p:blipFill>
          <a:blip r:embed="rId8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26696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0.03994 0.0669 C 0.04896 0.08102 0.054 0.10208 0.054 0.12407 C 0.054 0.14907 0.04896 0.16898 0.03994 0.1831 C 0.02709 0.19861 -0.0092 0.19607 -0.02274 0.21667 C -0.03628 0.23727 -0.03732 0.28773 -0.04114 0.30625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59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1528 -0.01829 C 0.00816 -0.03403 0.03854 -0.01319 0.05382 0.02732 C 0.06944 0.06875 0.06406 0.11412 0.04062 0.13033 C 0.01701 0.1456 0.0118 0.19097 0.02726 0.23171 C 0.04288 0.27338 0.07326 0.29491 0.0967 0.27917 E">
                                      <p:cBhvr>
                                        <p:cTn id="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0.03994 0.0669 C 0.04896 0.08102 0.054 0.10208 0.054 0.12407 C 0.054 0.14907 0.04896 0.16898 0.03994 0.1831 C 0.02709 0.19861 -0.0092 0.19607 -0.02274 0.21667 C -0.03628 0.23727 -0.03732 0.28773 -0.04114 0.30625 E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59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4.16667E-006 2.31214E-007 C 0.02482 -0.0104 0.05277 0.01688 0.06284 0.06012 C 0.07361 0.07214 0.04618 0.07399 0.04062 0.08277 C 0.03507 0.09156 0.0335 0.08879 0.02951 0.11237 C 0.00434 0.12301 0.0059 0.18081 0.01649 0.22497 C 0.02673 0.26798 0.05069 0.32786 0.07552 0.31746 E">
                                      <p:cBhvr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21965E-006 L 0.02344 0.05087 C 0.02969 0.07561 0.01389 0.08879 0.00434 0.10151 C 0.00139 0.11191 -0.01337 0.12463 -0.01788 0.14382 C -0.0191 0.16324 0.00035 0.19076 -0.00347 0.21781 C -0.01701 0.23839 -0.03733 0.28763 -0.04115 0.30636 E">
                                      <p:cBhvr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58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.55556E-007 -4.27746E-006 L -0.01059 0.06683 C -0.01302 0.08093 -0.00434 0.09688 -0.00434 0.11908 C -0.00434 0.14405 -0.01302 0.16902 -0.01059 0.18313 C -0.00712 0.19862 0.00243 0.19607 0.0059 0.21665 C 0.00955 0.23723 0.0099 0.28763 0.01094 0.30636 E">
                                      <p:cBhvr>
                                        <p:cTn id="1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E51-8D6B-490B-9CB6-9E622DB918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00:32:2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