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D95-E996-4973-AFA9-AF948B9C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ED5-B94E-48B6-BC78-24256DC4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C24-12F7-48E0-A540-430F745E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4DF-2175-4056-AD57-4EF12029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0018-AD05-4CF2-8DC3-7898B570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A0A3-E419-4610-82D9-1D68AB8A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5FF6-F4E9-472D-B25A-2E4C4135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1AE6-19E0-45AD-AE81-9C0818F0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1FA0-E0D9-442E-94D0-92FBC7C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3902-3712-4A89-8C59-2B95E946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A3C8-EEDA-4CFF-890D-B26B9C1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D76-7344-4908-9240-8D9DA8A4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2F19-6772-4A82-834F-B57A2FF1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5378-6F38-4E5D-B155-DE0FBD6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C972-0B81-4D93-9872-40D43CC5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F5B9-FE5A-4F15-B345-7C94483A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6363-4D9B-49D5-8E47-A7E6F351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85C-5BEE-4057-8D26-184745A4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E1C-3FC9-407D-99E1-C42F7C34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729-7BF9-4AFE-B7F2-EA474DEE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777-5F4D-408C-B557-B290985A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DD7-949A-41BD-B03F-0F54B67C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991-CCDA-4A46-B2BA-DC47C38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A23-29EF-42A3-B858-6113041B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0"/>
            <a:ext cx="8686800" cy="91440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d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9F88-494C-4B95-AD42-E905E9FFEE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378400" y="990720"/>
            <a:ext cx="3765600" cy="586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1600200"/>
            <a:ext cx="8610480" cy="99072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7ecb3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4445-2B68-40E4-9240-7AE3A31BB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5667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绿色科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1386000"/>
            <a:ext cx="8381880" cy="4709520"/>
            <a:chOff x="457200" y="1386000"/>
            <a:chExt cx="8381880" cy="4709520"/>
          </a:xfrm>
        </p:grpSpPr>
        <p:sp>
          <p:nvSpPr>
            <p:cNvPr id="273" name=""/>
            <p:cNvSpPr/>
            <p:nvPr/>
          </p:nvSpPr>
          <p:spPr>
            <a:xfrm>
              <a:off x="2590920" y="213336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581280" y="3124080"/>
              <a:ext cx="2057400" cy="2133000"/>
              <a:chOff x="3581280" y="3124080"/>
              <a:chExt cx="2057400" cy="2133000"/>
            </a:xfrm>
          </p:grpSpPr>
          <p:sp>
            <p:nvSpPr>
              <p:cNvPr id="275" name=""/>
              <p:cNvSpPr/>
              <p:nvPr/>
            </p:nvSpPr>
            <p:spPr>
              <a:xfrm>
                <a:off x="3581280" y="3124080"/>
                <a:ext cx="2057400" cy="21330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3816360" y="3159360"/>
                <a:ext cx="1587240" cy="804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952080" y="396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191120" y="1752480"/>
              <a:ext cx="685800" cy="658440"/>
              <a:chOff x="4191120" y="1752480"/>
              <a:chExt cx="685800" cy="6584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191120" y="1752480"/>
                <a:ext cx="685800" cy="658440"/>
                <a:chOff x="4191120" y="1752480"/>
                <a:chExt cx="685800" cy="658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191120" y="1752480"/>
                  <a:ext cx="68580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8b30"/>
                    </a:gs>
                    <a:gs pos="100000">
                      <a:srgbClr val="613a1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未知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8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4356000" y="1853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524760" y="5037480"/>
              <a:ext cx="368280" cy="334080"/>
              <a:chOff x="3524760" y="5037480"/>
              <a:chExt cx="368280" cy="334080"/>
            </a:xfrm>
          </p:grpSpPr>
          <p:sp>
            <p:nvSpPr>
              <p:cNvPr id="284" name=""/>
              <p:cNvSpPr/>
              <p:nvPr/>
            </p:nvSpPr>
            <p:spPr>
              <a:xfrm rot="18226800">
                <a:off x="3553560" y="5207760"/>
                <a:ext cx="132120" cy="14004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e9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8226800">
                <a:off x="3732120" y="5061240"/>
                <a:ext cx="132120" cy="14004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e9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895480" y="5329080"/>
              <a:ext cx="685800" cy="685440"/>
              <a:chOff x="2895480" y="5329080"/>
              <a:chExt cx="685800" cy="68544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2895480" y="5329080"/>
                <a:ext cx="685800" cy="685440"/>
                <a:chOff x="2895480" y="5329080"/>
                <a:chExt cx="685800" cy="6854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895480" y="5329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未知"/>
                <p:cNvSpPr/>
                <p:nvPr/>
              </p:nvSpPr>
              <p:spPr>
                <a:xfrm>
                  <a:off x="2973600" y="5340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3053880" y="5457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251400" y="3124080"/>
              <a:ext cx="682560" cy="693360"/>
              <a:chOff x="6251400" y="3124080"/>
              <a:chExt cx="682560" cy="6933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6251400" y="3124080"/>
                <a:ext cx="682560" cy="693360"/>
                <a:chOff x="6251400" y="3124080"/>
                <a:chExt cx="682560" cy="6933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251400" y="3124080"/>
                  <a:ext cx="68256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a9bd8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未知"/>
                <p:cNvSpPr/>
                <p:nvPr/>
              </p:nvSpPr>
              <p:spPr>
                <a:xfrm>
                  <a:off x="6329160" y="3135240"/>
                  <a:ext cx="52668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8f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6396840" y="32191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638680" y="5333760"/>
              <a:ext cx="654120" cy="622080"/>
              <a:chOff x="5638680" y="5333760"/>
              <a:chExt cx="654120" cy="6220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638680" y="5333760"/>
                <a:ext cx="654120" cy="622080"/>
                <a:chOff x="5638680" y="5333760"/>
                <a:chExt cx="654120" cy="6220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638680" y="533376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4334"/>
                    </a:gs>
                    <a:gs pos="100000">
                      <a:srgbClr val="061e1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5713200" y="534384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43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794920" y="53668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362320" y="3124080"/>
              <a:ext cx="685800" cy="685440"/>
              <a:chOff x="2362320" y="3124080"/>
              <a:chExt cx="685800" cy="6854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362320" y="3124080"/>
                <a:ext cx="685800" cy="685440"/>
                <a:chOff x="2362320" y="3124080"/>
                <a:chExt cx="685800" cy="6854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362320" y="3124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da62"/>
                    </a:gs>
                    <a:gs pos="100000">
                      <a:srgbClr val="3f622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2440440" y="3135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da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2523240" y="3200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rot="18226800">
              <a:off x="5561640" y="517176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8226800">
              <a:off x="5409360" y="501948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098880" y="3553200"/>
              <a:ext cx="416880" cy="261000"/>
              <a:chOff x="3098880" y="3553200"/>
              <a:chExt cx="416880" cy="261000"/>
            </a:xfrm>
          </p:grpSpPr>
          <p:sp>
            <p:nvSpPr>
              <p:cNvPr id="309" name=""/>
              <p:cNvSpPr/>
              <p:nvPr/>
            </p:nvSpPr>
            <p:spPr>
              <a:xfrm rot="18226800">
                <a:off x="3127320" y="3577320"/>
                <a:ext cx="132840" cy="14004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507d3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8226800">
                <a:off x="3354120" y="3650040"/>
                <a:ext cx="132840" cy="1396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469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70840" y="2531520"/>
              <a:ext cx="187920" cy="466920"/>
              <a:chOff x="4470840" y="2531520"/>
              <a:chExt cx="187920" cy="466920"/>
            </a:xfrm>
          </p:grpSpPr>
          <p:sp>
            <p:nvSpPr>
              <p:cNvPr id="312" name=""/>
              <p:cNvSpPr/>
              <p:nvPr/>
            </p:nvSpPr>
            <p:spPr>
              <a:xfrm rot="18226800">
                <a:off x="4498920" y="2555280"/>
                <a:ext cx="131400" cy="13824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83e1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8226800">
                <a:off x="4498920" y="28360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f431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 rot="18226800">
              <a:off x="5961960" y="360072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8ea9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8226800">
              <a:off x="5714280" y="372456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8ea9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32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80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244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323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804680" y="1869120"/>
              <a:ext cx="1130760" cy="1064520"/>
              <a:chOff x="1804680" y="1869120"/>
              <a:chExt cx="1130760" cy="1064520"/>
            </a:xfrm>
          </p:grpSpPr>
          <p:sp>
            <p:nvSpPr>
              <p:cNvPr id="325" name=""/>
              <p:cNvSpPr/>
              <p:nvPr/>
            </p:nvSpPr>
            <p:spPr>
              <a:xfrm>
                <a:off x="1804680" y="186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62974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1875240" y="193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e9a8"/>
                  </a:gs>
                  <a:gs pos="50000">
                    <a:srgbClr val="8dda62">
                      <a:alpha val="0"/>
                    </a:srgbClr>
                  </a:gs>
                  <a:gs pos="100000">
                    <a:srgbClr val="c0e9a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30680" y="215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330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804680" y="3399120"/>
              <a:ext cx="1130760" cy="1064520"/>
              <a:chOff x="1804680" y="3399120"/>
              <a:chExt cx="1130760" cy="106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1804680" y="33991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8f2b"/>
                  </a:gs>
                  <a:gs pos="100000">
                    <a:srgbClr val="435a1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1875240" y="34675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8f2b">
                      <a:alpha val="0"/>
                    </a:srgbClr>
                  </a:gs>
                  <a:gs pos="100000">
                    <a:srgbClr val="bfcea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3068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337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804680" y="4939200"/>
              <a:ext cx="1130760" cy="1064520"/>
              <a:chOff x="1804680" y="4939200"/>
              <a:chExt cx="1130760" cy="1064520"/>
            </a:xfrm>
          </p:grpSpPr>
          <p:sp>
            <p:nvSpPr>
              <p:cNvPr id="339" name=""/>
              <p:cNvSpPr/>
              <p:nvPr/>
            </p:nvSpPr>
            <p:spPr>
              <a:xfrm>
                <a:off x="1804680" y="49392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15d7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1875240" y="50076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a7e3">
                      <a:alpha val="0"/>
                    </a:srgbClr>
                  </a:gs>
                  <a:gs pos="100000">
                    <a:srgbClr val="9fd3f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3068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346" name="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dda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b8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f2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b8f2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69120" y="20462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394d17"/>
                </a:gs>
                <a:gs pos="50000">
                  <a:srgbClr val="6b8f2b"/>
                </a:gs>
                <a:gs pos="100000">
                  <a:srgbClr val="394d1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b8f2b">
                    <a:alpha val="0"/>
                  </a:srgbClr>
                </a:gs>
                <a:gs pos="100000">
                  <a:srgbClr val="435a1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ba7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ba7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f5a7a"/>
                </a:gs>
                <a:gs pos="50000">
                  <a:srgbClr val="3ba7e3"/>
                </a:gs>
                <a:gs pos="100000">
                  <a:srgbClr val="1f5a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ba7e3">
                    <a:alpha val="0"/>
                  </a:srgbClr>
                </a:gs>
                <a:gs pos="100000">
                  <a:srgbClr val="2569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359" name="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3860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dda6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0642d"/>
                </a:gs>
                <a:gs pos="100000">
                  <a:srgbClr val="8dda6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c7534"/>
                </a:gs>
                <a:gs pos="50000">
                  <a:srgbClr val="8dda62"/>
                </a:gs>
                <a:gs pos="100000">
                  <a:srgbClr val="4c75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dda62">
                    <a:alpha val="0"/>
                  </a:srgbClr>
                </a:gs>
                <a:gs pos="100000">
                  <a:srgbClr val="5989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369" name="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7532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374" name="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2176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38080" y="1530360"/>
            <a:ext cx="6934320" cy="4489560"/>
            <a:chOff x="838080" y="1530360"/>
            <a:chExt cx="6934320" cy="4489560"/>
          </a:xfrm>
        </p:grpSpPr>
        <p:sp>
          <p:nvSpPr>
            <p:cNvPr id="386" name="未知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dda62"/>
                </a:gs>
                <a:gs pos="100000">
                  <a:srgbClr val="6b8f2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52880" y="342900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7800" y="3740040"/>
              <a:ext cx="1704960" cy="2028960"/>
              <a:chOff x="2917800" y="3740040"/>
              <a:chExt cx="1704960" cy="2028960"/>
            </a:xfrm>
          </p:grpSpPr>
          <p:sp>
            <p:nvSpPr>
              <p:cNvPr id="389" name=""/>
              <p:cNvSpPr/>
              <p:nvPr/>
            </p:nvSpPr>
            <p:spPr>
              <a:xfrm rot="20876400">
                <a:off x="2986200" y="49593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17800" y="37400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38320" y="37494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55960" y="37656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48120" y="38098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35400" y="43671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1066680" y="3359160"/>
              <a:ext cx="1371240" cy="1718640"/>
              <a:chOff x="1066680" y="3359160"/>
              <a:chExt cx="1371240" cy="1718640"/>
            </a:xfrm>
          </p:grpSpPr>
          <p:sp>
            <p:nvSpPr>
              <p:cNvPr id="396" name=""/>
              <p:cNvSpPr/>
              <p:nvPr/>
            </p:nvSpPr>
            <p:spPr>
              <a:xfrm rot="20826600">
                <a:off x="1143000" y="43495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097640" y="33807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69280" y="34174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347120" y="38653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3" name=""/>
            <p:cNvGrpSpPr/>
            <p:nvPr/>
          </p:nvGrpSpPr>
          <p:grpSpPr>
            <a:xfrm>
              <a:off x="1033200" y="1987560"/>
              <a:ext cx="1100160" cy="1139760"/>
              <a:chOff x="1033200" y="1987560"/>
              <a:chExt cx="1100160" cy="1139760"/>
            </a:xfrm>
          </p:grpSpPr>
          <p:sp>
            <p:nvSpPr>
              <p:cNvPr id="404" name=""/>
              <p:cNvSpPr/>
              <p:nvPr/>
            </p:nvSpPr>
            <p:spPr>
              <a:xfrm>
                <a:off x="1033200" y="25941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09520" y="19875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22120" y="19922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133280" y="20034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87280" y="20289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06440" y="23367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300040" y="1530360"/>
              <a:ext cx="804960" cy="762120"/>
              <a:chOff x="2300040" y="1530360"/>
              <a:chExt cx="804960" cy="762120"/>
            </a:xfrm>
          </p:grpSpPr>
          <p:sp>
            <p:nvSpPr>
              <p:cNvPr id="411" name=""/>
              <p:cNvSpPr/>
              <p:nvPr/>
            </p:nvSpPr>
            <p:spPr>
              <a:xfrm>
                <a:off x="2300040" y="20638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22440" y="15303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31800" y="15336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438280" y="15397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474640" y="15588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492640" y="17542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471000" y="35812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52760" y="1828800"/>
            <a:ext cx="6368040" cy="3770280"/>
            <a:chOff x="752760" y="1828800"/>
            <a:chExt cx="6368040" cy="3770280"/>
          </a:xfrm>
        </p:grpSpPr>
        <p:sp>
          <p:nvSpPr>
            <p:cNvPr id="420" name=""/>
            <p:cNvSpPr/>
            <p:nvPr/>
          </p:nvSpPr>
          <p:spPr>
            <a:xfrm rot="17973000">
              <a:off x="4559760" y="2532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3465600">
              <a:off x="4610520" y="4642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4368800">
              <a:off x="3391200" y="25549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534800">
              <a:off x="3353040" y="46090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ce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ce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c7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43120" y="28861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6d00"/>
                </a:gs>
                <a:gs pos="50000">
                  <a:srgbClr val="ffcc00"/>
                </a:gs>
                <a:gs pos="100000">
                  <a:srgbClr val="89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0"/>
                  </a:srgbClr>
                </a:gs>
                <a:gs pos="100000">
                  <a:srgbClr val="a1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44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092240" y="2039760"/>
            <a:ext cx="2163600" cy="3165480"/>
            <a:chOff x="1092240" y="2039760"/>
            <a:chExt cx="2163600" cy="3165480"/>
          </a:xfrm>
        </p:grpSpPr>
        <p:sp>
          <p:nvSpPr>
            <p:cNvPr id="451" name=""/>
            <p:cNvSpPr/>
            <p:nvPr/>
          </p:nvSpPr>
          <p:spPr>
            <a:xfrm>
              <a:off x="10922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257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430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430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836720" y="2039760"/>
              <a:ext cx="642960" cy="642960"/>
              <a:chOff x="1836720" y="2039760"/>
              <a:chExt cx="642960" cy="642960"/>
            </a:xfrm>
          </p:grpSpPr>
          <p:sp>
            <p:nvSpPr>
              <p:cNvPr id="456" name=""/>
              <p:cNvSpPr/>
              <p:nvPr/>
            </p:nvSpPr>
            <p:spPr>
              <a:xfrm>
                <a:off x="18367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432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511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8576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8914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9767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685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816520" y="2039760"/>
            <a:ext cx="2163600" cy="3165480"/>
            <a:chOff x="5816520" y="2039760"/>
            <a:chExt cx="2163600" cy="3165480"/>
          </a:xfrm>
        </p:grpSpPr>
        <p:sp>
          <p:nvSpPr>
            <p:cNvPr id="464" name=""/>
            <p:cNvSpPr/>
            <p:nvPr/>
          </p:nvSpPr>
          <p:spPr>
            <a:xfrm>
              <a:off x="5816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0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67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7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6561000" y="2039760"/>
              <a:ext cx="642960" cy="642960"/>
              <a:chOff x="6561000" y="2039760"/>
              <a:chExt cx="642960" cy="642960"/>
            </a:xfrm>
          </p:grpSpPr>
          <p:sp>
            <p:nvSpPr>
              <p:cNvPr id="469" name=""/>
              <p:cNvSpPr/>
              <p:nvPr/>
            </p:nvSpPr>
            <p:spPr>
              <a:xfrm>
                <a:off x="656100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6748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57540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58188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1572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6701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92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454560" y="2039760"/>
            <a:ext cx="2163600" cy="3165480"/>
            <a:chOff x="3454560" y="2039760"/>
            <a:chExt cx="2163600" cy="3165480"/>
          </a:xfrm>
        </p:grpSpPr>
        <p:sp>
          <p:nvSpPr>
            <p:cNvPr id="477" name=""/>
            <p:cNvSpPr/>
            <p:nvPr/>
          </p:nvSpPr>
          <p:spPr>
            <a:xfrm>
              <a:off x="3454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88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05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05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99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0552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1344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1956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5484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39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30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0" y="1371600"/>
            <a:ext cx="9144000" cy="4366080"/>
            <a:chOff x="0" y="1371600"/>
            <a:chExt cx="9144000" cy="4366080"/>
          </a:xfrm>
        </p:grpSpPr>
        <p:sp>
          <p:nvSpPr>
            <p:cNvPr id="490" name=""/>
            <p:cNvSpPr/>
            <p:nvPr/>
          </p:nvSpPr>
          <p:spPr>
            <a:xfrm>
              <a:off x="0" y="26607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27129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396720" y="2063880"/>
              <a:ext cx="2183400" cy="3600720"/>
              <a:chOff x="396720" y="2063880"/>
              <a:chExt cx="2183400" cy="360072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872280" y="2981160"/>
                <a:ext cx="1707840" cy="2683440"/>
                <a:chOff x="872280" y="2981160"/>
                <a:chExt cx="1707840" cy="268344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872280" y="3160440"/>
                  <a:ext cx="1580040" cy="2504160"/>
                  <a:chOff x="872280" y="3160440"/>
                  <a:chExt cx="1580040" cy="2504160"/>
                </a:xfrm>
              </p:grpSpPr>
              <p:sp>
                <p:nvSpPr>
                  <p:cNvPr id="495" name="未知"/>
                  <p:cNvSpPr/>
                  <p:nvPr/>
                </p:nvSpPr>
                <p:spPr>
                  <a:xfrm rot="3876600">
                    <a:off x="408600" y="4132800"/>
                    <a:ext cx="250668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未知"/>
                  <p:cNvSpPr/>
                  <p:nvPr/>
                </p:nvSpPr>
                <p:spPr>
                  <a:xfrm rot="3876600">
                    <a:off x="1915560" y="5103000"/>
                    <a:ext cx="393840" cy="45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1368000" y="2981160"/>
                  <a:ext cx="1212120" cy="1921680"/>
                  <a:chOff x="1368000" y="2981160"/>
                  <a:chExt cx="1212120" cy="1921680"/>
                </a:xfrm>
              </p:grpSpPr>
              <p:sp>
                <p:nvSpPr>
                  <p:cNvPr id="498" name="未知"/>
                  <p:cNvSpPr/>
                  <p:nvPr/>
                </p:nvSpPr>
                <p:spPr>
                  <a:xfrm flipV="1" rot="3876600">
                    <a:off x="1011960" y="3727440"/>
                    <a:ext cx="192348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未知"/>
                  <p:cNvSpPr/>
                  <p:nvPr/>
                </p:nvSpPr>
                <p:spPr>
                  <a:xfrm flipV="1" rot="3876600">
                    <a:off x="2150640" y="4479840"/>
                    <a:ext cx="3020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"/>
              <p:cNvGrpSpPr/>
              <p:nvPr/>
            </p:nvGrpSpPr>
            <p:grpSpPr>
              <a:xfrm>
                <a:off x="396720" y="2063880"/>
                <a:ext cx="1443240" cy="1441440"/>
                <a:chOff x="396720" y="2063880"/>
                <a:chExt cx="1443240" cy="14414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396720" y="206388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96720" y="206388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92120" y="215748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92120" y="216072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54400" y="2221200"/>
                  <a:ext cx="112788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"/>
                <p:cNvGrpSpPr/>
                <p:nvPr/>
              </p:nvGrpSpPr>
              <p:grpSpPr>
                <a:xfrm>
                  <a:off x="571680" y="2238480"/>
                  <a:ext cx="1093320" cy="1093320"/>
                  <a:chOff x="571680" y="2238480"/>
                  <a:chExt cx="1093320" cy="10933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571680" y="2238480"/>
                    <a:ext cx="109332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85720" y="2244600"/>
                    <a:ext cx="106704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596880" y="2255040"/>
                    <a:ext cx="101484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656280" y="2282760"/>
                    <a:ext cx="90180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 rot="3925800">
                <a:off x="899640" y="4010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3925800">
                <a:off x="1401120" y="3716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2379600" y="2063880"/>
              <a:ext cx="2183400" cy="3600720"/>
              <a:chOff x="2379600" y="2063880"/>
              <a:chExt cx="2183400" cy="360072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2855160" y="2981160"/>
                <a:ext cx="1707840" cy="2683440"/>
                <a:chOff x="2855160" y="2981160"/>
                <a:chExt cx="1707840" cy="2683440"/>
              </a:xfrm>
            </p:grpSpPr>
            <p:grpSp>
              <p:nvGrpSpPr>
                <p:cNvPr id="515" name=""/>
                <p:cNvGrpSpPr/>
                <p:nvPr/>
              </p:nvGrpSpPr>
              <p:grpSpPr>
                <a:xfrm>
                  <a:off x="2855160" y="3160440"/>
                  <a:ext cx="1580040" cy="2504160"/>
                  <a:chOff x="2855160" y="3160440"/>
                  <a:chExt cx="1580040" cy="2504160"/>
                </a:xfrm>
              </p:grpSpPr>
              <p:sp>
                <p:nvSpPr>
                  <p:cNvPr id="516" name="未知"/>
                  <p:cNvSpPr/>
                  <p:nvPr/>
                </p:nvSpPr>
                <p:spPr>
                  <a:xfrm rot="3876600">
                    <a:off x="2391480" y="4132800"/>
                    <a:ext cx="250668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未知"/>
                  <p:cNvSpPr/>
                  <p:nvPr/>
                </p:nvSpPr>
                <p:spPr>
                  <a:xfrm rot="3876600">
                    <a:off x="3898440" y="5103000"/>
                    <a:ext cx="393840" cy="45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3350880" y="2981160"/>
                  <a:ext cx="1212120" cy="1921680"/>
                  <a:chOff x="3350880" y="2981160"/>
                  <a:chExt cx="1212120" cy="1921680"/>
                </a:xfrm>
              </p:grpSpPr>
              <p:sp>
                <p:nvSpPr>
                  <p:cNvPr id="519" name="未知"/>
                  <p:cNvSpPr/>
                  <p:nvPr/>
                </p:nvSpPr>
                <p:spPr>
                  <a:xfrm flipV="1" rot="3876600">
                    <a:off x="2994840" y="3727440"/>
                    <a:ext cx="1923480" cy="42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未知"/>
                  <p:cNvSpPr/>
                  <p:nvPr/>
                </p:nvSpPr>
                <p:spPr>
                  <a:xfrm flipV="1" rot="3876600">
                    <a:off x="4133520" y="4479840"/>
                    <a:ext cx="30204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2379600" y="2063880"/>
                <a:ext cx="1443240" cy="1441440"/>
                <a:chOff x="2379600" y="2063880"/>
                <a:chExt cx="1443240" cy="144144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379600" y="206388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379600" y="2063880"/>
                  <a:ext cx="144324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475000" y="215748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475000" y="2160720"/>
                  <a:ext cx="125208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7280" y="2221200"/>
                  <a:ext cx="112788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2554560" y="2238480"/>
                  <a:ext cx="1093320" cy="1093320"/>
                  <a:chOff x="2554560" y="2238480"/>
                  <a:chExt cx="1093320" cy="10933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2554560" y="2238480"/>
                    <a:ext cx="109332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568600" y="2244600"/>
                    <a:ext cx="106704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579760" y="2255040"/>
                    <a:ext cx="101484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639160" y="2282760"/>
                    <a:ext cx="90180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 rot="3925800">
                <a:off x="2876040" y="4010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3925800">
                <a:off x="3377520" y="3716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4427640" y="2063880"/>
              <a:ext cx="2182320" cy="3600720"/>
              <a:chOff x="4427640" y="2063880"/>
              <a:chExt cx="2182320" cy="360072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903200" y="2981520"/>
                <a:ext cx="1706760" cy="2683080"/>
                <a:chOff x="4903200" y="2981520"/>
                <a:chExt cx="1706760" cy="268308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4903200" y="3160440"/>
                  <a:ext cx="1579680" cy="2504160"/>
                  <a:chOff x="4903200" y="3160440"/>
                  <a:chExt cx="1579680" cy="2504160"/>
                </a:xfrm>
              </p:grpSpPr>
              <p:sp>
                <p:nvSpPr>
                  <p:cNvPr id="537" name="未知"/>
                  <p:cNvSpPr/>
                  <p:nvPr/>
                </p:nvSpPr>
                <p:spPr>
                  <a:xfrm rot="3876600">
                    <a:off x="4439520" y="4132800"/>
                    <a:ext cx="250668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未知"/>
                  <p:cNvSpPr/>
                  <p:nvPr/>
                </p:nvSpPr>
                <p:spPr>
                  <a:xfrm rot="3876600">
                    <a:off x="5946120" y="510300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5398200" y="2981520"/>
                  <a:ext cx="1211760" cy="1921320"/>
                  <a:chOff x="5398200" y="2981520"/>
                  <a:chExt cx="1211760" cy="1921320"/>
                </a:xfrm>
              </p:grpSpPr>
              <p:sp>
                <p:nvSpPr>
                  <p:cNvPr id="540" name="未知"/>
                  <p:cNvSpPr/>
                  <p:nvPr/>
                </p:nvSpPr>
                <p:spPr>
                  <a:xfrm flipV="1" rot="3876600">
                    <a:off x="5042160" y="3727440"/>
                    <a:ext cx="192348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未知"/>
                  <p:cNvSpPr/>
                  <p:nvPr/>
                </p:nvSpPr>
                <p:spPr>
                  <a:xfrm flipV="1" rot="3876600">
                    <a:off x="6180840" y="44798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2" name=""/>
              <p:cNvGrpSpPr/>
              <p:nvPr/>
            </p:nvGrpSpPr>
            <p:grpSpPr>
              <a:xfrm>
                <a:off x="4427640" y="2063880"/>
                <a:ext cx="1442880" cy="1441440"/>
                <a:chOff x="4427640" y="2063880"/>
                <a:chExt cx="1442880" cy="14414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427640" y="2063880"/>
                  <a:ext cx="144288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427640" y="2063880"/>
                  <a:ext cx="1442880" cy="144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523040" y="2157480"/>
                  <a:ext cx="125172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523040" y="2160720"/>
                  <a:ext cx="1251720" cy="125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584960" y="2221200"/>
                  <a:ext cx="1127880" cy="1126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8" name=""/>
                <p:cNvGrpSpPr/>
                <p:nvPr/>
              </p:nvGrpSpPr>
              <p:grpSpPr>
                <a:xfrm>
                  <a:off x="4602600" y="2238480"/>
                  <a:ext cx="1092960" cy="1093320"/>
                  <a:chOff x="4602600" y="2238480"/>
                  <a:chExt cx="1092960" cy="109332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4602600" y="2238480"/>
                    <a:ext cx="1092960" cy="1093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616640" y="2244600"/>
                    <a:ext cx="1066680" cy="1066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627800" y="2255040"/>
                    <a:ext cx="1014480" cy="99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687200" y="2282760"/>
                    <a:ext cx="901800" cy="808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 rot="3925800">
                <a:off x="4933440" y="4010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3925800">
                <a:off x="5434920" y="3716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442200" y="1905120"/>
              <a:ext cx="2400120" cy="3832560"/>
              <a:chOff x="6442200" y="1905120"/>
              <a:chExt cx="2400120" cy="38325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7135920" y="3054960"/>
                <a:ext cx="1706400" cy="2682720"/>
                <a:chOff x="7135920" y="3054960"/>
                <a:chExt cx="1706400" cy="268272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7135920" y="3233880"/>
                  <a:ext cx="1578960" cy="2503800"/>
                  <a:chOff x="7135920" y="3233880"/>
                  <a:chExt cx="1578960" cy="2503800"/>
                </a:xfrm>
              </p:grpSpPr>
              <p:sp>
                <p:nvSpPr>
                  <p:cNvPr id="558" name="未知"/>
                  <p:cNvSpPr/>
                  <p:nvPr/>
                </p:nvSpPr>
                <p:spPr>
                  <a:xfrm rot="3876600">
                    <a:off x="6671880" y="4206240"/>
                    <a:ext cx="250632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未知"/>
                  <p:cNvSpPr/>
                  <p:nvPr/>
                </p:nvSpPr>
                <p:spPr>
                  <a:xfrm rot="3876600">
                    <a:off x="8178120" y="5176080"/>
                    <a:ext cx="39384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30560" y="3054960"/>
                  <a:ext cx="1211760" cy="1920960"/>
                  <a:chOff x="7630560" y="3054960"/>
                  <a:chExt cx="1211760" cy="1920960"/>
                </a:xfrm>
              </p:grpSpPr>
              <p:sp>
                <p:nvSpPr>
                  <p:cNvPr id="561" name="未知"/>
                  <p:cNvSpPr/>
                  <p:nvPr/>
                </p:nvSpPr>
                <p:spPr>
                  <a:xfrm flipV="1" rot="3876600">
                    <a:off x="7274520" y="3801240"/>
                    <a:ext cx="19231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未知"/>
                  <p:cNvSpPr/>
                  <p:nvPr/>
                </p:nvSpPr>
                <p:spPr>
                  <a:xfrm flipV="1" rot="3876600">
                    <a:off x="8413200" y="45529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3" name=""/>
              <p:cNvSpPr/>
              <p:nvPr/>
            </p:nvSpPr>
            <p:spPr>
              <a:xfrm>
                <a:off x="6442200" y="1905120"/>
                <a:ext cx="1734120" cy="1729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42200" y="1905120"/>
                <a:ext cx="1734120" cy="17294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58120" y="2017800"/>
                <a:ext cx="1505160" cy="150192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59560" y="2021040"/>
                <a:ext cx="1505160" cy="15019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33000" y="2094120"/>
                <a:ext cx="1355400" cy="1350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6653520" y="2114640"/>
                <a:ext cx="1314000" cy="1311120"/>
                <a:chOff x="6653520" y="2114640"/>
                <a:chExt cx="1314000" cy="13111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6653520" y="2114640"/>
                  <a:ext cx="1314000" cy="131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670080" y="2121840"/>
                  <a:ext cx="1282320" cy="127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683760" y="2134440"/>
                  <a:ext cx="1219320" cy="119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755040" y="2167920"/>
                  <a:ext cx="1083960" cy="9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 rot="3925800">
                <a:off x="7148160" y="41695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3925800">
                <a:off x="7649640" y="38757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77796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6840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4984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95000" y="1371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9" name=""/>
            <p:cNvCxnSpPr>
              <a:stCxn id="575" idx="3"/>
              <a:endCxn id="576" idx="1"/>
            </p:cNvCxnSpPr>
            <p:nvPr/>
          </p:nvCxnSpPr>
          <p:spPr>
            <a:xfrm>
              <a:off x="1514160" y="15984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80" name=""/>
            <p:cNvCxnSpPr>
              <a:stCxn id="576" idx="3"/>
              <a:endCxn id="577" idx="1"/>
            </p:cNvCxnSpPr>
            <p:nvPr/>
          </p:nvCxnSpPr>
          <p:spPr>
            <a:xfrm>
              <a:off x="3504960" y="15984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81" name=""/>
            <p:cNvCxnSpPr>
              <a:stCxn id="577" idx="3"/>
              <a:endCxn id="578" idx="1"/>
            </p:cNvCxnSpPr>
            <p:nvPr/>
          </p:nvCxnSpPr>
          <p:spPr>
            <a:xfrm>
              <a:off x="5486040" y="15987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582" name=""/>
          <p:cNvSpPr/>
          <p:nvPr/>
        </p:nvSpPr>
        <p:spPr>
          <a:xfrm>
            <a:off x="763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715000" y="2819520"/>
            <a:ext cx="2610000" cy="2819160"/>
          </a:xfrm>
          <a:custGeom>
            <a:avLst/>
            <a:gdLst>
              <a:gd name="textAreaLeft" fmla="*/ 0 w 2610000"/>
              <a:gd name="textAreaRight" fmla="*/ 2610360 w 261000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1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14113"/>
              </a:gs>
              <a:gs pos="100000">
                <a:srgbClr val="6b8f2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2819520"/>
            <a:ext cx="2751120" cy="2819160"/>
          </a:xfrm>
          <a:custGeom>
            <a:avLst/>
            <a:gdLst>
              <a:gd name="textAreaLeft" fmla="*/ 0 w 2751120"/>
              <a:gd name="textAreaRight" fmla="*/ 2751480 w 27511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0642d"/>
              </a:gs>
              <a:gs pos="100000">
                <a:srgbClr val="8dda6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19320" y="1981080"/>
            <a:ext cx="190476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642d"/>
              </a:gs>
              <a:gs pos="100000">
                <a:srgbClr val="8dda6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53844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4113"/>
              </a:gs>
              <a:gs pos="100000">
                <a:srgbClr val="6b8f2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67280" y="1981080"/>
            <a:ext cx="190512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5800" y="1849320"/>
          <a:ext cx="7620120" cy="364824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113"/>
                        </a:gs>
                        <a:gs pos="50000">
                          <a:srgbClr val="6b8f2b"/>
                        </a:gs>
                        <a:gs pos="100000">
                          <a:srgbClr val="3141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055160" y="1290960"/>
            <a:ext cx="6879600" cy="4804560"/>
            <a:chOff x="1055160" y="1290960"/>
            <a:chExt cx="6879600" cy="4804560"/>
          </a:xfrm>
        </p:grpSpPr>
        <p:sp>
          <p:nvSpPr>
            <p:cNvPr id="594" name=""/>
            <p:cNvSpPr/>
            <p:nvPr/>
          </p:nvSpPr>
          <p:spPr>
            <a:xfrm rot="20601600">
              <a:off x="1397160" y="231732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0601600">
              <a:off x="1454040" y="215532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01600">
              <a:off x="1368360" y="214128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rot="20602200">
              <a:off x="1346400" y="217224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01600">
              <a:off x="1378080" y="215244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rot="20602200">
              <a:off x="1360440" y="216000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01600">
              <a:off x="2914920" y="286992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30200" y="3092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35320" y="2178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11480" y="2635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6237360" y="316836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0539200">
              <a:off x="1372680" y="217080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4537080" y="364968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11480" y="3625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59000" y="4387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53880" y="4235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601600">
              <a:off x="3016440" y="312264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49260"/>
                </a:gs>
                <a:gs pos="100000">
                  <a:srgbClr val="10432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4713480" y="404496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3" name="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6880" y="1828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0" name="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01" name="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27432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08" name="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09" name="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3635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6" name="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7" name="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66880" y="45496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1676520" y="1905120"/>
            <a:ext cx="5486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b8f2b"/>
                    </a:gs>
                    <a:gs pos="100000">
                      <a:srgbClr val="8dda6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b8f2b"/>
                  </a:gs>
                  <a:gs pos="100000">
                    <a:srgbClr val="8dda62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628-69F5-4025-83EB-186754CC19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586728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28" name="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5000" y="3290760"/>
              <a:ext cx="20574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31" name="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未知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dbcb"/>
              </a:gs>
              <a:gs pos="100000">
                <a:srgbClr val="2492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f2cc"/>
              </a:gs>
              <a:gs pos="100000">
                <a:srgbClr val="8dda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4514"/>
                    </a:gs>
                    <a:gs pos="100000">
                      <a:srgbClr val="6b8f2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bccca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0642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6f1c7"/>
                  </a:gs>
                  <a:gs pos="100000">
                    <a:srgbClr val="8dda62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48235"/>
                    </a:srgbClr>
                  </a:gs>
                  <a:gs pos="100000">
                    <a:srgbClr val="6fac4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6840" y="1175040"/>
            <a:ext cx="7750080" cy="5225400"/>
            <a:chOff x="456840" y="1175040"/>
            <a:chExt cx="7750080" cy="5225400"/>
          </a:xfrm>
        </p:grpSpPr>
        <p:sp>
          <p:nvSpPr>
            <p:cNvPr id="147" name="未知"/>
            <p:cNvSpPr/>
            <p:nvPr/>
          </p:nvSpPr>
          <p:spPr>
            <a:xfrm rot="20241600">
              <a:off x="1077840" y="23857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cec9c"/>
                </a:gs>
                <a:gs pos="100000">
                  <a:srgbClr val="fdfcf4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15238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b8f2b"/>
                </a:gs>
                <a:gs pos="100000">
                  <a:srgbClr val="2431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95280" y="3048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2c44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78000" y="47451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131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4114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81680" y="17524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3ba7e3"/>
                </a:gs>
                <a:gs pos="100000">
                  <a:srgbClr val="1439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2520" y="3505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39640" y="1981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71480" y="225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81560" y="4572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60600" y="5195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351000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"/>
            <p:cNvCxnSpPr/>
            <p:nvPr/>
          </p:nvCxnSpPr>
          <p:spPr>
            <a:xfrm flipH="1">
              <a:off x="456840" y="181080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34600" y="1371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90720" y="1523880"/>
            <a:ext cx="7010280" cy="4343400"/>
            <a:chOff x="990720" y="1523880"/>
            <a:chExt cx="7010280" cy="4343400"/>
          </a:xfrm>
        </p:grpSpPr>
        <p:sp>
          <p:nvSpPr>
            <p:cNvPr id="164" name=""/>
            <p:cNvSpPr/>
            <p:nvPr/>
          </p:nvSpPr>
          <p:spPr>
            <a:xfrm>
              <a:off x="3657600" y="396216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57600" y="34290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7600" y="289548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99040" y="3125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9040" y="3659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9040" y="419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1800" y="266688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7040" y="236196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220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f43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48520" y="236196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9640" y="266688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95840" y="152388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14113"/>
                </a:gs>
                <a:gs pos="50000">
                  <a:srgbClr val="6b8f2b"/>
                </a:gs>
                <a:gs pos="100000">
                  <a:srgbClr val="31411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24480" y="228600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74920" y="1757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71800" y="525780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74920" y="5491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02160" y="464796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rgbClr val="249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sp>
          <p:nvSpPr>
            <p:cNvPr id="185" name=""/>
            <p:cNvSpPr/>
            <p:nvPr/>
          </p:nvSpPr>
          <p:spPr>
            <a:xfrm flipH="1" rot="16200000">
              <a:off x="2808720" y="28645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679000" y="281016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f6d7"/>
                </a:gs>
                <a:gs pos="100000">
                  <a:srgbClr val="fcec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222360" y="1752480"/>
              <a:ext cx="2563920" cy="2563920"/>
              <a:chOff x="3222360" y="1752480"/>
              <a:chExt cx="2563920" cy="2563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222360" y="1752480"/>
                <a:ext cx="25639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2492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68520" y="189684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b8f2b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394d17"/>
                  </a:gs>
                  <a:gs pos="50000">
                    <a:srgbClr val="6b8f2b"/>
                  </a:gs>
                  <a:gs pos="100000">
                    <a:srgbClr val="394d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42d"/>
                </a:gs>
                <a:gs pos="50000">
                  <a:srgbClr val="8dda62"/>
                </a:gs>
                <a:gs pos="100000">
                  <a:srgbClr val="4064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432c"/>
                </a:gs>
                <a:gs pos="50000">
                  <a:srgbClr val="249260"/>
                </a:gs>
                <a:gs pos="100000">
                  <a:srgbClr val="10432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11" name="未知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e3b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1663560"/>
            <a:ext cx="8381880" cy="4102200"/>
            <a:chOff x="0" y="1663560"/>
            <a:chExt cx="8381880" cy="4102200"/>
          </a:xfrm>
        </p:grpSpPr>
        <p:grpSp>
          <p:nvGrpSpPr>
            <p:cNvPr id="239" name=""/>
            <p:cNvGrpSpPr/>
            <p:nvPr/>
          </p:nvGrpSpPr>
          <p:grpSpPr>
            <a:xfrm>
              <a:off x="0" y="4822560"/>
              <a:ext cx="6171840" cy="943200"/>
              <a:chOff x="0" y="4822560"/>
              <a:chExt cx="6171840" cy="94320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5065200"/>
                <a:ext cx="5817960" cy="665640"/>
              </a:xfrm>
              <a:prstGeom prst="rect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5167080" y="4822560"/>
                <a:ext cx="1004760" cy="943200"/>
                <a:chOff x="5167080" y="4822560"/>
                <a:chExt cx="1004760" cy="9432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167080" y="4822560"/>
                  <a:ext cx="1004760" cy="94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>
                  <a:off x="5281920" y="4838040"/>
                  <a:ext cx="775080" cy="35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559480" y="48848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727360"/>
              <a:ext cx="4946040" cy="929880"/>
              <a:chOff x="0" y="2727360"/>
              <a:chExt cx="4946040" cy="92988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960280"/>
                <a:ext cx="4271400" cy="664560"/>
              </a:xfrm>
              <a:prstGeom prst="rect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3950640" y="2727360"/>
                <a:ext cx="995400" cy="929880"/>
                <a:chOff x="3950640" y="2727360"/>
                <a:chExt cx="995400" cy="92988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3950640" y="2727360"/>
                  <a:ext cx="995400" cy="929880"/>
                  <a:chOff x="3950640" y="2727360"/>
                  <a:chExt cx="995400" cy="9298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950640" y="2727360"/>
                    <a:ext cx="99540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da62"/>
                      </a:gs>
                      <a:gs pos="100000">
                        <a:srgbClr val="2a41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>
                    <a:off x="4064400" y="2742480"/>
                    <a:ext cx="76788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da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4248720" y="285516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0" y="3733560"/>
              <a:ext cx="5582520" cy="936360"/>
              <a:chOff x="0" y="3733560"/>
              <a:chExt cx="5582520" cy="9363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993120"/>
                <a:ext cx="5187600" cy="666720"/>
              </a:xfrm>
              <a:prstGeom prst="rect">
                <a:avLst/>
              </a:prstGeom>
              <a:gradFill rotWithShape="0">
                <a:gsLst>
                  <a:gs pos="0">
                    <a:srgbClr val="6b8f2b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4581000" y="3733560"/>
                <a:ext cx="1001520" cy="936360"/>
                <a:chOff x="4581000" y="3733560"/>
                <a:chExt cx="1001520" cy="93636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4581000" y="3733560"/>
                  <a:ext cx="1001520" cy="936360"/>
                  <a:chOff x="4581000" y="3733560"/>
                  <a:chExt cx="1001520" cy="9363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581000" y="3733560"/>
                    <a:ext cx="1001520" cy="93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b8f2b"/>
                      </a:gs>
                      <a:gs pos="100000">
                        <a:srgbClr val="19220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未知"/>
                  <p:cNvSpPr/>
                  <p:nvPr/>
                </p:nvSpPr>
                <p:spPr>
                  <a:xfrm>
                    <a:off x="4695480" y="3749040"/>
                    <a:ext cx="77256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8f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947480" y="378360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"/>
            <p:cNvGrpSpPr/>
            <p:nvPr/>
          </p:nvGrpSpPr>
          <p:grpSpPr>
            <a:xfrm>
              <a:off x="0" y="1663560"/>
              <a:ext cx="4379040" cy="926640"/>
              <a:chOff x="0" y="1663560"/>
              <a:chExt cx="4379040" cy="92664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917720"/>
                <a:ext cx="3879000" cy="665640"/>
              </a:xfrm>
              <a:prstGeom prst="rect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24926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3369960" y="1663560"/>
                <a:ext cx="1009080" cy="926640"/>
                <a:chOff x="3369960" y="1663560"/>
                <a:chExt cx="1009080" cy="92664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3369960" y="1663560"/>
                  <a:ext cx="1009080" cy="926640"/>
                  <a:chOff x="3369960" y="1663560"/>
                  <a:chExt cx="1009080" cy="9266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3369960" y="1663560"/>
                    <a:ext cx="1009080" cy="92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68b30"/>
                      </a:gs>
                      <a:gs pos="100000">
                        <a:srgbClr val="5936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未知"/>
                  <p:cNvSpPr/>
                  <p:nvPr/>
                </p:nvSpPr>
                <p:spPr>
                  <a:xfrm>
                    <a:off x="3485160" y="1678680"/>
                    <a:ext cx="77832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8b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3704400" y="176652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04920" y="2057400"/>
              <a:ext cx="29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920" y="3135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600" y="414180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880" y="522576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1752480"/>
              <a:ext cx="2057400" cy="1752480"/>
            </a:xfrm>
            <a:prstGeom prst="wedgeRoundRectCallout">
              <a:avLst>
                <a:gd name="adj1" fmla="val -43597"/>
                <a:gd name="adj2" fmla="val 89222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07:30:14Z</dcterms:created>
  <dc:creator>http://www.eeppt.com</dc:creator>
  <dc:description>ppt模板下载网站 http://www.eeppt.com</dc:description>
  <dc:language>en-US</dc:language>
  <cp:lastModifiedBy/>
  <dcterms:modified xsi:type="dcterms:W3CDTF">2015-06-14T06:53:32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