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1D9C5-4AF7-4E43-BD23-60D4437C7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EDE74-D700-408B-933F-27E89E01FB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0498-DE2E-466B-941E-C39F1D34A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E46E-A63B-43D5-A5BB-7C3686805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4C98-54B2-4EED-9568-FED3C5746F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2832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70080"/>
            <a:ext cx="264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BAE7B-FF89-4035-ADE1-2853EE559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0092-31F3-42D2-8283-F9FFF3DC7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6F74-94A9-4383-9714-6FB492956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B7C53-DE58-4C77-957C-6A6E66CEA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1C70-B644-415B-9B54-C06CB5919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7008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976F9-4FB4-4851-B7ED-981AB9315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40640"/>
            <a:ext cx="7391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28320"/>
            <a:ext cx="40158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7008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0007-8503-40A5-9AE0-0EA12BE47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5560" y="360360"/>
            <a:ext cx="8497800" cy="7192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228320"/>
            <a:ext cx="82296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943240" y="653688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29714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1FFA-5B5F-43B2-B683-61A1A8BC0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19280"/>
            <a:ext cx="328680" cy="36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8680" y="357120"/>
            <a:ext cx="328680" cy="362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57360" y="0"/>
            <a:ext cx="328320" cy="361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57360" y="361800"/>
            <a:ext cx="328320" cy="36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28680" y="719280"/>
            <a:ext cx="328680" cy="361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143000" y="628560"/>
            <a:ext cx="8012160" cy="2571840"/>
            <a:chOff x="1143000" y="628560"/>
            <a:chExt cx="8012160" cy="2571840"/>
          </a:xfrm>
        </p:grpSpPr>
        <p:sp>
          <p:nvSpPr>
            <p:cNvPr id="47" name=""/>
            <p:cNvSpPr/>
            <p:nvPr/>
          </p:nvSpPr>
          <p:spPr>
            <a:xfrm>
              <a:off x="1716120" y="628560"/>
              <a:ext cx="7439040" cy="253368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143000" y="2286000"/>
              <a:ext cx="914400" cy="91440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130400" y="3141720"/>
            <a:ext cx="8013600" cy="574560"/>
          </a:xfrm>
          <a:prstGeom prst="rect">
            <a:avLst/>
          </a:prstGeom>
          <a:solidFill>
            <a:srgbClr val="0007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3120" y="2521080"/>
            <a:ext cx="576360" cy="641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16120" y="628560"/>
            <a:ext cx="566640" cy="636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8080" y="0"/>
            <a:ext cx="585720" cy="6350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1320" y="628560"/>
            <a:ext cx="585720" cy="631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1560" y="1262160"/>
            <a:ext cx="574560" cy="625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1263600"/>
            <a:ext cx="566640" cy="622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3120" y="1886040"/>
            <a:ext cx="576360" cy="644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1560" y="1886040"/>
            <a:ext cx="576000" cy="644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529000"/>
            <a:ext cx="574560" cy="633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191120" y="5410080"/>
            <a:ext cx="1294920" cy="696600"/>
            <a:chOff x="4191120" y="5410080"/>
            <a:chExt cx="1294920" cy="696600"/>
          </a:xfrm>
        </p:grpSpPr>
        <p:sp>
          <p:nvSpPr>
            <p:cNvPr id="61" name=""/>
            <p:cNvSpPr/>
            <p:nvPr/>
          </p:nvSpPr>
          <p:spPr>
            <a:xfrm>
              <a:off x="4191120" y="5586120"/>
              <a:ext cx="129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798"/>
                  </a:solidFill>
                  <a:latin typeface="Arial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5400000">
              <a:off x="4690080" y="5030280"/>
              <a:ext cx="272880" cy="103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jiaoyu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120" y="1800000"/>
            <a:ext cx="6629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PowerPoint</a:t>
            </a:r>
            <a:br>
              <a:rPr sz="2400"/>
            </a:b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7000" spc="-1" strike="noStrike">
                <a:solidFill>
                  <a:srgbClr val="ffffff"/>
                </a:solidFill>
                <a:latin typeface="Verdana"/>
              </a:rPr>
              <a:t>Template</a:t>
            </a:r>
            <a:endParaRPr b="1" i="1" lang="en-US" sz="7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76520" y="3276720"/>
            <a:ext cx="6324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57520" y="1474920"/>
            <a:ext cx="5786280" cy="5077800"/>
            <a:chOff x="1757520" y="1474920"/>
            <a:chExt cx="5786280" cy="5077800"/>
          </a:xfrm>
        </p:grpSpPr>
        <p:sp>
          <p:nvSpPr>
            <p:cNvPr id="251" name=""/>
            <p:cNvSpPr/>
            <p:nvPr/>
          </p:nvSpPr>
          <p:spPr>
            <a:xfrm>
              <a:off x="5672160" y="2334960"/>
              <a:ext cx="743040" cy="205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86600" y="4020840"/>
              <a:ext cx="1257120" cy="348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0040" y="6046560"/>
              <a:ext cx="1823760" cy="506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86120" y="4682880"/>
              <a:ext cx="1481040" cy="41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3770000">
              <a:off x="5219640" y="3912120"/>
              <a:ext cx="960120" cy="19188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20856000">
              <a:off x="3233520" y="3463560"/>
              <a:ext cx="1009800" cy="1728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172040" y="2157480"/>
              <a:ext cx="1702440" cy="1835640"/>
              <a:chOff x="4172040" y="2157480"/>
              <a:chExt cx="1702440" cy="1835640"/>
            </a:xfrm>
          </p:grpSpPr>
          <p:sp>
            <p:nvSpPr>
              <p:cNvPr id="258" name=""/>
              <p:cNvSpPr/>
              <p:nvPr/>
            </p:nvSpPr>
            <p:spPr>
              <a:xfrm rot="18394200">
                <a:off x="5346360" y="2369520"/>
                <a:ext cx="595440" cy="13176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4172040" y="2405520"/>
                <a:ext cx="1609560" cy="1587600"/>
                <a:chOff x="4172040" y="2405520"/>
                <a:chExt cx="1609560" cy="158760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172040" y="2405520"/>
                  <a:ext cx="1609560" cy="158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0c18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未知"/>
                <p:cNvSpPr/>
                <p:nvPr/>
              </p:nvSpPr>
              <p:spPr>
                <a:xfrm>
                  <a:off x="4356000" y="2431800"/>
                  <a:ext cx="1241640" cy="599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4258800" y="30963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581800" y="1474920"/>
              <a:ext cx="891720" cy="861480"/>
              <a:chOff x="5581800" y="1474920"/>
              <a:chExt cx="891720" cy="86148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5581800" y="1474920"/>
                <a:ext cx="871560" cy="861480"/>
                <a:chOff x="5581800" y="1474920"/>
                <a:chExt cx="871560" cy="8614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581800" y="1474920"/>
                  <a:ext cx="871560" cy="86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b33e7"/>
                    </a:gs>
                    <a:gs pos="100000">
                      <a:srgbClr val="0c1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未知"/>
                <p:cNvSpPr/>
                <p:nvPr/>
              </p:nvSpPr>
              <p:spPr>
                <a:xfrm>
                  <a:off x="5681160" y="1488960"/>
                  <a:ext cx="672480" cy="325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b33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" name=""/>
              <p:cNvSpPr/>
              <p:nvPr/>
            </p:nvSpPr>
            <p:spPr>
              <a:xfrm>
                <a:off x="5602320" y="18064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757520" y="2800080"/>
              <a:ext cx="1744560" cy="1790280"/>
              <a:chOff x="1757520" y="2800080"/>
              <a:chExt cx="1744560" cy="17902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1757520" y="2800080"/>
                <a:ext cx="1744560" cy="1790280"/>
                <a:chOff x="1757520" y="2800080"/>
                <a:chExt cx="1744560" cy="17902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1757520" y="2800080"/>
                  <a:ext cx="1744560" cy="179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496e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未知"/>
                <p:cNvSpPr/>
                <p:nvPr/>
              </p:nvSpPr>
              <p:spPr>
                <a:xfrm>
                  <a:off x="1956960" y="2829600"/>
                  <a:ext cx="1345680" cy="675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1851840" y="3594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513400" y="4060440"/>
              <a:ext cx="2013120" cy="1989000"/>
              <a:chOff x="5513400" y="4060440"/>
              <a:chExt cx="2013120" cy="198900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13400" y="4060440"/>
                <a:ext cx="2013120" cy="1989000"/>
                <a:chOff x="5513400" y="4060440"/>
                <a:chExt cx="2013120" cy="19890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5513400" y="4060440"/>
                  <a:ext cx="2013120" cy="198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536e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未知"/>
                <p:cNvSpPr/>
                <p:nvPr/>
              </p:nvSpPr>
              <p:spPr>
                <a:xfrm>
                  <a:off x="5743440" y="4093200"/>
                  <a:ext cx="1553040" cy="750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5801760" y="49222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"/>
          <p:cNvSpPr/>
          <p:nvPr/>
        </p:nvSpPr>
        <p:spPr>
          <a:xfrm>
            <a:off x="2286000" y="533520"/>
            <a:ext cx="65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教学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95280" y="1523880"/>
            <a:ext cx="7543800" cy="4495680"/>
            <a:chOff x="1295280" y="1523880"/>
            <a:chExt cx="7543800" cy="4495680"/>
          </a:xfrm>
        </p:grpSpPr>
        <p:sp>
          <p:nvSpPr>
            <p:cNvPr id="281" name="未知"/>
            <p:cNvSpPr/>
            <p:nvPr/>
          </p:nvSpPr>
          <p:spPr>
            <a:xfrm>
              <a:off x="144756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1b33e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429000" y="3836880"/>
              <a:ext cx="1981080" cy="2030400"/>
              <a:chOff x="3429000" y="3836880"/>
              <a:chExt cx="1981080" cy="2030400"/>
            </a:xfrm>
          </p:grpSpPr>
          <p:pic>
            <p:nvPicPr>
              <p:cNvPr id="2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2900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>
                <a:off x="3589200" y="383688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610080" y="384624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62736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19520" y="3906720"/>
                <a:ext cx="140976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523880" y="3473280"/>
              <a:ext cx="1676520" cy="1631880"/>
              <a:chOff x="1523880" y="3473280"/>
              <a:chExt cx="1676520" cy="1631880"/>
            </a:xfrm>
          </p:grpSpPr>
          <p:pic>
            <p:nvPicPr>
              <p:cNvPr id="2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3880" y="464184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>
                <a:off x="1743120" y="347328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760400" y="348120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774800" y="3493800"/>
                <a:ext cx="1266840" cy="1244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847880" y="3528720"/>
                <a:ext cx="1126800" cy="1009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1295280" y="2104920"/>
              <a:ext cx="1371600" cy="1204920"/>
              <a:chOff x="1295280" y="2104920"/>
              <a:chExt cx="1371600" cy="1204920"/>
            </a:xfrm>
          </p:grpSpPr>
          <p:pic>
            <p:nvPicPr>
              <p:cNvPr id="2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95280" y="2931840"/>
                <a:ext cx="13716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>
                <a:off x="1498320" y="210492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11280" y="21096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2244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57644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895480" y="1523880"/>
              <a:ext cx="1066680" cy="828720"/>
              <a:chOff x="2895480" y="1523880"/>
              <a:chExt cx="1066680" cy="828720"/>
            </a:xfrm>
          </p:grpSpPr>
          <p:pic>
            <p:nvPicPr>
              <p:cNvPr id="3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9548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309384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10356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109680" y="153324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146400" y="15523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16440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9560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2680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0680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72200" y="37335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798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523880"/>
            <a:ext cx="8076960" cy="4404960"/>
            <a:chOff x="609480" y="1523880"/>
            <a:chExt cx="8076960" cy="4404960"/>
          </a:xfrm>
        </p:grpSpPr>
        <p:sp>
          <p:nvSpPr>
            <p:cNvPr id="313" name=""/>
            <p:cNvSpPr/>
            <p:nvPr/>
          </p:nvSpPr>
          <p:spPr>
            <a:xfrm>
              <a:off x="2665440" y="2223000"/>
              <a:ext cx="3891600" cy="370584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1b33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3619800" y="3149640"/>
              <a:ext cx="1982520" cy="1995120"/>
              <a:chOff x="3619800" y="3149640"/>
              <a:chExt cx="1982520" cy="1995120"/>
            </a:xfrm>
          </p:grpSpPr>
          <p:sp>
            <p:nvSpPr>
              <p:cNvPr id="315" name=""/>
              <p:cNvSpPr/>
              <p:nvPr/>
            </p:nvSpPr>
            <p:spPr>
              <a:xfrm>
                <a:off x="3619800" y="3149640"/>
                <a:ext cx="1982520" cy="199512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>
                <a:off x="3846240" y="3182760"/>
                <a:ext cx="1529280" cy="7527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3951720" y="39333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4207680" y="1866960"/>
              <a:ext cx="660600" cy="615960"/>
              <a:chOff x="4207680" y="1866960"/>
              <a:chExt cx="660600" cy="61596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4207680" y="1866960"/>
                <a:ext cx="660600" cy="615960"/>
                <a:chOff x="4207680" y="1866960"/>
                <a:chExt cx="660600" cy="615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207680" y="1866960"/>
                  <a:ext cx="660600" cy="61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2b406b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未知"/>
                <p:cNvSpPr/>
                <p:nvPr/>
              </p:nvSpPr>
              <p:spPr>
                <a:xfrm>
                  <a:off x="4282920" y="1877040"/>
                  <a:ext cx="509760" cy="232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4360320" y="1961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566520" y="4938840"/>
              <a:ext cx="352080" cy="313920"/>
              <a:chOff x="3566520" y="4938840"/>
              <a:chExt cx="352080" cy="313920"/>
            </a:xfrm>
          </p:grpSpPr>
          <p:sp>
            <p:nvSpPr>
              <p:cNvPr id="324" name=""/>
              <p:cNvSpPr/>
              <p:nvPr/>
            </p:nvSpPr>
            <p:spPr>
              <a:xfrm rot="18226800">
                <a:off x="3594960" y="5097240"/>
                <a:ext cx="122760" cy="134280"/>
              </a:xfrm>
              <a:prstGeom prst="ellipse">
                <a:avLst/>
              </a:prstGeom>
              <a:gradFill rotWithShape="0">
                <a:gsLst>
                  <a:gs pos="0">
                    <a:srgbClr val="3366cc"/>
                  </a:gs>
                  <a:gs pos="100000">
                    <a:srgbClr val="21438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8226800">
                <a:off x="3767040" y="4960080"/>
                <a:ext cx="123120" cy="134280"/>
              </a:xfrm>
              <a:prstGeom prst="ellipse">
                <a:avLst/>
              </a:prstGeom>
              <a:gradFill rotWithShape="0">
                <a:gsLst>
                  <a:gs pos="0">
                    <a:srgbClr val="3366cc"/>
                  </a:gs>
                  <a:gs pos="100000">
                    <a:srgbClr val="21438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2958840" y="5211720"/>
              <a:ext cx="660600" cy="641160"/>
              <a:chOff x="2958840" y="5211720"/>
              <a:chExt cx="660600" cy="64116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2958840" y="5211720"/>
                <a:ext cx="660600" cy="641160"/>
                <a:chOff x="2958840" y="5211720"/>
                <a:chExt cx="660600" cy="6411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2958840" y="5211720"/>
                  <a:ext cx="66060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0c1831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>
                  <a:off x="3034080" y="5222160"/>
                  <a:ext cx="5097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3106080" y="53316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6193080" y="3149640"/>
              <a:ext cx="658080" cy="648720"/>
              <a:chOff x="6193080" y="3149640"/>
              <a:chExt cx="658080" cy="64872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6193080" y="3149640"/>
                <a:ext cx="658080" cy="648720"/>
                <a:chOff x="6193080" y="3149640"/>
                <a:chExt cx="658080" cy="6487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6193080" y="3149640"/>
                  <a:ext cx="658080" cy="64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c3e0fe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未知"/>
                <p:cNvSpPr/>
                <p:nvPr/>
              </p:nvSpPr>
              <p:spPr>
                <a:xfrm>
                  <a:off x="6268320" y="3160080"/>
                  <a:ext cx="507600" cy="244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6327000" y="323856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5602680" y="5216400"/>
              <a:ext cx="630000" cy="582120"/>
              <a:chOff x="5602680" y="5216400"/>
              <a:chExt cx="630000" cy="582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5602680" y="5216400"/>
                <a:ext cx="630000" cy="582120"/>
                <a:chOff x="5602680" y="5216400"/>
                <a:chExt cx="630000" cy="582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5602680" y="5216400"/>
                  <a:ext cx="630000" cy="582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50505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未知"/>
                <p:cNvSpPr/>
                <p:nvPr/>
              </p:nvSpPr>
              <p:spPr>
                <a:xfrm>
                  <a:off x="5674680" y="5225760"/>
                  <a:ext cx="486000" cy="219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>
                <a:off x="5745240" y="524736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2445120" y="3149640"/>
              <a:ext cx="660600" cy="641160"/>
              <a:chOff x="2445120" y="3149640"/>
              <a:chExt cx="660600" cy="64116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445120" y="3149640"/>
                <a:ext cx="660600" cy="641160"/>
                <a:chOff x="2445120" y="3149640"/>
                <a:chExt cx="660600" cy="6411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2445120" y="3149640"/>
                  <a:ext cx="660600" cy="64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b33e7"/>
                    </a:gs>
                    <a:gs pos="100000">
                      <a:srgbClr val="0c1768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未知"/>
                <p:cNvSpPr/>
                <p:nvPr/>
              </p:nvSpPr>
              <p:spPr>
                <a:xfrm>
                  <a:off x="2520360" y="3160080"/>
                  <a:ext cx="509760" cy="241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1b33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2594160" y="322092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 rot="18226800">
              <a:off x="5532120" y="5064840"/>
              <a:ext cx="121320" cy="132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8226800">
              <a:off x="5384880" y="4922280"/>
              <a:ext cx="121680" cy="132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676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156120" y="3550320"/>
              <a:ext cx="398520" cy="246240"/>
              <a:chOff x="3156120" y="3550320"/>
              <a:chExt cx="398520" cy="246240"/>
            </a:xfrm>
          </p:grpSpPr>
          <p:sp>
            <p:nvSpPr>
              <p:cNvPr id="349" name=""/>
              <p:cNvSpPr/>
              <p:nvPr/>
            </p:nvSpPr>
            <p:spPr>
              <a:xfrm rot="18226800">
                <a:off x="3184200" y="3571560"/>
                <a:ext cx="123480" cy="133920"/>
              </a:xfrm>
              <a:prstGeom prst="ellipse">
                <a:avLst/>
              </a:prstGeom>
              <a:gradFill rotWithShape="0">
                <a:gsLst>
                  <a:gs pos="0">
                    <a:srgbClr val="1b33e7"/>
                  </a:gs>
                  <a:gs pos="100000">
                    <a:srgbClr val="0f1d8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8226800">
                <a:off x="3403080" y="3641040"/>
                <a:ext cx="123120" cy="133920"/>
              </a:xfrm>
              <a:prstGeom prst="ellipse">
                <a:avLst/>
              </a:prstGeom>
              <a:gradFill rotWithShape="0">
                <a:gsLst>
                  <a:gs pos="0">
                    <a:srgbClr val="1b33e7"/>
                  </a:gs>
                  <a:gs pos="100000">
                    <a:srgbClr val="0d186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478400" y="2594160"/>
              <a:ext cx="178920" cy="438840"/>
              <a:chOff x="4478400" y="2594160"/>
              <a:chExt cx="178920" cy="438840"/>
            </a:xfrm>
          </p:grpSpPr>
          <p:sp>
            <p:nvSpPr>
              <p:cNvPr id="352" name=""/>
              <p:cNvSpPr/>
              <p:nvPr/>
            </p:nvSpPr>
            <p:spPr>
              <a:xfrm rot="18226800">
                <a:off x="4506480" y="2615400"/>
                <a:ext cx="122400" cy="1332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2e4573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8226800">
                <a:off x="4506480" y="2878200"/>
                <a:ext cx="122400" cy="133200"/>
              </a:xfrm>
              <a:prstGeom prst="ellipse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314a7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18226800">
              <a:off x="5916960" y="3594960"/>
              <a:ext cx="121680" cy="133200"/>
            </a:xfrm>
            <a:prstGeom prst="ellipse">
              <a:avLst/>
            </a:prstGeom>
            <a:gradFill rotWithShape="0">
              <a:gsLst>
                <a:gs pos="0">
                  <a:srgbClr val="b1d7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8226800">
              <a:off x="5678280" y="3710880"/>
              <a:ext cx="121680" cy="133200"/>
            </a:xfrm>
            <a:prstGeom prst="ellipse">
              <a:avLst/>
            </a:prstGeom>
            <a:gradFill rotWithShape="0">
              <a:gsLst>
                <a:gs pos="0">
                  <a:srgbClr val="b1d7fe"/>
                </a:gs>
                <a:gs pos="100000">
                  <a:srgbClr val="99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9480" y="329220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19800" y="152388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51160" y="33055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76320" y="542988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263280" y="5429880"/>
              <a:ext cx="183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7085880" y="617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6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7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7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93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98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0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12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13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16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1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25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1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4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47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48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51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60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66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69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78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098360" y="1828800"/>
            <a:ext cx="6056640" cy="407880"/>
            <a:chOff x="1098360" y="1828800"/>
            <a:chExt cx="6056640" cy="407880"/>
          </a:xfrm>
        </p:grpSpPr>
        <p:sp>
          <p:nvSpPr>
            <p:cNvPr id="491" name=""/>
            <p:cNvSpPr/>
            <p:nvPr/>
          </p:nvSpPr>
          <p:spPr>
            <a:xfrm>
              <a:off x="109836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52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86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8892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5" name=""/>
            <p:cNvCxnSpPr>
              <a:stCxn id="491" idx="3"/>
              <a:endCxn id="492" idx="1"/>
            </p:cNvCxnSpPr>
            <p:nvPr/>
          </p:nvCxnSpPr>
          <p:spPr>
            <a:xfrm>
              <a:off x="183456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2" idx="3"/>
              <a:endCxn id="493" idx="1"/>
            </p:cNvCxnSpPr>
            <p:nvPr/>
          </p:nvCxnSpPr>
          <p:spPr>
            <a:xfrm>
              <a:off x="358920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/>
            <p:nvPr/>
          </p:nvCxnSpPr>
          <p:spPr>
            <a:xfrm>
              <a:off x="533556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500" name="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a5792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b3cc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dcfe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aac6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508" name="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172f5e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511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66cc"/>
                  </a:gs>
                  <a:gs pos="100000">
                    <a:srgbClr val="a7bd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7bde8"/>
                  </a:gs>
                  <a:gs pos="100000">
                    <a:srgbClr val="33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66cc"/>
                </a:gs>
                <a:gs pos="100000">
                  <a:srgbClr val="b3c6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517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5c7b9a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519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875760" y="349596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bddd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875760" y="208044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cedfe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cfe6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未知"/>
          <p:cNvSpPr/>
          <p:nvPr/>
        </p:nvSpPr>
        <p:spPr>
          <a:xfrm>
            <a:off x="5073480" y="1219320"/>
            <a:ext cx="1467000" cy="11556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a1cffe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424320" y="2652840"/>
            <a:ext cx="2295360" cy="315576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5760"/>
              <a:gd name="textAreaBottom" fmla="*/ 3124440 h 3155760"/>
            </a:gdLst>
            <a:ahLst/>
            <a:rect l="textAreaLeft" t="textAreaTop" r="textAreaRight" b="textAreaBottom"/>
            <a:pathLst>
              <a:path w="21600" h="29695">
                <a:moveTo>
                  <a:pt x="1013" y="0"/>
                </a:moveTo>
                <a:arcTo wR="1013" hR="1013" stAng="16200000" swAng="-5400000"/>
                <a:lnTo>
                  <a:pt x="0" y="28682"/>
                </a:lnTo>
                <a:arcTo wR="1013" hR="1013" stAng="10800000" swAng="-5400000"/>
                <a:lnTo>
                  <a:pt x="20587" y="2969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657600" y="25146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4675"/>
              </a:gs>
              <a:gs pos="50000">
                <a:srgbClr val="6699ff"/>
              </a:gs>
              <a:gs pos="100000">
                <a:srgbClr val="2f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333400" y="2590920"/>
            <a:ext cx="7308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3742560" y="2581200"/>
            <a:ext cx="71640" cy="14436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34240" y="2151000"/>
            <a:ext cx="2295360" cy="315612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3156120"/>
              <a:gd name="textAreaBottom" fmla="*/ 3124800 h 3156120"/>
            </a:gdLst>
            <a:ahLst/>
            <a:rect l="textAreaLeft" t="textAreaTop" r="textAreaRight" b="textAreaBottom"/>
            <a:pathLst>
              <a:path w="21600" h="29699">
                <a:moveTo>
                  <a:pt x="1013" y="0"/>
                </a:moveTo>
                <a:arcTo wR="1013" hR="1013" stAng="16200000" swAng="-5400000"/>
                <a:lnTo>
                  <a:pt x="0" y="28686"/>
                </a:lnTo>
                <a:arcTo wR="1013" hR="1013" stAng="10800000" swAng="-5400000"/>
                <a:lnTo>
                  <a:pt x="20587" y="2969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49880" y="200808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7835040" y="2079720"/>
            <a:ext cx="7164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253200" y="2079720"/>
            <a:ext cx="71280" cy="1429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未知"/>
          <p:cNvSpPr/>
          <p:nvPr/>
        </p:nvSpPr>
        <p:spPr>
          <a:xfrm>
            <a:off x="2492280" y="1720800"/>
            <a:ext cx="1467000" cy="115740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88a6e0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913200" y="2486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27800" y="199080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914400" y="2914560"/>
            <a:ext cx="2295360" cy="3324240"/>
            <a:chOff x="914400" y="2914560"/>
            <a:chExt cx="2295360" cy="3324240"/>
          </a:xfrm>
        </p:grpSpPr>
        <p:sp>
          <p:nvSpPr>
            <p:cNvPr id="539" name=""/>
            <p:cNvSpPr/>
            <p:nvPr/>
          </p:nvSpPr>
          <p:spPr>
            <a:xfrm>
              <a:off x="914400" y="3082680"/>
              <a:ext cx="2295360" cy="31561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6120"/>
                <a:gd name="textAreaBottom" fmla="*/ 3124800 h 3156120"/>
              </a:gdLst>
              <a:ahLst/>
              <a:rect l="textAreaLeft" t="textAreaTop" r="textAreaRight" b="textAreaBottom"/>
              <a:pathLst>
                <a:path w="21600" h="29699">
                  <a:moveTo>
                    <a:pt x="1013" y="0"/>
                  </a:moveTo>
                  <a:arcTo wR="1013" hR="1013" stAng="16200000" swAng="-5400000"/>
                  <a:lnTo>
                    <a:pt x="0" y="28686"/>
                  </a:lnTo>
                  <a:arcTo wR="1013" hR="1013" stAng="10800000" swAng="-5400000"/>
                  <a:lnTo>
                    <a:pt x="20587" y="2969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30400" y="2940120"/>
              <a:ext cx="1863720" cy="28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274e"/>
                </a:gs>
                <a:gs pos="50000">
                  <a:srgbClr val="3366cc"/>
                </a:gs>
                <a:gs pos="100000">
                  <a:srgbClr val="1327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2813760" y="3011400"/>
              <a:ext cx="7164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1231200" y="3011400"/>
              <a:ext cx="73080" cy="1443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98600" y="2914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90720" y="334332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505320" y="28861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019920" y="235260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838080" y="231768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b33e7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066680" y="1981080"/>
            <a:ext cx="6781680" cy="4006440"/>
            <a:chOff x="1066680" y="1981080"/>
            <a:chExt cx="6781680" cy="4006440"/>
          </a:xfrm>
        </p:grpSpPr>
        <p:sp>
          <p:nvSpPr>
            <p:cNvPr id="551" name=""/>
            <p:cNvSpPr/>
            <p:nvPr/>
          </p:nvSpPr>
          <p:spPr>
            <a:xfrm>
              <a:off x="10666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1f7fe"/>
                </a:gs>
              </a:gsLst>
              <a:lin ang="5400000"/>
            </a:gradFill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2" name=""/>
            <p:cNvGraphicFramePr/>
            <p:nvPr/>
          </p:nvGraphicFramePr>
          <p:xfrm>
            <a:off x="1251360" y="2597400"/>
            <a:ext cx="2928600" cy="3281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5136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4" name=""/>
            <p:cNvSpPr/>
            <p:nvPr/>
          </p:nvSpPr>
          <p:spPr>
            <a:xfrm>
              <a:off x="1374840" y="198108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983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4120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19080" y="216576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d4e2fe"/>
                </a:gs>
              </a:gsLst>
              <a:lin ang="5400000"/>
            </a:gradFill>
            <a:ln w="25560">
              <a:solidFill>
                <a:srgbClr val="1b33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8" name=""/>
            <p:cNvGraphicFramePr/>
            <p:nvPr/>
          </p:nvGraphicFramePr>
          <p:xfrm>
            <a:off x="4704120" y="2597400"/>
            <a:ext cx="2928600" cy="328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04120" y="259740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4827600" y="198108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50720" y="210420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93600" y="210420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7009560" y="60958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1b33e7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50000">
                <a:srgbClr val="bcddfe"/>
              </a:gs>
              <a:gs pos="100000">
                <a:srgbClr val="99cc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569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99ff"/>
                    </a:gs>
                    <a:gs pos="100000">
                      <a:srgbClr val="4060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未知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576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577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4e68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82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83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b33e7"/>
                  </a:gs>
                  <a:gs pos="100000">
                    <a:srgbClr val="0d1a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未知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b33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88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66cc"/>
                    </a:gs>
                    <a:gs pos="100000">
                      <a:srgbClr val="0c18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未知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3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2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107" name="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17160" y="1905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28880" y="2819520"/>
            <a:ext cx="5081040" cy="568080"/>
            <a:chOff x="1928880" y="2819520"/>
            <a:chExt cx="5081040" cy="568080"/>
          </a:xfrm>
        </p:grpSpPr>
        <p:sp>
          <p:nvSpPr>
            <p:cNvPr id="111" name=""/>
            <p:cNvSpPr/>
            <p:nvPr/>
          </p:nvSpPr>
          <p:spPr>
            <a:xfrm>
              <a:off x="2209680" y="32734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928880" y="3129480"/>
              <a:ext cx="258480" cy="258120"/>
              <a:chOff x="1928880" y="3129480"/>
              <a:chExt cx="258480" cy="258120"/>
            </a:xfrm>
          </p:grpSpPr>
          <p:sp>
            <p:nvSpPr>
              <p:cNvPr id="113" name=""/>
              <p:cNvSpPr/>
              <p:nvPr/>
            </p:nvSpPr>
            <p:spPr>
              <a:xfrm rot="2700000">
                <a:off x="1966680" y="31672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18900000">
                <a:off x="1965960" y="3167280"/>
                <a:ext cx="182880" cy="182160"/>
              </a:xfrm>
              <a:prstGeom prst="rtTriangl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301644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28880" y="3736800"/>
            <a:ext cx="5081040" cy="568080"/>
            <a:chOff x="1928880" y="3736800"/>
            <a:chExt cx="5081040" cy="568080"/>
          </a:xfrm>
        </p:grpSpPr>
        <p:sp>
          <p:nvSpPr>
            <p:cNvPr id="117" name=""/>
            <p:cNvSpPr/>
            <p:nvPr/>
          </p:nvSpPr>
          <p:spPr>
            <a:xfrm>
              <a:off x="2209680" y="419076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928880" y="4046760"/>
              <a:ext cx="258480" cy="258120"/>
              <a:chOff x="1928880" y="4046760"/>
              <a:chExt cx="258480" cy="258120"/>
            </a:xfrm>
          </p:grpSpPr>
          <p:sp>
            <p:nvSpPr>
              <p:cNvPr id="119" name=""/>
              <p:cNvSpPr/>
              <p:nvPr/>
            </p:nvSpPr>
            <p:spPr>
              <a:xfrm rot="2700000">
                <a:off x="1966680" y="408456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rot="18900000">
                <a:off x="1965960" y="4084560"/>
                <a:ext cx="182880" cy="182160"/>
              </a:xfrm>
              <a:prstGeom prst="rtTriangl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301644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28880" y="4648320"/>
            <a:ext cx="5081040" cy="568080"/>
            <a:chOff x="1928880" y="4648320"/>
            <a:chExt cx="5081040" cy="568080"/>
          </a:xfrm>
        </p:grpSpPr>
        <p:sp>
          <p:nvSpPr>
            <p:cNvPr id="123" name=""/>
            <p:cNvSpPr/>
            <p:nvPr/>
          </p:nvSpPr>
          <p:spPr>
            <a:xfrm>
              <a:off x="2209680" y="51022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928880" y="4958280"/>
              <a:ext cx="258480" cy="258120"/>
              <a:chOff x="1928880" y="4958280"/>
              <a:chExt cx="258480" cy="258120"/>
            </a:xfrm>
          </p:grpSpPr>
          <p:sp>
            <p:nvSpPr>
              <p:cNvPr id="125" name=""/>
              <p:cNvSpPr/>
              <p:nvPr/>
            </p:nvSpPr>
            <p:spPr>
              <a:xfrm rot="2700000">
                <a:off x="1966680" y="49960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18900000">
                <a:off x="1965960" y="4996080"/>
                <a:ext cx="182880" cy="182160"/>
              </a:xfrm>
              <a:prstGeom prst="rtTriangl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01644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2437920" y="3319200"/>
            <a:ext cx="5410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2710080" y="5927760"/>
            <a:ext cx="30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195640" y="2131920"/>
            <a:ext cx="568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b33e7"/>
                    </a:gs>
                    <a:gs pos="100000">
                      <a:srgbClr val="99ccff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798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b33e7"/>
                  </a:gs>
                  <a:gs pos="100000">
                    <a:srgbClr val="99ccff"/>
                  </a:gs>
                </a:gsLst>
                <a:lin ang="10800000"/>
              </a:gradFill>
              <a:effectLst>
                <a:outerShdw dist="53966" dir="2700000" blurRad="0" rotWithShape="0">
                  <a:srgbClr val="00079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830240" y="6172200"/>
            <a:ext cx="60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2E85-5E94-4829-8C1A-21351CC937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8840" y="1544760"/>
            <a:ext cx="7824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798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99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1b33e7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1b33e7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1b33e7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1b33e7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dbdfe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edfe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7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38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627b"/>
                  </a:gs>
                  <a:gs pos="100000">
                    <a:srgbClr val="99cc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d0e7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b33e7"/>
                </a:gs>
                <a:gs pos="100000">
                  <a:srgbClr val="0c17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aeb7f5"/>
                </a:gs>
                <a:gs pos="100000">
                  <a:srgbClr val="1b33e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1b33e7">
                    <a:alpha val="48235"/>
                  </a:srgbClr>
                </a:gs>
                <a:gs pos="100000">
                  <a:srgbClr val="1528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1b33e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3408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48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e6e6e6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3446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b33e7"/>
                </a:gs>
                <a:gs pos="100000">
                  <a:srgbClr val="080f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2436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1123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c176a"/>
                </a:gs>
                <a:gs pos="50000">
                  <a:srgbClr val="1b33e7"/>
                </a:gs>
                <a:gs pos="100000">
                  <a:srgbClr val="0c17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dcdcd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dcdcd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085880" y="60199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1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2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fdfdf"/>
                  </a:gs>
                  <a:gs pos="100000">
                    <a:srgbClr val="b2b2b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cc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6d89"/>
                  </a:gs>
                  <a:gs pos="50000">
                    <a:srgbClr val="99ccff"/>
                  </a:gs>
                  <a:gs pos="100000">
                    <a:srgbClr val="526d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798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30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50000">
                  <a:srgbClr val="6699ff"/>
                </a:gs>
                <a:gs pos="100000">
                  <a:srgbClr val="2f46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172f5e"/>
                </a:gs>
                <a:gs pos="50000">
                  <a:srgbClr val="3366cc"/>
                </a:gs>
                <a:gs pos="100000">
                  <a:srgbClr val="172f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496eb8"/>
                </a:gs>
                <a:gs pos="50000">
                  <a:srgbClr val="6699ff"/>
                </a:gs>
                <a:gs pos="100000">
                  <a:srgbClr val="496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e93b8"/>
                </a:gs>
                <a:gs pos="50000">
                  <a:srgbClr val="99ccff"/>
                </a:gs>
                <a:gs pos="100000">
                  <a:srgbClr val="6e93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244993"/>
                </a:gs>
                <a:gs pos="50000">
                  <a:srgbClr val="3366cc"/>
                </a:gs>
                <a:gs pos="100000">
                  <a:srgbClr val="2449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600200"/>
            <a:ext cx="5880240" cy="4495680"/>
          </a:xfrm>
          <a:prstGeom prst="rightArrow">
            <a:avLst>
              <a:gd name="adj1" fmla="val 79306"/>
              <a:gd name="adj2" fmla="val 32396"/>
            </a:avLst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ff"/>
              </a:gs>
              <a:gs pos="50000">
                <a:srgbClr val="93b7fe"/>
              </a:gs>
              <a:gs pos="100000">
                <a:srgbClr val="6699ff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1b33e7"/>
              </a:gs>
              <a:gs pos="50000">
                <a:srgbClr val="5f70ed"/>
              </a:gs>
              <a:gs pos="100000">
                <a:srgbClr val="1b33e7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000798"/>
              </a:gs>
              <a:gs pos="50000">
                <a:srgbClr val="4c51b6"/>
              </a:gs>
              <a:gs pos="100000">
                <a:srgbClr val="000798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http://www.eeppt.com</dc:creator>
  <dc:description>ppt模板下载网站 http://www.eeppt.com</dc:description>
  <dc:language>en-US</dc:language>
  <cp:lastModifiedBy/>
  <dcterms:modified xsi:type="dcterms:W3CDTF">2015-06-14T01:07:53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