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BDB7-4BE3-4068-BC97-0126160A9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F96B-DF6D-436A-A104-9A9FFC30E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8EEB-4387-4C8E-9F2B-8B4BC64FF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1B85-83CC-4D12-9DEA-4539C3F9C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980720" y="350640"/>
            <a:ext cx="6782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3409-D7F0-4C01-AFB4-18A726B5B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6D66-52EA-4FFC-8760-5B50BE1CE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227B-5EC1-4651-A63D-57A4E9869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DE98-CB19-49C1-B471-CE66023BA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80720" y="350640"/>
            <a:ext cx="6782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E925-2646-4C2E-B92E-A773F1D1B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AE6E-D1A0-4728-A450-3DE8FB492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FFC4-3D5F-4DC5-88EA-D3CFC1169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FE85-6887-408A-A46E-5064E3BC7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8400" y="12600"/>
          <a:ext cx="9063000" cy="11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0" y="12600"/>
                    <a:ext cx="90630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31680" y="1197000"/>
            <a:ext cx="9112320" cy="5661000"/>
            <a:chOff x="31680" y="1197000"/>
            <a:chExt cx="9112320" cy="5661000"/>
          </a:xfrm>
        </p:grpSpPr>
        <p:sp>
          <p:nvSpPr>
            <p:cNvPr id="3" name=""/>
            <p:cNvSpPr/>
            <p:nvPr/>
          </p:nvSpPr>
          <p:spPr>
            <a:xfrm>
              <a:off x="31680" y="1197000"/>
              <a:ext cx="250920" cy="5661000"/>
            </a:xfrm>
            <a:prstGeom prst="rect">
              <a:avLst/>
            </a:prstGeom>
            <a:solidFill>
              <a:srgbClr val="3a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3080" y="1197000"/>
              <a:ext cx="250920" cy="5661000"/>
            </a:xfrm>
            <a:prstGeom prst="rect">
              <a:avLst/>
            </a:prstGeom>
            <a:solidFill>
              <a:srgbClr val="3a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aa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7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95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1"/>
          </p:nvPr>
        </p:nvSpPr>
        <p:spPr>
          <a:xfrm>
            <a:off x="579096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456840" y="6480000"/>
            <a:ext cx="762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AE7-030C-45B4-9820-92CAE16F702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3aabc6"/>
              </a:gs>
              <a:gs pos="100000">
                <a:srgbClr val="1a4e5b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9840" y="2205000"/>
          <a:ext cx="9010800" cy="28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2205000"/>
                    <a:ext cx="9010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84240" y="5084640"/>
            <a:ext cx="9059760" cy="1773360"/>
            <a:chOff x="84240" y="5084640"/>
            <a:chExt cx="9059760" cy="1773360"/>
          </a:xfrm>
        </p:grpSpPr>
        <p:sp>
          <p:nvSpPr>
            <p:cNvPr id="56" name=""/>
            <p:cNvSpPr/>
            <p:nvPr/>
          </p:nvSpPr>
          <p:spPr>
            <a:xfrm>
              <a:off x="84240" y="5084640"/>
              <a:ext cx="8994600" cy="1773360"/>
            </a:xfrm>
            <a:prstGeom prst="rect">
              <a:avLst/>
            </a:prstGeom>
            <a:solidFill>
              <a:srgbClr val="6d7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6840" y="5084640"/>
              <a:ext cx="9047160" cy="299880"/>
            </a:xfrm>
            <a:prstGeom prst="rect">
              <a:avLst/>
            </a:prstGeom>
            <a:gradFill rotWithShape="0">
              <a:gsLst>
                <a:gs pos="0">
                  <a:srgbClr val="4b5284"/>
                </a:gs>
                <a:gs pos="100000">
                  <a:srgbClr val="6d77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9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95672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744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65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2640" y="4491000"/>
            <a:ext cx="22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an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d77b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7"/>
                </a:solidFill>
                <a:latin typeface="Arial"/>
                <a:ea typeface="宋体"/>
              </a:rPr>
              <a:t>蓝</a:t>
            </a:r>
            <a:r>
              <a:rPr b="1" lang="en-US" sz="3600" spc="-1" strike="noStrike">
                <a:solidFill>
                  <a:srgbClr val="ffffe7"/>
                </a:solidFill>
                <a:latin typeface="Arial"/>
              </a:rPr>
              <a:t>色培训</a:t>
            </a:r>
            <a:r>
              <a:rPr b="1" lang="zh-CN" sz="3600" spc="-1" strike="noStrike">
                <a:solidFill>
                  <a:srgbClr val="ffffe7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e7"/>
                </a:solidFill>
                <a:latin typeface="Arial"/>
              </a:rPr>
              <a:t>模板下载</a:t>
            </a:r>
            <a:endParaRPr b="1" lang="en-US" sz="36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d7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95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959a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959a1">
                    <a:alpha val="0"/>
                  </a:srgbClr>
                </a:gs>
                <a:gs pos="100000">
                  <a:srgbClr val="6a3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aabc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aabc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f5c6a"/>
                </a:gs>
                <a:gs pos="50000">
                  <a:srgbClr val="3aabc6"/>
                </a:gs>
                <a:gs pos="100000">
                  <a:srgbClr val="1f5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aabc6">
                    <a:alpha val="0"/>
                  </a:srgbClr>
                </a:gs>
                <a:gs pos="100000">
                  <a:srgbClr val="246c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77b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23658"/>
                </a:gs>
                <a:gs pos="100000">
                  <a:srgbClr val="6d77b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a4066"/>
                </a:gs>
                <a:gs pos="50000">
                  <a:srgbClr val="6d77bf"/>
                </a:gs>
                <a:gs pos="100000">
                  <a:srgbClr val="3a4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0"/>
                  </a:srgbClr>
                </a:gs>
                <a:gs pos="100000">
                  <a:srgbClr val="444b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8320" y="1371600"/>
            <a:ext cx="5241600" cy="4889160"/>
            <a:chOff x="1768320" y="1371600"/>
            <a:chExt cx="5241600" cy="4889160"/>
          </a:xfrm>
        </p:grpSpPr>
        <p:sp>
          <p:nvSpPr>
            <p:cNvPr id="307" name=""/>
            <p:cNvSpPr/>
            <p:nvPr/>
          </p:nvSpPr>
          <p:spPr>
            <a:xfrm rot="13770000">
              <a:off x="4824720" y="3742560"/>
              <a:ext cx="931680" cy="180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856000">
              <a:off x="2968200" y="3302640"/>
              <a:ext cx="949680" cy="167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8394200">
              <a:off x="4948920" y="2239200"/>
              <a:ext cx="579240" cy="124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852360" y="2272680"/>
              <a:ext cx="1515600" cy="1544760"/>
              <a:chOff x="3852360" y="2272680"/>
              <a:chExt cx="1515600" cy="15447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3852360" y="2272680"/>
                <a:ext cx="1515600" cy="1544760"/>
                <a:chOff x="3852360" y="2272680"/>
                <a:chExt cx="1515600" cy="1544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852360" y="2272680"/>
                  <a:ext cx="1515600" cy="154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aabc6"/>
                    </a:gs>
                    <a:gs pos="100000">
                      <a:srgbClr val="0e29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4025520" y="2298240"/>
                  <a:ext cx="1169280" cy="582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aab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892680" y="294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155200" y="1371600"/>
              <a:ext cx="909360" cy="836640"/>
              <a:chOff x="5155200" y="1371600"/>
              <a:chExt cx="909360" cy="8366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178240" y="1371600"/>
                <a:ext cx="820440" cy="836640"/>
                <a:chOff x="5178240" y="1371600"/>
                <a:chExt cx="820440" cy="836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178240" y="1371600"/>
                  <a:ext cx="820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1a1c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5271840" y="1385280"/>
                  <a:ext cx="632880" cy="31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5155200" y="16930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768320" y="2594520"/>
              <a:ext cx="1641960" cy="1737720"/>
              <a:chOff x="1768320" y="2594520"/>
              <a:chExt cx="1641960" cy="17377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68320" y="2594520"/>
                <a:ext cx="1641960" cy="1737720"/>
                <a:chOff x="1768320" y="2594520"/>
                <a:chExt cx="1641960" cy="1737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768320" y="2594520"/>
                  <a:ext cx="1641960" cy="173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a16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1955880" y="2623320"/>
                  <a:ext cx="1266480" cy="655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811520" y="33656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115240" y="3881880"/>
              <a:ext cx="1894680" cy="1931040"/>
              <a:chOff x="5115240" y="3881880"/>
              <a:chExt cx="1894680" cy="19310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115240" y="3881880"/>
                <a:ext cx="1894680" cy="1931040"/>
                <a:chOff x="5115240" y="3881880"/>
                <a:chExt cx="1894680" cy="1931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115240" y="3881880"/>
                  <a:ext cx="1894680" cy="1931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562d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331600" y="3913920"/>
                  <a:ext cx="1461600" cy="728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959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339520" y="47185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957680" y="4396680"/>
              <a:ext cx="133380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720" y="3820320"/>
              <a:ext cx="133524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1320" y="5812920"/>
              <a:ext cx="133380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04960" y="2272680"/>
              <a:ext cx="611640" cy="223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43560" y="1828800"/>
            <a:ext cx="7282440" cy="3770280"/>
            <a:chOff x="943560" y="1828800"/>
            <a:chExt cx="7282440" cy="3770280"/>
          </a:xfrm>
        </p:grpSpPr>
        <p:sp>
          <p:nvSpPr>
            <p:cNvPr id="337" name=""/>
            <p:cNvSpPr/>
            <p:nvPr/>
          </p:nvSpPr>
          <p:spPr>
            <a:xfrm rot="17973000">
              <a:off x="47523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3465600">
              <a:off x="48027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4368800">
              <a:off x="35838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7534800">
              <a:off x="35456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848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29746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56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470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579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614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70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435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816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671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722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912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22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866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357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404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959a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466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33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a959a1">
                    <a:alpha val="0"/>
                  </a:srgbClr>
                </a:gs>
                <a:gs pos="100000">
                  <a:srgbClr val="6a3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211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942000" y="3087720"/>
              <a:ext cx="1290600" cy="1278000"/>
              <a:chOff x="3942000" y="3087720"/>
              <a:chExt cx="1290600" cy="1278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9420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585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718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417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2051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0" y="601992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4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87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>
                <a:stCxn id="503" idx="3"/>
                <a:endCxn id="50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0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d77bf"/>
                  </a:gs>
                  <a:gs pos="100000">
                    <a:srgbClr val="4b528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b4db"/>
                  </a:gs>
                  <a:gs pos="50000">
                    <a:srgbClr val="6d77bf">
                      <a:alpha val="0"/>
                    </a:srgbClr>
                  </a:gs>
                  <a:gs pos="100000">
                    <a:srgbClr val="aeb4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2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86ba"/>
                  </a:gs>
                  <a:gs pos="100000">
                    <a:srgbClr val="a959a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959a1">
                      <a:alpha val="0"/>
                    </a:srgbClr>
                  </a:gs>
                  <a:gs pos="100000">
                    <a:srgbClr val="d9b7d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1c8d9"/>
                  </a:gs>
                  <a:gs pos="100000">
                    <a:srgbClr val="3aabc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aabc6">
                      <a:alpha val="0"/>
                    </a:srgbClr>
                  </a:gs>
                  <a:gs pos="100000">
                    <a:srgbClr val="9ed5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8080" y="237636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48fbf"/>
                </a:gs>
                <a:gs pos="100000">
                  <a:srgbClr val="a959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14873"/>
                </a:gs>
                <a:gs pos="100000">
                  <a:srgbClr val="6d77b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8a5337"/>
                </a:gs>
                <a:gs pos="100000">
                  <a:srgbClr val="ff996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8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abc6"/>
                  </a:gs>
                  <a:gs pos="100000">
                    <a:srgbClr val="236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100000">
                    <a:srgbClr val="3aabc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100000">
                    <a:srgbClr val="3aabc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934320" y="609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9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77bf"/>
                </a:gs>
                <a:gs pos="50000">
                  <a:srgbClr val="daddee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a160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abc6"/>
                      </a:gs>
                      <a:gs pos="100000">
                        <a:srgbClr val="0e292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aabc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562d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0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959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77bf"/>
                      </a:gs>
                      <a:gs pos="100000">
                        <a:srgbClr val="373c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6d77b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fee8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99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6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dfe1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d77b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1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59a1"/>
                </a:gs>
                <a:gs pos="100000">
                  <a:srgbClr val="ebdae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a959a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6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aabc6"/>
                </a:gs>
                <a:gs pos="100000">
                  <a:srgbClr val="d4ec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3aabc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752480" y="304812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d77bf"/>
                    </a:gs>
                    <a:gs pos="100000">
                      <a:srgbClr val="a959a1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d77bf"/>
                  </a:gs>
                  <a:gs pos="100000">
                    <a:srgbClr val="a959a1"/>
                  </a:gs>
                </a:gsLst>
                <a:lin ang="10800000"/>
              </a:gradFill>
              <a:effectLst>
                <a:outerShdw dist="53966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3C13-5770-40E3-AA7D-2A4A071EA8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596600"/>
            <a:ext cx="75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a95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 the [View] menu, point to [Master], and then click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[Slide Master]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[Notes Master]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9d"/>
              </a:gs>
              <a:gs pos="100000">
                <a:srgbClr val="ff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2b4d"/>
                    </a:gs>
                    <a:gs pos="100000">
                      <a:srgbClr val="a959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d8b4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236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bcee7"/>
                  </a:gs>
                  <a:gs pos="100000">
                    <a:srgbClr val="6d77b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48235"/>
                    </a:srgbClr>
                  </a:gs>
                  <a:gs pos="100000">
                    <a:srgbClr val="565d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0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2c9e0"/>
              </a:gs>
              <a:gs pos="100000">
                <a:srgbClr val="a95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3a1e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a3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aabc6"/>
                </a:gs>
                <a:gs pos="100000">
                  <a:srgbClr val="133a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934320" y="609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sp>
          <p:nvSpPr>
            <p:cNvPr id="191" name=""/>
            <p:cNvSpPr/>
            <p:nvPr/>
          </p:nvSpPr>
          <p:spPr>
            <a:xfrm flipH="1" rot="16200000">
              <a:off x="2923920" y="3256560"/>
              <a:ext cx="46044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00000">
              <a:off x="5528520" y="320616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0800000">
              <a:off x="423864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06600" y="2209680"/>
              <a:ext cx="232596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38360" y="2344680"/>
              <a:ext cx="206064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8320"/>
              <a:ext cx="16588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9640" y="370836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9640" y="3208320"/>
              <a:ext cx="17290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9640" y="270972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3600" y="5062320"/>
              <a:ext cx="352404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76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76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76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2f"/>
                  </a:gs>
                  <a:gs pos="50000">
                    <a:srgbClr val="ff9966"/>
                  </a:gs>
                  <a:gs pos="100000">
                    <a:srgbClr val="7546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294a"/>
                  </a:gs>
                  <a:gs pos="50000">
                    <a:srgbClr val="a959a1"/>
                  </a:gs>
                  <a:gs pos="100000">
                    <a:srgbClr val="4d294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95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50000">
                    <a:srgbClr val="3aabc6"/>
                  </a:gs>
                  <a:gs pos="100000">
                    <a:srgbClr val="1a4e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658"/>
                  </a:gs>
                  <a:gs pos="50000">
                    <a:srgbClr val="6d77bf"/>
                  </a:gs>
                  <a:gs pos="100000">
                    <a:srgbClr val="3236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6d7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6e49"/>
                  </a:gs>
                  <a:gs pos="50000">
                    <a:srgbClr val="ff9966"/>
                  </a:gs>
                  <a:gs pos="100000">
                    <a:srgbClr val="b86e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a4074"/>
                  </a:gs>
                  <a:gs pos="50000">
                    <a:srgbClr val="a959a1"/>
                  </a:gs>
                  <a:gs pos="100000">
                    <a:srgbClr val="7a40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aa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97b8f"/>
                  </a:gs>
                  <a:gs pos="50000">
                    <a:srgbClr val="3aabc6"/>
                  </a:gs>
                  <a:gs pos="100000">
                    <a:srgbClr val="297b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e558a"/>
                  </a:gs>
                  <a:gs pos="50000">
                    <a:srgbClr val="6d77bf"/>
                  </a:gs>
                  <a:gs pos="100000">
                    <a:srgbClr val="4e55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959a1"/>
                </a:gs>
                <a:gs pos="100000">
                  <a:srgbClr val="b067a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462f"/>
                </a:gs>
                <a:gs pos="5000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959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aabc6"/>
                </a:gs>
                <a:gs pos="100000">
                  <a:srgbClr val="8ccddd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aab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6424c"/>
                  </a:gs>
                  <a:gs pos="50000">
                    <a:srgbClr val="3aabc6"/>
                  </a:gs>
                  <a:gs pos="100000">
                    <a:srgbClr val="1642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02:5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