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65F4-1401-4B68-9B63-D4A27A69D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660F-626C-4ACE-AAE8-4197DB05A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D0AB-72F5-4791-BAA5-2FC332CAB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63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736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9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63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736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9377-9D60-4A72-8B50-9C32CDC9D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850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F289-7479-444F-87DC-BF5BB468A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3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736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49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3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736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AFE5-B0C4-461C-B117-99349E56A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6BB8-4051-4581-AE67-FFD1644E0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B764-4869-4C27-8320-B6BFF523C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850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55E0-5077-409A-98A2-C7A673F8A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8838-3DC7-4B78-A965-D522872CF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E568-DCC5-4E58-9F61-AB462C07B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578A-21A4-4099-9936-30FFB49DB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0" y="4149720"/>
            <a:ext cx="9543960" cy="2708280"/>
          </a:xfrm>
          <a:custGeom>
            <a:avLst/>
            <a:gdLst/>
            <a:ahLst/>
            <a:rect l="l" t="t" r="r" b="b"/>
            <a:pathLst>
              <a:path w="6012" h="1706">
                <a:moveTo>
                  <a:pt x="5760" y="0"/>
                </a:moveTo>
                <a:cubicBezTo>
                  <a:pt x="5736" y="43"/>
                  <a:pt x="6012" y="1484"/>
                  <a:pt x="4332" y="1484"/>
                </a:cubicBezTo>
                <a:lnTo>
                  <a:pt x="0" y="1493"/>
                </a:lnTo>
                <a:lnTo>
                  <a:pt x="1" y="1706"/>
                </a:lnTo>
                <a:lnTo>
                  <a:pt x="5760" y="1671"/>
                </a:lnTo>
              </a:path>
            </a:pathLst>
          </a:custGeom>
          <a:gradFill rotWithShape="0">
            <a:gsLst>
              <a:gs pos="0">
                <a:srgbClr val="113f71"/>
              </a:gs>
              <a:gs pos="100000">
                <a:srgbClr val="a3b5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未知"/>
          <p:cNvSpPr/>
          <p:nvPr/>
        </p:nvSpPr>
        <p:spPr>
          <a:xfrm>
            <a:off x="0" y="5791320"/>
            <a:ext cx="9144000" cy="1093680"/>
          </a:xfrm>
          <a:custGeom>
            <a:avLst/>
            <a:gdLst/>
            <a:ahLst/>
            <a:rect l="l" t="t" r="r" b="b"/>
            <a:pathLst>
              <a:path w="5760" h="689">
                <a:moveTo>
                  <a:pt x="5754" y="0"/>
                </a:moveTo>
                <a:cubicBezTo>
                  <a:pt x="5730" y="0"/>
                  <a:pt x="5640" y="474"/>
                  <a:pt x="4722" y="486"/>
                </a:cubicBezTo>
                <a:lnTo>
                  <a:pt x="0" y="489"/>
                </a:lnTo>
                <a:lnTo>
                  <a:pt x="1" y="689"/>
                </a:lnTo>
                <a:lnTo>
                  <a:pt x="5760" y="657"/>
                </a:lnTo>
              </a:path>
            </a:pathLst>
          </a:custGeom>
          <a:gradFill rotWithShape="0">
            <a:gsLst>
              <a:gs pos="0">
                <a:srgbClr val="648b8c"/>
              </a:gs>
              <a:gs pos="100000">
                <a:srgbClr val="e6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584280"/>
            <a:ext cx="9144000" cy="1260360"/>
          </a:xfrm>
          <a:custGeom>
            <a:avLst/>
            <a:gdLst/>
            <a:ahLst/>
            <a:rect l="l" t="t" r="r" b="b"/>
            <a:pathLst>
              <a:path w="5760" h="794">
                <a:moveTo>
                  <a:pt x="0" y="96"/>
                </a:moveTo>
                <a:lnTo>
                  <a:pt x="0" y="776"/>
                </a:lnTo>
                <a:cubicBezTo>
                  <a:pt x="32" y="794"/>
                  <a:pt x="336" y="56"/>
                  <a:pt x="1600" y="88"/>
                </a:cubicBezTo>
                <a:lnTo>
                  <a:pt x="5760" y="88"/>
                </a:lnTo>
                <a:lnTo>
                  <a:pt x="5760" y="0"/>
                </a:lnTo>
                <a:lnTo>
                  <a:pt x="752" y="0"/>
                </a:lnTo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4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601164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13f71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3344400" y="6551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113f71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1321-7916-4CA5-AEB1-EE665C098B1A}" type="slidenum">
              <a:rPr b="1" lang="ko-KR" sz="1000" spc="-1" strike="noStrike">
                <a:solidFill>
                  <a:srgbClr val="113f71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0" y="0"/>
            <a:ext cx="9144000" cy="1168560"/>
          </a:xfrm>
          <a:custGeom>
            <a:avLst/>
            <a:gdLst/>
            <a:ahLst/>
            <a:rect l="l" t="t" r="r" b="b"/>
            <a:pathLst>
              <a:path w="5760" h="680">
                <a:moveTo>
                  <a:pt x="0" y="0"/>
                </a:moveTo>
                <a:lnTo>
                  <a:pt x="0" y="680"/>
                </a:lnTo>
                <a:cubicBezTo>
                  <a:pt x="240" y="520"/>
                  <a:pt x="472" y="312"/>
                  <a:pt x="1456" y="344"/>
                </a:cubicBezTo>
                <a:lnTo>
                  <a:pt x="5760" y="342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未知"/>
          <p:cNvSpPr/>
          <p:nvPr/>
        </p:nvSpPr>
        <p:spPr>
          <a:xfrm>
            <a:off x="3924360" y="5157720"/>
            <a:ext cx="1368360" cy="1368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94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5589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264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未知"/>
          <p:cNvSpPr/>
          <p:nvPr/>
        </p:nvSpPr>
        <p:spPr>
          <a:xfrm>
            <a:off x="5292720" y="6093000"/>
            <a:ext cx="216000" cy="21564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294e5e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cccc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13f71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13f71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13f71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2643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蓝色培训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演示模板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未知"/>
          <p:cNvSpPr/>
          <p:nvPr/>
        </p:nvSpPr>
        <p:spPr>
          <a:xfrm>
            <a:off x="2635200" y="294012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94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6" name="未知"/>
          <p:cNvSpPr/>
          <p:nvPr/>
        </p:nvSpPr>
        <p:spPr>
          <a:xfrm rot="7200000">
            <a:off x="4326480" y="1859760"/>
            <a:ext cx="136548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1966b3"/>
              </a:gs>
              <a:gs pos="100000">
                <a:srgbClr val="0b2f52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63280" y="1603080"/>
            <a:ext cx="2482920" cy="2629800"/>
            <a:chOff x="2663280" y="1603080"/>
            <a:chExt cx="2482920" cy="2629800"/>
          </a:xfrm>
        </p:grpSpPr>
        <p:sp>
          <p:nvSpPr>
            <p:cNvPr id="228" name=""/>
            <p:cNvSpPr/>
            <p:nvPr/>
          </p:nvSpPr>
          <p:spPr>
            <a:xfrm rot="12600000">
              <a:off x="2717280" y="330984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19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 rot="7200000">
              <a:off x="3112560" y="251460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19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 rot="7200000">
              <a:off x="4185720" y="158760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19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31" name="未知"/>
          <p:cNvSpPr/>
          <p:nvPr/>
        </p:nvSpPr>
        <p:spPr>
          <a:xfrm rot="14400000">
            <a:off x="4440600" y="3713400"/>
            <a:ext cx="136512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648b8c"/>
              </a:gs>
              <a:gs pos="100000">
                <a:srgbClr val="2e404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76240" y="2490840"/>
            <a:ext cx="2172960" cy="2759400"/>
            <a:chOff x="4476240" y="2490840"/>
            <a:chExt cx="2172960" cy="2759400"/>
          </a:xfrm>
        </p:grpSpPr>
        <p:sp>
          <p:nvSpPr>
            <p:cNvPr id="233" name=""/>
            <p:cNvSpPr/>
            <p:nvPr/>
          </p:nvSpPr>
          <p:spPr>
            <a:xfrm rot="19800000">
              <a:off x="4530600" y="2809440"/>
              <a:ext cx="1438200" cy="603360"/>
            </a:xfrm>
            <a:prstGeom prst="triangle">
              <a:avLst>
                <a:gd name="adj" fmla="val 50000"/>
              </a:avLst>
            </a:prstGeom>
            <a:solidFill>
              <a:srgbClr val="64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 rot="14400000">
              <a:off x="4920480" y="3402720"/>
              <a:ext cx="150480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64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 rot="14400000">
              <a:off x="5743440" y="415728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64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627280" y="4145040"/>
            <a:ext cx="2493360" cy="1395000"/>
            <a:chOff x="2627280" y="4145040"/>
            <a:chExt cx="2493360" cy="1395000"/>
          </a:xfrm>
        </p:grpSpPr>
        <p:sp>
          <p:nvSpPr>
            <p:cNvPr id="237" name="未知"/>
            <p:cNvSpPr/>
            <p:nvPr/>
          </p:nvSpPr>
          <p:spPr>
            <a:xfrm>
              <a:off x="2627280" y="4145040"/>
              <a:ext cx="581760" cy="110124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4106880" y="4526280"/>
              <a:ext cx="1387080" cy="640440"/>
            </a:xfrm>
            <a:prstGeom prst="triangle">
              <a:avLst>
                <a:gd name="adj" fmla="val 50000"/>
              </a:avLst>
            </a:pr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3151440" y="4467960"/>
              <a:ext cx="1597320" cy="77832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55640" y="4654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f71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00720" y="4654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f71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1341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f71"/>
                </a:solidFill>
                <a:latin typeface="Arial"/>
                <a:ea typeface="Gulim"/>
              </a:rPr>
              <a:t>Your Text here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未知"/>
          <p:cNvSpPr/>
          <p:nvPr/>
        </p:nvSpPr>
        <p:spPr>
          <a:xfrm flipH="1">
            <a:off x="4788000" y="2422440"/>
            <a:ext cx="3168720" cy="2895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48b8c"/>
              </a:gs>
              <a:gs pos="100000">
                <a:srgbClr val="c1d0d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28680" y="1557000"/>
            <a:ext cx="4062240" cy="3858840"/>
            <a:chOff x="1228680" y="1557000"/>
            <a:chExt cx="4062240" cy="3858840"/>
          </a:xfrm>
        </p:grpSpPr>
        <p:sp>
          <p:nvSpPr>
            <p:cNvPr id="246" name=""/>
            <p:cNvSpPr/>
            <p:nvPr/>
          </p:nvSpPr>
          <p:spPr>
            <a:xfrm rot="16200000">
              <a:off x="3834720" y="2825640"/>
              <a:ext cx="1559880" cy="1352520"/>
            </a:xfrm>
            <a:prstGeom prst="hexagon">
              <a:avLst>
                <a:gd name="adj" fmla="val 28833"/>
                <a:gd name="vf" fmla="val 115470"/>
              </a:avLst>
            </a:prstGeom>
            <a:gradFill rotWithShape="0">
              <a:gsLst>
                <a:gs pos="0">
                  <a:srgbClr val="071d34"/>
                </a:gs>
                <a:gs pos="50000">
                  <a:srgbClr val="113f71"/>
                </a:gs>
                <a:gs pos="100000">
                  <a:srgbClr val="071d34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3147840" y="1658880"/>
              <a:ext cx="1557720" cy="1353600"/>
            </a:xfrm>
            <a:prstGeom prst="hexagon">
              <a:avLst>
                <a:gd name="adj" fmla="val 28770"/>
                <a:gd name="vf" fmla="val 115470"/>
              </a:avLst>
            </a:prstGeom>
            <a:gradFill rotWithShape="0">
              <a:gsLst>
                <a:gs pos="0">
                  <a:srgbClr val="84c0d8"/>
                </a:gs>
                <a:gs pos="50000">
                  <a:srgbClr val="5aabcc"/>
                </a:gs>
                <a:gs pos="100000">
                  <a:srgbClr val="84c0d8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6200000">
              <a:off x="3193200" y="3960720"/>
              <a:ext cx="1557720" cy="1352520"/>
            </a:xfrm>
            <a:prstGeom prst="hexagon">
              <a:avLst>
                <a:gd name="adj" fmla="val 28793"/>
                <a:gd name="vf" fmla="val 115470"/>
              </a:avLst>
            </a:prstGeom>
            <a:gradFill rotWithShape="0">
              <a:gsLst>
                <a:gs pos="0">
                  <a:srgbClr val="84c0d8"/>
                </a:gs>
                <a:gs pos="50000">
                  <a:srgbClr val="5aabcc"/>
                </a:gs>
                <a:gs pos="100000">
                  <a:srgbClr val="84c0d8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2475720" y="2826000"/>
              <a:ext cx="1557720" cy="1353960"/>
            </a:xfrm>
            <a:prstGeom prst="hexagon">
              <a:avLst>
                <a:gd name="adj" fmla="val 28762"/>
                <a:gd name="vf" fmla="val 11547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162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794960" y="1659600"/>
              <a:ext cx="1557720" cy="1352520"/>
            </a:xfrm>
            <a:prstGeom prst="hexagon">
              <a:avLst>
                <a:gd name="adj" fmla="val 28793"/>
                <a:gd name="vf" fmla="val 115470"/>
              </a:avLst>
            </a:prstGeom>
            <a:gradFill rotWithShape="0">
              <a:gsLst>
                <a:gs pos="0">
                  <a:srgbClr val="071d34"/>
                </a:gs>
                <a:gs pos="50000">
                  <a:srgbClr val="113f71"/>
                </a:gs>
                <a:gs pos="100000">
                  <a:srgbClr val="071d34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1793160" y="3960720"/>
              <a:ext cx="1557720" cy="1352160"/>
            </a:xfrm>
            <a:prstGeom prst="hexagon">
              <a:avLst>
                <a:gd name="adj" fmla="val 28801"/>
                <a:gd name="vf" fmla="val 115470"/>
              </a:avLst>
            </a:prstGeom>
            <a:gradFill rotWithShape="0">
              <a:gsLst>
                <a:gs pos="0">
                  <a:srgbClr val="071d34"/>
                </a:gs>
                <a:gs pos="50000">
                  <a:srgbClr val="113f71"/>
                </a:gs>
                <a:gs pos="100000">
                  <a:srgbClr val="071d34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1124640" y="2825640"/>
              <a:ext cx="1559880" cy="1352160"/>
            </a:xfrm>
            <a:prstGeom prst="hexagon">
              <a:avLst>
                <a:gd name="adj" fmla="val 28841"/>
                <a:gd name="vf" fmla="val 115470"/>
              </a:avLst>
            </a:prstGeom>
            <a:gradFill rotWithShape="0">
              <a:gsLst>
                <a:gs pos="0">
                  <a:srgbClr val="84c0d8"/>
                </a:gs>
                <a:gs pos="50000">
                  <a:srgbClr val="5aabcc"/>
                </a:gs>
                <a:gs pos="100000">
                  <a:srgbClr val="84c0d8"/>
                </a:gs>
              </a:gsLst>
              <a:lin ang="189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rot="16200000">
            <a:off x="6042600" y="591480"/>
            <a:ext cx="72900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Add title text</a:t>
            </a:r>
            <a:endParaRPr b="0" lang="en-US" sz="36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 flipH="1" rot="16200000">
            <a:off x="2257200" y="2887560"/>
            <a:ext cx="648000" cy="43200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1d0d1"/>
              </a:gs>
              <a:gs pos="100000">
                <a:srgbClr val="648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rot="5400000">
            <a:off x="6047640" y="281592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1d0d1"/>
              </a:gs>
              <a:gs pos="100000">
                <a:srgbClr val="648b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rot="10800000">
            <a:off x="4151880" y="4798800"/>
            <a:ext cx="647640" cy="431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1d0d1"/>
              </a:gs>
              <a:gs pos="100000">
                <a:srgbClr val="648b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797200" y="1413000"/>
            <a:ext cx="3386160" cy="3386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87720" y="1701720"/>
            <a:ext cx="2803320" cy="28036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516480" y="2131920"/>
            <a:ext cx="1946160" cy="1949400"/>
            <a:chOff x="3516480" y="2131920"/>
            <a:chExt cx="1946160" cy="1949400"/>
          </a:xfrm>
        </p:grpSpPr>
        <p:sp>
          <p:nvSpPr>
            <p:cNvPr id="261" name=""/>
            <p:cNvSpPr/>
            <p:nvPr/>
          </p:nvSpPr>
          <p:spPr>
            <a:xfrm>
              <a:off x="3516480" y="213192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aab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16480" y="2131920"/>
              <a:ext cx="1946160" cy="194940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43920" y="225936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305c6d"/>
                </a:gs>
                <a:gs pos="50000">
                  <a:srgbClr val="5aabcc"/>
                </a:gs>
                <a:gs pos="100000">
                  <a:srgbClr val="305c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43920" y="2259360"/>
              <a:ext cx="1691280" cy="1693800"/>
            </a:xfrm>
            <a:prstGeom prst="ellipse">
              <a:avLst/>
            </a:prstGeom>
            <a:gradFill rotWithShape="0">
              <a:gsLst>
                <a:gs pos="0">
                  <a:srgbClr val="2b5262"/>
                </a:gs>
                <a:gs pos="100000">
                  <a:srgbClr val="5aab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28520" y="2344320"/>
              <a:ext cx="1521720" cy="1524240"/>
            </a:xfrm>
            <a:prstGeom prst="ellipse">
              <a:avLst/>
            </a:prstGeom>
            <a:gradFill rotWithShape="0">
              <a:gsLst>
                <a:gs pos="0">
                  <a:srgbClr val="294e5e"/>
                </a:gs>
                <a:gs pos="100000">
                  <a:srgbClr val="5aab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11280" y="335772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270828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280" y="20606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49120" y="2852640"/>
            <a:ext cx="12200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32720" y="336564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78700"/>
              </a:gs>
              <a:gs pos="50000">
                <a:srgbClr val="cccc00"/>
              </a:gs>
              <a:gs pos="100000">
                <a:srgbClr val="878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720" y="2716200"/>
            <a:ext cx="1655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78700"/>
              </a:gs>
              <a:gs pos="50000">
                <a:srgbClr val="cccc00"/>
              </a:gs>
              <a:gs pos="100000">
                <a:srgbClr val="878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2068560"/>
            <a:ext cx="165564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78700"/>
              </a:gs>
              <a:gs pos="50000">
                <a:srgbClr val="cccc00"/>
              </a:gs>
              <a:gs pos="100000">
                <a:srgbClr val="878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68360" y="5375160"/>
            <a:ext cx="4537080" cy="432000"/>
          </a:xfrm>
          <a:prstGeom prst="roundRect">
            <a:avLst>
              <a:gd name="adj" fmla="val 50000"/>
            </a:avLst>
          </a:prstGeom>
          <a:solidFill>
            <a:srgbClr val="113f71"/>
          </a:solidFill>
          <a:ln w="381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44480" y="595008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3673440" y="374508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73440" y="3095640"/>
            <a:ext cx="180036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73440" y="2448000"/>
            <a:ext cx="1800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7187"/>
              </a:gs>
              <a:gs pos="50000">
                <a:srgbClr val="5aabcc"/>
              </a:gs>
              <a:gs pos="100000">
                <a:srgbClr val="3b71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44960" y="1125360"/>
            <a:ext cx="280800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04376"/>
              </a:gs>
              <a:gs pos="50000">
                <a:srgbClr val="1966b3"/>
              </a:gs>
              <a:gs pos="100000">
                <a:srgbClr val="104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2000" y="5086440"/>
            <a:ext cx="2808360" cy="718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c599d"/>
              </a:gs>
              <a:gs pos="50000">
                <a:srgbClr val="8c87ed"/>
              </a:gs>
              <a:gs pos="100000">
                <a:srgbClr val="5c59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ulim"/>
              </a:rPr>
              <a:t>Your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2087640" y="2962440"/>
            <a:ext cx="1944720" cy="1008000"/>
          </a:xfrm>
          <a:prstGeom prst="upArrow">
            <a:avLst>
              <a:gd name="adj1" fmla="val 43843"/>
              <a:gd name="adj2" fmla="val 63148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5400000">
            <a:off x="5002920" y="2998800"/>
            <a:ext cx="1944720" cy="934920"/>
          </a:xfrm>
          <a:prstGeom prst="upArrow">
            <a:avLst>
              <a:gd name="adj1" fmla="val 46778"/>
              <a:gd name="adj2" fmla="val 6349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0800000">
            <a:off x="4284360" y="4438800"/>
            <a:ext cx="647640" cy="57600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09920" y="1884240"/>
            <a:ext cx="648000" cy="505080"/>
          </a:xfrm>
          <a:prstGeom prst="upArrow">
            <a:avLst>
              <a:gd name="adj1" fmla="val 43889"/>
              <a:gd name="adj2" fmla="val 62255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062080"/>
            <a:ext cx="1800000" cy="324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77">
                <a:moveTo>
                  <a:pt x="3600" y="0"/>
                </a:moveTo>
                <a:arcTo wR="3600" hR="3600" stAng="16200000" swAng="-5400000"/>
                <a:lnTo>
                  <a:pt x="0" y="35277"/>
                </a:lnTo>
                <a:arcTo wR="3600" hR="3600" stAng="10800000" swAng="-5400000"/>
                <a:lnTo>
                  <a:pt x="18000" y="38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efefe">
                  <a:alpha val="40000"/>
                </a:srgbClr>
              </a:gs>
              <a:gs pos="100000">
                <a:srgbClr val="c1d1d3"/>
              </a:gs>
            </a:gsLst>
            <a:lin ang="5400000"/>
          </a:gradFill>
          <a:ln w="2844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76160" y="2351160"/>
            <a:ext cx="158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1990800"/>
            <a:ext cx="1800360" cy="324000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3240000"/>
              <a:gd name="textAreaBottom" fmla="*/ 3152160 h 3240000"/>
            </a:gdLst>
            <a:ahLst/>
            <a:rect l="textAreaLeft" t="textAreaTop" r="textAreaRight" b="textAreaBottom"/>
            <a:pathLst>
              <a:path w="21600" h="38869">
                <a:moveTo>
                  <a:pt x="3600" y="0"/>
                </a:moveTo>
                <a:arcTo wR="3600" hR="3600" stAng="16200000" swAng="-5400000"/>
                <a:lnTo>
                  <a:pt x="0" y="35269"/>
                </a:lnTo>
                <a:arcTo wR="3600" hR="3600" stAng="10800000" swAng="-5400000"/>
                <a:lnTo>
                  <a:pt x="18000" y="38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efefe">
                  <a:alpha val="40000"/>
                </a:srgbClr>
              </a:gs>
              <a:gs pos="100000">
                <a:srgbClr val="c1d1d3"/>
              </a:gs>
            </a:gsLst>
            <a:lin ang="5400000"/>
          </a:gradFill>
          <a:ln w="2844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80160" y="2279520"/>
            <a:ext cx="1584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1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2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3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4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Add text 5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 rot="20239200">
            <a:off x="1218960" y="2106360"/>
            <a:ext cx="6519600" cy="3062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20240400">
            <a:off x="1358640" y="2315880"/>
            <a:ext cx="5925960" cy="268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1397160" y="263988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126828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648b8c"/>
              </a:gs>
              <a:gs pos="100000">
                <a:srgbClr val="222f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02320" y="172548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5aabcc"/>
              </a:gs>
              <a:gs pos="100000">
                <a:srgbClr val="1e3a4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45450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3f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26160" y="40878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4848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606840" y="3173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3f71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84428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040"/>
              </a:gs>
              <a:gs pos="100000">
                <a:srgbClr val="648b8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184428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54856"/>
              </a:gs>
              <a:gs pos="100000">
                <a:srgbClr val="5aab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184428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b2f52"/>
              </a:gs>
              <a:gs pos="100000">
                <a:srgbClr val="1966b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592360"/>
            <a:ext cx="2819520" cy="26668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1966b3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59236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ab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2592360"/>
            <a:ext cx="2971800" cy="26668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48b8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311" name="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648b8c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1966b3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319" name="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648b8c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325" name="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1966b3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09480" y="1773360"/>
          <a:ext cx="7853400" cy="3417840"/>
        </p:xfrm>
        <a:graphic>
          <a:graphicData uri="http://schemas.openxmlformats.org/drawingml/2006/table">
            <a:tbl>
              <a:tblPr/>
              <a:tblGrid>
                <a:gridCol w="1774800"/>
                <a:gridCol w="1230480"/>
                <a:gridCol w="1195200"/>
                <a:gridCol w="1219320"/>
                <a:gridCol w="1220760"/>
                <a:gridCol w="1212840"/>
              </a:tblGrid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1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2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3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4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5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86c81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1</a:t>
                      </a:r>
                      <a:endParaRPr b="0" lang="en-US" sz="2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9a6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6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2</a:t>
                      </a:r>
                      <a:endParaRPr b="0" lang="en-US" sz="2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9a6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6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3</a:t>
                      </a:r>
                      <a:endParaRPr b="0" lang="en-US" sz="2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9a6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4</a:t>
                      </a:r>
                      <a:endParaRPr b="0" lang="en-US" sz="20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9a6d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6" name=""/>
          <p:cNvSpPr/>
          <p:nvPr/>
        </p:nvSpPr>
        <p:spPr>
          <a:xfrm>
            <a:off x="5531760" y="595008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797120" y="1374840"/>
            <a:ext cx="56433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416088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1d1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20601600">
            <a:off x="1636560" y="204768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113f71"/>
              </a:gs>
              <a:gs pos="50000">
                <a:srgbClr val="c4cfdb"/>
              </a:gs>
              <a:gs pos="100000">
                <a:srgbClr val="113f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0601600">
            <a:off x="1699920" y="189396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5aabcc"/>
              </a:gs>
              <a:gs pos="100000">
                <a:srgbClr val="386c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601600">
            <a:off x="1557000" y="190332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20601600">
            <a:off x="1609560" y="187128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rot="20602200">
            <a:off x="1586160" y="190296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20601600">
            <a:off x="1630440" y="189144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rot="20602200">
            <a:off x="1614240" y="18903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20601600">
            <a:off x="4681080" y="3206880"/>
            <a:ext cx="1220760" cy="149832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20601600">
            <a:off x="4574880" y="295380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13f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04160" y="1205280"/>
            <a:ext cx="6918480" cy="4356720"/>
            <a:chOff x="704160" y="1205280"/>
            <a:chExt cx="6918480" cy="4356720"/>
          </a:xfrm>
        </p:grpSpPr>
        <p:sp>
          <p:nvSpPr>
            <p:cNvPr id="351" name=""/>
            <p:cNvSpPr/>
            <p:nvPr/>
          </p:nvSpPr>
          <p:spPr>
            <a:xfrm rot="20712600">
              <a:off x="956880" y="197676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 rot="20712600">
              <a:off x="4360680" y="317484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 rot="20712600">
              <a:off x="5736600" y="334296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54" name="未知"/>
          <p:cNvSpPr/>
          <p:nvPr/>
        </p:nvSpPr>
        <p:spPr>
          <a:xfrm rot="20601600">
            <a:off x="6248160" y="324612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20539200">
            <a:off x="1498320" y="1794240"/>
            <a:ext cx="6316920" cy="30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6" name="未知"/>
          <p:cNvSpPr/>
          <p:nvPr/>
        </p:nvSpPr>
        <p:spPr>
          <a:xfrm rot="20601600">
            <a:off x="4933440" y="315720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ae8dd3"/>
              </a:gs>
              <a:gs pos="100000">
                <a:srgbClr val="5007a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0601600">
            <a:off x="3154320" y="25999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d1d3"/>
              </a:gs>
              <a:gs pos="50000">
                <a:srgbClr val="eef2f3"/>
              </a:gs>
              <a:gs pos="100000">
                <a:srgbClr val="c1d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20601600">
            <a:off x="3254400" y="285264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26938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14800" y="18558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3130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30372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09680" y="391320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41418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893960" y="198900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abcc"/>
              </a:gs>
              <a:gs pos="100000">
                <a:srgbClr val="fefefe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Introduction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73672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93960" y="351648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966b3"/>
              </a:gs>
              <a:gs pos="100000">
                <a:srgbClr val="fefefe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93960" y="424980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2232000"/>
            <a:ext cx="287964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2952720"/>
            <a:ext cx="287964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3745080"/>
            <a:ext cx="180036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52840" y="4489560"/>
            <a:ext cx="288000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476360" y="270828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66b3"/>
                    </a:gs>
                    <a:gs pos="100000">
                      <a:srgbClr val="5aab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66b3"/>
                  </a:gs>
                  <a:gs pos="100000">
                    <a:srgbClr val="5aabcc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3f7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46985-62F8-48BE-AB26-C0A12D6E7C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1120" y="1473120"/>
            <a:ext cx="76406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On the </a:t>
            </a:r>
            <a:r>
              <a:rPr b="0" lang="en-US" sz="2400" spc="-1" strike="noStrike">
                <a:solidFill>
                  <a:srgbClr val="1966b3"/>
                </a:solidFill>
                <a:latin typeface="Verdana"/>
                <a:ea typeface="Gulim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menu, point to </a:t>
            </a:r>
            <a:r>
              <a:rPr b="0" lang="en-US" sz="2400" spc="-1" strike="noStrike">
                <a:solidFill>
                  <a:srgbClr val="1966b3"/>
                </a:solidFill>
                <a:latin typeface="Verdana"/>
                <a:ea typeface="Gulim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and then click </a:t>
            </a:r>
            <a:r>
              <a:rPr b="0" lang="en-US" sz="2400" spc="-1" strike="noStrike">
                <a:solidFill>
                  <a:srgbClr val="1966b3"/>
                </a:solidFill>
                <a:latin typeface="Verdana"/>
                <a:ea typeface="Gulim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未知"/>
          <p:cNvSpPr/>
          <p:nvPr/>
        </p:nvSpPr>
        <p:spPr>
          <a:xfrm>
            <a:off x="2987640" y="1204920"/>
            <a:ext cx="3960720" cy="94140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8eb3d9"/>
              </a:gs>
              <a:gs pos="100000">
                <a:srgbClr val="1966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2920" y="234792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227484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2 Part Concep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未知"/>
          <p:cNvSpPr/>
          <p:nvPr/>
        </p:nvSpPr>
        <p:spPr>
          <a:xfrm>
            <a:off x="3419640" y="249408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cde5"/>
              </a:gs>
              <a:gs pos="100000">
                <a:srgbClr val="1966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 flipH="1">
            <a:off x="4948200" y="249408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3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1197000"/>
            <a:ext cx="2257560" cy="1012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Part Concep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未知"/>
          <p:cNvSpPr/>
          <p:nvPr/>
        </p:nvSpPr>
        <p:spPr>
          <a:xfrm>
            <a:off x="6227640" y="1917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7b7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3492360" y="184464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92adae"/>
              </a:gs>
              <a:gs pos="100000">
                <a:srgbClr val="648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7" name="未知"/>
          <p:cNvSpPr/>
          <p:nvPr/>
        </p:nvSpPr>
        <p:spPr>
          <a:xfrm>
            <a:off x="755640" y="184464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94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63700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710520" y="27082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5080" y="27097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5800" y="27748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263700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450864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4508640"/>
            <a:ext cx="201600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50864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未知"/>
          <p:cNvSpPr/>
          <p:nvPr/>
        </p:nvSpPr>
        <p:spPr>
          <a:xfrm>
            <a:off x="974880" y="1413000"/>
            <a:ext cx="6408720" cy="46227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1966b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203640" y="3429000"/>
            <a:ext cx="2181240" cy="2376000"/>
            <a:chOff x="3203640" y="3429000"/>
            <a:chExt cx="2181240" cy="2376000"/>
          </a:xfrm>
        </p:grpSpPr>
        <p:sp>
          <p:nvSpPr>
            <p:cNvPr id="120" name=""/>
            <p:cNvSpPr/>
            <p:nvPr/>
          </p:nvSpPr>
          <p:spPr>
            <a:xfrm>
              <a:off x="3203640" y="4882680"/>
              <a:ext cx="2181240" cy="922320"/>
            </a:xfrm>
            <a:prstGeom prst="ellipse">
              <a:avLst/>
            </a:prstGeom>
            <a:gradFill rotWithShape="0">
              <a:gsLst>
                <a:gs pos="0">
                  <a:srgbClr val="113f71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00480" y="3429000"/>
              <a:ext cx="1986840" cy="1987200"/>
            </a:xfrm>
            <a:prstGeom prst="ellipse">
              <a:avLst/>
            </a:prstGeom>
            <a:gradFill rotWithShape="0">
              <a:gsLst>
                <a:gs pos="0">
                  <a:srgbClr val="586061"/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26400" y="3439440"/>
              <a:ext cx="1938600" cy="1938960"/>
            </a:xfrm>
            <a:prstGeom prst="ellipse">
              <a:avLst/>
            </a:prstGeom>
            <a:gradFill rotWithShape="0">
              <a:gsLst>
                <a:gs pos="0">
                  <a:srgbClr val="c1d1d3">
                    <a:alpha val="0"/>
                  </a:srgbClr>
                </a:gs>
                <a:gs pos="100000">
                  <a:srgbClr val="e8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6560" y="3458520"/>
              <a:ext cx="1844640" cy="1811880"/>
            </a:xfrm>
            <a:prstGeom prst="ellipse">
              <a:avLst/>
            </a:prstGeom>
            <a:gradFill rotWithShape="0">
              <a:gsLst>
                <a:gs pos="0">
                  <a:srgbClr val="98a4a6"/>
                </a:gs>
                <a:gs pos="100000">
                  <a:srgbClr val="c1d1d3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53480" y="3510000"/>
              <a:ext cx="1640520" cy="1469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6200000">
            <a:off x="3934080" y="3986640"/>
            <a:ext cx="6678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87440" y="2852640"/>
            <a:ext cx="1744560" cy="1900080"/>
            <a:chOff x="1387440" y="2852640"/>
            <a:chExt cx="1744560" cy="1900080"/>
          </a:xfrm>
        </p:grpSpPr>
        <p:sp>
          <p:nvSpPr>
            <p:cNvPr id="127" name=""/>
            <p:cNvSpPr/>
            <p:nvPr/>
          </p:nvSpPr>
          <p:spPr>
            <a:xfrm>
              <a:off x="1387440" y="4015080"/>
              <a:ext cx="1744560" cy="737640"/>
            </a:xfrm>
            <a:prstGeom prst="ellipse">
              <a:avLst/>
            </a:prstGeom>
            <a:gradFill rotWithShape="0">
              <a:gsLst>
                <a:gs pos="0">
                  <a:srgbClr val="113f71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64840" y="2852640"/>
              <a:ext cx="1589040" cy="1589400"/>
            </a:xfrm>
            <a:prstGeom prst="ellipse">
              <a:avLst/>
            </a:prstGeom>
            <a:gradFill rotWithShape="0">
              <a:gsLst>
                <a:gs pos="0">
                  <a:srgbClr val="586061"/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85720" y="2860920"/>
              <a:ext cx="1550520" cy="1550520"/>
            </a:xfrm>
            <a:prstGeom prst="ellipse">
              <a:avLst/>
            </a:prstGeom>
            <a:gradFill rotWithShape="0">
              <a:gsLst>
                <a:gs pos="0">
                  <a:srgbClr val="c1d1d3">
                    <a:alpha val="0"/>
                  </a:srgbClr>
                </a:gs>
                <a:gs pos="100000">
                  <a:srgbClr val="e8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01920" y="2876400"/>
              <a:ext cx="1475280" cy="1449000"/>
            </a:xfrm>
            <a:prstGeom prst="ellipse">
              <a:avLst/>
            </a:prstGeom>
            <a:gradFill rotWithShape="0">
              <a:gsLst>
                <a:gs pos="0">
                  <a:srgbClr val="98a4a6"/>
                </a:gs>
                <a:gs pos="100000">
                  <a:srgbClr val="c1d1d3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7240" y="2917440"/>
              <a:ext cx="1312200" cy="1175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90680" y="1413000"/>
            <a:ext cx="1309680" cy="1425240"/>
            <a:chOff x="1390680" y="1413000"/>
            <a:chExt cx="1309680" cy="1425240"/>
          </a:xfrm>
        </p:grpSpPr>
        <p:sp>
          <p:nvSpPr>
            <p:cNvPr id="133" name=""/>
            <p:cNvSpPr/>
            <p:nvPr/>
          </p:nvSpPr>
          <p:spPr>
            <a:xfrm>
              <a:off x="1390680" y="2284920"/>
              <a:ext cx="1309680" cy="553320"/>
            </a:xfrm>
            <a:prstGeom prst="ellipse">
              <a:avLst/>
            </a:prstGeom>
            <a:gradFill rotWithShape="0">
              <a:gsLst>
                <a:gs pos="0">
                  <a:srgbClr val="113f71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9000" y="1413000"/>
              <a:ext cx="1193040" cy="1192320"/>
            </a:xfrm>
            <a:prstGeom prst="ellipse">
              <a:avLst/>
            </a:prstGeom>
            <a:gradFill rotWithShape="0">
              <a:gsLst>
                <a:gs pos="0">
                  <a:srgbClr val="586061"/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64120" y="1419120"/>
              <a:ext cx="1163880" cy="1163160"/>
            </a:xfrm>
            <a:prstGeom prst="ellipse">
              <a:avLst/>
            </a:prstGeom>
            <a:gradFill rotWithShape="0">
              <a:gsLst>
                <a:gs pos="0">
                  <a:srgbClr val="c1d1d3">
                    <a:alpha val="0"/>
                  </a:srgbClr>
                </a:gs>
                <a:gs pos="100000">
                  <a:srgbClr val="e8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6360" y="1430640"/>
              <a:ext cx="1107720" cy="1087200"/>
            </a:xfrm>
            <a:prstGeom prst="ellipse">
              <a:avLst/>
            </a:prstGeom>
            <a:gradFill rotWithShape="0">
              <a:gsLst>
                <a:gs pos="0">
                  <a:srgbClr val="98a4a6"/>
                </a:gs>
                <a:gs pos="100000">
                  <a:srgbClr val="c1d1d3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40800" y="1461600"/>
              <a:ext cx="984960" cy="88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701800" y="907920"/>
            <a:ext cx="871560" cy="949320"/>
            <a:chOff x="2701800" y="907920"/>
            <a:chExt cx="871560" cy="949320"/>
          </a:xfrm>
        </p:grpSpPr>
        <p:sp>
          <p:nvSpPr>
            <p:cNvPr id="139" name=""/>
            <p:cNvSpPr/>
            <p:nvPr/>
          </p:nvSpPr>
          <p:spPr>
            <a:xfrm>
              <a:off x="2701800" y="1488600"/>
              <a:ext cx="871560" cy="368640"/>
            </a:xfrm>
            <a:prstGeom prst="ellipse">
              <a:avLst/>
            </a:prstGeom>
            <a:gradFill rotWithShape="0">
              <a:gsLst>
                <a:gs pos="0">
                  <a:srgbClr val="113f71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0320" y="907920"/>
              <a:ext cx="793800" cy="793800"/>
            </a:xfrm>
            <a:prstGeom prst="ellipse">
              <a:avLst/>
            </a:prstGeom>
            <a:gradFill rotWithShape="0">
              <a:gsLst>
                <a:gs pos="0">
                  <a:srgbClr val="586061"/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50760" y="911880"/>
              <a:ext cx="774720" cy="774720"/>
            </a:xfrm>
            <a:prstGeom prst="ellipse">
              <a:avLst/>
            </a:prstGeom>
            <a:gradFill rotWithShape="0">
              <a:gsLst>
                <a:gs pos="0">
                  <a:srgbClr val="c1d1d3">
                    <a:alpha val="0"/>
                  </a:srgbClr>
                </a:gs>
                <a:gs pos="100000">
                  <a:srgbClr val="e8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9040" y="919800"/>
              <a:ext cx="736920" cy="723960"/>
            </a:xfrm>
            <a:prstGeom prst="ellipse">
              <a:avLst/>
            </a:prstGeom>
            <a:gradFill rotWithShape="0">
              <a:gsLst>
                <a:gs pos="0">
                  <a:srgbClr val="98a4a6"/>
                </a:gs>
                <a:gs pos="100000">
                  <a:srgbClr val="c1d1d3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01520" y="940320"/>
              <a:ext cx="655560" cy="58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 rot="16200000">
            <a:off x="1933560" y="3235320"/>
            <a:ext cx="60696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1787040" y="1700280"/>
            <a:ext cx="485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934360" y="1091520"/>
            <a:ext cx="393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853320" y="1940040"/>
            <a:ext cx="5461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87400" y="595008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113f7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19254000">
            <a:off x="4932000" y="2349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31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851200">
            <a:off x="4932720" y="4220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79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3646400">
            <a:off x="3456720" y="23846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87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7687200">
            <a:off x="3528000" y="43282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31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32846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2987280" y="33195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1557360"/>
            <a:ext cx="3743280" cy="3744720"/>
          </a:xfrm>
          <a:prstGeom prst="ellipse">
            <a:avLst/>
          </a:pr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92440" y="2484360"/>
            <a:ext cx="1946520" cy="1949400"/>
            <a:chOff x="3592440" y="2484360"/>
            <a:chExt cx="1946520" cy="1949400"/>
          </a:xfrm>
        </p:grpSpPr>
        <p:sp>
          <p:nvSpPr>
            <p:cNvPr id="158" name=""/>
            <p:cNvSpPr/>
            <p:nvPr/>
          </p:nvSpPr>
          <p:spPr>
            <a:xfrm>
              <a:off x="3592440" y="248436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aab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92440" y="2484360"/>
              <a:ext cx="1946520" cy="194940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19880" y="261180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305c6d"/>
                </a:gs>
                <a:gs pos="50000">
                  <a:srgbClr val="5aabcc"/>
                </a:gs>
                <a:gs pos="100000">
                  <a:srgbClr val="305c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19880" y="2611800"/>
              <a:ext cx="1691640" cy="1693800"/>
            </a:xfrm>
            <a:prstGeom prst="ellipse">
              <a:avLst/>
            </a:prstGeom>
            <a:gradFill rotWithShape="0">
              <a:gsLst>
                <a:gs pos="0">
                  <a:srgbClr val="2b5262"/>
                </a:gs>
                <a:gs pos="100000">
                  <a:srgbClr val="5aab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4480" y="2696760"/>
              <a:ext cx="1522080" cy="1524240"/>
            </a:xfrm>
            <a:prstGeom prst="ellipse">
              <a:avLst/>
            </a:prstGeom>
            <a:gradFill rotWithShape="0">
              <a:gsLst>
                <a:gs pos="0">
                  <a:srgbClr val="294e5e"/>
                </a:gs>
                <a:gs pos="100000">
                  <a:srgbClr val="5aab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4040" y="32846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79120" y="508464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4400" y="501336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19480" y="32688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50760" y="141300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38400" y="1484280"/>
            <a:ext cx="1489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Verdana"/>
                <a:ea typeface="Gulim"/>
              </a:rPr>
              <a:t>Your Text here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8000" y="3213000"/>
            <a:ext cx="1015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Title</a:t>
            </a:r>
            <a:endParaRPr b="0" lang="en-US" sz="32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3294000"/>
            <a:ext cx="35856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1773360"/>
            <a:ext cx="35892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1844640"/>
            <a:ext cx="35856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0720" y="3213000"/>
            <a:ext cx="35892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4653000"/>
            <a:ext cx="35892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4797360"/>
            <a:ext cx="358920" cy="360360"/>
          </a:xfrm>
          <a:prstGeom prst="ellipse">
            <a:avLst/>
          </a:prstGeom>
          <a:gradFill rotWithShape="0">
            <a:gsLst>
              <a:gs pos="0">
                <a:srgbClr val="1966b3"/>
              </a:gs>
              <a:gs pos="100000">
                <a:srgbClr val="0d376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92360" y="213192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b2b2b2"/>
              </a:gs>
              <a:gs pos="100000">
                <a:srgbClr val="b7b7b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1413000"/>
            <a:ext cx="504036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1d1d3"/>
              </a:gs>
              <a:gs pos="50000">
                <a:srgbClr val="fefefe"/>
              </a:gs>
              <a:gs pos="100000">
                <a:srgbClr val="c1d1d3"/>
              </a:gs>
            </a:gsLst>
            <a:lin ang="10800000"/>
          </a:gradFill>
          <a:ln w="2844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3f71"/>
                </a:solidFill>
                <a:latin typeface="Arial"/>
                <a:ea typeface="Gulim"/>
              </a:rPr>
              <a:t>Add Your Text here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14920" y="4005360"/>
            <a:ext cx="1512720" cy="1511280"/>
            <a:chOff x="4714920" y="4005360"/>
            <a:chExt cx="1512720" cy="1511280"/>
          </a:xfrm>
        </p:grpSpPr>
        <p:sp>
          <p:nvSpPr>
            <p:cNvPr id="180" name=""/>
            <p:cNvSpPr/>
            <p:nvPr/>
          </p:nvSpPr>
          <p:spPr>
            <a:xfrm>
              <a:off x="4714920" y="4005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aab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4920" y="4005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13920" y="4104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05c6d"/>
                </a:gs>
                <a:gs pos="50000">
                  <a:srgbClr val="5aabcc"/>
                </a:gs>
                <a:gs pos="100000">
                  <a:srgbClr val="305c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13920" y="4104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2b5262"/>
                </a:gs>
                <a:gs pos="100000">
                  <a:srgbClr val="5aab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9800" y="416988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294e5e"/>
                </a:gs>
                <a:gs pos="100000">
                  <a:srgbClr val="5aab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116000" y="4005360"/>
            <a:ext cx="1513080" cy="1511280"/>
            <a:chOff x="1116000" y="4005360"/>
            <a:chExt cx="1513080" cy="1511280"/>
          </a:xfrm>
        </p:grpSpPr>
        <p:sp>
          <p:nvSpPr>
            <p:cNvPr id="186" name=""/>
            <p:cNvSpPr/>
            <p:nvPr/>
          </p:nvSpPr>
          <p:spPr>
            <a:xfrm>
              <a:off x="1116000" y="40053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c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16000" y="40053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5000" y="41040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d6d00"/>
                </a:gs>
                <a:gs pos="50000">
                  <a:srgbClr val="cccc00"/>
                </a:gs>
                <a:gs pos="100000">
                  <a:srgbClr val="6d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15000" y="41040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626200"/>
                </a:gs>
                <a:gs pos="100000">
                  <a:srgbClr val="cc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80880" y="416988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5e5e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588000" y="4005360"/>
            <a:ext cx="1513080" cy="1511280"/>
            <a:chOff x="6588000" y="4005360"/>
            <a:chExt cx="1513080" cy="1511280"/>
          </a:xfrm>
        </p:grpSpPr>
        <p:sp>
          <p:nvSpPr>
            <p:cNvPr id="192" name=""/>
            <p:cNvSpPr/>
            <p:nvPr/>
          </p:nvSpPr>
          <p:spPr>
            <a:xfrm>
              <a:off x="6588000" y="40053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966b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8000" y="400536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1966b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87000" y="41040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0d3660"/>
                </a:gs>
                <a:gs pos="50000">
                  <a:srgbClr val="1966b3"/>
                </a:gs>
                <a:gs pos="100000">
                  <a:srgbClr val="0d36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7000" y="410400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0c3156"/>
                </a:gs>
                <a:gs pos="100000">
                  <a:srgbClr val="1966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52880" y="416988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0b2f52"/>
                </a:gs>
                <a:gs pos="100000">
                  <a:srgbClr val="1966b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916360" y="4005360"/>
            <a:ext cx="1512720" cy="1511280"/>
            <a:chOff x="2916360" y="4005360"/>
            <a:chExt cx="1512720" cy="1511280"/>
          </a:xfrm>
        </p:grpSpPr>
        <p:sp>
          <p:nvSpPr>
            <p:cNvPr id="198" name=""/>
            <p:cNvSpPr/>
            <p:nvPr/>
          </p:nvSpPr>
          <p:spPr>
            <a:xfrm>
              <a:off x="2916360" y="4005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ab82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16360" y="4005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ab82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15360" y="4104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16311"/>
                </a:gs>
                <a:gs pos="50000">
                  <a:srgbClr val="7ab820"/>
                </a:gs>
                <a:gs pos="100000">
                  <a:srgbClr val="4163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5360" y="4104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b590f"/>
                </a:gs>
                <a:gs pos="100000">
                  <a:srgbClr val="7ab8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1240" y="416988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8540e"/>
                </a:gs>
                <a:gs pos="100000">
                  <a:srgbClr val="7ab8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477800" y="4581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8160" y="4581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49720" y="4581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49800" y="4581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943600" y="216684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1966b3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2205000"/>
            <a:ext cx="2160720" cy="503280"/>
          </a:xfrm>
          <a:prstGeom prst="roundRect">
            <a:avLst>
              <a:gd name="adj" fmla="val 5000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437920" y="1483920"/>
            <a:ext cx="3979440" cy="3652920"/>
            <a:chOff x="2437920" y="1483920"/>
            <a:chExt cx="3979440" cy="3652920"/>
          </a:xfrm>
        </p:grpSpPr>
        <p:sp>
          <p:nvSpPr>
            <p:cNvPr id="211" name=""/>
            <p:cNvSpPr/>
            <p:nvPr/>
          </p:nvSpPr>
          <p:spPr>
            <a:xfrm>
              <a:off x="2999520" y="1784880"/>
              <a:ext cx="2920680" cy="2880000"/>
            </a:xfrm>
            <a:prstGeom prst="donut">
              <a:avLst>
                <a:gd name="adj" fmla="val 25000"/>
              </a:avLst>
            </a:prstGeom>
            <a:gradFill rotWithShape="0">
              <a:gsLst>
                <a:gs pos="0">
                  <a:srgbClr val="113f71"/>
                </a:gs>
                <a:gs pos="50000">
                  <a:srgbClr val="e7ecf0"/>
                </a:gs>
                <a:gs pos="100000">
                  <a:srgbClr val="113f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 rot="5400000">
              <a:off x="4437360" y="1709640"/>
              <a:ext cx="1436760" cy="146088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 rot="7200000">
              <a:off x="4707000" y="2168280"/>
              <a:ext cx="1436760" cy="146088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5e5e00"/>
                </a:gs>
                <a:gs pos="100000">
                  <a:srgbClr val="cccc0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800000">
              <a:off x="4766400" y="3249360"/>
              <a:ext cx="1233000" cy="781560"/>
            </a:xfrm>
            <a:prstGeom prst="triangle">
              <a:avLst>
                <a:gd name="adj" fmla="val 50000"/>
              </a:avLst>
            </a:pr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164400" y="3160440"/>
              <a:ext cx="2516040" cy="1976400"/>
              <a:chOff x="3164400" y="3160440"/>
              <a:chExt cx="2516040" cy="1976400"/>
            </a:xfrm>
          </p:grpSpPr>
          <p:sp>
            <p:nvSpPr>
              <p:cNvPr id="216" name="未知"/>
              <p:cNvSpPr/>
              <p:nvPr/>
            </p:nvSpPr>
            <p:spPr>
              <a:xfrm rot="12600000">
                <a:off x="3960360" y="3428640"/>
                <a:ext cx="145764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5aa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 rot="14400000">
                <a:off x="3437280" y="3417120"/>
                <a:ext cx="1436760" cy="14608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4e5e"/>
                  </a:gs>
                  <a:gs pos="100000">
                    <a:srgbClr val="5aabcc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rot="9000000">
              <a:off x="2928240" y="3429000"/>
              <a:ext cx="1233000" cy="700560"/>
            </a:xfrm>
            <a:prstGeom prst="triangle">
              <a:avLst>
                <a:gd name="adj" fmla="val 50000"/>
              </a:avLst>
            </a:prstGeom>
            <a:solidFill>
              <a:srgbClr val="908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437920" y="1721880"/>
              <a:ext cx="1986120" cy="2166120"/>
              <a:chOff x="2437920" y="1721880"/>
              <a:chExt cx="1986120" cy="2166120"/>
            </a:xfrm>
          </p:grpSpPr>
          <p:sp>
            <p:nvSpPr>
              <p:cNvPr id="220" name="未知"/>
              <p:cNvSpPr/>
              <p:nvPr/>
            </p:nvSpPr>
            <p:spPr>
              <a:xfrm rot="19800000">
                <a:off x="2700360" y="2178720"/>
                <a:ext cx="145728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2966400" y="1721880"/>
                <a:ext cx="14576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06e"/>
                  </a:gs>
                  <a:gs pos="100000">
                    <a:srgbClr val="908b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 rot="16200000">
              <a:off x="3639960" y="1694160"/>
              <a:ext cx="1215720" cy="794880"/>
            </a:xfrm>
            <a:prstGeom prst="triangle">
              <a:avLst>
                <a:gd name="adj" fmla="val 5000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46560" y="5013360"/>
            <a:ext cx="2160360" cy="503280"/>
          </a:xfrm>
          <a:prstGeom prst="roundRect">
            <a:avLst>
              <a:gd name="adj" fmla="val 50000"/>
            </a:avLst>
          </a:prstGeom>
          <a:solidFill>
            <a:srgbClr val="113f71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Text in here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8:01:14Z</dcterms:created>
  <dc:creator>http://www.eeppt.com</dc:creator>
  <dc:description>ppt模板下载网站 http://www.eeppt.com</dc:description>
  <dc:language>en-US</dc:language>
  <cp:lastModifiedBy/>
  <dcterms:modified xsi:type="dcterms:W3CDTF">2015-06-14T06:06:42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