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42E9-2F78-4D73-BCD1-44825DC22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7D04-C67A-4210-AB80-F4EE8668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AF1D-676A-44E0-8ECD-F5A039B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810F-AF2A-4FC4-94D4-1E827CE2F8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BC6E-343E-41EE-BC39-382E1897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9A1A3-4645-4AFA-89E2-263C3A5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A99BA-58E7-454D-B129-B904A64C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93E5-5B8A-48A7-87A7-6784108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AD24F-06C7-4E55-B8B9-1D920EC2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914BE-75F9-4001-AD7A-25F4EE5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C7F4E-5A76-4F1C-B1F0-D5DD9153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48BD-45C5-4619-BF40-1B618A1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38D69-5F38-4DDB-9F16-991BBCC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C08E3-BB17-49F6-B78E-DC5EB5B5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9B82E-CFEB-45BA-81E1-2BECC42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A666E-8FDF-4973-86BB-08B8A1AB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3FD7-2109-4E2E-ADB4-1D2E662E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6FD5-DE69-44E1-8B27-0801B42C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F4F5-CF94-4A5F-B5E8-5677B353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448D-BD78-498A-A859-19C5738C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1D68-F74F-4E24-A53A-FA613D47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B4C9-BF3A-4157-A408-7792A3C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A423-07C2-4C08-BC29-C28EBCD2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A195-62BC-4F96-981D-E9C4C32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FEF-5792-4AE1-A75C-4A4E064A5A1A}" type="slidenum"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24E-84FC-41BD-8383-36CBC3C5E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aoyu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蓝色天空培训</a:t>
            </a:r>
            <a:r>
              <a:rPr b="1" lang="zh-CN" sz="4000" spc="-1" strike="noStrike">
                <a:solidFill>
                  <a:srgbClr val="364eb6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62485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cc76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cc76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b38"/>
              </a:gs>
              <a:gs pos="50000">
                <a:srgbClr val="9cc769"/>
              </a:gs>
              <a:gs pos="100000">
                <a:srgbClr val="546b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cc769">
                  <a:alpha val="0"/>
                </a:srgbClr>
              </a:gs>
              <a:gs pos="100000">
                <a:srgbClr val="627d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1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8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e68"/>
              </a:gs>
              <a:gs pos="100000">
                <a:srgbClr val="498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487a"/>
              </a:gs>
              <a:gs pos="50000">
                <a:srgbClr val="4987e3"/>
              </a:gs>
              <a:gs pos="100000">
                <a:srgbClr val="274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87e3">
                  <a:alpha val="0"/>
                </a:srgbClr>
              </a:gs>
              <a:gs pos="100000">
                <a:srgbClr val="2e55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1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56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447920" y="1527120"/>
            <a:ext cx="5715000" cy="5330520"/>
            <a:chOff x="1447920" y="1527120"/>
            <a:chExt cx="5715000" cy="5330520"/>
          </a:xfrm>
        </p:grpSpPr>
        <p:sp>
          <p:nvSpPr>
            <p:cNvPr id="266" name=""/>
            <p:cNvSpPr/>
            <p:nvPr/>
          </p:nvSpPr>
          <p:spPr>
            <a:xfrm rot="13770000">
              <a:off x="4780440" y="411156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856000">
              <a:off x="2755800" y="363240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394200">
              <a:off x="4915440" y="24735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719880" y="2509200"/>
              <a:ext cx="1652400" cy="1684080"/>
              <a:chOff x="3719880" y="2509200"/>
              <a:chExt cx="1652400" cy="16840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3719880" y="2509200"/>
                <a:ext cx="1652400" cy="1684080"/>
                <a:chOff x="3719880" y="2509200"/>
                <a:chExt cx="1652400" cy="1684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7198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未知"/>
                <p:cNvSpPr/>
                <p:nvPr/>
              </p:nvSpPr>
              <p:spPr>
                <a:xfrm>
                  <a:off x="3908520" y="25369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826440" y="3241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165640" y="1527120"/>
              <a:ext cx="925200" cy="912240"/>
              <a:chOff x="5165640" y="1527120"/>
              <a:chExt cx="925200" cy="9122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5165640" y="1527120"/>
                <a:ext cx="894960" cy="912240"/>
                <a:chOff x="5165640" y="1527120"/>
                <a:chExt cx="894960" cy="9122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165640" y="15271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1120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未知"/>
                <p:cNvSpPr/>
                <p:nvPr/>
              </p:nvSpPr>
              <p:spPr>
                <a:xfrm>
                  <a:off x="5267880" y="15422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5181480" y="18777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447920" y="2860560"/>
              <a:ext cx="1789920" cy="1894680"/>
              <a:chOff x="1447920" y="2860560"/>
              <a:chExt cx="1789920" cy="189468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447920" y="2860560"/>
                <a:ext cx="1789920" cy="1894680"/>
                <a:chOff x="1447920" y="2860560"/>
                <a:chExt cx="1789920" cy="1894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447920" y="286056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未知"/>
                <p:cNvSpPr/>
                <p:nvPr/>
              </p:nvSpPr>
              <p:spPr>
                <a:xfrm>
                  <a:off x="1652400" y="289188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1563840" y="37026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097240" y="4263840"/>
              <a:ext cx="2065680" cy="2105280"/>
              <a:chOff x="5097240" y="4263840"/>
              <a:chExt cx="2065680" cy="210528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097240" y="4263840"/>
                <a:ext cx="2065680" cy="2105280"/>
                <a:chOff x="5097240" y="4263840"/>
                <a:chExt cx="2065680" cy="2105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97240" y="42638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2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>
                  <a:off x="5333400" y="42987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5412600" y="517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65420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5776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41400" y="63694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3520" y="25092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7973000">
            <a:off x="488232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3465600">
            <a:off x="488160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4368800">
            <a:off x="366264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7534800">
            <a:off x="362484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302" name="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317" name="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5472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337" name="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77a4"/>
                    </a:gs>
                    <a:gs pos="100000">
                      <a:srgbClr val="4e91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0256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ed8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1876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066040" y="1981080"/>
                <a:ext cx="600480" cy="594360"/>
                <a:chOff x="2066040" y="1981080"/>
                <a:chExt cx="600480" cy="5943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06604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07216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7936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8548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1716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f8b4a"/>
                    </a:gs>
                    <a:gs pos="100000">
                      <a:srgbClr val="34b03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60792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5eb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62412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6f7d9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4efc0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271400" y="1981080"/>
                <a:ext cx="600480" cy="594360"/>
                <a:chOff x="4271400" y="1981080"/>
                <a:chExt cx="600480" cy="594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27140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27752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28472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9084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32252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81328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bed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82948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476760" y="1981080"/>
                <a:ext cx="600480" cy="594360"/>
                <a:chOff x="6476760" y="1981080"/>
                <a:chExt cx="600480" cy="5943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47676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8288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9008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620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2788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90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91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94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9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2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25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26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29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38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4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7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56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101600" y="2031840"/>
            <a:ext cx="6056640" cy="407880"/>
            <a:chOff x="1101600" y="2031840"/>
            <a:chExt cx="6056640" cy="407880"/>
          </a:xfrm>
        </p:grpSpPr>
        <p:sp>
          <p:nvSpPr>
            <p:cNvPr id="469" name="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01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9216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9" idx="3"/>
              <a:endCxn id="470" idx="1"/>
            </p:cNvCxnSpPr>
            <p:nvPr/>
          </p:nvCxnSpPr>
          <p:spPr>
            <a:xfrm>
              <a:off x="1837800" y="2255400"/>
              <a:ext cx="98676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0" idx="3"/>
              <a:endCxn id="471" idx="1"/>
            </p:cNvCxnSpPr>
            <p:nvPr/>
          </p:nvCxnSpPr>
          <p:spPr>
            <a:xfrm>
              <a:off x="3592440" y="225540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478" name="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804680" y="1913400"/>
              <a:ext cx="1130760" cy="1064520"/>
              <a:chOff x="1804680" y="1913400"/>
              <a:chExt cx="1130760" cy="1064520"/>
            </a:xfrm>
          </p:grpSpPr>
          <p:sp>
            <p:nvSpPr>
              <p:cNvPr id="480" name=""/>
              <p:cNvSpPr/>
              <p:nvPr/>
            </p:nvSpPr>
            <p:spPr>
              <a:xfrm>
                <a:off x="1804680" y="191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25d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>
                <a:off x="1875240" y="198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bcee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bbc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30680" y="220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485" name="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804680" y="3361320"/>
              <a:ext cx="1130760" cy="1064520"/>
              <a:chOff x="1804680" y="3361320"/>
              <a:chExt cx="1130760" cy="1064520"/>
            </a:xfrm>
          </p:grpSpPr>
          <p:sp>
            <p:nvSpPr>
              <p:cNvPr id="487" name=""/>
              <p:cNvSpPr/>
              <p:nvPr/>
            </p:nvSpPr>
            <p:spPr>
              <a:xfrm>
                <a:off x="1804680" y="33613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cbac9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>
                <a:off x="1875240" y="34297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a1b6">
                      <a:alpha val="0"/>
                    </a:srgbClr>
                  </a:gs>
                  <a:gs pos="100000">
                    <a:srgbClr val="a9d6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3068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492" name="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804680" y="4837680"/>
              <a:ext cx="1130760" cy="1064520"/>
              <a:chOff x="1804680" y="4837680"/>
              <a:chExt cx="1130760" cy="1064520"/>
            </a:xfrm>
          </p:grpSpPr>
          <p:sp>
            <p:nvSpPr>
              <p:cNvPr id="494" name=""/>
              <p:cNvSpPr/>
              <p:nvPr/>
            </p:nvSpPr>
            <p:spPr>
              <a:xfrm>
                <a:off x="1804680" y="48376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a9f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>
                <a:off x="1875240" y="49060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>
                      <a:alpha val="0"/>
                    </a:srgbClr>
                  </a:gs>
                  <a:gs pos="100000">
                    <a:srgbClr val="cee2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3068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680"/>
                <a:gridCol w="1120680"/>
                <a:gridCol w="1098360"/>
                <a:gridCol w="1095480"/>
                <a:gridCol w="1104840"/>
                <a:gridCol w="109548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520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8bfcd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c5189"/>
                </a:gs>
                <a:gs pos="100000">
                  <a:srgbClr val="4987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1616400" y="22424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c285f"/>
                </a:gs>
                <a:gs pos="100000">
                  <a:srgbClr val="364e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52c08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532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5e783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6a1b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67816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25146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87e3"/>
              </a:gs>
              <a:gs pos="100000">
                <a:srgbClr val="b6c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1828800"/>
            <a:ext cx="4572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4eb6"/>
              </a:gs>
              <a:gs pos="50000">
                <a:srgbClr val="7d8ccf"/>
              </a:gs>
              <a:gs pos="100000">
                <a:srgbClr val="364e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56160" y="31240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14400" y="4387680"/>
            <a:ext cx="1486080" cy="1989000"/>
            <a:chOff x="914400" y="4387680"/>
            <a:chExt cx="1486080" cy="1989000"/>
          </a:xfrm>
        </p:grpSpPr>
        <p:grpSp>
          <p:nvGrpSpPr>
            <p:cNvPr id="545" name=""/>
            <p:cNvGrpSpPr/>
            <p:nvPr/>
          </p:nvGrpSpPr>
          <p:grpSpPr>
            <a:xfrm>
              <a:off x="914400" y="4387680"/>
              <a:ext cx="1486080" cy="1514520"/>
              <a:chOff x="914400" y="4387680"/>
              <a:chExt cx="1486080" cy="151452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914400" y="43876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未知"/>
                <p:cNvSpPr/>
                <p:nvPr/>
              </p:nvSpPr>
              <p:spPr>
                <a:xfrm>
                  <a:off x="108432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107244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066680" y="5987880"/>
              <a:ext cx="1206720" cy="3888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781680" y="4343400"/>
            <a:ext cx="1523880" cy="2066760"/>
            <a:chOff x="6781680" y="4343400"/>
            <a:chExt cx="1523880" cy="2066760"/>
          </a:xfrm>
        </p:grpSpPr>
        <p:grpSp>
          <p:nvGrpSpPr>
            <p:cNvPr id="552" name=""/>
            <p:cNvGrpSpPr/>
            <p:nvPr/>
          </p:nvGrpSpPr>
          <p:grpSpPr>
            <a:xfrm>
              <a:off x="6781680" y="4343400"/>
              <a:ext cx="1523880" cy="1531800"/>
              <a:chOff x="6781680" y="4343400"/>
              <a:chExt cx="1523880" cy="15318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6781680" y="4343400"/>
                <a:ext cx="1523880" cy="1531800"/>
                <a:chOff x="6781680" y="4343400"/>
                <a:chExt cx="1523880" cy="15318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781680" y="434340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未知"/>
                <p:cNvSpPr/>
                <p:nvPr/>
              </p:nvSpPr>
              <p:spPr>
                <a:xfrm>
                  <a:off x="6955920" y="436860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692460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6824520" y="5923080"/>
              <a:ext cx="1455840" cy="487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819520" y="4387680"/>
            <a:ext cx="1523880" cy="2089080"/>
            <a:chOff x="2819520" y="4387680"/>
            <a:chExt cx="1523880" cy="2089080"/>
          </a:xfrm>
        </p:grpSpPr>
        <p:grpSp>
          <p:nvGrpSpPr>
            <p:cNvPr id="559" name=""/>
            <p:cNvGrpSpPr/>
            <p:nvPr/>
          </p:nvGrpSpPr>
          <p:grpSpPr>
            <a:xfrm>
              <a:off x="2819520" y="4387680"/>
              <a:ext cx="1523880" cy="1521000"/>
              <a:chOff x="2819520" y="4387680"/>
              <a:chExt cx="1523880" cy="1521000"/>
            </a:xfrm>
          </p:grpSpPr>
          <p:sp>
            <p:nvSpPr>
              <p:cNvPr id="560" name=""/>
              <p:cNvSpPr/>
              <p:nvPr/>
            </p:nvSpPr>
            <p:spPr>
              <a:xfrm>
                <a:off x="2819520" y="43876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b52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2993760" y="44128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2895840" y="51177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19520" y="59878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76920" y="4343400"/>
            <a:ext cx="1523880" cy="2089080"/>
            <a:chOff x="4876920" y="4343400"/>
            <a:chExt cx="1523880" cy="2089080"/>
          </a:xfrm>
        </p:grpSpPr>
        <p:grpSp>
          <p:nvGrpSpPr>
            <p:cNvPr id="565" name=""/>
            <p:cNvGrpSpPr/>
            <p:nvPr/>
          </p:nvGrpSpPr>
          <p:grpSpPr>
            <a:xfrm>
              <a:off x="4876920" y="4343400"/>
              <a:ext cx="1523880" cy="1521000"/>
              <a:chOff x="4876920" y="4343400"/>
              <a:chExt cx="1523880" cy="1521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876920" y="43434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545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5051160" y="4368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87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953240" y="50734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594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5d9cb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7e4f8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3d8ee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9f2de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695E-7108-4253-968A-FF48345009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3080" y="1889280"/>
            <a:ext cx="73454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36708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9066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7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78168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66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763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教学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5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5000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c3b0a"/>
                </a:gs>
                <a:gs pos="50000">
                  <a:srgbClr val="d9520f"/>
                </a:gs>
                <a:gs pos="100000">
                  <a:srgbClr val="9c3b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77483"/>
                </a:gs>
                <a:gs pos="50000">
                  <a:srgbClr val="36a1b6"/>
                </a:gs>
                <a:gs pos="100000">
                  <a:srgbClr val="277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08f4b"/>
                </a:gs>
                <a:gs pos="50000">
                  <a:srgbClr val="9cc769"/>
                </a:gs>
                <a:gs pos="100000">
                  <a:srgbClr val="708f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461a4"/>
                </a:gs>
                <a:gs pos="50000">
                  <a:srgbClr val="4987e3"/>
                </a:gs>
                <a:gs pos="100000">
                  <a:srgbClr val="3461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87e3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385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2bcc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http://www.eeppt.com</dc:creator>
  <dc:description>ppt模板下载网站 http://www.eeppt.com</dc:description>
  <dc:language>en-US</dc:language>
  <cp:lastModifiedBy/>
  <dcterms:modified xsi:type="dcterms:W3CDTF">2015-06-14T01:11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