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6E06-3B43-4F55-A5A4-1276A1FCC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A2AF-D243-4D69-8297-AAE3E3A3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05A9-5164-48E5-983D-E5BD752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12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2092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12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2092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9355-DC02-4E66-888B-BEC44B366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DF92-814B-4F9F-BDEF-1BADF1C1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C581B-6059-4D6E-8A8D-53F83DE8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63F5A-EEE2-4B40-BDC7-21D67DBB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1664-426B-48A4-886D-94C0AA1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22243-E6F7-4271-9FCD-CCF51BB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781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6B6FF-D7FB-4F42-99B3-EA248CB6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A9366-8D70-4A29-B185-F07C9F15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400F-2F08-408D-8CAB-619B9601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18764-DCDD-4C90-B769-8B38122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5D3B-45AA-45FA-BE8B-992C380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07DA-EA9D-4808-BFA0-89114C2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14EFA-0A94-41BE-83C0-5C122174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1256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20920" y="106632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1256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20920" y="3812760"/>
            <a:ext cx="2674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0E746-3BB3-4CAA-BCAC-37721218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3D4F-F5B7-45B4-B3CA-7BDE7586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E011-6D06-4850-8D65-DC2C2D6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7A7B-3B7C-4F25-8A35-0D846FF8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7816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E73D-F1AD-4AE3-B92A-902E1677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B22A-6ECE-4D59-8031-58B7D35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0480" y="381276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92D9-9761-4341-B203-CFB2140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678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0480" y="1066320"/>
            <a:ext cx="4052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12760"/>
            <a:ext cx="8305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AA86-24C6-4190-A930-606F11DC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22320" y="344520"/>
            <a:ext cx="819324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2" name="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269dd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045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c59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04920" y="6462360"/>
            <a:ext cx="2666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9" name="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292960" y="6374880"/>
            <a:ext cx="457200" cy="2286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6E3-3F27-4E24-A94A-61D9659AAE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未知"/>
          <p:cNvSpPr/>
          <p:nvPr/>
        </p:nvSpPr>
        <p:spPr>
          <a:xfrm>
            <a:off x="-7920" y="2138400"/>
            <a:ext cx="801360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269dd8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81160"/>
            <a:ext cx="67053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2a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42a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3886200" y="6527520"/>
            <a:ext cx="1752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542a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542a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04560" y="65019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292960" y="6413040"/>
            <a:ext cx="4572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788A-7BEA-4108-9995-1982B7EC6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7560" y="1666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01640" y="2209680"/>
            <a:ext cx="2032200" cy="1717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7840" y="3048120"/>
            <a:ext cx="1957320" cy="1717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87600" y="3921120"/>
            <a:ext cx="2033640" cy="1717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3366"/>
            </a:outerShdw>
          </a:effectLst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468440"/>
            <a:ext cx="6705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42aa"/>
                </a:solidFill>
                <a:latin typeface="Arial"/>
              </a:rPr>
              <a:t>蓝色外国</a:t>
            </a:r>
            <a:r>
              <a:rPr b="1" lang="zh-CN" sz="3600" spc="-1" strike="noStrike">
                <a:solidFill>
                  <a:srgbClr val="6542aa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6542aa"/>
                </a:solidFill>
                <a:latin typeface="Arial"/>
              </a:rPr>
              <a:t>模板在线下载</a:t>
            </a:r>
            <a:endParaRPr b="1" lang="en-US" sz="3600" spc="-1" strike="noStrike">
              <a:solidFill>
                <a:srgbClr val="6542a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25600" y="30477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1523880"/>
            <a:ext cx="6781680" cy="4114800"/>
            <a:chOff x="1219320" y="1523880"/>
            <a:chExt cx="6781680" cy="4114800"/>
          </a:xfrm>
        </p:grpSpPr>
        <p:sp>
          <p:nvSpPr>
            <p:cNvPr id="276" name=""/>
            <p:cNvSpPr/>
            <p:nvPr/>
          </p:nvSpPr>
          <p:spPr>
            <a:xfrm>
              <a:off x="3722760" y="335268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335268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335268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6542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214776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69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3480" y="214776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21520" y="15285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c59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1520" y="15285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c59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2760" y="16398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82f71"/>
                </a:gs>
                <a:gs pos="50000">
                  <a:srgbClr val="4c59d2"/>
                </a:gs>
                <a:gs pos="100000">
                  <a:srgbClr val="282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57960" y="16477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c59d2">
                    <a:alpha val="0"/>
                  </a:srgbClr>
                </a:gs>
                <a:gs pos="100000">
                  <a:srgbClr val="3038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1960" y="171108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5640" y="1523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0b5c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640" y="1523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0b5c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06520" y="163332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66169"/>
                </a:gs>
                <a:gs pos="50000">
                  <a:srgbClr val="a0b5c4"/>
                </a:gs>
                <a:gs pos="100000">
                  <a:srgbClr val="5661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08320" y="1636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a0b5c4">
                    <a:alpha val="0"/>
                  </a:srgbClr>
                </a:gs>
                <a:gs pos="100000">
                  <a:srgbClr val="657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1400" y="170820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501920" y="1726920"/>
              <a:ext cx="1290600" cy="1278000"/>
              <a:chOff x="1501920" y="1726920"/>
              <a:chExt cx="1290600" cy="1278000"/>
            </a:xfrm>
          </p:grpSpPr>
          <p:sp>
            <p:nvSpPr>
              <p:cNvPr id="292" name=""/>
              <p:cNvSpPr/>
              <p:nvPr/>
            </p:nvSpPr>
            <p:spPr>
              <a:xfrm>
                <a:off x="1501920" y="17269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18480" y="17337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31800" y="17463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01640" y="17787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759480" y="15285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69dd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59480" y="15285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14863"/>
                </a:gs>
                <a:gs pos="100000">
                  <a:srgbClr val="269dd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70360" y="16398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45474"/>
                </a:gs>
                <a:gs pos="50000">
                  <a:srgbClr val="269dd8"/>
                </a:gs>
                <a:gs pos="100000">
                  <a:srgbClr val="1454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2160" y="1641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69dd8">
                    <a:alpha val="0"/>
                  </a:srgbClr>
                </a:gs>
                <a:gs pos="100000">
                  <a:srgbClr val="1863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3440" y="171108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965760" y="1726920"/>
              <a:ext cx="1290600" cy="1278000"/>
              <a:chOff x="3965760" y="1726920"/>
              <a:chExt cx="1290600" cy="1278000"/>
            </a:xfrm>
          </p:grpSpPr>
          <p:sp>
            <p:nvSpPr>
              <p:cNvPr id="302" name=""/>
              <p:cNvSpPr/>
              <p:nvPr/>
            </p:nvSpPr>
            <p:spPr>
              <a:xfrm>
                <a:off x="3965760" y="17269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982320" y="17337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995640" y="17463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65480" y="17787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35720" y="1726920"/>
              <a:ext cx="1292400" cy="1278000"/>
              <a:chOff x="6435720" y="1726920"/>
              <a:chExt cx="1292400" cy="1278000"/>
            </a:xfrm>
          </p:grpSpPr>
          <p:sp>
            <p:nvSpPr>
              <p:cNvPr id="307" name=""/>
              <p:cNvSpPr/>
              <p:nvPr/>
            </p:nvSpPr>
            <p:spPr>
              <a:xfrm>
                <a:off x="6435720" y="172692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52280" y="173376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65600" y="174636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35800" y="177876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76508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360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00680" y="2200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371600" y="1298520"/>
            <a:ext cx="5715000" cy="5330520"/>
            <a:chOff x="1371600" y="1298520"/>
            <a:chExt cx="5715000" cy="5330520"/>
          </a:xfrm>
        </p:grpSpPr>
        <p:sp>
          <p:nvSpPr>
            <p:cNvPr id="317" name=""/>
            <p:cNvSpPr/>
            <p:nvPr/>
          </p:nvSpPr>
          <p:spPr>
            <a:xfrm rot="13770000">
              <a:off x="4702680" y="388224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856000">
              <a:off x="2679480" y="340380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8394200">
              <a:off x="4837680" y="224316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643560" y="2280600"/>
              <a:ext cx="1652400" cy="1684080"/>
              <a:chOff x="3643560" y="2280600"/>
              <a:chExt cx="1652400" cy="16840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643560" y="2280600"/>
                <a:ext cx="1652400" cy="1684080"/>
                <a:chOff x="3643560" y="2280600"/>
                <a:chExt cx="1652400" cy="1684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560" y="22806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62b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3832200" y="23083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3750120" y="30128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89320" y="1298520"/>
              <a:ext cx="925200" cy="912240"/>
              <a:chOff x="5089320" y="1298520"/>
              <a:chExt cx="925200" cy="9122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089320" y="1298520"/>
                <a:ext cx="894960" cy="912240"/>
                <a:chOff x="5089320" y="1298520"/>
                <a:chExt cx="894960" cy="912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89320" y="12985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9dd8"/>
                    </a:gs>
                    <a:gs pos="100000">
                      <a:srgbClr val="09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191560" y="13136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9d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105160" y="1649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371600" y="2631960"/>
              <a:ext cx="1789920" cy="1894680"/>
              <a:chOff x="1371600" y="2631960"/>
              <a:chExt cx="1789920" cy="1894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371600" y="2631960"/>
                <a:ext cx="1789920" cy="1894680"/>
                <a:chOff x="1371600" y="2631960"/>
                <a:chExt cx="1789920" cy="1894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371600" y="263196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547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1576080" y="266328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1487520" y="34740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020920" y="4035240"/>
              <a:ext cx="2065680" cy="2105280"/>
              <a:chOff x="5020920" y="4035240"/>
              <a:chExt cx="2065680" cy="21052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020920" y="4035240"/>
                <a:ext cx="2065680" cy="2105280"/>
                <a:chOff x="5020920" y="4035240"/>
                <a:chExt cx="2065680" cy="2105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20920" y="40352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262d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>
                  <a:off x="5257080" y="4070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5336280" y="4947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577880" y="45968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1440" y="39682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65080" y="61408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27200" y="22806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6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69dd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dcab"/>
                </a:gs>
                <a:gs pos="100000">
                  <a:srgbClr val="85b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c59d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c59d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82f71"/>
                </a:gs>
                <a:gs pos="50000">
                  <a:srgbClr val="4c59d2"/>
                </a:gs>
                <a:gs pos="100000">
                  <a:srgbClr val="282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c59d2">
                    <a:alpha val="0"/>
                  </a:srgbClr>
                </a:gs>
                <a:gs pos="100000">
                  <a:srgbClr val="3038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62120" y="6248520"/>
            <a:ext cx="5906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c59d2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79600" y="1832040"/>
            <a:ext cx="2170080" cy="4034880"/>
            <a:chOff x="57960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579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30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0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3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324080" y="1832040"/>
              <a:ext cx="642960" cy="642600"/>
              <a:chOff x="1324080" y="1832040"/>
              <a:chExt cx="642960" cy="642600"/>
            </a:xfrm>
          </p:grpSpPr>
          <p:sp>
            <p:nvSpPr>
              <p:cNvPr id="386" name=""/>
              <p:cNvSpPr/>
              <p:nvPr/>
            </p:nvSpPr>
            <p:spPr>
              <a:xfrm>
                <a:off x="1324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30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38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44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8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464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41560" y="1832040"/>
            <a:ext cx="2166840" cy="4034880"/>
            <a:chOff x="2941560" y="1832040"/>
            <a:chExt cx="2166840" cy="4034880"/>
          </a:xfrm>
        </p:grpSpPr>
        <p:sp>
          <p:nvSpPr>
            <p:cNvPr id="394" name=""/>
            <p:cNvSpPr/>
            <p:nvPr/>
          </p:nvSpPr>
          <p:spPr>
            <a:xfrm>
              <a:off x="29415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750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923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923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860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925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004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065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18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26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178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44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890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297400" y="1832040"/>
            <a:ext cx="2170080" cy="4034880"/>
            <a:chOff x="5297400" y="1832040"/>
            <a:chExt cx="2170080" cy="4034880"/>
          </a:xfrm>
        </p:grpSpPr>
        <p:sp>
          <p:nvSpPr>
            <p:cNvPr id="408" name=""/>
            <p:cNvSpPr/>
            <p:nvPr/>
          </p:nvSpPr>
          <p:spPr>
            <a:xfrm>
              <a:off x="53038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70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546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546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48360" y="1832040"/>
              <a:ext cx="642960" cy="642600"/>
              <a:chOff x="6048360" y="1832040"/>
              <a:chExt cx="642960" cy="642600"/>
            </a:xfrm>
          </p:grpSpPr>
          <p:sp>
            <p:nvSpPr>
              <p:cNvPr id="413" name=""/>
              <p:cNvSpPr/>
              <p:nvPr/>
            </p:nvSpPr>
            <p:spPr>
              <a:xfrm>
                <a:off x="60483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548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627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692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030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1884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798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974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16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24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25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30" name="未知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未知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33" name="未知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未知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54" name="未知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未知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75" name="未知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未知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96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8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1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542aa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542aa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515" name=""/>
              <p:cNvCxnSpPr>
                <a:stCxn id="511" idx="3"/>
                <a:endCxn id="51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  <p:cxnSp>
            <p:nvCxnSpPr>
              <p:cNvPr id="516" name=""/>
              <p:cNvCxnSpPr>
                <a:stCxn id="512" idx="3"/>
                <a:endCxn id="51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  <p:cxnSp>
            <p:nvCxnSpPr>
              <p:cNvPr id="51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6542aa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18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a6d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c8e8"/>
                  </a:gs>
                  <a:gs pos="50000">
                    <a:srgbClr val="269dd8">
                      <a:alpha val="0"/>
                    </a:srgbClr>
                  </a:gs>
                  <a:gs pos="100000">
                    <a:srgbClr val="88c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2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c86dd"/>
                  </a:gs>
                  <a:gs pos="100000">
                    <a:srgbClr val="4c59d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9d2">
                      <a:alpha val="0"/>
                    </a:srgbClr>
                  </a:gs>
                  <a:gs pos="100000">
                    <a:srgbClr val="b2b7e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3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3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0d291"/>
                  </a:gs>
                  <a:gs pos="100000">
                    <a:srgbClr val="85ba5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ba54">
                      <a:alpha val="0"/>
                    </a:srgbClr>
                  </a:gs>
                  <a:gs pos="100000">
                    <a:srgbClr val="c2dca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615168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5608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3440" y="31291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1291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127520" y="1558440"/>
            <a:ext cx="6215400" cy="1324800"/>
            <a:chOff x="1127520" y="1558440"/>
            <a:chExt cx="6215400" cy="1324800"/>
          </a:xfrm>
        </p:grpSpPr>
        <p:sp>
          <p:nvSpPr>
            <p:cNvPr id="547" name=""/>
            <p:cNvSpPr/>
            <p:nvPr/>
          </p:nvSpPr>
          <p:spPr>
            <a:xfrm rot="3418800">
              <a:off x="133524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232960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258280" y="1939680"/>
              <a:ext cx="901080" cy="124200"/>
              <a:chOff x="2258280" y="1939680"/>
              <a:chExt cx="901080" cy="124200"/>
            </a:xfrm>
          </p:grpSpPr>
          <p:sp>
            <p:nvSpPr>
              <p:cNvPr id="549" name=""/>
              <p:cNvSpPr/>
              <p:nvPr/>
            </p:nvSpPr>
            <p:spPr>
              <a:xfrm>
                <a:off x="225828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4468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2292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9600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3418800">
              <a:off x="2999880" y="1704240"/>
              <a:ext cx="874080" cy="970920"/>
            </a:xfrm>
            <a:prstGeom prst="rect">
              <a:avLst/>
            </a:prstGeom>
            <a:solidFill>
              <a:srgbClr val="269dd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922920" y="1939680"/>
              <a:ext cx="901080" cy="124200"/>
              <a:chOff x="3922920" y="1939680"/>
              <a:chExt cx="901080" cy="124200"/>
            </a:xfrm>
          </p:grpSpPr>
          <p:sp>
            <p:nvSpPr>
              <p:cNvPr id="555" name=""/>
              <p:cNvSpPr/>
              <p:nvPr/>
            </p:nvSpPr>
            <p:spPr>
              <a:xfrm>
                <a:off x="3922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09320" y="194040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87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064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3418800">
              <a:off x="4595760" y="170388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232960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587560" y="1939680"/>
              <a:ext cx="1178640" cy="124200"/>
              <a:chOff x="5587560" y="1939680"/>
              <a:chExt cx="1178640" cy="12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558756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00600" y="19404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8764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68304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rot="3418800">
              <a:off x="6260400" y="1703880"/>
              <a:ext cx="874080" cy="971280"/>
            </a:xfrm>
            <a:prstGeom prst="rect">
              <a:avLst/>
            </a:prstGeom>
            <a:solidFill>
              <a:srgbClr val="269dd8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4425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81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432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956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90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4280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380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3364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89040" y="2155680"/>
          <a:ext cx="7537320" cy="3176640"/>
        </p:xfrm>
        <a:graphic>
          <a:graphicData uri="http://schemas.openxmlformats.org/drawingml/2006/table">
            <a:tbl>
              <a:tblPr/>
              <a:tblGrid>
                <a:gridCol w="1700280"/>
                <a:gridCol w="1185840"/>
                <a:gridCol w="1163520"/>
                <a:gridCol w="1160640"/>
                <a:gridCol w="1166760"/>
                <a:gridCol w="116028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542aa"/>
                      </a:solidFill>
                    </a:lnR>
                    <a:lnT>
                      <a:noFill/>
                    </a:lnT>
                    <a:lnB w="5760">
                      <a:solidFill>
                        <a:srgbClr val="6542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269d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542aa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42aa"/>
                      </a:solidFill>
                    </a:lnL>
                    <a:lnR w="5760">
                      <a:solidFill>
                        <a:srgbClr val="6542aa"/>
                      </a:solidFill>
                    </a:lnR>
                    <a:lnT w="5760">
                      <a:solidFill>
                        <a:srgbClr val="6542aa"/>
                      </a:solidFill>
                    </a:lnT>
                    <a:lnB w="5760">
                      <a:solidFill>
                        <a:srgbClr val="6542aa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7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878fe0"/>
                </a:gs>
                <a:gs pos="100000">
                  <a:srgbClr val="4c59d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75f82"/>
                </a:gs>
                <a:gs pos="100000">
                  <a:srgbClr val="269d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8642d"/>
                </a:gs>
                <a:gs pos="100000">
                  <a:srgbClr val="85ba54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9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b5c4"/>
                  </a:gs>
                  <a:gs pos="100000">
                    <a:srgbClr val="606d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100000">
                    <a:srgbClr val="a0b5c4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100000">
                    <a:srgbClr val="a0b5c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33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600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5575"/>
                </a:gs>
                <a:gs pos="50000">
                  <a:srgbClr val="269dd8"/>
                </a:gs>
                <a:gs pos="100000">
                  <a:srgbClr val="145575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8984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5ba54"/>
                      </a:gs>
                      <a:gs pos="100000">
                        <a:srgbClr val="5475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5ba5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0b5c4"/>
                      </a:gs>
                      <a:gs pos="100000">
                        <a:srgbClr val="262b2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0b5c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>
                <a:off x="678168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262d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9dd8"/>
                      </a:gs>
                      <a:gs pos="100000">
                        <a:srgbClr val="13506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269dd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8800" y="2100240"/>
            <a:ext cx="5410080" cy="665280"/>
            <a:chOff x="1828800" y="210024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828800" y="2100240"/>
              <a:ext cx="762120" cy="665280"/>
              <a:chOff x="1828800" y="210024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34920" y="2111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2880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73080" y="21394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438280" y="270972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12256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752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28800" y="3014640"/>
            <a:ext cx="5410080" cy="665280"/>
            <a:chOff x="1828800" y="301464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828800" y="3014640"/>
              <a:ext cx="762120" cy="665280"/>
              <a:chOff x="1828800" y="301464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834920" y="3025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880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3080" y="3053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8280" y="362412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303696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3906720"/>
            <a:ext cx="5410080" cy="665280"/>
            <a:chOff x="1828800" y="3906720"/>
            <a:chExt cx="5410080" cy="665280"/>
          </a:xfrm>
        </p:grpSpPr>
        <p:grpSp>
          <p:nvGrpSpPr>
            <p:cNvPr id="121" name=""/>
            <p:cNvGrpSpPr/>
            <p:nvPr/>
          </p:nvGrpSpPr>
          <p:grpSpPr>
            <a:xfrm>
              <a:off x="1828800" y="3906720"/>
              <a:ext cx="762120" cy="665280"/>
              <a:chOff x="1828800" y="3906720"/>
              <a:chExt cx="762120" cy="665280"/>
            </a:xfrm>
          </p:grpSpPr>
          <p:sp>
            <p:nvSpPr>
              <p:cNvPr id="122" name=""/>
              <p:cNvSpPr/>
              <p:nvPr/>
            </p:nvSpPr>
            <p:spPr>
              <a:xfrm>
                <a:off x="1834920" y="3917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73080" y="3945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38280" y="451620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39290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752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828800" y="4821120"/>
            <a:ext cx="5410080" cy="665280"/>
            <a:chOff x="1828800" y="4821120"/>
            <a:chExt cx="5410080" cy="665280"/>
          </a:xfrm>
        </p:grpSpPr>
        <p:grpSp>
          <p:nvGrpSpPr>
            <p:cNvPr id="129" name=""/>
            <p:cNvGrpSpPr/>
            <p:nvPr/>
          </p:nvGrpSpPr>
          <p:grpSpPr>
            <a:xfrm>
              <a:off x="1828800" y="4821120"/>
              <a:ext cx="762120" cy="665280"/>
              <a:chOff x="1828800" y="4821120"/>
              <a:chExt cx="762120" cy="665280"/>
            </a:xfrm>
          </p:grpSpPr>
          <p:sp>
            <p:nvSpPr>
              <p:cNvPr id="130" name=""/>
              <p:cNvSpPr/>
              <p:nvPr/>
            </p:nvSpPr>
            <p:spPr>
              <a:xfrm>
                <a:off x="1834920" y="4832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4821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73080" y="4860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438280" y="5430600"/>
              <a:ext cx="48006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48434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752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2209680" y="12952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5ba54"/>
                    </a:gs>
                    <a:gs pos="100000">
                      <a:srgbClr val="269dd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5ba54"/>
                  </a:gs>
                  <a:gs pos="100000">
                    <a:srgbClr val="269dd8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428640" y="3048120"/>
            <a:ext cx="4452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6324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4c59d2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AAF0-DB41-458D-8C37-FE80EF1370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7360" y="1447560"/>
            <a:ext cx="776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c59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On the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View]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menu, point to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Master],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and then click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Slide Master]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or </a:t>
            </a:r>
            <a:r>
              <a:rPr b="1" lang="en-US" sz="2500" spc="-1" strike="noStrike">
                <a:solidFill>
                  <a:srgbClr val="269dd8"/>
                </a:solidFill>
                <a:latin typeface="Arial"/>
              </a:rPr>
              <a:t>[Notes Master].</a:t>
            </a:r>
            <a:r>
              <a:rPr b="1" lang="en-US" sz="2500" spc="-1" strike="noStrike">
                <a:solidFill>
                  <a:srgbClr val="6542aa"/>
                </a:solidFill>
                <a:latin typeface="Arial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6542aa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542a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5105520"/>
            <a:ext cx="632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itle Image –  www.multibits.co.kr - CD: School Days (EyeWire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41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0d291"/>
              </a:gs>
              <a:gs pos="100000">
                <a:srgbClr val="85ba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45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42b65"/>
                    </a:gs>
                    <a:gs pos="100000">
                      <a:srgbClr val="4c59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aeb4e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2dbf0"/>
                  </a:gs>
                  <a:gs pos="100000">
                    <a:srgbClr val="269dd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69dd8">
                      <a:alpha val="48235"/>
                    </a:srgbClr>
                  </a:gs>
                  <a:gs pos="100000">
                    <a:srgbClr val="1d7ba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69dd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55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7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c9ef"/>
              </a:gs>
              <a:gs pos="100000">
                <a:srgbClr val="4c59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6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e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69dd8"/>
                </a:gs>
                <a:gs pos="100000">
                  <a:srgbClr val="0b31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7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35a"/>
                </a:gs>
                <a:gs pos="50000">
                  <a:srgbClr val="a0b5c4"/>
                </a:gs>
                <a:gs pos="100000">
                  <a:srgbClr val="4953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98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99" name=""/>
              <p:cNvSpPr/>
              <p:nvPr/>
            </p:nvSpPr>
            <p:spPr>
              <a:xfrm flipH="1" rot="16200000">
                <a:off x="2927880" y="295056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5531400" y="28994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0800000">
                <a:off x="423936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c1b4dc"/>
                  </a:gs>
                  <a:gs pos="100000">
                    <a:srgbClr val="6542a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05880" y="190512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720" y="204012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60040" y="2166480"/>
                <a:ext cx="182016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4c59d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60040" y="2166480"/>
                <a:ext cx="182016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9920" y="2289960"/>
                <a:ext cx="1580760" cy="1631520"/>
              </a:xfrm>
              <a:prstGeom prst="ellipse">
                <a:avLst/>
              </a:prstGeom>
              <a:gradFill rotWithShape="0">
                <a:gsLst>
                  <a:gs pos="0">
                    <a:srgbClr val="282f71"/>
                  </a:gs>
                  <a:gs pos="50000">
                    <a:srgbClr val="4c59d2"/>
                  </a:gs>
                  <a:gs pos="100000">
                    <a:srgbClr val="282f7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79920" y="2289960"/>
                <a:ext cx="158076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863"/>
                </a:gs>
                <a:gs pos="50000">
                  <a:srgbClr val="269dd8"/>
                </a:gs>
                <a:gs pos="100000">
                  <a:srgbClr val="114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2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8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5526"/>
                  </a:gs>
                  <a:gs pos="50000">
                    <a:srgbClr val="85ba54"/>
                  </a:gs>
                  <a:gs pos="100000">
                    <a:srgbClr val="3d55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5b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2960"/>
                  </a:gs>
                  <a:gs pos="50000">
                    <a:srgbClr val="4c59d2"/>
                  </a:gs>
                  <a:gs pos="100000">
                    <a:srgbClr val="23296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4c5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35a"/>
                  </a:gs>
                  <a:gs pos="50000">
                    <a:srgbClr val="a0b5c4"/>
                  </a:gs>
                  <a:gs pos="100000">
                    <a:srgbClr val="49535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863"/>
                  </a:gs>
                  <a:gs pos="50000">
                    <a:srgbClr val="269dd8"/>
                  </a:gs>
                  <a:gs pos="100000">
                    <a:srgbClr val="1148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69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0863c"/>
                  </a:gs>
                  <a:gs pos="50000">
                    <a:srgbClr val="85ba54"/>
                  </a:gs>
                  <a:gs pos="100000">
                    <a:srgbClr val="60863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64097"/>
                  </a:gs>
                  <a:gs pos="50000">
                    <a:srgbClr val="4c59d2"/>
                  </a:gs>
                  <a:gs pos="100000">
                    <a:srgbClr val="3640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73828d"/>
                  </a:gs>
                  <a:gs pos="50000">
                    <a:srgbClr val="a0b5c4"/>
                  </a:gs>
                  <a:gs pos="100000">
                    <a:srgbClr val="7382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b719c"/>
                  </a:gs>
                  <a:gs pos="50000">
                    <a:srgbClr val="269dd8"/>
                  </a:gs>
                  <a:gs pos="100000">
                    <a:srgbClr val="1b71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67816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3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5b67d5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5526"/>
                </a:gs>
                <a:gs pos="50000">
                  <a:srgbClr val="85ba54"/>
                </a:gs>
                <a:gs pos="100000">
                  <a:srgbClr val="3d55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59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2960"/>
                </a:gs>
                <a:gs pos="50000">
                  <a:srgbClr val="4c59d2"/>
                </a:gs>
                <a:gs pos="100000">
                  <a:srgbClr val="232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c7d3d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66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a0b5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d454b"/>
                  </a:gs>
                  <a:gs pos="50000">
                    <a:srgbClr val="a0b5c4"/>
                  </a:gs>
                  <a:gs pos="100000">
                    <a:srgbClr val="3d45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1:13:4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