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7C3F-5E5C-40C1-96EC-D4D7177EC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DB12-1CDC-49E8-B833-65F8E1A03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BC3C-A0B3-4057-811A-0905D2110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528D-7323-481F-B0F6-99C50BDCB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C1F3-666D-4089-9BEF-B7FA743B4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68AE-E649-460E-B8AB-FE7232C20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1307-7FFE-4860-8FEE-513A6DE71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9B62-277E-4704-ADE2-0A8F72929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30FA-4E4D-403C-ACC5-7754EDB05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952B-4E19-4CCC-A00C-34349D8BF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D84E-281F-440C-9C00-1A216816D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ED70-A612-4BE9-9428-83A029F61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262080"/>
          <a:ext cx="914400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2080"/>
                    <a:ext cx="9144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-1440" y="950760"/>
            <a:ext cx="915192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5B50-03C2-4313-A788-331E9AFCBA71}" type="slidenum">
              <a:rPr b="0" lang="en-US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94324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6ca6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6ca6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5983" r="0" b="0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28440" y="1688040"/>
                <a:ext cx="9115560" cy="1022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440" y="5037840"/>
                <a:ext cx="9115560" cy="10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000"/>
              <a:ext cx="9097920" cy="406440"/>
              <a:chOff x="0" y="4689000"/>
              <a:chExt cx="9097920" cy="40644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8280"/>
                <a:ext cx="9097920" cy="3474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2920"/>
                <a:ext cx="9097920" cy="3618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491760" y="4269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蓝色医疗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模板下载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52480" y="548640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066680" y="2362320"/>
            <a:ext cx="7016760" cy="2971800"/>
            <a:chOff x="1066680" y="2362320"/>
            <a:chExt cx="7016760" cy="2971800"/>
          </a:xfrm>
        </p:grpSpPr>
        <p:sp>
          <p:nvSpPr>
            <p:cNvPr id="281" name=""/>
            <p:cNvSpPr/>
            <p:nvPr/>
          </p:nvSpPr>
          <p:spPr>
            <a:xfrm>
              <a:off x="3052800" y="309888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67400" y="309888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db52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db52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76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776112"/>
                </a:gs>
                <a:gs pos="50000">
                  <a:srgbClr val="ddb523"/>
                </a:gs>
                <a:gs pos="100000">
                  <a:srgbClr val="7761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0"/>
                  </a:srgbClr>
                </a:gs>
                <a:gs pos="100000">
                  <a:srgbClr val="8b721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9800" y="258444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98440" y="24955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294" name="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269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c8d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3f5c66"/>
                </a:gs>
                <a:gs pos="100000">
                  <a:srgbClr val="8ac8d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30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4a6b77"/>
                </a:gs>
                <a:gs pos="50000">
                  <a:srgbClr val="8ac8de"/>
                </a:gs>
                <a:gs pos="100000">
                  <a:srgbClr val="4a6b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4480" y="250200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8ac8de">
                    <a:alpha val="0"/>
                  </a:srgbClr>
                </a:gs>
                <a:gs pos="100000">
                  <a:srgbClr val="577e8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720" y="25844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433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309" name="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67320" y="261036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758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832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194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371600" y="1447920"/>
            <a:ext cx="7086600" cy="4476600"/>
            <a:chOff x="1371600" y="1447920"/>
            <a:chExt cx="7086600" cy="4476600"/>
          </a:xfrm>
        </p:grpSpPr>
        <p:sp>
          <p:nvSpPr>
            <p:cNvPr id="321" name="未知"/>
            <p:cNvSpPr/>
            <p:nvPr/>
          </p:nvSpPr>
          <p:spPr>
            <a:xfrm>
              <a:off x="1371600" y="1886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73360" y="366732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83160" y="372744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70440" y="4284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826600">
              <a:off x="1778040" y="4267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701720" y="3276720"/>
              <a:ext cx="1371240" cy="1441080"/>
              <a:chOff x="1701720" y="3276720"/>
              <a:chExt cx="1371240" cy="1441080"/>
            </a:xfrm>
          </p:grpSpPr>
          <p:sp>
            <p:nvSpPr>
              <p:cNvPr id="331" name=""/>
              <p:cNvSpPr/>
              <p:nvPr/>
            </p:nvSpPr>
            <p:spPr>
              <a:xfrm>
                <a:off x="170172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19720" y="328500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32680" y="329832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04320" y="333504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982160" y="3782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600200" y="251172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00280" y="19209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73440" y="2254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164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596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50" name=""/>
            <p:cNvSpPr/>
            <p:nvPr/>
          </p:nvSpPr>
          <p:spPr>
            <a:xfrm rot="17973000">
              <a:off x="4556880" y="2529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465600">
              <a:off x="4607280" y="4639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4368800">
              <a:off x="3388320" y="2551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7534800">
              <a:off x="3349800" y="460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db52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db52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776112"/>
                </a:gs>
                <a:gs pos="50000">
                  <a:srgbClr val="ddb523"/>
                </a:gs>
                <a:gs pos="100000">
                  <a:srgbClr val="7761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0"/>
                  </a:srgbClr>
                </a:gs>
                <a:gs pos="100000">
                  <a:srgbClr val="8b721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5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162920" y="6019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383" name=""/>
            <p:cNvSpPr/>
            <p:nvPr/>
          </p:nvSpPr>
          <p:spPr>
            <a:xfrm>
              <a:off x="12193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f1ebf1"/>
                </a:gs>
              </a:gsLst>
              <a:lin ang="5400000"/>
            </a:gradFill>
            <a:ln w="25560">
              <a:solidFill>
                <a:srgbClr val="996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84" name=""/>
            <p:cNvGraphicFramePr/>
            <p:nvPr/>
          </p:nvGraphicFramePr>
          <p:xfrm>
            <a:off x="1404000" y="2292840"/>
            <a:ext cx="292824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4000" y="229284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6" name=""/>
            <p:cNvSpPr/>
            <p:nvPr/>
          </p:nvSpPr>
          <p:spPr>
            <a:xfrm>
              <a:off x="152748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2f47"/>
                </a:gs>
                <a:gs pos="50000">
                  <a:srgbClr val="99669b"/>
                </a:gs>
                <a:gs pos="100000">
                  <a:srgbClr val="462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934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717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deeef4"/>
                </a:gs>
              </a:gsLst>
              <a:lin ang="5400000"/>
            </a:gradFill>
            <a:ln w="25560">
              <a:solidFill>
                <a:srgbClr val="8ac8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3"/>
            <a:stretch/>
          </p:blipFill>
          <p:spPr>
            <a:xfrm>
              <a:off x="4856400" y="229284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98024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5c66"/>
                </a:gs>
                <a:gs pos="50000">
                  <a:srgbClr val="8ac8de"/>
                </a:gs>
                <a:gs pos="100000">
                  <a:srgbClr val="3f5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033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458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96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11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25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30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0" y="1752480"/>
            <a:ext cx="9144000" cy="4188960"/>
            <a:chOff x="0" y="1752480"/>
            <a:chExt cx="9144000" cy="4188960"/>
          </a:xfrm>
        </p:grpSpPr>
        <p:grpSp>
          <p:nvGrpSpPr>
            <p:cNvPr id="441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379520" y="2609640"/>
              <a:ext cx="1931400" cy="3265560"/>
              <a:chOff x="1379520" y="2609640"/>
              <a:chExt cx="1931400" cy="326556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1782000" y="3446640"/>
                <a:ext cx="1528920" cy="2428560"/>
                <a:chOff x="1782000" y="3446640"/>
                <a:chExt cx="1528920" cy="242856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1782000" y="3605040"/>
                  <a:ext cx="1423080" cy="2270160"/>
                  <a:chOff x="1782000" y="3605040"/>
                  <a:chExt cx="1423080" cy="2270160"/>
                </a:xfrm>
              </p:grpSpPr>
              <p:sp>
                <p:nvSpPr>
                  <p:cNvPr id="447" name="未知"/>
                  <p:cNvSpPr/>
                  <p:nvPr/>
                </p:nvSpPr>
                <p:spPr>
                  <a:xfrm rot="3876600">
                    <a:off x="1353960" y="449316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未知"/>
                  <p:cNvSpPr/>
                  <p:nvPr/>
                </p:nvSpPr>
                <p:spPr>
                  <a:xfrm rot="3876600">
                    <a:off x="2723760" y="537336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2219040" y="3446640"/>
                  <a:ext cx="1091880" cy="1742040"/>
                  <a:chOff x="2219040" y="3446640"/>
                  <a:chExt cx="1091880" cy="1742040"/>
                </a:xfrm>
              </p:grpSpPr>
              <p:sp>
                <p:nvSpPr>
                  <p:cNvPr id="450" name="未知"/>
                  <p:cNvSpPr/>
                  <p:nvPr/>
                </p:nvSpPr>
                <p:spPr>
                  <a:xfrm flipV="1" rot="3876600">
                    <a:off x="1890360" y="412776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未知"/>
                  <p:cNvSpPr/>
                  <p:nvPr/>
                </p:nvSpPr>
                <p:spPr>
                  <a:xfrm flipV="1" rot="3876600">
                    <a:off x="2925720" y="481140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1379520" y="2609640"/>
                <a:ext cx="1274040" cy="1311480"/>
                <a:chOff x="1379520" y="2609640"/>
                <a:chExt cx="1274040" cy="13114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379520" y="260964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379520" y="260964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463760" y="269460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463760" y="269748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518480" y="275292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1533960" y="2768400"/>
                  <a:ext cx="964800" cy="994680"/>
                  <a:chOff x="1533960" y="2768400"/>
                  <a:chExt cx="964800" cy="9946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1533960" y="276840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1546200" y="277380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1556280" y="278352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608480" y="280872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 rot="3925800">
                <a:off x="1748880" y="4429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925800">
                <a:off x="2207520" y="4145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46ca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27320" y="2609640"/>
              <a:ext cx="1929960" cy="3265560"/>
              <a:chOff x="3127320" y="2609640"/>
              <a:chExt cx="1929960" cy="326556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528360" y="3446640"/>
                <a:ext cx="1528920" cy="2428560"/>
                <a:chOff x="3528360" y="3446640"/>
                <a:chExt cx="1528920" cy="242856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3528360" y="3605040"/>
                  <a:ext cx="1423080" cy="2270160"/>
                  <a:chOff x="3528360" y="3605040"/>
                  <a:chExt cx="1423080" cy="2270160"/>
                </a:xfrm>
              </p:grpSpPr>
              <p:sp>
                <p:nvSpPr>
                  <p:cNvPr id="468" name="未知"/>
                  <p:cNvSpPr/>
                  <p:nvPr/>
                </p:nvSpPr>
                <p:spPr>
                  <a:xfrm rot="3876600">
                    <a:off x="3100320" y="449316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未知"/>
                  <p:cNvSpPr/>
                  <p:nvPr/>
                </p:nvSpPr>
                <p:spPr>
                  <a:xfrm rot="3876600">
                    <a:off x="4470120" y="537336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3965400" y="3446640"/>
                  <a:ext cx="1091880" cy="1742040"/>
                  <a:chOff x="3965400" y="3446640"/>
                  <a:chExt cx="1091880" cy="1742040"/>
                </a:xfrm>
              </p:grpSpPr>
              <p:sp>
                <p:nvSpPr>
                  <p:cNvPr id="471" name="未知"/>
                  <p:cNvSpPr/>
                  <p:nvPr/>
                </p:nvSpPr>
                <p:spPr>
                  <a:xfrm flipV="1" rot="3876600">
                    <a:off x="3636720" y="412776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未知"/>
                  <p:cNvSpPr/>
                  <p:nvPr/>
                </p:nvSpPr>
                <p:spPr>
                  <a:xfrm flipV="1" rot="3876600">
                    <a:off x="4672080" y="481140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" name=""/>
              <p:cNvGrpSpPr/>
              <p:nvPr/>
            </p:nvGrpSpPr>
            <p:grpSpPr>
              <a:xfrm>
                <a:off x="3127320" y="2609640"/>
                <a:ext cx="1274040" cy="1311480"/>
                <a:chOff x="3127320" y="2609640"/>
                <a:chExt cx="1274040" cy="13114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27320" y="260964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127320" y="260964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211560" y="269460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211560" y="269748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66280" y="275292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3281760" y="2768400"/>
                  <a:ext cx="964800" cy="994680"/>
                  <a:chOff x="3281760" y="2768400"/>
                  <a:chExt cx="964800" cy="9946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3281760" y="276840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294000" y="277380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304080" y="278352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356280" y="280872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4" name=""/>
              <p:cNvSpPr/>
              <p:nvPr/>
            </p:nvSpPr>
            <p:spPr>
              <a:xfrm rot="3925800">
                <a:off x="3490920" y="4429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3925800">
                <a:off x="3948480" y="4145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46ca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30920" y="2609640"/>
              <a:ext cx="1931400" cy="3265560"/>
              <a:chOff x="4930920" y="2609640"/>
              <a:chExt cx="1931400" cy="326556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5333400" y="3446640"/>
                <a:ext cx="1528920" cy="2428560"/>
                <a:chOff x="5333400" y="3446640"/>
                <a:chExt cx="1528920" cy="242856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5333400" y="3605040"/>
                  <a:ext cx="1423080" cy="2270160"/>
                  <a:chOff x="5333400" y="3605040"/>
                  <a:chExt cx="1423080" cy="2270160"/>
                </a:xfrm>
              </p:grpSpPr>
              <p:sp>
                <p:nvSpPr>
                  <p:cNvPr id="489" name="未知"/>
                  <p:cNvSpPr/>
                  <p:nvPr/>
                </p:nvSpPr>
                <p:spPr>
                  <a:xfrm rot="3876600">
                    <a:off x="4905360" y="449316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未知"/>
                  <p:cNvSpPr/>
                  <p:nvPr/>
                </p:nvSpPr>
                <p:spPr>
                  <a:xfrm rot="3876600">
                    <a:off x="6275160" y="537336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5770440" y="3446640"/>
                  <a:ext cx="1091880" cy="1742040"/>
                  <a:chOff x="5770440" y="3446640"/>
                  <a:chExt cx="1091880" cy="1742040"/>
                </a:xfrm>
              </p:grpSpPr>
              <p:sp>
                <p:nvSpPr>
                  <p:cNvPr id="492" name="未知"/>
                  <p:cNvSpPr/>
                  <p:nvPr/>
                </p:nvSpPr>
                <p:spPr>
                  <a:xfrm flipV="1" rot="3876600">
                    <a:off x="5441760" y="412776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未知"/>
                  <p:cNvSpPr/>
                  <p:nvPr/>
                </p:nvSpPr>
                <p:spPr>
                  <a:xfrm flipV="1" rot="3876600">
                    <a:off x="6477120" y="481140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"/>
              <p:cNvGrpSpPr/>
              <p:nvPr/>
            </p:nvGrpSpPr>
            <p:grpSpPr>
              <a:xfrm>
                <a:off x="4930920" y="2609640"/>
                <a:ext cx="1275840" cy="1311480"/>
                <a:chOff x="4930920" y="2609640"/>
                <a:chExt cx="1275840" cy="13114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930920" y="260964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930920" y="260964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015160" y="269460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15160" y="269748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070240" y="2752920"/>
                  <a:ext cx="99684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5085360" y="2768400"/>
                  <a:ext cx="966240" cy="994680"/>
                  <a:chOff x="5085360" y="2768400"/>
                  <a:chExt cx="966240" cy="9946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5085360" y="2768400"/>
                    <a:ext cx="96624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097600" y="2773800"/>
                    <a:ext cx="94284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107680" y="2783520"/>
                    <a:ext cx="89676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160240" y="2808720"/>
                    <a:ext cx="79704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"/>
              <p:cNvSpPr/>
              <p:nvPr/>
            </p:nvSpPr>
            <p:spPr>
              <a:xfrm rot="3925800">
                <a:off x="5303520" y="4429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3925800">
                <a:off x="5762160" y="4145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46ca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707160" y="2465280"/>
              <a:ext cx="2122920" cy="3476160"/>
              <a:chOff x="6707160" y="2465280"/>
              <a:chExt cx="2122920" cy="347616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7301880" y="3513600"/>
                <a:ext cx="1528200" cy="2427840"/>
                <a:chOff x="7301880" y="3513600"/>
                <a:chExt cx="1528200" cy="242784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7301880" y="3671640"/>
                  <a:ext cx="1422360" cy="2269800"/>
                  <a:chOff x="7301880" y="3671640"/>
                  <a:chExt cx="1422360" cy="2269800"/>
                </a:xfrm>
              </p:grpSpPr>
              <p:sp>
                <p:nvSpPr>
                  <p:cNvPr id="510" name="未知"/>
                  <p:cNvSpPr/>
                  <p:nvPr/>
                </p:nvSpPr>
                <p:spPr>
                  <a:xfrm rot="3876600">
                    <a:off x="6873480" y="4559760"/>
                    <a:ext cx="227844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未知"/>
                  <p:cNvSpPr/>
                  <p:nvPr/>
                </p:nvSpPr>
                <p:spPr>
                  <a:xfrm rot="3876600">
                    <a:off x="8242560" y="543996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738560" y="3513600"/>
                  <a:ext cx="1091520" cy="1741680"/>
                  <a:chOff x="7738560" y="3513600"/>
                  <a:chExt cx="1091520" cy="1741680"/>
                </a:xfrm>
              </p:grpSpPr>
              <p:sp>
                <p:nvSpPr>
                  <p:cNvPr id="513" name="未知"/>
                  <p:cNvSpPr/>
                  <p:nvPr/>
                </p:nvSpPr>
                <p:spPr>
                  <a:xfrm flipV="1" rot="3876600">
                    <a:off x="7409880" y="4195440"/>
                    <a:ext cx="17485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未知"/>
                  <p:cNvSpPr/>
                  <p:nvPr/>
                </p:nvSpPr>
                <p:spPr>
                  <a:xfrm flipV="1" rot="3876600">
                    <a:off x="8444880" y="487800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5" name=""/>
              <p:cNvSpPr/>
              <p:nvPr/>
            </p:nvSpPr>
            <p:spPr>
              <a:xfrm>
                <a:off x="6707160" y="246528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07160" y="246528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09040" y="2568600"/>
                <a:ext cx="1329480" cy="13647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10840" y="2571480"/>
                <a:ext cx="1329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74200" y="2637000"/>
                <a:ext cx="1197000" cy="122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893640" y="2656080"/>
                <a:ext cx="1160280" cy="1191600"/>
                <a:chOff x="6893640" y="2656080"/>
                <a:chExt cx="1160280" cy="11916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893640" y="2656080"/>
                  <a:ext cx="1160280" cy="119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908400" y="2662560"/>
                  <a:ext cx="1132200" cy="116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20280" y="2674080"/>
                  <a:ext cx="1076760" cy="108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983280" y="2704320"/>
                  <a:ext cx="957240" cy="88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 rot="3925800">
                <a:off x="7256160" y="4572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3925800">
                <a:off x="7713000" y="4288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46ca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719000" y="1752480"/>
              <a:ext cx="6056640" cy="407880"/>
              <a:chOff x="1719000" y="1752480"/>
              <a:chExt cx="6056640" cy="407880"/>
            </a:xfrm>
          </p:grpSpPr>
          <p:sp>
            <p:nvSpPr>
              <p:cNvPr id="528" name=""/>
              <p:cNvSpPr/>
              <p:nvPr/>
            </p:nvSpPr>
            <p:spPr>
              <a:xfrm>
                <a:off x="171900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47292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1928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9560" y="1752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46ca6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532" name=""/>
              <p:cNvCxnSpPr>
                <a:stCxn id="528" idx="3"/>
                <a:endCxn id="529" idx="1"/>
              </p:cNvCxnSpPr>
              <p:nvPr/>
            </p:nvCxnSpPr>
            <p:spPr>
              <a:xfrm>
                <a:off x="2455560" y="1976040"/>
                <a:ext cx="986400" cy="1080"/>
              </a:xfrm>
              <a:prstGeom prst="straightConnector1">
                <a:avLst/>
              </a:prstGeom>
              <a:ln w="9360">
                <a:solidFill>
                  <a:srgbClr val="046ca6"/>
                </a:solidFill>
                <a:miter/>
                <a:tailEnd len="med" type="triangle" w="med"/>
              </a:ln>
            </p:spPr>
          </p:cxnSp>
          <p:cxnSp>
            <p:nvCxnSpPr>
              <p:cNvPr id="533" name=""/>
              <p:cNvCxnSpPr>
                <a:stCxn id="529" idx="3"/>
                <a:endCxn id="530" idx="1"/>
              </p:cNvCxnSpPr>
              <p:nvPr/>
            </p:nvCxnSpPr>
            <p:spPr>
              <a:xfrm>
                <a:off x="4209480" y="1976040"/>
                <a:ext cx="978120" cy="1080"/>
              </a:xfrm>
              <a:prstGeom prst="straightConnector1">
                <a:avLst/>
              </a:prstGeom>
              <a:ln w="9360">
                <a:solidFill>
                  <a:srgbClr val="046ca6"/>
                </a:solidFill>
                <a:miter/>
                <a:tailEnd len="med" type="triangle" w="med"/>
              </a:ln>
            </p:spPr>
          </p:cxnSp>
          <p:cxnSp>
            <p:nvCxnSpPr>
              <p:cNvPr id="534" name=""/>
              <p:cNvCxnSpPr/>
              <p:nvPr/>
            </p:nvCxnSpPr>
            <p:spPr>
              <a:xfrm>
                <a:off x="5955840" y="1980720"/>
                <a:ext cx="978120" cy="1080"/>
              </a:xfrm>
              <a:prstGeom prst="straightConnector1">
                <a:avLst/>
              </a:prstGeom>
              <a:ln w="9360">
                <a:solidFill>
                  <a:srgbClr val="046ca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371600" y="2057400"/>
            <a:ext cx="6858000" cy="3428640"/>
            <a:chOff x="1371600" y="2057400"/>
            <a:chExt cx="6858000" cy="3428640"/>
          </a:xfrm>
        </p:grpSpPr>
        <p:sp>
          <p:nvSpPr>
            <p:cNvPr id="537" name=""/>
            <p:cNvSpPr/>
            <p:nvPr/>
          </p:nvSpPr>
          <p:spPr>
            <a:xfrm>
              <a:off x="5666400" y="282672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793b8"/>
                </a:gs>
                <a:gs pos="100000">
                  <a:srgbClr val="99669b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190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6ca65"/>
                </a:gs>
                <a:gs pos="100000">
                  <a:srgbClr val="ddb52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716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cd7e7"/>
                </a:gs>
                <a:gs pos="100000">
                  <a:srgbClr val="8ac8de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d7e7"/>
                </a:gs>
                <a:gs pos="100000">
                  <a:srgbClr val="8ac8d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ca65"/>
                </a:gs>
                <a:gs pos="100000">
                  <a:srgbClr val="ddb52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93b8"/>
                </a:gs>
                <a:gs pos="100000">
                  <a:srgbClr val="99669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549" name="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55310"/>
                </a:gs>
              </a:gsLst>
              <a:lin ang="198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410920" y="1939680"/>
              <a:ext cx="901080" cy="124200"/>
              <a:chOff x="2410920" y="1939680"/>
              <a:chExt cx="901080" cy="124200"/>
            </a:xfrm>
          </p:grpSpPr>
          <p:sp>
            <p:nvSpPr>
              <p:cNvPr id="551" name="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9732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75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24828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99669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4075560" y="1939680"/>
              <a:ext cx="901080" cy="124200"/>
              <a:chOff x="4075560" y="1939680"/>
              <a:chExt cx="901080" cy="124200"/>
            </a:xfrm>
          </p:grpSpPr>
          <p:sp>
            <p:nvSpPr>
              <p:cNvPr id="557" name="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16196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84020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1292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 rot="3418800">
              <a:off x="474768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55310"/>
                </a:gs>
              </a:gsLst>
              <a:lin ang="198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563" name="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53240" y="19404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3992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83532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99669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5948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904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366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322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6012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950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9906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8592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2920" y="6019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164600" y="1081440"/>
            <a:ext cx="6879600" cy="4804560"/>
            <a:chOff x="1164600" y="1081440"/>
            <a:chExt cx="6879600" cy="4804560"/>
          </a:xfrm>
        </p:grpSpPr>
        <p:sp>
          <p:nvSpPr>
            <p:cNvPr id="579" name=""/>
            <p:cNvSpPr/>
            <p:nvPr/>
          </p:nvSpPr>
          <p:spPr>
            <a:xfrm>
              <a:off x="2362320" y="429732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01600">
              <a:off x="1506600" y="21078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01600">
              <a:off x="1563480" y="19458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01600">
              <a:off x="1477800" y="193176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rot="20602200">
              <a:off x="1455840" y="196272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1487520" y="194292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20602200">
              <a:off x="1469880" y="195048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3024360" y="26604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39640" y="2882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44760" y="1968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20920" y="2425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6346800" y="295884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539200">
              <a:off x="1482120" y="196128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4646520" y="344016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20920" y="3416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68440" y="41781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63320" y="4025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3125880" y="2913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4822920" y="383544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590840" y="1492200"/>
            <a:ext cx="5419080" cy="4755960"/>
            <a:chOff x="1590840" y="1492200"/>
            <a:chExt cx="5419080" cy="4755960"/>
          </a:xfrm>
        </p:grpSpPr>
        <p:sp>
          <p:nvSpPr>
            <p:cNvPr id="600" name="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53240" y="387684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02080" y="577404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04680" y="449676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3770000">
              <a:off x="4829040" y="3770640"/>
              <a:ext cx="899280" cy="1796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0856000">
              <a:off x="2973240" y="335448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3852000" y="2131200"/>
              <a:ext cx="1589760" cy="1719720"/>
              <a:chOff x="3852000" y="2131200"/>
              <a:chExt cx="1589760" cy="1719720"/>
            </a:xfrm>
          </p:grpSpPr>
          <p:sp>
            <p:nvSpPr>
              <p:cNvPr id="607" name=""/>
              <p:cNvSpPr/>
              <p:nvPr/>
            </p:nvSpPr>
            <p:spPr>
              <a:xfrm rot="18394200">
                <a:off x="4948560" y="2329560"/>
                <a:ext cx="556200" cy="12312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3852000" y="2367720"/>
                <a:ext cx="1507680" cy="1483200"/>
                <a:chOff x="3852000" y="2367720"/>
                <a:chExt cx="1507680" cy="148320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3852000" y="2367720"/>
                  <a:ext cx="1507680" cy="148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10" name="未知"/>
                <p:cNvSpPr/>
                <p:nvPr/>
              </p:nvSpPr>
              <p:spPr>
                <a:xfrm>
                  <a:off x="4024080" y="2392200"/>
                  <a:ext cx="1163160" cy="559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3890160" y="30132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164920" y="1492200"/>
              <a:ext cx="871200" cy="807120"/>
              <a:chOff x="5164920" y="1492200"/>
              <a:chExt cx="871200" cy="80712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5172480" y="1492200"/>
                <a:ext cx="816120" cy="807120"/>
                <a:chOff x="5172480" y="1492200"/>
                <a:chExt cx="816120" cy="807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5172480" y="149220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3e5a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15" name="未知"/>
                <p:cNvSpPr/>
                <p:nvPr/>
              </p:nvSpPr>
              <p:spPr>
                <a:xfrm>
                  <a:off x="5265720" y="1505520"/>
                  <a:ext cx="629640" cy="304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>
                <a:off x="5164920" y="1802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1590840" y="2733480"/>
              <a:ext cx="1633680" cy="1676880"/>
              <a:chOff x="1590840" y="2733480"/>
              <a:chExt cx="1633680" cy="167688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9b"/>
                    </a:gs>
                    <a:gs pos="100000">
                      <a:srgbClr val="6e497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未知"/>
                <p:cNvSpPr/>
                <p:nvPr/>
              </p:nvSpPr>
              <p:spPr>
                <a:xfrm>
                  <a:off x="1777320" y="2761200"/>
                  <a:ext cx="1260360" cy="632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669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1629000" y="3477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108400" y="3913920"/>
              <a:ext cx="1885320" cy="1863000"/>
              <a:chOff x="5108400" y="3913920"/>
              <a:chExt cx="1885320" cy="186300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5108400" y="3913920"/>
                <a:ext cx="1885320" cy="1863000"/>
                <a:chOff x="5108400" y="3913920"/>
                <a:chExt cx="1885320" cy="186300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108400" y="391392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7621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5" name="未知"/>
                <p:cNvSpPr/>
                <p:nvPr/>
              </p:nvSpPr>
              <p:spPr>
                <a:xfrm>
                  <a:off x="5323680" y="3944520"/>
                  <a:ext cx="1454400" cy="703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5327640" y="4721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109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db523"/>
                  </a:gs>
                  <a:gs pos="100000">
                    <a:srgbClr val="65531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6ca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17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18" name="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3f5c6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6ca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25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db523"/>
                  </a:gs>
                  <a:gs pos="100000">
                    <a:srgbClr val="65531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6ca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33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3f5c6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6ca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2209680" y="4800240"/>
            <a:ext cx="4943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133720" y="297180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46ca6"/>
                    </a:gs>
                    <a:gs pos="100000">
                      <a:srgbClr val="6da9ca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46ca6"/>
                  </a:gs>
                  <a:gs pos="100000">
                    <a:srgbClr val="6da9ca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629" name=""/>
          <p:cNvSpPr/>
          <p:nvPr/>
        </p:nvSpPr>
        <p:spPr>
          <a:xfrm>
            <a:off x="1676520" y="6248520"/>
            <a:ext cx="65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F87D-1FDB-4E8C-B7ED-2932725DD5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4120" y="15238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26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900" spc="-1" strike="noStrike">
                <a:solidFill>
                  <a:srgbClr val="99669b"/>
                </a:solidFill>
                <a:latin typeface="Arial"/>
              </a:rPr>
              <a:t>[View]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1" lang="en-US" sz="2900" spc="-1" strike="noStrike">
                <a:solidFill>
                  <a:srgbClr val="99669b"/>
                </a:solidFill>
                <a:latin typeface="Arial"/>
              </a:rPr>
              <a:t>[Master],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1" lang="en-US" sz="2900" spc="-1" strike="noStrike">
                <a:solidFill>
                  <a:srgbClr val="99669b"/>
                </a:solidFill>
                <a:latin typeface="Arial"/>
              </a:rPr>
              <a:t>[Slide Master]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900" spc="-1" strike="noStrike">
                <a:solidFill>
                  <a:srgbClr val="99669b"/>
                </a:solidFill>
                <a:latin typeface="Arial"/>
              </a:rPr>
              <a:t>[Notes Master].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05120" y="1600200"/>
            <a:ext cx="5867280" cy="1301760"/>
            <a:chOff x="1905120" y="1600200"/>
            <a:chExt cx="5867280" cy="1301760"/>
          </a:xfrm>
        </p:grpSpPr>
        <p:sp>
          <p:nvSpPr>
            <p:cNvPr id="144" name=""/>
            <p:cNvSpPr/>
            <p:nvPr/>
          </p:nvSpPr>
          <p:spPr>
            <a:xfrm>
              <a:off x="1905120" y="16002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033280" y="1719720"/>
              <a:ext cx="1130760" cy="1064520"/>
              <a:chOff x="2033280" y="1719720"/>
              <a:chExt cx="1130760" cy="1064520"/>
            </a:xfrm>
          </p:grpSpPr>
          <p:sp>
            <p:nvSpPr>
              <p:cNvPr id="146" name=""/>
              <p:cNvSpPr/>
              <p:nvPr/>
            </p:nvSpPr>
            <p:spPr>
              <a:xfrm>
                <a:off x="2033280" y="17197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5f8b9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2103840" y="17881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e0ec"/>
                  </a:gs>
                  <a:gs pos="50000">
                    <a:srgbClr val="8ac8de">
                      <a:alpha val="0"/>
                    </a:srgbClr>
                  </a:gs>
                  <a:gs pos="100000">
                    <a:srgbClr val="bee0e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59280" y="20091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3318840" y="1801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905120" y="3130560"/>
            <a:ext cx="5867280" cy="1301760"/>
            <a:chOff x="1905120" y="3130560"/>
            <a:chExt cx="5867280" cy="1301760"/>
          </a:xfrm>
        </p:grpSpPr>
        <p:sp>
          <p:nvSpPr>
            <p:cNvPr id="151" name=""/>
            <p:cNvSpPr/>
            <p:nvPr/>
          </p:nvSpPr>
          <p:spPr>
            <a:xfrm>
              <a:off x="1905120" y="31305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033280" y="3250080"/>
              <a:ext cx="1130760" cy="1064520"/>
              <a:chOff x="2033280" y="3250080"/>
              <a:chExt cx="1130760" cy="1064520"/>
            </a:xfrm>
          </p:grpSpPr>
          <p:sp>
            <p:nvSpPr>
              <p:cNvPr id="153" name=""/>
              <p:cNvSpPr/>
              <p:nvPr/>
            </p:nvSpPr>
            <p:spPr>
              <a:xfrm>
                <a:off x="2033280" y="32500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5c85f"/>
                  </a:gs>
                  <a:gs pos="100000">
                    <a:srgbClr val="ddb52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2103840" y="331848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b523">
                      <a:alpha val="0"/>
                    </a:srgbClr>
                  </a:gs>
                  <a:gs pos="100000">
                    <a:srgbClr val="efde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59280" y="35409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318840" y="33087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05120" y="4670280"/>
            <a:ext cx="5867280" cy="1301760"/>
            <a:chOff x="1905120" y="4670280"/>
            <a:chExt cx="5867280" cy="1301760"/>
          </a:xfrm>
        </p:grpSpPr>
        <p:sp>
          <p:nvSpPr>
            <p:cNvPr id="158" name=""/>
            <p:cNvSpPr/>
            <p:nvPr/>
          </p:nvSpPr>
          <p:spPr>
            <a:xfrm>
              <a:off x="1905120" y="46702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033280" y="4789800"/>
              <a:ext cx="1130760" cy="1064520"/>
              <a:chOff x="2033280" y="4789800"/>
              <a:chExt cx="1130760" cy="1064520"/>
            </a:xfrm>
          </p:grpSpPr>
          <p:sp>
            <p:nvSpPr>
              <p:cNvPr id="160" name=""/>
              <p:cNvSpPr/>
              <p:nvPr/>
            </p:nvSpPr>
            <p:spPr>
              <a:xfrm>
                <a:off x="2033280" y="47898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2103840" y="48582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59280" y="5080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3318840" y="48484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3400560"/>
            <a:ext cx="2286000" cy="2666880"/>
            <a:chOff x="1219320" y="3400560"/>
            <a:chExt cx="2286000" cy="2666880"/>
          </a:xfrm>
        </p:grpSpPr>
        <p:sp>
          <p:nvSpPr>
            <p:cNvPr id="166" name=""/>
            <p:cNvSpPr/>
            <p:nvPr/>
          </p:nvSpPr>
          <p:spPr>
            <a:xfrm>
              <a:off x="121932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4720" y="3600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8" name="未知"/>
          <p:cNvSpPr/>
          <p:nvPr/>
        </p:nvSpPr>
        <p:spPr>
          <a:xfrm>
            <a:off x="3298680" y="330372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9dbe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124080" y="1676520"/>
            <a:ext cx="2998440" cy="1601280"/>
            <a:chOff x="3124080" y="1676520"/>
            <a:chExt cx="2998440" cy="1601280"/>
          </a:xfrm>
        </p:grpSpPr>
        <p:grpSp>
          <p:nvGrpSpPr>
            <p:cNvPr id="170" name=""/>
            <p:cNvGrpSpPr/>
            <p:nvPr/>
          </p:nvGrpSpPr>
          <p:grpSpPr>
            <a:xfrm>
              <a:off x="3124080" y="1676520"/>
              <a:ext cx="2998440" cy="1601280"/>
              <a:chOff x="3124080" y="1676520"/>
              <a:chExt cx="2998440" cy="16012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124080" y="1819440"/>
                <a:ext cx="2998440" cy="1458360"/>
                <a:chOff x="3124080" y="1819440"/>
                <a:chExt cx="2998440" cy="14583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156840" y="18658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5710"/>
                    </a:gs>
                    <a:gs pos="100000">
                      <a:srgbClr val="ddb52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124080" y="18194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eedd9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3265200" y="16765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3f5c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00120" y="16844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5eaf2"/>
                  </a:gs>
                  <a:gs pos="100000">
                    <a:srgbClr val="8ac8de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27120" y="16970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48235"/>
                    </a:srgbClr>
                  </a:gs>
                  <a:gs pos="100000">
                    <a:srgbClr val="6c9da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58880" y="17240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958920" y="18766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638680" y="3400560"/>
            <a:ext cx="2286000" cy="2666880"/>
            <a:chOff x="5638680" y="3400560"/>
            <a:chExt cx="2286000" cy="2666880"/>
          </a:xfrm>
        </p:grpSpPr>
        <p:sp>
          <p:nvSpPr>
            <p:cNvPr id="180" name=""/>
            <p:cNvSpPr/>
            <p:nvPr/>
          </p:nvSpPr>
          <p:spPr>
            <a:xfrm>
              <a:off x="563868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86360" y="36291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未知"/>
          <p:cNvSpPr/>
          <p:nvPr/>
        </p:nvSpPr>
        <p:spPr>
          <a:xfrm flipH="1">
            <a:off x="4950720" y="33037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3e6b8"/>
              </a:gs>
              <a:gs pos="100000">
                <a:srgbClr val="ddb5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62120" y="1645920"/>
            <a:ext cx="7328520" cy="4583520"/>
            <a:chOff x="762120" y="1645920"/>
            <a:chExt cx="7328520" cy="4583520"/>
          </a:xfrm>
        </p:grpSpPr>
        <p:sp>
          <p:nvSpPr>
            <p:cNvPr id="185" name="未知"/>
            <p:cNvSpPr/>
            <p:nvPr/>
          </p:nvSpPr>
          <p:spPr>
            <a:xfrm rot="20241600">
              <a:off x="139212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056200">
              <a:off x="434304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056200">
              <a:off x="7010280" y="2818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056200">
              <a:off x="2895480" y="54860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056200">
              <a:off x="5486040" y="48762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056200">
              <a:off x="2057040" y="4038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1400" y="19810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4b3e0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6160" y="3298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2b3e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70240" y="47656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3624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38760" y="4221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64520" y="21780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63320" y="2367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79440" y="2577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780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3448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02080" y="2376360"/>
              <a:ext cx="1627200" cy="125100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3" name=""/>
            <p:cNvCxnSpPr/>
            <p:nvPr/>
          </p:nvCxnSpPr>
          <p:spPr>
            <a:xfrm flipH="1">
              <a:off x="887040" y="2376000"/>
              <a:ext cx="1726560" cy="1080"/>
            </a:xfrm>
            <a:prstGeom prst="straightConnector1">
              <a:avLst/>
            </a:prstGeom>
            <a:ln w="9360">
              <a:solidFill>
                <a:srgbClr val="046ca6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62f47"/>
                </a:gs>
                <a:gs pos="50000">
                  <a:srgbClr val="99669b"/>
                </a:gs>
                <a:gs pos="100000">
                  <a:srgbClr val="462f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08660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219320" y="2209680"/>
            <a:ext cx="6705000" cy="3352680"/>
            <a:chOff x="1219320" y="2209680"/>
            <a:chExt cx="6705000" cy="3352680"/>
          </a:xfrm>
        </p:grpSpPr>
        <p:sp>
          <p:nvSpPr>
            <p:cNvPr id="228" name=""/>
            <p:cNvSpPr/>
            <p:nvPr/>
          </p:nvSpPr>
          <p:spPr>
            <a:xfrm flipH="1" rot="16200000">
              <a:off x="2994840" y="3252240"/>
              <a:ext cx="460440" cy="29628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996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5400000">
              <a:off x="5599440" y="3201840"/>
              <a:ext cx="459000" cy="29628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996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rot="10800000">
              <a:off x="4313520" y="4609800"/>
              <a:ext cx="442440" cy="30636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996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8256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4320" y="2344680"/>
              <a:ext cx="2060280" cy="212544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db52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776112"/>
                </a:gs>
                <a:gs pos="50000">
                  <a:srgbClr val="ddb523"/>
                </a:gs>
                <a:gs pos="100000">
                  <a:srgbClr val="7761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19320" y="370836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9320" y="3208320"/>
              <a:ext cx="16585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19320" y="270972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9560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c66"/>
                </a:gs>
                <a:gs pos="50000">
                  <a:srgbClr val="8ac8de"/>
                </a:gs>
                <a:gs pos="100000">
                  <a:srgbClr val="3f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95600" y="3208320"/>
              <a:ext cx="17287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c66"/>
                </a:gs>
                <a:gs pos="50000">
                  <a:srgbClr val="8ac8de"/>
                </a:gs>
                <a:gs pos="100000">
                  <a:srgbClr val="3f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9560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c66"/>
                </a:gs>
                <a:gs pos="50000">
                  <a:srgbClr val="8ac8de"/>
                </a:gs>
                <a:gs pos="100000">
                  <a:srgbClr val="3f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516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79560" y="5062320"/>
              <a:ext cx="352368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758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580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7580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730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7304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7304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294920" y="2362320"/>
            <a:ext cx="6748920" cy="3352680"/>
            <a:chOff x="1294920" y="2362320"/>
            <a:chExt cx="6748920" cy="3352680"/>
          </a:xfrm>
        </p:grpSpPr>
        <p:sp>
          <p:nvSpPr>
            <p:cNvPr id="253" name="未知"/>
            <p:cNvSpPr/>
            <p:nvPr/>
          </p:nvSpPr>
          <p:spPr>
            <a:xfrm>
              <a:off x="7518240" y="2362320"/>
              <a:ext cx="5191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5027400" y="2362320"/>
              <a:ext cx="301644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6994440" y="3203640"/>
              <a:ext cx="5205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4278240" y="3203640"/>
              <a:ext cx="324180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6470640" y="4035600"/>
              <a:ext cx="5173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5949720" y="4869000"/>
              <a:ext cx="5209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2789280" y="4873680"/>
              <a:ext cx="36813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307880" y="4869000"/>
              <a:ext cx="20224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294920" y="4038840"/>
              <a:ext cx="2855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295280" y="3210120"/>
              <a:ext cx="368784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295280" y="2368800"/>
              <a:ext cx="451944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57280" y="2362320"/>
              <a:ext cx="0" cy="87156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57280" y="3233880"/>
              <a:ext cx="0" cy="81756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57280" y="4051440"/>
              <a:ext cx="0" cy="8161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57280" y="4869000"/>
              <a:ext cx="0" cy="8161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3355920" y="2525760"/>
              <a:ext cx="165888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32080" y="2903760"/>
              <a:ext cx="2497320" cy="30456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79680" y="3743280"/>
              <a:ext cx="2721240" cy="2984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3535200" y="4035600"/>
              <a:ext cx="34592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3700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87480" y="5415120"/>
              <a:ext cx="3168720" cy="29700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96160" y="2686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616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9616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9616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294920" y="5703840"/>
              <a:ext cx="146196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1:46:59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