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B4141-1AD4-4F3E-BB6F-76499666C6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EB512-35E7-453E-B8C9-B29B6FD12E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5BDDE-092C-48C6-AA8A-8DBBE4689F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A83B2-5DE5-455B-A07D-14831918B5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94920"/>
            <a:ext cx="8305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FAD4D-72B3-46EE-A3DD-9A471EA404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5200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5200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076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468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076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468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7475C-9139-4569-87D3-AC6800282D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BF755-A5A3-425E-A677-CC90C66CC9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1E1A2-513B-4E93-8689-E3E2A3F62D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94920"/>
            <a:ext cx="8305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44E07-DC65-4AB7-8262-576134D79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6E8C8-87D3-49D0-BB1C-5FB2BF367A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FE3B6-C0A2-44E4-84E5-0619263E92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32712-429F-4292-BDF6-0820A4C9ED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825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4680"/>
            <a:ext cx="914400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b257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2572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456840" y="6473880"/>
            <a:ext cx="60948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5A8A-9C5B-4B7E-8D00-005CB5CA65F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5661000"/>
            <a:ext cx="9144000" cy="1197000"/>
            <a:chOff x="0" y="5661000"/>
            <a:chExt cx="9144000" cy="1197000"/>
          </a:xfrm>
        </p:grpSpPr>
        <p:sp>
          <p:nvSpPr>
            <p:cNvPr id="42" name=""/>
            <p:cNvSpPr/>
            <p:nvPr/>
          </p:nvSpPr>
          <p:spPr>
            <a:xfrm>
              <a:off x="0" y="5805360"/>
              <a:ext cx="9144000" cy="1052640"/>
            </a:xfrm>
            <a:prstGeom prst="rect">
              <a:avLst/>
            </a:prstGeom>
            <a:solidFill>
              <a:srgbClr val="57a1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5661000"/>
              <a:ext cx="9144000" cy="200160"/>
            </a:xfrm>
            <a:prstGeom prst="rect">
              <a:avLst/>
            </a:prstGeom>
            <a:gradFill rotWithShape="0">
              <a:gsLst>
                <a:gs pos="0">
                  <a:srgbClr val="284a46"/>
                </a:gs>
                <a:gs pos="100000">
                  <a:srgbClr val="57a1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0" y="5516640"/>
            <a:ext cx="9144000" cy="28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5562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12200" y="595800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b2572a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1981080"/>
            <a:ext cx="6172200" cy="18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宋体"/>
              </a:rPr>
              <a:t>绿色竹溪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3800" y="624852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47" name="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57a1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b257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b2572a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b2572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5f2e16"/>
                </a:gs>
                <a:gs pos="50000">
                  <a:srgbClr val="b2572a"/>
                </a:gs>
                <a:gs pos="100000">
                  <a:srgbClr val="5f2e1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b2572a">
                    <a:alpha val="0"/>
                  </a:srgbClr>
                </a:gs>
                <a:gs pos="100000">
                  <a:srgbClr val="70371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b3ca8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4b3ca8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28205a"/>
                </a:gs>
                <a:gs pos="50000">
                  <a:srgbClr val="4b3ca8"/>
                </a:gs>
                <a:gs pos="100000">
                  <a:srgbClr val="2820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4b3ca8">
                    <a:alpha val="0"/>
                  </a:srgbClr>
                </a:gs>
                <a:gs pos="100000">
                  <a:srgbClr val="2f25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63" name="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57a19a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284a46"/>
                </a:gs>
                <a:gs pos="100000">
                  <a:srgbClr val="57a19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2e5653"/>
                </a:gs>
                <a:gs pos="50000">
                  <a:srgbClr val="57a19a"/>
                </a:gs>
                <a:gs pos="100000">
                  <a:srgbClr val="2e565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57a19a">
                    <a:alpha val="0"/>
                  </a:srgbClr>
                </a:gs>
                <a:gs pos="100000">
                  <a:srgbClr val="3765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273" name="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278" name="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523880" y="1676520"/>
            <a:ext cx="5181480" cy="4084560"/>
            <a:chOff x="1523880" y="1676520"/>
            <a:chExt cx="5181480" cy="4084560"/>
          </a:xfrm>
        </p:grpSpPr>
        <p:sp>
          <p:nvSpPr>
            <p:cNvPr id="287" name=""/>
            <p:cNvSpPr/>
            <p:nvPr/>
          </p:nvSpPr>
          <p:spPr>
            <a:xfrm rot="13770000">
              <a:off x="4579560" y="3852360"/>
              <a:ext cx="857160" cy="1778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6d6d6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20856000">
              <a:off x="2709360" y="3452400"/>
              <a:ext cx="939960" cy="1540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8d8d8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8394200">
              <a:off x="4686480" y="2468160"/>
              <a:ext cx="531720" cy="1224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3584520" y="2505240"/>
              <a:ext cx="1498680" cy="1420920"/>
              <a:chOff x="3584520" y="2505240"/>
              <a:chExt cx="1498680" cy="142092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3584520" y="2505240"/>
                <a:ext cx="1498680" cy="1420920"/>
                <a:chOff x="3584520" y="2505240"/>
                <a:chExt cx="1498680" cy="14209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584520" y="2505240"/>
                  <a:ext cx="1498680" cy="1420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b3ca8"/>
                    </a:gs>
                    <a:gs pos="100000">
                      <a:srgbClr val="120e2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未知"/>
                <p:cNvSpPr/>
                <p:nvPr/>
              </p:nvSpPr>
              <p:spPr>
                <a:xfrm>
                  <a:off x="3755880" y="2528640"/>
                  <a:ext cx="1155960" cy="536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b3ca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" name=""/>
              <p:cNvSpPr/>
              <p:nvPr/>
            </p:nvSpPr>
            <p:spPr>
              <a:xfrm>
                <a:off x="3616920" y="312300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4896000" y="1676520"/>
              <a:ext cx="834840" cy="770040"/>
              <a:chOff x="4896000" y="1676520"/>
              <a:chExt cx="834840" cy="770040"/>
            </a:xfrm>
          </p:grpSpPr>
          <p:grpSp>
            <p:nvGrpSpPr>
              <p:cNvPr id="296" name=""/>
              <p:cNvGrpSpPr/>
              <p:nvPr/>
            </p:nvGrpSpPr>
            <p:grpSpPr>
              <a:xfrm>
                <a:off x="4896000" y="1676520"/>
                <a:ext cx="810000" cy="770040"/>
                <a:chOff x="4896000" y="1676520"/>
                <a:chExt cx="810000" cy="7700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4896000" y="1676520"/>
                  <a:ext cx="810000" cy="77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a19a"/>
                    </a:gs>
                    <a:gs pos="100000">
                      <a:srgbClr val="15262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未知"/>
                <p:cNvSpPr/>
                <p:nvPr/>
              </p:nvSpPr>
              <p:spPr>
                <a:xfrm>
                  <a:off x="4988520" y="1689120"/>
                  <a:ext cx="624960" cy="290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7a19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4916160" y="197388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523880" y="2800440"/>
              <a:ext cx="1622520" cy="1598760"/>
              <a:chOff x="1523880" y="2800440"/>
              <a:chExt cx="1622520" cy="159876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1523880" y="2800440"/>
                <a:ext cx="1622520" cy="1598760"/>
                <a:chOff x="1523880" y="2800440"/>
                <a:chExt cx="1622520" cy="159876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1523880" y="2800440"/>
                  <a:ext cx="1622520" cy="159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0ba4c"/>
                    </a:gs>
                    <a:gs pos="100000">
                      <a:srgbClr val="6f753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未知"/>
                <p:cNvSpPr/>
                <p:nvPr/>
              </p:nvSpPr>
              <p:spPr>
                <a:xfrm>
                  <a:off x="1709280" y="2826720"/>
                  <a:ext cx="1251720" cy="6033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0ba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4" name=""/>
              <p:cNvSpPr/>
              <p:nvPr/>
            </p:nvSpPr>
            <p:spPr>
              <a:xfrm>
                <a:off x="1557000" y="351180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4832280" y="3984840"/>
              <a:ext cx="1873080" cy="1776240"/>
              <a:chOff x="4832280" y="3984840"/>
              <a:chExt cx="1873080" cy="177624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4832280" y="3984840"/>
                <a:ext cx="1873080" cy="1776240"/>
                <a:chOff x="4832280" y="3984840"/>
                <a:chExt cx="1873080" cy="177624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4832280" y="3984840"/>
                  <a:ext cx="1873080" cy="177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572a"/>
                    </a:gs>
                    <a:gs pos="100000">
                      <a:srgbClr val="5b2c1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未知"/>
                <p:cNvSpPr/>
                <p:nvPr/>
              </p:nvSpPr>
              <p:spPr>
                <a:xfrm>
                  <a:off x="5046120" y="4014000"/>
                  <a:ext cx="1445040" cy="670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b2572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5046120" y="475452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943560" y="1981080"/>
            <a:ext cx="7282440" cy="3770280"/>
            <a:chOff x="943560" y="1981080"/>
            <a:chExt cx="7282440" cy="3770280"/>
          </a:xfrm>
        </p:grpSpPr>
        <p:sp>
          <p:nvSpPr>
            <p:cNvPr id="312" name=""/>
            <p:cNvSpPr/>
            <p:nvPr/>
          </p:nvSpPr>
          <p:spPr>
            <a:xfrm rot="17973000">
              <a:off x="4750560" y="26848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57a19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3465600">
              <a:off x="4801320" y="47948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57a19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4368800">
              <a:off x="3582000" y="270720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57a19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7534800">
              <a:off x="3543840" y="4761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57a19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84880" y="376380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57a19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0800000">
              <a:off x="2974680" y="375696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57a19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95680" y="200664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747040" y="19810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57960" y="19810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661440" y="3733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47040" y="53337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43560" y="3733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81640" y="527184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552760" y="37843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d7dca7"/>
                </a:gs>
                <a:gs pos="100000">
                  <a:srgbClr val="b0ba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467160" y="21333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d7dca7"/>
                </a:gs>
                <a:gs pos="100000">
                  <a:srgbClr val="b0ba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72280" y="21333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d7dca7"/>
                </a:gs>
                <a:gs pos="100000">
                  <a:srgbClr val="b0ba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391200" y="53337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d7dca7"/>
                </a:gs>
                <a:gs pos="100000">
                  <a:srgbClr val="b0ba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72280" y="53337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d7dca7"/>
                </a:gs>
                <a:gs pos="100000">
                  <a:srgbClr val="b0ba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86680" y="37717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d7dca7"/>
                </a:gs>
                <a:gs pos="100000">
                  <a:srgbClr val="b0ba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35720" y="30366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b2572a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40400" y="303516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b2572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46600" y="314640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5f2e16"/>
                </a:gs>
                <a:gs pos="50000">
                  <a:srgbClr val="b2572a"/>
                </a:gs>
                <a:gs pos="100000">
                  <a:srgbClr val="5f2e1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843360" y="314964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b2572a">
                    <a:alpha val="0"/>
                  </a:srgbClr>
                </a:gs>
                <a:gs pos="100000">
                  <a:srgbClr val="70371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921120" y="322092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3942000" y="3240000"/>
              <a:ext cx="1290600" cy="1278000"/>
              <a:chOff x="3942000" y="3240000"/>
              <a:chExt cx="1290600" cy="1278000"/>
            </a:xfrm>
          </p:grpSpPr>
          <p:sp>
            <p:nvSpPr>
              <p:cNvPr id="337" name=""/>
              <p:cNvSpPr/>
              <p:nvPr/>
            </p:nvSpPr>
            <p:spPr>
              <a:xfrm>
                <a:off x="3942000" y="324000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958560" y="324684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971880" y="325944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041720" y="329184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4205160" y="37130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066680" y="1905120"/>
            <a:ext cx="2163600" cy="3165480"/>
            <a:chOff x="1066680" y="1905120"/>
            <a:chExt cx="2163600" cy="3165480"/>
          </a:xfrm>
        </p:grpSpPr>
        <p:sp>
          <p:nvSpPr>
            <p:cNvPr id="344" name=""/>
            <p:cNvSpPr/>
            <p:nvPr/>
          </p:nvSpPr>
          <p:spPr>
            <a:xfrm>
              <a:off x="1066680" y="22129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00160" y="222120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117440" y="42847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117440" y="22431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1811160" y="1905120"/>
              <a:ext cx="642960" cy="642960"/>
              <a:chOff x="1811160" y="1905120"/>
              <a:chExt cx="642960" cy="642960"/>
            </a:xfrm>
          </p:grpSpPr>
          <p:sp>
            <p:nvSpPr>
              <p:cNvPr id="349" name=""/>
              <p:cNvSpPr/>
              <p:nvPr/>
            </p:nvSpPr>
            <p:spPr>
              <a:xfrm>
                <a:off x="1811160" y="19051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817640" y="19098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825560" y="191376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832040" y="19195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865880" y="19350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1951200" y="1997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143000" y="26672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3429000" y="1905120"/>
            <a:ext cx="2163600" cy="3165480"/>
            <a:chOff x="3429000" y="1905120"/>
            <a:chExt cx="2163600" cy="3165480"/>
          </a:xfrm>
        </p:grpSpPr>
        <p:sp>
          <p:nvSpPr>
            <p:cNvPr id="357" name=""/>
            <p:cNvSpPr/>
            <p:nvPr/>
          </p:nvSpPr>
          <p:spPr>
            <a:xfrm>
              <a:off x="3429000" y="22129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62480" y="222120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79760" y="42847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79760" y="22431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73480" y="190512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79960" y="190980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87880" y="191304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94000" y="191952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229280" y="193536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13520" y="1997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505320" y="26672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791320" y="1905120"/>
            <a:ext cx="2163600" cy="3165480"/>
            <a:chOff x="5791320" y="1905120"/>
            <a:chExt cx="2163600" cy="3165480"/>
          </a:xfrm>
        </p:grpSpPr>
        <p:sp>
          <p:nvSpPr>
            <p:cNvPr id="369" name=""/>
            <p:cNvSpPr/>
            <p:nvPr/>
          </p:nvSpPr>
          <p:spPr>
            <a:xfrm>
              <a:off x="5791320" y="22129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24800" y="222120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42080" y="42847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42080" y="22431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6535800" y="1905120"/>
              <a:ext cx="642960" cy="642960"/>
              <a:chOff x="6535800" y="1905120"/>
              <a:chExt cx="642960" cy="642960"/>
            </a:xfrm>
          </p:grpSpPr>
          <p:sp>
            <p:nvSpPr>
              <p:cNvPr id="374" name=""/>
              <p:cNvSpPr/>
              <p:nvPr/>
            </p:nvSpPr>
            <p:spPr>
              <a:xfrm>
                <a:off x="6535800" y="19051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542280" y="19098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550200" y="191376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556680" y="19195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590520" y="19350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6675840" y="1997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867640" y="26672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6733800" y="624852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0" y="2031840"/>
            <a:ext cx="9144000" cy="3985920"/>
            <a:chOff x="0" y="2031840"/>
            <a:chExt cx="9144000" cy="3985920"/>
          </a:xfrm>
        </p:grpSpPr>
        <p:grpSp>
          <p:nvGrpSpPr>
            <p:cNvPr id="384" name=""/>
            <p:cNvGrpSpPr/>
            <p:nvPr/>
          </p:nvGrpSpPr>
          <p:grpSpPr>
            <a:xfrm>
              <a:off x="0" y="3238200"/>
              <a:ext cx="9144000" cy="150480"/>
              <a:chOff x="0" y="3238200"/>
              <a:chExt cx="9144000" cy="150480"/>
            </a:xfrm>
          </p:grpSpPr>
          <p:sp>
            <p:nvSpPr>
              <p:cNvPr id="385" name=""/>
              <p:cNvSpPr/>
              <p:nvPr/>
            </p:nvSpPr>
            <p:spPr>
              <a:xfrm>
                <a:off x="0" y="3238200"/>
                <a:ext cx="9144000" cy="590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0" y="3295800"/>
                <a:ext cx="9144000" cy="9288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762120" y="2685960"/>
              <a:ext cx="1932120" cy="3264840"/>
              <a:chOff x="762120" y="2685960"/>
              <a:chExt cx="1932120" cy="3264840"/>
            </a:xfrm>
          </p:grpSpPr>
          <p:grpSp>
            <p:nvGrpSpPr>
              <p:cNvPr id="388" name=""/>
              <p:cNvGrpSpPr/>
              <p:nvPr/>
            </p:nvGrpSpPr>
            <p:grpSpPr>
              <a:xfrm>
                <a:off x="1167480" y="3525120"/>
                <a:ext cx="1526760" cy="2425680"/>
                <a:chOff x="1167480" y="3525120"/>
                <a:chExt cx="1526760" cy="2425680"/>
              </a:xfrm>
            </p:grpSpPr>
            <p:grpSp>
              <p:nvGrpSpPr>
                <p:cNvPr id="389" name=""/>
                <p:cNvGrpSpPr/>
                <p:nvPr/>
              </p:nvGrpSpPr>
              <p:grpSpPr>
                <a:xfrm>
                  <a:off x="1167480" y="3683160"/>
                  <a:ext cx="1420920" cy="2267640"/>
                  <a:chOff x="1167480" y="3683160"/>
                  <a:chExt cx="1420920" cy="2267640"/>
                </a:xfrm>
              </p:grpSpPr>
              <p:sp>
                <p:nvSpPr>
                  <p:cNvPr id="390" name="未知"/>
                  <p:cNvSpPr/>
                  <p:nvPr/>
                </p:nvSpPr>
                <p:spPr>
                  <a:xfrm rot="3876600">
                    <a:off x="739800" y="457056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未知"/>
                  <p:cNvSpPr/>
                  <p:nvPr/>
                </p:nvSpPr>
                <p:spPr>
                  <a:xfrm rot="3876600">
                    <a:off x="2107440" y="544968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1603800" y="3525120"/>
                  <a:ext cx="1090440" cy="1740240"/>
                  <a:chOff x="1603800" y="3525120"/>
                  <a:chExt cx="1090440" cy="1740240"/>
                </a:xfrm>
              </p:grpSpPr>
              <p:sp>
                <p:nvSpPr>
                  <p:cNvPr id="393" name="未知"/>
                  <p:cNvSpPr/>
                  <p:nvPr/>
                </p:nvSpPr>
                <p:spPr>
                  <a:xfrm flipV="1" rot="3876600">
                    <a:off x="1275480" y="4205880"/>
                    <a:ext cx="17467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未知"/>
                  <p:cNvSpPr/>
                  <p:nvPr/>
                </p:nvSpPr>
                <p:spPr>
                  <a:xfrm flipV="1" rot="3876600">
                    <a:off x="2309040" y="4887720"/>
                    <a:ext cx="2743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5" name=""/>
              <p:cNvGrpSpPr/>
              <p:nvPr/>
            </p:nvGrpSpPr>
            <p:grpSpPr>
              <a:xfrm>
                <a:off x="762120" y="2685960"/>
                <a:ext cx="1271520" cy="1310040"/>
                <a:chOff x="762120" y="2685960"/>
                <a:chExt cx="1271520" cy="13100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7621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621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846360" y="277092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46360" y="277380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900720" y="2828880"/>
                  <a:ext cx="99360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1" name=""/>
                <p:cNvGrpSpPr/>
                <p:nvPr/>
              </p:nvGrpSpPr>
              <p:grpSpPr>
                <a:xfrm>
                  <a:off x="916200" y="2844720"/>
                  <a:ext cx="963000" cy="993600"/>
                  <a:chOff x="916200" y="2844720"/>
                  <a:chExt cx="963000" cy="99360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>
                    <a:off x="916200" y="2844720"/>
                    <a:ext cx="96300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928440" y="2850120"/>
                    <a:ext cx="93996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938520" y="2859840"/>
                    <a:ext cx="89388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990720" y="2885040"/>
                    <a:ext cx="79452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06" name=""/>
              <p:cNvSpPr/>
              <p:nvPr/>
            </p:nvSpPr>
            <p:spPr>
              <a:xfrm rot="3925800">
                <a:off x="1129680" y="4503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3925800">
                <a:off x="1589760" y="4222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509920" y="2685960"/>
              <a:ext cx="1930320" cy="3264840"/>
              <a:chOff x="2509920" y="2685960"/>
              <a:chExt cx="1930320" cy="3264840"/>
            </a:xfrm>
          </p:grpSpPr>
          <p:grpSp>
            <p:nvGrpSpPr>
              <p:cNvPr id="409" name=""/>
              <p:cNvGrpSpPr/>
              <p:nvPr/>
            </p:nvGrpSpPr>
            <p:grpSpPr>
              <a:xfrm>
                <a:off x="2913480" y="3525480"/>
                <a:ext cx="1526760" cy="2425320"/>
                <a:chOff x="2913480" y="3525480"/>
                <a:chExt cx="1526760" cy="2425320"/>
              </a:xfrm>
            </p:grpSpPr>
            <p:grpSp>
              <p:nvGrpSpPr>
                <p:cNvPr id="410" name=""/>
                <p:cNvGrpSpPr/>
                <p:nvPr/>
              </p:nvGrpSpPr>
              <p:grpSpPr>
                <a:xfrm>
                  <a:off x="2913480" y="3683160"/>
                  <a:ext cx="1420920" cy="2267640"/>
                  <a:chOff x="2913480" y="3683160"/>
                  <a:chExt cx="1420920" cy="2267640"/>
                </a:xfrm>
              </p:grpSpPr>
              <p:sp>
                <p:nvSpPr>
                  <p:cNvPr id="411" name="未知"/>
                  <p:cNvSpPr/>
                  <p:nvPr/>
                </p:nvSpPr>
                <p:spPr>
                  <a:xfrm rot="3876600">
                    <a:off x="2485800" y="457056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未知"/>
                  <p:cNvSpPr/>
                  <p:nvPr/>
                </p:nvSpPr>
                <p:spPr>
                  <a:xfrm rot="3876600">
                    <a:off x="3853440" y="544968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3350160" y="3525480"/>
                  <a:ext cx="1090080" cy="1739880"/>
                  <a:chOff x="3350160" y="3525480"/>
                  <a:chExt cx="1090080" cy="1739880"/>
                </a:xfrm>
              </p:grpSpPr>
              <p:sp>
                <p:nvSpPr>
                  <p:cNvPr id="414" name="未知"/>
                  <p:cNvSpPr/>
                  <p:nvPr/>
                </p:nvSpPr>
                <p:spPr>
                  <a:xfrm flipV="1" rot="3876600">
                    <a:off x="3021840" y="4205880"/>
                    <a:ext cx="174672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未知"/>
                  <p:cNvSpPr/>
                  <p:nvPr/>
                </p:nvSpPr>
                <p:spPr>
                  <a:xfrm flipV="1" rot="3876600">
                    <a:off x="4055400" y="488736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6" name=""/>
              <p:cNvGrpSpPr/>
              <p:nvPr/>
            </p:nvGrpSpPr>
            <p:grpSpPr>
              <a:xfrm>
                <a:off x="2509920" y="2685960"/>
                <a:ext cx="1271520" cy="1310040"/>
                <a:chOff x="2509920" y="2685960"/>
                <a:chExt cx="1271520" cy="131004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25099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5099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2594160" y="277092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594160" y="277380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2648520" y="2828880"/>
                  <a:ext cx="99360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2" name=""/>
                <p:cNvGrpSpPr/>
                <p:nvPr/>
              </p:nvGrpSpPr>
              <p:grpSpPr>
                <a:xfrm>
                  <a:off x="2664000" y="2844720"/>
                  <a:ext cx="963000" cy="993600"/>
                  <a:chOff x="2664000" y="2844720"/>
                  <a:chExt cx="963000" cy="99360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>
                    <a:off x="2664000" y="2844720"/>
                    <a:ext cx="96300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2676240" y="2850120"/>
                    <a:ext cx="93996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686320" y="2859840"/>
                    <a:ext cx="89388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2738520" y="2885040"/>
                    <a:ext cx="79452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7" name=""/>
              <p:cNvSpPr/>
              <p:nvPr/>
            </p:nvSpPr>
            <p:spPr>
              <a:xfrm rot="3925800">
                <a:off x="2871720" y="4503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3925800">
                <a:off x="3331440" y="4222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4313160" y="2685960"/>
              <a:ext cx="1932120" cy="3264840"/>
              <a:chOff x="4313160" y="2685960"/>
              <a:chExt cx="1932120" cy="3264840"/>
            </a:xfrm>
          </p:grpSpPr>
          <p:grpSp>
            <p:nvGrpSpPr>
              <p:cNvPr id="430" name=""/>
              <p:cNvGrpSpPr/>
              <p:nvPr/>
            </p:nvGrpSpPr>
            <p:grpSpPr>
              <a:xfrm>
                <a:off x="4718520" y="3525120"/>
                <a:ext cx="1526760" cy="2425680"/>
                <a:chOff x="4718520" y="3525120"/>
                <a:chExt cx="1526760" cy="2425680"/>
              </a:xfrm>
            </p:grpSpPr>
            <p:grpSp>
              <p:nvGrpSpPr>
                <p:cNvPr id="431" name=""/>
                <p:cNvGrpSpPr/>
                <p:nvPr/>
              </p:nvGrpSpPr>
              <p:grpSpPr>
                <a:xfrm>
                  <a:off x="4718520" y="3683160"/>
                  <a:ext cx="1420920" cy="2267640"/>
                  <a:chOff x="4718520" y="3683160"/>
                  <a:chExt cx="1420920" cy="2267640"/>
                </a:xfrm>
              </p:grpSpPr>
              <p:sp>
                <p:nvSpPr>
                  <p:cNvPr id="432" name="未知"/>
                  <p:cNvSpPr/>
                  <p:nvPr/>
                </p:nvSpPr>
                <p:spPr>
                  <a:xfrm rot="3876600">
                    <a:off x="4290840" y="457056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未知"/>
                  <p:cNvSpPr/>
                  <p:nvPr/>
                </p:nvSpPr>
                <p:spPr>
                  <a:xfrm rot="3876600">
                    <a:off x="5658480" y="544968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5154840" y="3525120"/>
                  <a:ext cx="1090440" cy="1740240"/>
                  <a:chOff x="5154840" y="3525120"/>
                  <a:chExt cx="1090440" cy="1740240"/>
                </a:xfrm>
              </p:grpSpPr>
              <p:sp>
                <p:nvSpPr>
                  <p:cNvPr id="435" name="未知"/>
                  <p:cNvSpPr/>
                  <p:nvPr/>
                </p:nvSpPr>
                <p:spPr>
                  <a:xfrm flipV="1" rot="3876600">
                    <a:off x="4826520" y="4205880"/>
                    <a:ext cx="17467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未知"/>
                  <p:cNvSpPr/>
                  <p:nvPr/>
                </p:nvSpPr>
                <p:spPr>
                  <a:xfrm flipV="1" rot="3876600">
                    <a:off x="5860080" y="4887720"/>
                    <a:ext cx="2743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7" name=""/>
              <p:cNvGrpSpPr/>
              <p:nvPr/>
            </p:nvGrpSpPr>
            <p:grpSpPr>
              <a:xfrm>
                <a:off x="4313160" y="2685960"/>
                <a:ext cx="1273320" cy="1310040"/>
                <a:chOff x="4313160" y="2685960"/>
                <a:chExt cx="1273320" cy="131004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4313160" y="2685960"/>
                  <a:ext cx="12733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313160" y="2685960"/>
                  <a:ext cx="12733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397400" y="2770920"/>
                  <a:ext cx="110448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397400" y="2773800"/>
                  <a:ext cx="110448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4452120" y="2828880"/>
                  <a:ext cx="99504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3" name=""/>
                <p:cNvGrpSpPr/>
                <p:nvPr/>
              </p:nvGrpSpPr>
              <p:grpSpPr>
                <a:xfrm>
                  <a:off x="4467240" y="2844720"/>
                  <a:ext cx="964440" cy="993600"/>
                  <a:chOff x="4467240" y="2844720"/>
                  <a:chExt cx="964440" cy="99360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4467240" y="2844720"/>
                    <a:ext cx="96444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4479480" y="2850120"/>
                    <a:ext cx="94104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4489560" y="2859840"/>
                    <a:ext cx="89496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4541760" y="2885040"/>
                    <a:ext cx="79560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8" name=""/>
              <p:cNvSpPr/>
              <p:nvPr/>
            </p:nvSpPr>
            <p:spPr>
              <a:xfrm rot="3925800">
                <a:off x="4683960" y="4503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3925800">
                <a:off x="5144040" y="4222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6089760" y="2541600"/>
              <a:ext cx="2122560" cy="3476160"/>
              <a:chOff x="6089760" y="2541600"/>
              <a:chExt cx="2122560" cy="3476160"/>
            </a:xfrm>
          </p:grpSpPr>
          <p:grpSp>
            <p:nvGrpSpPr>
              <p:cNvPr id="451" name=""/>
              <p:cNvGrpSpPr/>
              <p:nvPr/>
            </p:nvGrpSpPr>
            <p:grpSpPr>
              <a:xfrm>
                <a:off x="6685560" y="3592440"/>
                <a:ext cx="1526760" cy="2425320"/>
                <a:chOff x="6685560" y="3592440"/>
                <a:chExt cx="1526760" cy="2425320"/>
              </a:xfrm>
            </p:grpSpPr>
            <p:grpSp>
              <p:nvGrpSpPr>
                <p:cNvPr id="452" name=""/>
                <p:cNvGrpSpPr/>
                <p:nvPr/>
              </p:nvGrpSpPr>
              <p:grpSpPr>
                <a:xfrm>
                  <a:off x="6685560" y="3750120"/>
                  <a:ext cx="1420920" cy="2267640"/>
                  <a:chOff x="6685560" y="3750120"/>
                  <a:chExt cx="1420920" cy="2267640"/>
                </a:xfrm>
              </p:grpSpPr>
              <p:sp>
                <p:nvSpPr>
                  <p:cNvPr id="453" name="未知"/>
                  <p:cNvSpPr/>
                  <p:nvPr/>
                </p:nvSpPr>
                <p:spPr>
                  <a:xfrm rot="3876600">
                    <a:off x="6257880" y="463752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未知"/>
                  <p:cNvSpPr/>
                  <p:nvPr/>
                </p:nvSpPr>
                <p:spPr>
                  <a:xfrm rot="3876600">
                    <a:off x="7625520" y="551664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7122240" y="3592440"/>
                  <a:ext cx="1090080" cy="1739880"/>
                  <a:chOff x="7122240" y="3592440"/>
                  <a:chExt cx="1090080" cy="1739880"/>
                </a:xfrm>
              </p:grpSpPr>
              <p:sp>
                <p:nvSpPr>
                  <p:cNvPr id="456" name="未知"/>
                  <p:cNvSpPr/>
                  <p:nvPr/>
                </p:nvSpPr>
                <p:spPr>
                  <a:xfrm flipV="1" rot="3876600">
                    <a:off x="6793920" y="4272840"/>
                    <a:ext cx="174672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未知"/>
                  <p:cNvSpPr/>
                  <p:nvPr/>
                </p:nvSpPr>
                <p:spPr>
                  <a:xfrm flipV="1" rot="3876600">
                    <a:off x="7827480" y="495432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8" name=""/>
              <p:cNvSpPr/>
              <p:nvPr/>
            </p:nvSpPr>
            <p:spPr>
              <a:xfrm>
                <a:off x="6089760" y="2541600"/>
                <a:ext cx="1527480" cy="1570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089760" y="2541600"/>
                <a:ext cx="1527480" cy="15706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191280" y="2644920"/>
                <a:ext cx="1327320" cy="136368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193080" y="2647800"/>
                <a:ext cx="1326960" cy="136404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256800" y="2712960"/>
                <a:ext cx="1195200" cy="122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3" name=""/>
              <p:cNvGrpSpPr/>
              <p:nvPr/>
            </p:nvGrpSpPr>
            <p:grpSpPr>
              <a:xfrm>
                <a:off x="6275880" y="2732040"/>
                <a:ext cx="1158120" cy="1190520"/>
                <a:chOff x="6275880" y="2732040"/>
                <a:chExt cx="1158120" cy="119052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6275880" y="2732040"/>
                  <a:ext cx="1158120" cy="119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290640" y="2738520"/>
                  <a:ext cx="1130040" cy="116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302520" y="2750040"/>
                  <a:ext cx="1074960" cy="108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365520" y="2780280"/>
                  <a:ext cx="95544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8" name=""/>
              <p:cNvSpPr/>
              <p:nvPr/>
            </p:nvSpPr>
            <p:spPr>
              <a:xfrm rot="3925800">
                <a:off x="6636960" y="46472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3925800">
                <a:off x="7095960" y="43660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1098360" y="2031840"/>
              <a:ext cx="6056640" cy="407880"/>
              <a:chOff x="1098360" y="2031840"/>
              <a:chExt cx="6056640" cy="407880"/>
            </a:xfrm>
          </p:grpSpPr>
          <p:sp>
            <p:nvSpPr>
              <p:cNvPr id="471" name=""/>
              <p:cNvSpPr/>
              <p:nvPr/>
            </p:nvSpPr>
            <p:spPr>
              <a:xfrm>
                <a:off x="109836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85264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59864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388920" y="2031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75" name=""/>
              <p:cNvCxnSpPr>
                <a:stCxn id="471" idx="3"/>
                <a:endCxn id="472" idx="1"/>
              </p:cNvCxnSpPr>
              <p:nvPr/>
            </p:nvCxnSpPr>
            <p:spPr>
              <a:xfrm>
                <a:off x="1834560" y="2255400"/>
                <a:ext cx="986760" cy="1080"/>
              </a:xfrm>
              <a:prstGeom prst="straightConnector1">
                <a:avLst/>
              </a:prstGeom>
              <a:ln w="9360">
                <a:solidFill>
                  <a:srgbClr val="336699"/>
                </a:solidFill>
                <a:miter/>
                <a:tailEnd len="med" type="triangle" w="med"/>
              </a:ln>
            </p:spPr>
          </p:cxnSp>
          <p:cxnSp>
            <p:nvCxnSpPr>
              <p:cNvPr id="476" name=""/>
              <p:cNvCxnSpPr>
                <a:stCxn id="472" idx="3"/>
                <a:endCxn id="473" idx="1"/>
              </p:cNvCxnSpPr>
              <p:nvPr/>
            </p:nvCxnSpPr>
            <p:spPr>
              <a:xfrm>
                <a:off x="3589200" y="2255400"/>
                <a:ext cx="978480" cy="1080"/>
              </a:xfrm>
              <a:prstGeom prst="straightConnector1">
                <a:avLst/>
              </a:prstGeom>
              <a:ln w="9360">
                <a:solidFill>
                  <a:srgbClr val="336699"/>
                </a:solidFill>
                <a:miter/>
                <a:tailEnd len="med" type="triangle" w="med"/>
              </a:ln>
            </p:spPr>
          </p:cxnSp>
          <p:cxnSp>
            <p:nvCxnSpPr>
              <p:cNvPr id="477" name=""/>
              <p:cNvCxnSpPr/>
              <p:nvPr/>
            </p:nvCxnSpPr>
            <p:spPr>
              <a:xfrm>
                <a:off x="5335560" y="2260080"/>
                <a:ext cx="978480" cy="1080"/>
              </a:xfrm>
              <a:prstGeom prst="straightConnector1">
                <a:avLst/>
              </a:prstGeom>
              <a:ln w="9360">
                <a:solidFill>
                  <a:srgbClr val="336699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1676520" y="1523880"/>
            <a:ext cx="5715000" cy="4190760"/>
            <a:chOff x="1676520" y="1523880"/>
            <a:chExt cx="5715000" cy="4190760"/>
          </a:xfrm>
        </p:grpSpPr>
        <p:grpSp>
          <p:nvGrpSpPr>
            <p:cNvPr id="480" name=""/>
            <p:cNvGrpSpPr/>
            <p:nvPr/>
          </p:nvGrpSpPr>
          <p:grpSpPr>
            <a:xfrm>
              <a:off x="1676520" y="1523880"/>
              <a:ext cx="5715000" cy="1247760"/>
              <a:chOff x="1676520" y="1523880"/>
              <a:chExt cx="5715000" cy="1247760"/>
            </a:xfrm>
          </p:grpSpPr>
          <p:sp>
            <p:nvSpPr>
              <p:cNvPr id="481" name=""/>
              <p:cNvSpPr/>
              <p:nvPr/>
            </p:nvSpPr>
            <p:spPr>
              <a:xfrm>
                <a:off x="1676520" y="1523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1f1f1"/>
                  </a:gs>
                  <a:gs pos="100000">
                    <a:srgbClr val="dddddd"/>
                  </a:gs>
                </a:gsLst>
                <a:lin ang="135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2" name=""/>
              <p:cNvGrpSpPr/>
              <p:nvPr/>
            </p:nvGrpSpPr>
            <p:grpSpPr>
              <a:xfrm>
                <a:off x="1801080" y="1638360"/>
                <a:ext cx="1101240" cy="1020600"/>
                <a:chOff x="1801080" y="1638360"/>
                <a:chExt cx="1101240" cy="102060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1801080" y="1638360"/>
                  <a:ext cx="110124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57a19a"/>
                    </a:gs>
                    <a:gs pos="100000">
                      <a:srgbClr val="3c6f6b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未知"/>
                <p:cNvSpPr/>
                <p:nvPr/>
              </p:nvSpPr>
              <p:spPr>
                <a:xfrm>
                  <a:off x="1869840" y="1703880"/>
                  <a:ext cx="549000" cy="50976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2cac7"/>
                    </a:gs>
                    <a:gs pos="50000">
                      <a:srgbClr val="57a19a">
                        <a:alpha val="0"/>
                      </a:srgbClr>
                    </a:gs>
                    <a:gs pos="100000">
                      <a:srgbClr val="a2cac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1913760" y="191592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6" name=""/>
              <p:cNvSpPr/>
              <p:nvPr/>
            </p:nvSpPr>
            <p:spPr>
              <a:xfrm>
                <a:off x="3052080" y="171792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1676520" y="2990880"/>
              <a:ext cx="5715000" cy="1247760"/>
              <a:chOff x="1676520" y="2990880"/>
              <a:chExt cx="5715000" cy="1247760"/>
            </a:xfrm>
          </p:grpSpPr>
          <p:sp>
            <p:nvSpPr>
              <p:cNvPr id="488" name=""/>
              <p:cNvSpPr/>
              <p:nvPr/>
            </p:nvSpPr>
            <p:spPr>
              <a:xfrm>
                <a:off x="1676520" y="2990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0f0f0"/>
                  </a:gs>
                  <a:gs pos="100000">
                    <a:srgbClr val="dddddd"/>
                  </a:gs>
                </a:gsLst>
                <a:lin ang="135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9" name=""/>
              <p:cNvGrpSpPr/>
              <p:nvPr/>
            </p:nvGrpSpPr>
            <p:grpSpPr>
              <a:xfrm>
                <a:off x="1801080" y="3105360"/>
                <a:ext cx="1101240" cy="1020600"/>
                <a:chOff x="1801080" y="3105360"/>
                <a:chExt cx="1101240" cy="102060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1801080" y="3105360"/>
                  <a:ext cx="110124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c68464"/>
                    </a:gs>
                    <a:gs pos="100000">
                      <a:srgbClr val="b2572a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未知"/>
                <p:cNvSpPr/>
                <p:nvPr/>
              </p:nvSpPr>
              <p:spPr>
                <a:xfrm>
                  <a:off x="1869840" y="3170880"/>
                  <a:ext cx="549000" cy="50976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572a">
                        <a:alpha val="0"/>
                      </a:srgbClr>
                    </a:gs>
                    <a:gs pos="100000">
                      <a:srgbClr val="ddb7a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913760" y="338436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3" name=""/>
              <p:cNvSpPr/>
              <p:nvPr/>
            </p:nvSpPr>
            <p:spPr>
              <a:xfrm>
                <a:off x="3052080" y="316152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is a Design Digital Content &amp; Contents mall developed by Guild Design In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1676520" y="4466880"/>
              <a:ext cx="5715000" cy="1247760"/>
              <a:chOff x="1676520" y="4466880"/>
              <a:chExt cx="5715000" cy="1247760"/>
            </a:xfrm>
          </p:grpSpPr>
          <p:sp>
            <p:nvSpPr>
              <p:cNvPr id="495" name=""/>
              <p:cNvSpPr/>
              <p:nvPr/>
            </p:nvSpPr>
            <p:spPr>
              <a:xfrm>
                <a:off x="1676520" y="4466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ededed"/>
                  </a:gs>
                  <a:gs pos="100000">
                    <a:srgbClr val="dddddd"/>
                  </a:gs>
                </a:gsLst>
                <a:lin ang="135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" name=""/>
              <p:cNvGrpSpPr/>
              <p:nvPr/>
            </p:nvGrpSpPr>
            <p:grpSpPr>
              <a:xfrm>
                <a:off x="1801080" y="4581360"/>
                <a:ext cx="1101240" cy="1020600"/>
                <a:chOff x="1801080" y="4581360"/>
                <a:chExt cx="1101240" cy="102060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1801080" y="4581360"/>
                  <a:ext cx="110124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8c82c6"/>
                    </a:gs>
                    <a:gs pos="100000">
                      <a:srgbClr val="4b3ca8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未知"/>
                <p:cNvSpPr/>
                <p:nvPr/>
              </p:nvSpPr>
              <p:spPr>
                <a:xfrm>
                  <a:off x="1869840" y="4646880"/>
                  <a:ext cx="549000" cy="50976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3ca8">
                        <a:alpha val="0"/>
                      </a:srgbClr>
                    </a:gs>
                    <a:gs pos="100000">
                      <a:srgbClr val="a69fd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1913760" y="486036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0" name=""/>
              <p:cNvSpPr/>
              <p:nvPr/>
            </p:nvSpPr>
            <p:spPr>
              <a:xfrm>
                <a:off x="3052080" y="463752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07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b2572a"/>
                </a:gs>
                <a:gs pos="100000">
                  <a:srgbClr val="52281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09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57a1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15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b2572a"/>
                </a:gs>
                <a:gs pos="100000">
                  <a:srgbClr val="52281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21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57a1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846000" y="2354400"/>
          <a:ext cx="7450200" cy="3082680"/>
        </p:xfrm>
        <a:graphic>
          <a:graphicData uri="http://schemas.openxmlformats.org/drawingml/2006/table">
            <a:tbl>
              <a:tblPr/>
              <a:tblGrid>
                <a:gridCol w="1679400"/>
                <a:gridCol w="1173240"/>
                <a:gridCol w="1149480"/>
                <a:gridCol w="1146240"/>
                <a:gridCol w="1154160"/>
                <a:gridCol w="1147680"/>
              </a:tblGrid>
              <a:tr h="43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7a19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7a19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7a19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7a19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7a19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7a19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824760" y="732960"/>
            <a:ext cx="7379640" cy="5581800"/>
            <a:chOff x="824760" y="732960"/>
            <a:chExt cx="7379640" cy="5581800"/>
          </a:xfrm>
        </p:grpSpPr>
        <p:sp>
          <p:nvSpPr>
            <p:cNvPr id="538" name=""/>
            <p:cNvSpPr/>
            <p:nvPr/>
          </p:nvSpPr>
          <p:spPr>
            <a:xfrm>
              <a:off x="2362320" y="45198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20601600">
              <a:off x="1672920" y="24080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b2b2b2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20601600">
              <a:off x="1692000" y="22449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20601600">
              <a:off x="1609560" y="22302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ca8e70"/>
                </a:gs>
                <a:gs pos="100000">
                  <a:srgbClr val="b2572a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rot="20602200">
              <a:off x="1658520" y="22298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805a2c"/>
                </a:gs>
                <a:gs pos="100000">
                  <a:srgbClr val="d4964a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20601600">
              <a:off x="1541880" y="2251080"/>
              <a:ext cx="5773680" cy="283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gradFill rotWithShape="0">
              <a:gsLst>
                <a:gs pos="0">
                  <a:srgbClr val="2d5450"/>
                </a:gs>
                <a:gs pos="100000">
                  <a:srgbClr val="57a19a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 rot="20602200">
              <a:off x="1626480" y="22230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5f6429"/>
                </a:gs>
                <a:gs pos="100000">
                  <a:srgbClr val="b0ba4c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20601600">
              <a:off x="3154320" y="2958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bebeb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145240" y="3638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050360" y="2419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879160" y="2724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824760" y="732960"/>
              <a:ext cx="7379640" cy="5581800"/>
              <a:chOff x="824760" y="732960"/>
              <a:chExt cx="7379640" cy="5581800"/>
            </a:xfrm>
          </p:grpSpPr>
          <p:sp>
            <p:nvSpPr>
              <p:cNvPr id="550" name="未知"/>
              <p:cNvSpPr/>
              <p:nvPr/>
            </p:nvSpPr>
            <p:spPr>
              <a:xfrm>
                <a:off x="5668920" y="36770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b3ca8"/>
                  </a:gs>
                  <a:gs pos="100000">
                    <a:srgbClr val="2d246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20539200">
                <a:off x="1243080" y="163692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221b4d"/>
                  </a:gs>
                  <a:gs pos="100000">
                    <a:srgbClr val="4b3ca8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未知"/>
              <p:cNvSpPr/>
              <p:nvPr/>
            </p:nvSpPr>
            <p:spPr>
              <a:xfrm>
                <a:off x="4803480" y="41533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21b4d"/>
                  </a:gs>
                  <a:gs pos="100000">
                    <a:srgbClr val="4b3ca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573880" y="39438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3364560" y="4629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未知"/>
            <p:cNvSpPr/>
            <p:nvPr/>
          </p:nvSpPr>
          <p:spPr>
            <a:xfrm>
              <a:off x="4648320" y="42195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676767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20601600">
              <a:off x="3257640" y="32101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1143000" y="1752480"/>
            <a:ext cx="6781680" cy="3886200"/>
            <a:chOff x="1143000" y="1752480"/>
            <a:chExt cx="6781680" cy="3886200"/>
          </a:xfrm>
        </p:grpSpPr>
        <p:sp>
          <p:nvSpPr>
            <p:cNvPr id="559" name=""/>
            <p:cNvSpPr/>
            <p:nvPr/>
          </p:nvSpPr>
          <p:spPr>
            <a:xfrm>
              <a:off x="2052720" y="2573280"/>
              <a:ext cx="5073480" cy="247644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dfdfd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841400" y="1752480"/>
              <a:ext cx="5315040" cy="519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7a19a"/>
                </a:gs>
                <a:gs pos="50000">
                  <a:srgbClr val="92c1bd"/>
                </a:gs>
                <a:gs pos="100000">
                  <a:srgbClr val="57a19a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86320" y="31226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" name=""/>
            <p:cNvGrpSpPr/>
            <p:nvPr/>
          </p:nvGrpSpPr>
          <p:grpSpPr>
            <a:xfrm>
              <a:off x="1143000" y="4263840"/>
              <a:ext cx="1363680" cy="1368360"/>
              <a:chOff x="1143000" y="4263840"/>
              <a:chExt cx="1363680" cy="136836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1143000" y="4263840"/>
                <a:ext cx="1363680" cy="1368360"/>
                <a:chOff x="1143000" y="4263840"/>
                <a:chExt cx="1363680" cy="136836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1143000" y="4263840"/>
                  <a:ext cx="1363680" cy="1368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0ba4c"/>
                    </a:gs>
                    <a:gs pos="100000">
                      <a:srgbClr val="6f753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未知"/>
                <p:cNvSpPr/>
                <p:nvPr/>
              </p:nvSpPr>
              <p:spPr>
                <a:xfrm>
                  <a:off x="1298880" y="4286520"/>
                  <a:ext cx="1051920" cy="5162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0ba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"/>
              <p:cNvSpPr/>
              <p:nvPr/>
            </p:nvSpPr>
            <p:spPr>
              <a:xfrm>
                <a:off x="1240200" y="495936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6526080" y="4224240"/>
              <a:ext cx="1398600" cy="1384200"/>
              <a:chOff x="6526080" y="4224240"/>
              <a:chExt cx="1398600" cy="1384200"/>
            </a:xfrm>
          </p:grpSpPr>
          <p:grpSp>
            <p:nvGrpSpPr>
              <p:cNvPr id="568" name=""/>
              <p:cNvGrpSpPr/>
              <p:nvPr/>
            </p:nvGrpSpPr>
            <p:grpSpPr>
              <a:xfrm>
                <a:off x="6526080" y="4224240"/>
                <a:ext cx="1398600" cy="1384200"/>
                <a:chOff x="6526080" y="4224240"/>
                <a:chExt cx="1398600" cy="138420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6526080" y="4224240"/>
                  <a:ext cx="1398600" cy="138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b3ca8"/>
                    </a:gs>
                    <a:gs pos="100000">
                      <a:srgbClr val="120e2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未知"/>
                <p:cNvSpPr/>
                <p:nvPr/>
              </p:nvSpPr>
              <p:spPr>
                <a:xfrm>
                  <a:off x="6685920" y="4246920"/>
                  <a:ext cx="1078920" cy="5223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b3ca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1" name=""/>
              <p:cNvSpPr/>
              <p:nvPr/>
            </p:nvSpPr>
            <p:spPr>
              <a:xfrm>
                <a:off x="6607800" y="48682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2890800" y="4263840"/>
              <a:ext cx="1398600" cy="1374840"/>
              <a:chOff x="2890800" y="4263840"/>
              <a:chExt cx="1398600" cy="1374840"/>
            </a:xfrm>
          </p:grpSpPr>
          <p:grpSp>
            <p:nvGrpSpPr>
              <p:cNvPr id="573" name=""/>
              <p:cNvGrpSpPr/>
              <p:nvPr/>
            </p:nvGrpSpPr>
            <p:grpSpPr>
              <a:xfrm>
                <a:off x="2890800" y="4263840"/>
                <a:ext cx="1398600" cy="1374840"/>
                <a:chOff x="2890800" y="4263840"/>
                <a:chExt cx="1398600" cy="137484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2890800" y="4263840"/>
                  <a:ext cx="1398600" cy="13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572a"/>
                    </a:gs>
                    <a:gs pos="100000">
                      <a:srgbClr val="5b2c1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未知"/>
                <p:cNvSpPr/>
                <p:nvPr/>
              </p:nvSpPr>
              <p:spPr>
                <a:xfrm>
                  <a:off x="3050640" y="4286520"/>
                  <a:ext cx="1078920" cy="518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b2572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6" name=""/>
              <p:cNvSpPr/>
              <p:nvPr/>
            </p:nvSpPr>
            <p:spPr>
              <a:xfrm>
                <a:off x="2960640" y="4924080"/>
                <a:ext cx="125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4778280" y="4224240"/>
              <a:ext cx="1398600" cy="1374840"/>
              <a:chOff x="4778280" y="4224240"/>
              <a:chExt cx="1398600" cy="1374840"/>
            </a:xfrm>
          </p:grpSpPr>
          <p:grpSp>
            <p:nvGrpSpPr>
              <p:cNvPr id="578" name=""/>
              <p:cNvGrpSpPr/>
              <p:nvPr/>
            </p:nvGrpSpPr>
            <p:grpSpPr>
              <a:xfrm>
                <a:off x="4778280" y="4224240"/>
                <a:ext cx="1398600" cy="1374840"/>
                <a:chOff x="4778280" y="4224240"/>
                <a:chExt cx="1398600" cy="137484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4778280" y="4224240"/>
                  <a:ext cx="1398600" cy="13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a19a"/>
                    </a:gs>
                    <a:gs pos="100000">
                      <a:srgbClr val="2c524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未知"/>
                <p:cNvSpPr/>
                <p:nvPr/>
              </p:nvSpPr>
              <p:spPr>
                <a:xfrm>
                  <a:off x="4938120" y="4246920"/>
                  <a:ext cx="1078920" cy="518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57a19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1" name=""/>
              <p:cNvSpPr/>
              <p:nvPr/>
            </p:nvSpPr>
            <p:spPr>
              <a:xfrm>
                <a:off x="4848120" y="4884480"/>
                <a:ext cx="125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"/>
          <p:cNvSpPr/>
          <p:nvPr/>
        </p:nvSpPr>
        <p:spPr>
          <a:xfrm>
            <a:off x="6733800" y="624852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85360" y="404640"/>
            <a:ext cx="8177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89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0ba4c"/>
                </a:gs>
                <a:gs pos="50000">
                  <a:srgbClr val="edefd8"/>
                </a:gs>
                <a:gs pos="100000">
                  <a:srgbClr val="b0ba4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b0ba4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94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7a19a"/>
                </a:gs>
                <a:gs pos="50000">
                  <a:srgbClr val="daeae8"/>
                </a:gs>
                <a:gs pos="100000">
                  <a:srgbClr val="57a19a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57a19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99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2572a"/>
                </a:gs>
                <a:gs pos="50000">
                  <a:srgbClr val="eddad1"/>
                </a:gs>
                <a:gs pos="100000">
                  <a:srgbClr val="b2572a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b2572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04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b3ca8"/>
                </a:gs>
                <a:gs pos="50000">
                  <a:srgbClr val="d8d4eb"/>
                </a:gs>
                <a:gs pos="100000">
                  <a:srgbClr val="4b3ca8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4b3ca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838080" y="2209680"/>
            <a:ext cx="4953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7a19a"/>
                    </a:gs>
                    <a:gs pos="100000">
                      <a:srgbClr val="336699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7a19a"/>
                  </a:gs>
                  <a:gs pos="100000">
                    <a:srgbClr val="336699"/>
                  </a:gs>
                </a:gsLst>
                <a:lin ang="108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en-US" sz="16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en-US" sz="16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5BA85-44E0-4373-9953-C9D9584511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596600"/>
            <a:ext cx="8217000" cy="40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b257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6699"/>
                </a:solidFill>
                <a:latin typeface="Arial"/>
                <a:ea typeface="宋体"/>
              </a:rPr>
              <a:t>On the </a:t>
            </a:r>
            <a:r>
              <a:rPr b="1" lang="en-US" sz="2900" spc="-1" strike="noStrike">
                <a:solidFill>
                  <a:srgbClr val="57a19a"/>
                </a:solidFill>
                <a:latin typeface="Arial"/>
                <a:ea typeface="宋体"/>
              </a:rPr>
              <a:t>[View]</a:t>
            </a:r>
            <a:r>
              <a:rPr b="1" lang="en-US" sz="2900" spc="-1" strike="noStrike">
                <a:solidFill>
                  <a:srgbClr val="336699"/>
                </a:solidFill>
                <a:latin typeface="Arial"/>
                <a:ea typeface="宋体"/>
              </a:rPr>
              <a:t> menu, point to </a:t>
            </a:r>
            <a:r>
              <a:rPr b="1" lang="en-US" sz="2900" spc="-1" strike="noStrike">
                <a:solidFill>
                  <a:srgbClr val="57a19a"/>
                </a:solidFill>
                <a:latin typeface="Arial"/>
                <a:ea typeface="宋体"/>
              </a:rPr>
              <a:t>[Master],</a:t>
            </a:r>
            <a:r>
              <a:rPr b="1" lang="en-US" sz="2900" spc="-1" strike="noStrike">
                <a:solidFill>
                  <a:srgbClr val="336699"/>
                </a:solidFill>
                <a:latin typeface="Arial"/>
                <a:ea typeface="宋体"/>
              </a:rPr>
              <a:t> and then click </a:t>
            </a:r>
            <a:r>
              <a:rPr b="1" lang="en-US" sz="2900" spc="-1" strike="noStrike">
                <a:solidFill>
                  <a:srgbClr val="57a19a"/>
                </a:solidFill>
                <a:latin typeface="Arial"/>
                <a:ea typeface="宋体"/>
              </a:rPr>
              <a:t>[Slide Master]</a:t>
            </a:r>
            <a:r>
              <a:rPr b="1" lang="en-US" sz="2900" spc="-1" strike="noStrike">
                <a:solidFill>
                  <a:srgbClr val="336699"/>
                </a:solidFill>
                <a:latin typeface="Arial"/>
                <a:ea typeface="宋体"/>
              </a:rPr>
              <a:t> or </a:t>
            </a:r>
            <a:r>
              <a:rPr b="1" lang="en-US" sz="2900" spc="-1" strike="noStrike">
                <a:solidFill>
                  <a:srgbClr val="57a19a"/>
                </a:solidFill>
                <a:latin typeface="Arial"/>
                <a:ea typeface="宋体"/>
              </a:rPr>
              <a:t>[Notes Master].</a:t>
            </a:r>
            <a:r>
              <a:rPr b="1" lang="en-US" sz="2900" spc="-1" strike="noStrike">
                <a:solidFill>
                  <a:srgbClr val="336699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宋体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12" name="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未知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cd28c"/>
              </a:gs>
              <a:gs pos="100000">
                <a:srgbClr val="b0ba4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16" name="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62a14"/>
                    </a:gs>
                    <a:gs pos="100000">
                      <a:srgbClr val="b2572a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572a"/>
                    </a:gs>
                    <a:gs pos="100000">
                      <a:srgbClr val="dcb39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57a19a"/>
                  </a:gs>
                  <a:gs pos="100000">
                    <a:srgbClr val="284a4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c3ddda"/>
                  </a:gs>
                  <a:gs pos="100000">
                    <a:srgbClr val="57a19a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57a19a">
                      <a:alpha val="48235"/>
                    </a:srgbClr>
                  </a:gs>
                  <a:gs pos="100000">
                    <a:srgbClr val="447f7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57a19a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26" name="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未知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5c8ba"/>
              </a:gs>
              <a:gs pos="100000">
                <a:srgbClr val="b2572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31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e6e6e6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b2572a"/>
                </a:gs>
                <a:gs pos="100000">
                  <a:srgbClr val="3d1d0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57a19a"/>
                </a:gs>
                <a:gs pos="100000">
                  <a:srgbClr val="1b323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b0ba4c"/>
                </a:gs>
                <a:gs pos="100000">
                  <a:srgbClr val="3e42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3f3f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4b3ca8"/>
                </a:gs>
                <a:gs pos="100000">
                  <a:srgbClr val="1914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5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48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1b4d"/>
                </a:gs>
                <a:gs pos="50000">
                  <a:srgbClr val="4b3ca8"/>
                </a:gs>
                <a:gs pos="100000">
                  <a:srgbClr val="221b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1b4d"/>
                </a:gs>
                <a:gs pos="50000">
                  <a:srgbClr val="4b3ca8"/>
                </a:gs>
                <a:gs pos="100000">
                  <a:srgbClr val="221b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1b4d"/>
                </a:gs>
                <a:gs pos="50000">
                  <a:srgbClr val="4b3ca8"/>
                </a:gs>
                <a:gs pos="100000">
                  <a:srgbClr val="221b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84a46"/>
                </a:gs>
                <a:gs pos="50000">
                  <a:srgbClr val="57a19a"/>
                </a:gs>
                <a:gs pos="100000">
                  <a:srgbClr val="284a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dcdcd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522813"/>
                </a:gs>
                <a:gs pos="50000">
                  <a:srgbClr val="b2572a"/>
                </a:gs>
                <a:gs pos="100000">
                  <a:srgbClr val="52281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dcdcd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6733800" y="624852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69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70" name=""/>
              <p:cNvSpPr/>
              <p:nvPr/>
            </p:nvSpPr>
            <p:spPr>
              <a:xfrm flipH="1" rot="16200000">
                <a:off x="2927880" y="325548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ec2d6"/>
                  </a:gs>
                  <a:gs pos="100000">
                    <a:srgbClr val="33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 rot="5400000">
                <a:off x="5531400" y="320508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ec2d6"/>
                  </a:gs>
                  <a:gs pos="100000">
                    <a:srgbClr val="33669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rot="10800000">
                <a:off x="423936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ec2d6"/>
                  </a:gs>
                  <a:gs pos="100000">
                    <a:srgbClr val="33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305880" y="2209680"/>
                <a:ext cx="232920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438720" y="2344680"/>
                <a:ext cx="206244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560040" y="2471040"/>
                <a:ext cx="18201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b2572a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560040" y="2471040"/>
                <a:ext cx="18201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9920" y="2594520"/>
                <a:ext cx="1580760" cy="1631880"/>
              </a:xfrm>
              <a:prstGeom prst="ellipse">
                <a:avLst/>
              </a:prstGeom>
              <a:gradFill rotWithShape="0">
                <a:gsLst>
                  <a:gs pos="0">
                    <a:srgbClr val="5f2e16"/>
                  </a:gs>
                  <a:gs pos="50000">
                    <a:srgbClr val="b2572a"/>
                  </a:gs>
                  <a:gs pos="100000">
                    <a:srgbClr val="5f2e1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679920" y="2594520"/>
                <a:ext cx="158076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1b4d"/>
                </a:gs>
                <a:gs pos="50000">
                  <a:srgbClr val="4b3ca8"/>
                </a:gs>
                <a:gs pos="100000">
                  <a:srgbClr val="221b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1b4d"/>
                </a:gs>
                <a:gs pos="50000">
                  <a:srgbClr val="4b3ca8"/>
                </a:gs>
                <a:gs pos="100000">
                  <a:srgbClr val="221b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1b4d"/>
                </a:gs>
                <a:gs pos="50000">
                  <a:srgbClr val="4b3ca8"/>
                </a:gs>
                <a:gs pos="100000">
                  <a:srgbClr val="221b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84a46"/>
                </a:gs>
                <a:gs pos="50000">
                  <a:srgbClr val="57a19a"/>
                </a:gs>
                <a:gs pos="100000">
                  <a:srgbClr val="284a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84a46"/>
                </a:gs>
                <a:gs pos="50000">
                  <a:srgbClr val="57a19a"/>
                </a:gs>
                <a:gs pos="100000">
                  <a:srgbClr val="284a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84a46"/>
                </a:gs>
                <a:gs pos="50000">
                  <a:srgbClr val="57a19a"/>
                </a:gs>
                <a:gs pos="100000">
                  <a:srgbClr val="284a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195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09" name="未知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523"/>
                  </a:gs>
                  <a:gs pos="50000">
                    <a:srgbClr val="b0ba4c"/>
                  </a:gs>
                  <a:gs pos="100000">
                    <a:srgbClr val="51552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未知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b0b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未知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22813"/>
                  </a:gs>
                  <a:gs pos="50000">
                    <a:srgbClr val="b2572a"/>
                  </a:gs>
                  <a:gs pos="100000">
                    <a:srgbClr val="52281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未知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b257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未知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21b4d"/>
                  </a:gs>
                  <a:gs pos="50000">
                    <a:srgbClr val="4b3ca8"/>
                  </a:gs>
                  <a:gs pos="100000">
                    <a:srgbClr val="221b4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未知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84a46"/>
                  </a:gs>
                  <a:gs pos="50000">
                    <a:srgbClr val="57a19a"/>
                  </a:gs>
                  <a:gs pos="100000">
                    <a:srgbClr val="284a4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未知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57a1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未知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7f8636"/>
                  </a:gs>
                  <a:gs pos="50000">
                    <a:srgbClr val="b0ba4c"/>
                  </a:gs>
                  <a:gs pos="100000">
                    <a:srgbClr val="7f863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803e1e"/>
                  </a:gs>
                  <a:gs pos="50000">
                    <a:srgbClr val="b2572a"/>
                  </a:gs>
                  <a:gs pos="100000">
                    <a:srgbClr val="803e1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未知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4b3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362b79"/>
                  </a:gs>
                  <a:gs pos="50000">
                    <a:srgbClr val="4b3ca8"/>
                  </a:gs>
                  <a:gs pos="100000">
                    <a:srgbClr val="362b7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3e746f"/>
                  </a:gs>
                  <a:gs pos="50000">
                    <a:srgbClr val="57a19a"/>
                  </a:gs>
                  <a:gs pos="100000">
                    <a:srgbClr val="3e746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838080" y="1371600"/>
            <a:ext cx="7162920" cy="4571640"/>
            <a:chOff x="838080" y="1371600"/>
            <a:chExt cx="7162920" cy="4571640"/>
          </a:xfrm>
        </p:grpSpPr>
        <p:sp>
          <p:nvSpPr>
            <p:cNvPr id="224" name="未知"/>
            <p:cNvSpPr/>
            <p:nvPr/>
          </p:nvSpPr>
          <p:spPr>
            <a:xfrm>
              <a:off x="4910040" y="1371600"/>
              <a:ext cx="1436760" cy="1119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b2572a"/>
                </a:gs>
                <a:gs pos="100000">
                  <a:srgbClr val="b8653c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95440" y="2759040"/>
              <a:ext cx="2247840" cy="2803680"/>
            </a:xfrm>
            <a:custGeom>
              <a:avLst/>
              <a:gdLst>
                <a:gd name="textAreaLeft" fmla="*/ 30600 w 2247840"/>
                <a:gd name="textAreaRight" fmla="*/ 2217240 w 2247840"/>
                <a:gd name="textAreaTop" fmla="*/ 30600 h 2803680"/>
                <a:gd name="textAreaBottom" fmla="*/ 2773080 h 2803680"/>
              </a:gdLst>
              <a:ahLst/>
              <a:rect l="textAreaLeft" t="textAreaTop" r="textAreaRight" b="textAreaBottom"/>
              <a:pathLst>
                <a:path w="21600" h="26940">
                  <a:moveTo>
                    <a:pt x="1013" y="0"/>
                  </a:moveTo>
                  <a:arcTo wR="1013" hR="1013" stAng="16200000" swAng="-5400000"/>
                  <a:lnTo>
                    <a:pt x="0" y="25927"/>
                  </a:lnTo>
                  <a:arcTo wR="1013" hR="1013" stAng="10800000" swAng="-5400000"/>
                  <a:lnTo>
                    <a:pt x="20587" y="26940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b0ba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24040" y="2625840"/>
              <a:ext cx="1825560" cy="27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15523"/>
                </a:gs>
                <a:gs pos="50000">
                  <a:srgbClr val="b0ba4c"/>
                </a:gs>
                <a:gs pos="100000">
                  <a:srgbClr val="515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5165640" y="2698920"/>
              <a:ext cx="71280" cy="1396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3608280" y="2689200"/>
              <a:ext cx="69840" cy="1396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53160" y="2273400"/>
              <a:ext cx="2247840" cy="2859120"/>
            </a:xfrm>
            <a:custGeom>
              <a:avLst/>
              <a:gdLst>
                <a:gd name="textAreaLeft" fmla="*/ 30600 w 2247840"/>
                <a:gd name="textAreaRight" fmla="*/ 2217240 w 2247840"/>
                <a:gd name="textAreaTop" fmla="*/ 30600 h 2859120"/>
                <a:gd name="textAreaBottom" fmla="*/ 2828520 h 2859120"/>
              </a:gdLst>
              <a:ahLst/>
              <a:rect l="textAreaLeft" t="textAreaTop" r="textAreaRight" b="textAreaBottom"/>
              <a:pathLst>
                <a:path w="21600" h="27473">
                  <a:moveTo>
                    <a:pt x="1013" y="0"/>
                  </a:moveTo>
                  <a:arcTo wR="1013" hR="1013" stAng="16200000" swAng="-5400000"/>
                  <a:lnTo>
                    <a:pt x="0" y="26460"/>
                  </a:lnTo>
                  <a:arcTo wR="1013" hR="1013" stAng="10800000" swAng="-5400000"/>
                  <a:lnTo>
                    <a:pt x="20587" y="27473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b257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64120" y="2135160"/>
              <a:ext cx="1825560" cy="27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22813"/>
                </a:gs>
                <a:gs pos="50000">
                  <a:srgbClr val="b2572a"/>
                </a:gs>
                <a:gs pos="100000">
                  <a:srgbClr val="5228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7615080" y="2205000"/>
              <a:ext cx="69840" cy="1382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065640" y="2205000"/>
              <a:ext cx="69840" cy="1382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未知"/>
            <p:cNvSpPr/>
            <p:nvPr/>
          </p:nvSpPr>
          <p:spPr>
            <a:xfrm>
              <a:off x="2382840" y="1857240"/>
              <a:ext cx="1436400" cy="1119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4b3ca8"/>
                </a:gs>
                <a:gs pos="100000">
                  <a:srgbClr val="968ecc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60560" y="25970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222960" y="21178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838080" y="2994120"/>
              <a:ext cx="2247840" cy="2949120"/>
              <a:chOff x="838080" y="2994120"/>
              <a:chExt cx="2247840" cy="2949120"/>
            </a:xfrm>
          </p:grpSpPr>
          <p:sp>
            <p:nvSpPr>
              <p:cNvPr id="237" name=""/>
              <p:cNvSpPr/>
              <p:nvPr/>
            </p:nvSpPr>
            <p:spPr>
              <a:xfrm>
                <a:off x="838080" y="3143160"/>
                <a:ext cx="2247840" cy="2800080"/>
              </a:xfrm>
              <a:custGeom>
                <a:avLst/>
                <a:gdLst>
                  <a:gd name="textAreaLeft" fmla="*/ 30600 w 2247840"/>
                  <a:gd name="textAreaRight" fmla="*/ 2217240 w 2247840"/>
                  <a:gd name="textAreaTop" fmla="*/ 30600 h 2800080"/>
                  <a:gd name="textAreaBottom" fmla="*/ 2769480 h 2800080"/>
                </a:gdLst>
                <a:ahLst/>
                <a:rect l="textAreaLeft" t="textAreaTop" r="textAreaRight" b="textAreaBottom"/>
                <a:pathLst>
                  <a:path w="21600" h="26906">
                    <a:moveTo>
                      <a:pt x="1013" y="0"/>
                    </a:moveTo>
                    <a:arcTo wR="1013" hR="1013" stAng="16200000" swAng="-5400000"/>
                    <a:lnTo>
                      <a:pt x="0" y="25893"/>
                    </a:lnTo>
                    <a:arcTo wR="1013" hR="1013" stAng="10800000" swAng="-5400000"/>
                    <a:lnTo>
                      <a:pt x="20587" y="26906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4b3c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049400" y="3016440"/>
                <a:ext cx="1824840" cy="25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d1740"/>
                  </a:gs>
                  <a:gs pos="50000">
                    <a:srgbClr val="4b3ca8"/>
                  </a:gs>
                  <a:gs pos="100000">
                    <a:srgbClr val="1d17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2698560" y="3079800"/>
                <a:ext cx="69840" cy="1278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1148760" y="3079800"/>
                <a:ext cx="71280" cy="1278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299960" y="299412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912600" y="3374280"/>
                <a:ext cx="20890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3375000" y="2984400"/>
              <a:ext cx="2089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837040" y="2468520"/>
              <a:ext cx="2089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http://www.eeppt.com</dc:creator>
  <dc:description>ppt模板下载网站 http://www.eeppt.com</dc:description>
  <dc:language>en-US</dc:language>
  <cp:lastModifiedBy/>
  <dcterms:modified xsi:type="dcterms:W3CDTF">2015-06-14T07:08:44Z</dcterms:modified>
  <cp:revision>3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