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230D-D2F5-4F3C-BF26-D7EF946E9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C006-16BA-4F5E-80DC-9B4B176FD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74C0-1EA7-4FC9-8FCC-8E8414C52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A711-0616-424F-936D-1804E93C3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279A-8B03-4F99-B51B-D9858A437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71A1-566F-4BEE-B307-E56F43483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637C-93E0-4925-93A0-B179EF5B2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4F41-FB68-404E-8D6B-8E8599CD7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966A-6901-4361-B099-71511CEC6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A6DA-0E07-47A8-BC20-313F7B86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4D91-4805-4916-BD31-AC0E23CB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5E08-F7D3-4E03-A44A-E576742B0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CA913-FC5B-4832-8C43-A291EB7A128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75AE8-80CE-4518-8181-51CF14F2F21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20081121020558.jpg"/>
          <p:cNvPicPr/>
          <p:nvPr/>
        </p:nvPicPr>
        <p:blipFill>
          <a:blip r:embed="rId1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" descr="012029006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6-13T11:19:33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