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8840" y="115920"/>
            <a:ext cx="9726840" cy="436680"/>
            <a:chOff x="-798840" y="115920"/>
            <a:chExt cx="97268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-798840" y="135000"/>
              <a:ext cx="350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771120" y="8388360"/>
            <a:ext cx="77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772"/>
          <p:cNvSpPr/>
          <p:nvPr/>
        </p:nvSpPr>
        <p:spPr>
          <a:xfrm>
            <a:off x="838080" y="1608120"/>
            <a:ext cx="6505560" cy="3919680"/>
          </a:xfrm>
          <a:prstGeom prst="pi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Freeform 1773"/>
          <p:cNvSpPr/>
          <p:nvPr/>
        </p:nvSpPr>
        <p:spPr>
          <a:xfrm>
            <a:off x="5300640" y="1608120"/>
            <a:ext cx="2909880" cy="3919680"/>
          </a:xfrm>
          <a:prstGeom prst="pie">
            <a:avLst/>
          </a:prstGeom>
          <a:solidFill>
            <a:srgbClr val="ffffff"/>
          </a:solidFill>
          <a:ln w="540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3" name="Object 151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51008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778"/>
          <p:cNvSpPr/>
          <p:nvPr/>
        </p:nvSpPr>
        <p:spPr>
          <a:xfrm>
            <a:off x="1301760" y="4691160"/>
            <a:ext cx="576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An ad-industry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veteran an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Gulim"/>
                <a:ea typeface="Gulim"/>
              </a:rPr>
              <a:t>entrepreneur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Rectangle 1780"/>
          <p:cNvSpPr/>
          <p:nvPr/>
        </p:nvSpPr>
        <p:spPr>
          <a:xfrm>
            <a:off x="2124000" y="4691160"/>
            <a:ext cx="719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oast th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season with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a sexy new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look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 ou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Gulim"/>
                <a:ea typeface="Gulim"/>
              </a:rPr>
              <a:t>makeup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Rectangle 1781"/>
          <p:cNvSpPr/>
          <p:nvPr/>
        </p:nvSpPr>
        <p:spPr>
          <a:xfrm>
            <a:off x="2916360" y="4691160"/>
            <a:ext cx="57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his home fragrance </a:t>
            </a:r>
            <a:r>
              <a:rPr b="0" lang="en-US" sz="800" spc="-1" strike="noStrike">
                <a:solidFill>
                  <a:srgbClr val="cc3300"/>
                </a:solidFill>
                <a:latin typeface="Gulim"/>
                <a:ea typeface="Gulim"/>
              </a:rPr>
              <a:t>blends festiv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Rectangle 1782"/>
          <p:cNvSpPr/>
          <p:nvPr/>
        </p:nvSpPr>
        <p:spPr>
          <a:xfrm>
            <a:off x="3780000" y="4691160"/>
            <a:ext cx="93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Welcome to our company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Gulim"/>
                <a:ea typeface="Gulim"/>
              </a:rPr>
              <a:t>Collection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 of inspiring an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unique image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07520" y="2852640"/>
            <a:ext cx="3325680" cy="894600"/>
            <a:chOff x="5807520" y="2852640"/>
            <a:chExt cx="3325680" cy="894600"/>
          </a:xfrm>
        </p:grpSpPr>
        <p:sp>
          <p:nvSpPr>
            <p:cNvPr id="59" name="AutoShape 1783"/>
            <p:cNvSpPr/>
            <p:nvPr/>
          </p:nvSpPr>
          <p:spPr>
            <a:xfrm>
              <a:off x="6789600" y="2900160"/>
              <a:ext cx="647640" cy="162000"/>
            </a:xfrm>
            <a:prstGeom prst="parallelogram">
              <a:avLst>
                <a:gd name="adj" fmla="val 597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" name="Text Box 1784"/>
            <p:cNvSpPr/>
            <p:nvPr/>
          </p:nvSpPr>
          <p:spPr>
            <a:xfrm>
              <a:off x="5807520" y="3044880"/>
              <a:ext cx="3207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Mixing Business With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Pleasuresponsored b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company nameSet aside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ime for fun and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relaxation while visiting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" name="Text Box 1785"/>
            <p:cNvSpPr/>
            <p:nvPr/>
          </p:nvSpPr>
          <p:spPr>
            <a:xfrm>
              <a:off x="6491160" y="2931840"/>
              <a:ext cx="264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99"/>
                  </a:solidFill>
                  <a:latin typeface="Arial Black"/>
                </a:rPr>
                <a:t>BLUE GROUP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" name="Text Box 1786"/>
            <p:cNvSpPr/>
            <p:nvPr/>
          </p:nvSpPr>
          <p:spPr>
            <a:xfrm>
              <a:off x="6588000" y="28526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73280" y="3860640"/>
            <a:ext cx="3564000" cy="772920"/>
            <a:chOff x="5273280" y="3860640"/>
            <a:chExt cx="3564000" cy="772920"/>
          </a:xfrm>
        </p:grpSpPr>
        <p:sp>
          <p:nvSpPr>
            <p:cNvPr id="64" name="AutoShape 1789"/>
            <p:cNvSpPr/>
            <p:nvPr/>
          </p:nvSpPr>
          <p:spPr>
            <a:xfrm>
              <a:off x="6213240" y="3908160"/>
              <a:ext cx="647280" cy="162000"/>
            </a:xfrm>
            <a:prstGeom prst="parallelogram">
              <a:avLst>
                <a:gd name="adj" fmla="val 597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" name="Text Box 1790"/>
            <p:cNvSpPr/>
            <p:nvPr/>
          </p:nvSpPr>
          <p:spPr>
            <a:xfrm>
              <a:off x="5273280" y="4052880"/>
              <a:ext cx="356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COMPANY new low-cost and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easy-to-use Web-site design tool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will help entrepreneurs spiff up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ir online store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" name="Text Box 1791"/>
            <p:cNvSpPr/>
            <p:nvPr/>
          </p:nvSpPr>
          <p:spPr>
            <a:xfrm>
              <a:off x="5904000" y="3939840"/>
              <a:ext cx="271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 Black"/>
                </a:rPr>
                <a:t>GREEN GROUP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Text Box 1792"/>
            <p:cNvSpPr/>
            <p:nvPr/>
          </p:nvSpPr>
          <p:spPr>
            <a:xfrm>
              <a:off x="6012000" y="3860640"/>
              <a:ext cx="86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80000" y="4748040"/>
            <a:ext cx="4371840" cy="651240"/>
            <a:chOff x="4680000" y="4748040"/>
            <a:chExt cx="4371840" cy="651240"/>
          </a:xfrm>
        </p:grpSpPr>
        <p:sp>
          <p:nvSpPr>
            <p:cNvPr id="69" name="AutoShape 1794"/>
            <p:cNvSpPr/>
            <p:nvPr/>
          </p:nvSpPr>
          <p:spPr>
            <a:xfrm>
              <a:off x="5681520" y="4795560"/>
              <a:ext cx="647640" cy="162000"/>
            </a:xfrm>
            <a:prstGeom prst="parallelogram">
              <a:avLst>
                <a:gd name="adj" fmla="val 597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" name="Text Box 1795"/>
            <p:cNvSpPr/>
            <p:nvPr/>
          </p:nvSpPr>
          <p:spPr>
            <a:xfrm>
              <a:off x="4680000" y="4940280"/>
              <a:ext cx="437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An ad-industry veteran and entrepreneur shares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his insights about the best ways fo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small outfits to get and leverage media attention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" name="Text Box 1796"/>
            <p:cNvSpPr/>
            <p:nvPr/>
          </p:nvSpPr>
          <p:spPr>
            <a:xfrm>
              <a:off x="5397840" y="4827240"/>
              <a:ext cx="278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6600"/>
                  </a:solidFill>
                  <a:latin typeface="Arial Black"/>
                </a:rPr>
                <a:t>YELLOW GROUP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" name="Text Box 1797"/>
            <p:cNvSpPr/>
            <p:nvPr/>
          </p:nvSpPr>
          <p:spPr>
            <a:xfrm>
              <a:off x="5479920" y="47480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92360" y="1773360"/>
            <a:ext cx="1440000" cy="1440"/>
            <a:chOff x="3492360" y="1773360"/>
            <a:chExt cx="1440000" cy="1440"/>
          </a:xfrm>
        </p:grpSpPr>
        <p:sp>
          <p:nvSpPr>
            <p:cNvPr id="74" name="Line 1799"/>
            <p:cNvSpPr/>
            <p:nvPr/>
          </p:nvSpPr>
          <p:spPr>
            <a:xfrm>
              <a:off x="3492360" y="1773360"/>
              <a:ext cx="1440000" cy="144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492360" y="1773360"/>
              <a:ext cx="1440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6" name="Text Box 1800"/>
          <p:cNvSpPr/>
          <p:nvPr/>
        </p:nvSpPr>
        <p:spPr>
          <a:xfrm>
            <a:off x="4865760" y="1647720"/>
            <a:ext cx="14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Dotum"/>
                <a:ea typeface="Dotum"/>
              </a:rPr>
              <a:t>CONTENTS_POI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Text Box 1802"/>
          <p:cNvSpPr/>
          <p:nvPr/>
        </p:nvSpPr>
        <p:spPr>
          <a:xfrm>
            <a:off x="5003640" y="1844640"/>
            <a:ext cx="1081080" cy="11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Search the catalogs, find information, put materials on reserve an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renew books online.Fine Art Black and Whit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Text Box 1803"/>
          <p:cNvSpPr/>
          <p:nvPr/>
        </p:nvSpPr>
        <p:spPr>
          <a:xfrm>
            <a:off x="4084920" y="2762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ulim"/>
                <a:ea typeface="Gulim"/>
              </a:rPr>
              <a:t>+25</a:t>
            </a:r>
            <a:r>
              <a:rPr b="1" lang="en-US" sz="1800" spc="-1" strike="noStrike">
                <a:solidFill>
                  <a:srgbClr val="cc3300"/>
                </a:solidFill>
                <a:latin typeface="Gulim"/>
                <a:ea typeface="Gulim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http://www.eeppt.com</dc:creator>
  <dc:description>ppt模板下载网站 http://www.eeppt.com</dc:description>
  <dc:language>en-US</dc:language>
  <cp:lastModifiedBy/>
  <dcterms:modified xsi:type="dcterms:W3CDTF">2015-06-14T06:24:02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