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7E32-2DAC-4A30-88D5-5C933CE5F4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A773-3009-4E9A-8F32-F2295E206C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1C84-0F21-43B8-B04F-0E13712C7D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0567-64C5-4AA8-8CE0-E4A474DC7A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CCA7-9246-47CD-A68C-6129106554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CC82-7721-4B24-BBAB-B46F31CDD1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E0A0-E103-47DB-B97D-D5BF56BCE1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7dd6d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0F45-64F5-441A-A810-57701D06E5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4927-9617-4CA9-8004-5B473936FA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9161-62E4-4DBA-9ACB-AD3C6A3D6D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EB4D-A0C4-4E59-B9C6-50F6E59CDD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6AB5-F10A-4547-AF70-363787509D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7dd6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5740560" cy="927000"/>
          </a:xfrm>
          <a:prstGeom prst="rect">
            <a:avLst/>
          </a:prstGeom>
          <a:solidFill>
            <a:srgbClr val="bc9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566040"/>
            <a:ext cx="9144000" cy="291960"/>
            <a:chOff x="0" y="6566040"/>
            <a:chExt cx="9144000" cy="291960"/>
          </a:xfrm>
        </p:grpSpPr>
        <p:sp>
          <p:nvSpPr>
            <p:cNvPr id="2" name=""/>
            <p:cNvSpPr/>
            <p:nvPr/>
          </p:nvSpPr>
          <p:spPr>
            <a:xfrm>
              <a:off x="0" y="6566040"/>
              <a:ext cx="9144000" cy="2919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5360" y="6566040"/>
              <a:ext cx="8204040" cy="2919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2286000" y="0"/>
            <a:ext cx="6858000" cy="9270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bc9a0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040600" y="50760"/>
            <a:ext cx="1103040" cy="1087560"/>
            <a:chOff x="8040600" y="50760"/>
            <a:chExt cx="1103040" cy="1087560"/>
          </a:xfrm>
        </p:grpSpPr>
        <p:sp>
          <p:nvSpPr>
            <p:cNvPr id="6" name="未知"/>
            <p:cNvSpPr/>
            <p:nvPr/>
          </p:nvSpPr>
          <p:spPr>
            <a:xfrm>
              <a:off x="8040600" y="50760"/>
              <a:ext cx="687960" cy="464040"/>
            </a:xfrm>
            <a:custGeom>
              <a:avLst/>
              <a:gdLst/>
              <a:ahLst/>
              <a:rect l="l" t="t" r="r" b="b"/>
              <a:pathLst>
                <a:path w="1276" h="860">
                  <a:moveTo>
                    <a:pt x="504" y="860"/>
                  </a:moveTo>
                  <a:lnTo>
                    <a:pt x="1276" y="512"/>
                  </a:lnTo>
                  <a:lnTo>
                    <a:pt x="736" y="0"/>
                  </a:lnTo>
                  <a:lnTo>
                    <a:pt x="0" y="344"/>
                  </a:lnTo>
                  <a:lnTo>
                    <a:pt x="504" y="860"/>
                  </a:lnTo>
                  <a:close/>
                </a:path>
              </a:pathLst>
            </a:custGeom>
            <a:gradFill rotWithShape="0">
              <a:gsLst>
                <a:gs pos="0">
                  <a:srgbClr val="002f75"/>
                </a:gs>
                <a:gs pos="100000">
                  <a:srgbClr val="00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8307720" y="324360"/>
              <a:ext cx="835920" cy="389160"/>
            </a:xfrm>
            <a:custGeom>
              <a:avLst/>
              <a:gdLst/>
              <a:ahLst/>
              <a:rect l="l" t="t" r="r" b="b"/>
              <a:pathLst>
                <a:path w="1056" h="480">
                  <a:moveTo>
                    <a:pt x="532" y="0"/>
                  </a:moveTo>
                  <a:lnTo>
                    <a:pt x="1056" y="236"/>
                  </a:lnTo>
                  <a:lnTo>
                    <a:pt x="532" y="480"/>
                  </a:lnTo>
                  <a:lnTo>
                    <a:pt x="0" y="236"/>
                  </a:lnTo>
                  <a:lnTo>
                    <a:pt x="532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65400" y="568440"/>
              <a:ext cx="522360" cy="52236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8726040" y="513000"/>
              <a:ext cx="416520" cy="625320"/>
            </a:xfrm>
            <a:custGeom>
              <a:avLst/>
              <a:gdLst/>
              <a:ahLst/>
              <a:rect l="l" t="t" r="r" b="b"/>
              <a:pathLst>
                <a:path w="504" h="720">
                  <a:moveTo>
                    <a:pt x="0" y="232"/>
                  </a:moveTo>
                  <a:lnTo>
                    <a:pt x="0" y="720"/>
                  </a:lnTo>
                  <a:lnTo>
                    <a:pt x="504" y="488"/>
                  </a:lnTo>
                  <a:lnTo>
                    <a:pt x="504" y="0"/>
                  </a:lnTo>
                  <a:lnTo>
                    <a:pt x="0" y="232"/>
                  </a:lnTo>
                  <a:close/>
                </a:path>
              </a:pathLst>
            </a:custGeom>
            <a:gradFill rotWithShape="0">
              <a:gsLst>
                <a:gs pos="0">
                  <a:srgbClr val="896f0f"/>
                </a:gs>
                <a:gs pos="100000">
                  <a:srgbClr val="3f3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 flipH="1">
              <a:off x="8310960" y="513000"/>
              <a:ext cx="416880" cy="625320"/>
            </a:xfrm>
            <a:custGeom>
              <a:avLst/>
              <a:gdLst/>
              <a:ahLst/>
              <a:rect l="l" t="t" r="r" b="b"/>
              <a:pathLst>
                <a:path w="504" h="720">
                  <a:moveTo>
                    <a:pt x="0" y="232"/>
                  </a:moveTo>
                  <a:lnTo>
                    <a:pt x="0" y="720"/>
                  </a:lnTo>
                  <a:lnTo>
                    <a:pt x="504" y="488"/>
                  </a:lnTo>
                  <a:lnTo>
                    <a:pt x="504" y="0"/>
                  </a:lnTo>
                  <a:lnTo>
                    <a:pt x="0" y="232"/>
                  </a:lnTo>
                  <a:close/>
                </a:path>
              </a:pathLst>
            </a:custGeom>
            <a:gradFill rotWithShape="0">
              <a:gsLst>
                <a:gs pos="0">
                  <a:srgbClr val="f7dd6d"/>
                </a:gs>
                <a:gs pos="100000">
                  <a:srgbClr val="71653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8434440" y="298440"/>
            <a:ext cx="264960" cy="264960"/>
            <a:chOff x="8434440" y="298440"/>
            <a:chExt cx="264960" cy="264960"/>
          </a:xfrm>
        </p:grpSpPr>
        <p:sp>
          <p:nvSpPr>
            <p:cNvPr id="12" name=""/>
            <p:cNvSpPr/>
            <p:nvPr/>
          </p:nvSpPr>
          <p:spPr>
            <a:xfrm>
              <a:off x="8434440" y="298440"/>
              <a:ext cx="264960" cy="2649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07520" y="383760"/>
              <a:ext cx="146520" cy="146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d6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rot="19033200">
              <a:off x="8456400" y="338760"/>
              <a:ext cx="111600" cy="6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8728200" y="12600"/>
            <a:ext cx="390240" cy="390600"/>
            <a:chOff x="8728200" y="12600"/>
            <a:chExt cx="390240" cy="390600"/>
          </a:xfrm>
        </p:grpSpPr>
        <p:sp>
          <p:nvSpPr>
            <p:cNvPr id="16" name=""/>
            <p:cNvSpPr/>
            <p:nvPr/>
          </p:nvSpPr>
          <p:spPr>
            <a:xfrm>
              <a:off x="8728200" y="12600"/>
              <a:ext cx="390240" cy="390600"/>
            </a:xfrm>
            <a:prstGeom prst="ellipse">
              <a:avLst/>
            </a:prstGeom>
            <a:solidFill>
              <a:srgbClr val="bc9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35480" y="13896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9033200">
              <a:off x="8760960" y="72720"/>
              <a:ext cx="163800" cy="9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6f0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96f0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45"/>
              </a:gs>
              <a:gs pos="50000">
                <a:srgbClr val="000099"/>
              </a:gs>
              <a:gs pos="100000">
                <a:srgbClr val="0000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82840" y="216000"/>
            <a:ext cx="6032520" cy="60325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99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7dd6d"/>
                </a:solidFill>
                <a:latin typeface="Verdana"/>
                <a:ea typeface="Gulim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Num" idx="1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91A3-9088-4836-8D9C-04F92936CBE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543480"/>
            <a:ext cx="9144000" cy="33145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66ff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79640" y="4373640"/>
            <a:ext cx="3432240" cy="2014560"/>
          </a:xfrm>
          <a:prstGeom prst="irregularSeal1">
            <a:avLst/>
          </a:prstGeom>
          <a:gradFill rotWithShape="0">
            <a:gsLst>
              <a:gs pos="0">
                <a:srgbClr val="000099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未知"/>
          <p:cNvSpPr/>
          <p:nvPr/>
        </p:nvSpPr>
        <p:spPr>
          <a:xfrm>
            <a:off x="2217600" y="2077920"/>
            <a:ext cx="2365560" cy="1595520"/>
          </a:xfrm>
          <a:custGeom>
            <a:avLst/>
            <a:gdLst/>
            <a:ahLst/>
            <a:rect l="l" t="t" r="r" b="b"/>
            <a:pathLst>
              <a:path w="1276" h="860">
                <a:moveTo>
                  <a:pt x="504" y="860"/>
                </a:moveTo>
                <a:lnTo>
                  <a:pt x="1276" y="512"/>
                </a:lnTo>
                <a:lnTo>
                  <a:pt x="736" y="0"/>
                </a:lnTo>
                <a:lnTo>
                  <a:pt x="0" y="344"/>
                </a:lnTo>
                <a:lnTo>
                  <a:pt x="504" y="860"/>
                </a:lnTo>
                <a:close/>
              </a:path>
            </a:pathLst>
          </a:cu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未知"/>
          <p:cNvSpPr/>
          <p:nvPr/>
        </p:nvSpPr>
        <p:spPr>
          <a:xfrm>
            <a:off x="3137040" y="3019320"/>
            <a:ext cx="2873160" cy="1338480"/>
          </a:xfrm>
          <a:custGeom>
            <a:avLst/>
            <a:gdLst/>
            <a:ahLst/>
            <a:rect l="l" t="t" r="r" b="b"/>
            <a:pathLst>
              <a:path w="1056" h="480">
                <a:moveTo>
                  <a:pt x="532" y="0"/>
                </a:moveTo>
                <a:lnTo>
                  <a:pt x="1056" y="236"/>
                </a:lnTo>
                <a:lnTo>
                  <a:pt x="532" y="480"/>
                </a:lnTo>
                <a:lnTo>
                  <a:pt x="0" y="236"/>
                </a:lnTo>
                <a:lnTo>
                  <a:pt x="532" y="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851360" y="2408040"/>
            <a:ext cx="1741680" cy="1757160"/>
          </a:xfrm>
          <a:prstGeom prst="line">
            <a:avLst/>
          </a:prstGeom>
          <a:ln w="76320">
            <a:solidFill>
              <a:srgbClr val="00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7448000">
            <a:off x="4230360" y="1950120"/>
            <a:ext cx="2469960" cy="451080"/>
          </a:xfrm>
          <a:prstGeom prst="rightArrow">
            <a:avLst>
              <a:gd name="adj1" fmla="val 29491"/>
              <a:gd name="adj2" fmla="val 136891"/>
            </a:avLst>
          </a:prstGeom>
          <a:gradFill rotWithShape="0">
            <a:gsLst>
              <a:gs pos="0">
                <a:srgbClr val="f7dd6d"/>
              </a:gs>
              <a:gs pos="100000">
                <a:srgbClr val="000099"/>
              </a:gs>
            </a:gsLst>
            <a:lin ang="149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4136400">
            <a:off x="1589040" y="2820600"/>
            <a:ext cx="4013280" cy="412560"/>
          </a:xfrm>
          <a:custGeom>
            <a:avLst/>
            <a:gdLst>
              <a:gd name="textAreaLeft" fmla="*/ 802440 w 4013280"/>
              <a:gd name="textAreaRight" fmla="*/ 4816080 w 4013280"/>
              <a:gd name="textAreaTop" fmla="*/ 170280 h 412560"/>
              <a:gd name="textAreaBottom" fmla="*/ 242280 h 412560"/>
            </a:gdLst>
            <a:ahLst/>
            <a:rect l="textAreaLeft" t="textAreaTop" r="textAreaRight" b="textAreaBottom"/>
            <a:pathLst>
              <a:path w="21600" h="21600">
                <a:moveTo>
                  <a:pt x="4320" y="4459"/>
                </a:moveTo>
                <a:cubicBezTo>
                  <a:pt x="9360" y="-11337"/>
                  <a:pt x="16560" y="20255"/>
                  <a:pt x="21600" y="4459"/>
                </a:cubicBezTo>
                <a:lnTo>
                  <a:pt x="17280" y="17141"/>
                </a:lnTo>
                <a:cubicBezTo>
                  <a:pt x="12240" y="32937"/>
                  <a:pt x="504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896f0f"/>
              </a:gs>
            </a:gsLst>
            <a:lin ang="66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916600">
            <a:off x="1654200" y="2974680"/>
            <a:ext cx="2941560" cy="519120"/>
          </a:xfrm>
          <a:custGeom>
            <a:avLst/>
            <a:gdLst>
              <a:gd name="textAreaLeft" fmla="*/ 588240 w 2941560"/>
              <a:gd name="textAreaRight" fmla="*/ 3530160 w 2941560"/>
              <a:gd name="textAreaTop" fmla="*/ 214200 h 519120"/>
              <a:gd name="textAreaBottom" fmla="*/ 304920 h 519120"/>
            </a:gdLst>
            <a:ahLst/>
            <a:rect l="textAreaLeft" t="textAreaTop" r="textAreaRight" b="textAreaBottom"/>
            <a:pathLst>
              <a:path w="21600" h="21600">
                <a:moveTo>
                  <a:pt x="4320" y="4459"/>
                </a:moveTo>
                <a:cubicBezTo>
                  <a:pt x="9360" y="-11337"/>
                  <a:pt x="16560" y="20255"/>
                  <a:pt x="21600" y="4459"/>
                </a:cubicBezTo>
                <a:lnTo>
                  <a:pt x="17280" y="17141"/>
                </a:lnTo>
                <a:cubicBezTo>
                  <a:pt x="12240" y="32937"/>
                  <a:pt x="504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f7dd6d"/>
              </a:gs>
            </a:gsLst>
            <a:lin ang="7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78120" y="3857760"/>
            <a:ext cx="1795680" cy="17953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824280" y="2800440"/>
            <a:ext cx="844560" cy="844560"/>
            <a:chOff x="3824280" y="2800440"/>
            <a:chExt cx="844560" cy="844560"/>
          </a:xfrm>
        </p:grpSpPr>
        <p:sp>
          <p:nvSpPr>
            <p:cNvPr id="70" name=""/>
            <p:cNvSpPr/>
            <p:nvPr/>
          </p:nvSpPr>
          <p:spPr>
            <a:xfrm>
              <a:off x="3824280" y="2800440"/>
              <a:ext cx="844560" cy="844560"/>
            </a:xfrm>
            <a:prstGeom prst="ellipse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56840" y="3072240"/>
              <a:ext cx="467280" cy="467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7dd6d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9033200">
              <a:off x="3894480" y="2930400"/>
              <a:ext cx="355320" cy="196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 flipV="1" rot="19657200">
            <a:off x="3371760" y="3762360"/>
            <a:ext cx="2024280" cy="759240"/>
          </a:xfrm>
          <a:custGeom>
            <a:avLst/>
            <a:gdLst>
              <a:gd name="textAreaLeft" fmla="*/ 354240 w 2024280"/>
              <a:gd name="textAreaRight" fmla="*/ 1534320 w 2024280"/>
              <a:gd name="textAreaTop" fmla="*/ 101520 h 759240"/>
              <a:gd name="textAreaBottom" fmla="*/ 657720 h 759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1" hR="21600" stAng="10800000" swAng="5400000"/>
                <a:lnTo>
                  <a:pt x="12589" y="0"/>
                </a:lnTo>
                <a:arcTo wR="7561" hR="21600" stAng="-5400000" swAng="2682865"/>
                <a:lnTo>
                  <a:pt x="21168" y="14400"/>
                </a:lnTo>
                <a:lnTo>
                  <a:pt x="17636" y="21600"/>
                </a:lnTo>
                <a:lnTo>
                  <a:pt x="13240" y="14400"/>
                </a:lnTo>
                <a:lnTo>
                  <a:pt x="14690" y="14400"/>
                </a:lnTo>
                <a:arcTo wR="7561" hR="21600" stAng="-2717135" swAng="-2260745"/>
                <a:lnTo>
                  <a:pt x="10075" y="1229"/>
                </a:lnTo>
                <a:arcTo wR="7561" hR="21600" stAng="-5822119" swAng="-4977881"/>
                <a:close/>
              </a:path>
              <a:path fill="darkenLess" w="21600" h="21600">
                <a:moveTo>
                  <a:pt x="0" y="21600"/>
                </a:moveTo>
                <a:arcTo wR="7561" hR="21600" stAng="10800000" swAng="5400000"/>
                <a:lnTo>
                  <a:pt x="7561" y="0"/>
                </a:lnTo>
                <a:arcTo wR="7561" hR="21600" stAng="-5400000" swAng="422119"/>
                <a:lnTo>
                  <a:pt x="10075" y="1229"/>
                </a:lnTo>
                <a:arcTo wR="7561" hR="21600" stAng="-5822119" swAng="-4977881"/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f7dd6d"/>
              </a:gs>
            </a:gsLst>
            <a:lin ang="34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081760" y="2114640"/>
            <a:ext cx="1187280" cy="1187280"/>
            <a:chOff x="5081760" y="2114640"/>
            <a:chExt cx="1187280" cy="1187280"/>
          </a:xfrm>
        </p:grpSpPr>
        <p:sp>
          <p:nvSpPr>
            <p:cNvPr id="75" name=""/>
            <p:cNvSpPr/>
            <p:nvPr/>
          </p:nvSpPr>
          <p:spPr>
            <a:xfrm>
              <a:off x="5081760" y="2114640"/>
              <a:ext cx="1187280" cy="1187280"/>
            </a:xfrm>
            <a:prstGeom prst="ellipse">
              <a:avLst/>
            </a:prstGeom>
            <a:solidFill>
              <a:srgbClr val="bc9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08640" y="2498760"/>
              <a:ext cx="657360" cy="65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033200">
              <a:off x="5181840" y="2298600"/>
              <a:ext cx="498240" cy="276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470400" y="230040"/>
            <a:ext cx="1949400" cy="1949400"/>
            <a:chOff x="3470400" y="230040"/>
            <a:chExt cx="1949400" cy="1949400"/>
          </a:xfrm>
        </p:grpSpPr>
        <p:sp>
          <p:nvSpPr>
            <p:cNvPr id="79" name=""/>
            <p:cNvSpPr/>
            <p:nvPr/>
          </p:nvSpPr>
          <p:spPr>
            <a:xfrm>
              <a:off x="3470400" y="230040"/>
              <a:ext cx="1949400" cy="1949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5960" y="242640"/>
              <a:ext cx="1898640" cy="1898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未知"/>
          <p:cNvSpPr/>
          <p:nvPr/>
        </p:nvSpPr>
        <p:spPr>
          <a:xfrm>
            <a:off x="4573440" y="3666960"/>
            <a:ext cx="1432080" cy="2149560"/>
          </a:xfrm>
          <a:custGeom>
            <a:avLst/>
            <a:gdLst/>
            <a:ahLst/>
            <a:rect l="l" t="t" r="r" b="b"/>
            <a:pathLst>
              <a:path w="504" h="720">
                <a:moveTo>
                  <a:pt x="0" y="232"/>
                </a:moveTo>
                <a:lnTo>
                  <a:pt x="0" y="720"/>
                </a:lnTo>
                <a:lnTo>
                  <a:pt x="504" y="488"/>
                </a:lnTo>
                <a:lnTo>
                  <a:pt x="504" y="0"/>
                </a:lnTo>
                <a:lnTo>
                  <a:pt x="0" y="232"/>
                </a:lnTo>
                <a:close/>
              </a:path>
            </a:pathLst>
          </a:custGeom>
          <a:gradFill rotWithShape="0">
            <a:gsLst>
              <a:gs pos="0">
                <a:srgbClr val="896f0f"/>
              </a:gs>
              <a:gs pos="100000">
                <a:srgbClr val="3f33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未知"/>
          <p:cNvSpPr/>
          <p:nvPr/>
        </p:nvSpPr>
        <p:spPr>
          <a:xfrm flipH="1">
            <a:off x="3147840" y="3666960"/>
            <a:ext cx="1433520" cy="2149560"/>
          </a:xfrm>
          <a:custGeom>
            <a:avLst/>
            <a:gdLst/>
            <a:ahLst/>
            <a:rect l="l" t="t" r="r" b="b"/>
            <a:pathLst>
              <a:path w="504" h="720">
                <a:moveTo>
                  <a:pt x="0" y="232"/>
                </a:moveTo>
                <a:lnTo>
                  <a:pt x="0" y="720"/>
                </a:lnTo>
                <a:lnTo>
                  <a:pt x="504" y="488"/>
                </a:lnTo>
                <a:lnTo>
                  <a:pt x="504" y="0"/>
                </a:lnTo>
                <a:lnTo>
                  <a:pt x="0" y="232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71653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781200" y="521928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d6d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7dd6d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1200" y="52891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潘多拉盒子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PPT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演示模板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538280" y="6121080"/>
            <a:ext cx="64008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7dd6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876840" y="102384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Lucida Sans Unicode"/>
                <a:ea typeface="Gulim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760" y="64404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96f0f"/>
              </a:solidFill>
              <a:latin typeface="Verdana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549440" y="2182680"/>
            <a:ext cx="4651200" cy="623880"/>
            <a:chOff x="1549440" y="2182680"/>
            <a:chExt cx="4651200" cy="623880"/>
          </a:xfrm>
        </p:grpSpPr>
        <p:sp>
          <p:nvSpPr>
            <p:cNvPr id="127" name=""/>
            <p:cNvSpPr/>
            <p:nvPr/>
          </p:nvSpPr>
          <p:spPr>
            <a:xfrm>
              <a:off x="1549440" y="220824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9440" y="218268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9a0a"/>
                </a:gs>
                <a:gs pos="100000">
                  <a:srgbClr val="5646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9033200">
              <a:off x="1575000" y="227772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562040" y="3021120"/>
            <a:ext cx="4651200" cy="623880"/>
            <a:chOff x="1562040" y="3021120"/>
            <a:chExt cx="4651200" cy="623880"/>
          </a:xfrm>
        </p:grpSpPr>
        <p:sp>
          <p:nvSpPr>
            <p:cNvPr id="131" name=""/>
            <p:cNvSpPr/>
            <p:nvPr/>
          </p:nvSpPr>
          <p:spPr>
            <a:xfrm>
              <a:off x="1562040" y="304668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62040" y="302112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9033200">
              <a:off x="1587600" y="311616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549440" y="3884760"/>
            <a:ext cx="4651200" cy="623880"/>
            <a:chOff x="1549440" y="3884760"/>
            <a:chExt cx="4651200" cy="623880"/>
          </a:xfrm>
        </p:grpSpPr>
        <p:sp>
          <p:nvSpPr>
            <p:cNvPr id="135" name=""/>
            <p:cNvSpPr/>
            <p:nvPr/>
          </p:nvSpPr>
          <p:spPr>
            <a:xfrm>
              <a:off x="1549440" y="391032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49440" y="388476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9a0a"/>
                </a:gs>
                <a:gs pos="100000">
                  <a:srgbClr val="5646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9033200">
              <a:off x="1575000" y="397980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c9a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562040" y="4722840"/>
            <a:ext cx="4651200" cy="623880"/>
            <a:chOff x="1562040" y="4722840"/>
            <a:chExt cx="4651200" cy="623880"/>
          </a:xfrm>
        </p:grpSpPr>
        <p:sp>
          <p:nvSpPr>
            <p:cNvPr id="139" name=""/>
            <p:cNvSpPr/>
            <p:nvPr/>
          </p:nvSpPr>
          <p:spPr>
            <a:xfrm>
              <a:off x="1562040" y="474840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2040" y="472284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9033200">
              <a:off x="1587600" y="481788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994040" y="2289240"/>
            <a:ext cx="3633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1. 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06640" y="311472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2.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19240" y="3978360"/>
            <a:ext cx="388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3. Challengers For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31840" y="481644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4. 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87520" y="1330200"/>
            <a:ext cx="8072280" cy="83520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85" y="0"/>
                </a:lnTo>
                <a:lnTo>
                  <a:pt x="21600" y="10800"/>
                </a:lnTo>
                <a:lnTo>
                  <a:pt x="201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0080" y="1771560"/>
            <a:ext cx="3610080" cy="4132440"/>
          </a:xfrm>
          <a:custGeom>
            <a:avLst/>
            <a:gdLst>
              <a:gd name="textAreaLeft" fmla="*/ 72720 w 3610080"/>
              <a:gd name="textAreaRight" fmla="*/ 3537360 w 361008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5">
                <a:moveTo>
                  <a:pt x="1491" y="0"/>
                </a:moveTo>
                <a:arcTo wR="1491" hR="1491" stAng="16200000" swAng="-5400000"/>
                <a:lnTo>
                  <a:pt x="0" y="23234"/>
                </a:lnTo>
                <a:arcTo wR="1491" hR="1491" stAng="10800000" swAng="-5400000"/>
                <a:lnTo>
                  <a:pt x="20109" y="24725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96f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52560" y="1461960"/>
            <a:ext cx="3136680" cy="623880"/>
            <a:chOff x="952560" y="1461960"/>
            <a:chExt cx="3136680" cy="623880"/>
          </a:xfrm>
        </p:grpSpPr>
        <p:sp>
          <p:nvSpPr>
            <p:cNvPr id="149" name=""/>
            <p:cNvSpPr/>
            <p:nvPr/>
          </p:nvSpPr>
          <p:spPr>
            <a:xfrm>
              <a:off x="952560" y="1487520"/>
              <a:ext cx="313488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52560" y="1461960"/>
              <a:ext cx="313668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96f0f"/>
                </a:gs>
                <a:gs pos="100000">
                  <a:srgbClr val="3f3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033200">
              <a:off x="977400" y="1557000"/>
              <a:ext cx="22644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6f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397160" y="156852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91160" y="1766880"/>
            <a:ext cx="3609720" cy="4132440"/>
          </a:xfrm>
          <a:custGeom>
            <a:avLst/>
            <a:gdLst>
              <a:gd name="textAreaLeft" fmla="*/ 72720 w 3609720"/>
              <a:gd name="textAreaRight" fmla="*/ 3537000 w 360972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8">
                <a:moveTo>
                  <a:pt x="1491" y="0"/>
                </a:moveTo>
                <a:arcTo wR="1491" hR="1491" stAng="16200000" swAng="-5400000"/>
                <a:lnTo>
                  <a:pt x="0" y="23237"/>
                </a:lnTo>
                <a:arcTo wR="1491" hR="1491" stAng="10800000" swAng="-5400000"/>
                <a:lnTo>
                  <a:pt x="20109" y="24728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913280" y="1457280"/>
            <a:ext cx="3137040" cy="623880"/>
            <a:chOff x="4913280" y="1457280"/>
            <a:chExt cx="3137040" cy="623880"/>
          </a:xfrm>
        </p:grpSpPr>
        <p:sp>
          <p:nvSpPr>
            <p:cNvPr id="155" name=""/>
            <p:cNvSpPr/>
            <p:nvPr/>
          </p:nvSpPr>
          <p:spPr>
            <a:xfrm>
              <a:off x="4913280" y="148284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13280" y="1457280"/>
              <a:ext cx="313704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9033200">
              <a:off x="4938840" y="155232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357880" y="156384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 rot="1198200">
            <a:off x="1679040" y="2233440"/>
            <a:ext cx="5577120" cy="312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7dd6d"/>
              </a:gs>
            </a:gsLst>
            <a:lin ang="12300000"/>
          </a:gradFill>
          <a:ln w="19080">
            <a:solidFill>
              <a:srgbClr val="f7dd6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198200">
            <a:off x="1847880" y="2320560"/>
            <a:ext cx="4946760" cy="279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c9a0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3824280" y="13716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6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ex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43120" y="43434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c9a0a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bc9a0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2200" y="224316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7dd6d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f7dd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03800" y="381780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896f0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96f0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20" y="64404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666960" y="2658960"/>
            <a:ext cx="4694400" cy="836640"/>
            <a:chOff x="3666960" y="2658960"/>
            <a:chExt cx="4694400" cy="836640"/>
          </a:xfrm>
        </p:grpSpPr>
        <p:sp>
          <p:nvSpPr>
            <p:cNvPr id="169" name=""/>
            <p:cNvSpPr/>
            <p:nvPr/>
          </p:nvSpPr>
          <p:spPr>
            <a:xfrm>
              <a:off x="7759440" y="2658960"/>
              <a:ext cx="6019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66960" y="265896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79920" y="3776760"/>
            <a:ext cx="4707000" cy="836640"/>
            <a:chOff x="3679920" y="3776760"/>
            <a:chExt cx="4707000" cy="836640"/>
          </a:xfrm>
        </p:grpSpPr>
        <p:sp>
          <p:nvSpPr>
            <p:cNvPr id="172" name=""/>
            <p:cNvSpPr/>
            <p:nvPr/>
          </p:nvSpPr>
          <p:spPr>
            <a:xfrm>
              <a:off x="7747200" y="3776760"/>
              <a:ext cx="6397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79920" y="377676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692520" y="4894200"/>
            <a:ext cx="4694400" cy="836640"/>
            <a:chOff x="3692520" y="4894200"/>
            <a:chExt cx="4694400" cy="836640"/>
          </a:xfrm>
        </p:grpSpPr>
        <p:sp>
          <p:nvSpPr>
            <p:cNvPr id="175" name=""/>
            <p:cNvSpPr/>
            <p:nvPr/>
          </p:nvSpPr>
          <p:spPr>
            <a:xfrm>
              <a:off x="7785000" y="4894200"/>
              <a:ext cx="6019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92520" y="489420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654360" y="1541520"/>
            <a:ext cx="4707000" cy="836640"/>
            <a:chOff x="3654360" y="1541520"/>
            <a:chExt cx="4707000" cy="836640"/>
          </a:xfrm>
        </p:grpSpPr>
        <p:sp>
          <p:nvSpPr>
            <p:cNvPr id="178" name=""/>
            <p:cNvSpPr/>
            <p:nvPr/>
          </p:nvSpPr>
          <p:spPr>
            <a:xfrm>
              <a:off x="7721640" y="1541520"/>
              <a:ext cx="6397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54360" y="154152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未知"/>
          <p:cNvSpPr/>
          <p:nvPr/>
        </p:nvSpPr>
        <p:spPr>
          <a:xfrm>
            <a:off x="2692440" y="2286000"/>
            <a:ext cx="1317600" cy="339840"/>
          </a:xfrm>
          <a:custGeom>
            <a:avLst/>
            <a:gdLst/>
            <a:ahLst/>
            <a:rect l="l" t="t" r="r" b="b"/>
            <a:pathLst>
              <a:path w="814" h="198">
                <a:moveTo>
                  <a:pt x="189" y="198"/>
                </a:moveTo>
                <a:lnTo>
                  <a:pt x="814" y="140"/>
                </a:lnTo>
                <a:lnTo>
                  <a:pt x="617" y="17"/>
                </a:lnTo>
                <a:lnTo>
                  <a:pt x="0" y="0"/>
                </a:lnTo>
                <a:lnTo>
                  <a:pt x="189" y="198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bc9a0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未知"/>
          <p:cNvSpPr/>
          <p:nvPr/>
        </p:nvSpPr>
        <p:spPr>
          <a:xfrm>
            <a:off x="1933560" y="3119400"/>
            <a:ext cx="2691000" cy="655560"/>
          </a:xfrm>
          <a:custGeom>
            <a:avLst/>
            <a:gdLst/>
            <a:ahLst/>
            <a:rect l="l" t="t" r="r" b="b"/>
            <a:pathLst>
              <a:path w="1695" h="412">
                <a:moveTo>
                  <a:pt x="304" y="412"/>
                </a:moveTo>
                <a:lnTo>
                  <a:pt x="1695" y="313"/>
                </a:lnTo>
                <a:lnTo>
                  <a:pt x="1366" y="157"/>
                </a:lnTo>
                <a:lnTo>
                  <a:pt x="0" y="0"/>
                </a:lnTo>
                <a:lnTo>
                  <a:pt x="304" y="41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1150920" y="3879720"/>
            <a:ext cx="4049640" cy="1057320"/>
          </a:xfrm>
          <a:custGeom>
            <a:avLst/>
            <a:gdLst/>
            <a:ahLst/>
            <a:rect l="l" t="t" r="r" b="b"/>
            <a:pathLst>
              <a:path w="2526" h="658">
                <a:moveTo>
                  <a:pt x="444" y="658"/>
                </a:moveTo>
                <a:lnTo>
                  <a:pt x="2526" y="527"/>
                </a:lnTo>
                <a:lnTo>
                  <a:pt x="2155" y="313"/>
                </a:lnTo>
                <a:lnTo>
                  <a:pt x="0" y="0"/>
                </a:lnTo>
                <a:lnTo>
                  <a:pt x="444" y="658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未知"/>
          <p:cNvSpPr/>
          <p:nvPr/>
        </p:nvSpPr>
        <p:spPr>
          <a:xfrm>
            <a:off x="1359000" y="4702320"/>
            <a:ext cx="4284720" cy="1228680"/>
          </a:xfrm>
          <a:custGeom>
            <a:avLst/>
            <a:gdLst/>
            <a:ahLst/>
            <a:rect l="l" t="t" r="r" b="b"/>
            <a:pathLst>
              <a:path w="2699" h="774">
                <a:moveTo>
                  <a:pt x="0" y="774"/>
                </a:moveTo>
                <a:lnTo>
                  <a:pt x="2699" y="560"/>
                </a:lnTo>
                <a:lnTo>
                  <a:pt x="2403" y="0"/>
                </a:lnTo>
                <a:lnTo>
                  <a:pt x="313" y="140"/>
                </a:lnTo>
                <a:lnTo>
                  <a:pt x="0" y="774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未知"/>
          <p:cNvSpPr/>
          <p:nvPr/>
        </p:nvSpPr>
        <p:spPr>
          <a:xfrm>
            <a:off x="1920960" y="3605040"/>
            <a:ext cx="3160800" cy="1149480"/>
          </a:xfrm>
          <a:custGeom>
            <a:avLst/>
            <a:gdLst/>
            <a:ahLst/>
            <a:rect l="l" t="t" r="r" b="b"/>
            <a:pathLst>
              <a:path w="1991" h="724">
                <a:moveTo>
                  <a:pt x="0" y="724"/>
                </a:moveTo>
                <a:lnTo>
                  <a:pt x="1991" y="584"/>
                </a:lnTo>
                <a:lnTo>
                  <a:pt x="1695" y="0"/>
                </a:lnTo>
                <a:lnTo>
                  <a:pt x="304" y="99"/>
                </a:lnTo>
                <a:lnTo>
                  <a:pt x="0" y="724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未知"/>
          <p:cNvSpPr/>
          <p:nvPr/>
        </p:nvSpPr>
        <p:spPr>
          <a:xfrm>
            <a:off x="2455920" y="2535120"/>
            <a:ext cx="2090520" cy="1096920"/>
          </a:xfrm>
          <a:custGeom>
            <a:avLst/>
            <a:gdLst/>
            <a:ahLst/>
            <a:rect l="l" t="t" r="r" b="b"/>
            <a:pathLst>
              <a:path w="1317" h="700">
                <a:moveTo>
                  <a:pt x="0" y="700"/>
                </a:moveTo>
                <a:lnTo>
                  <a:pt x="1317" y="601"/>
                </a:lnTo>
                <a:lnTo>
                  <a:pt x="980" y="0"/>
                </a:lnTo>
                <a:lnTo>
                  <a:pt x="346" y="49"/>
                </a:lnTo>
                <a:lnTo>
                  <a:pt x="0" y="700"/>
                </a:lnTo>
                <a:close/>
              </a:path>
            </a:pathLst>
          </a:custGeom>
          <a:gradFill rotWithShape="0">
            <a:gsLst>
              <a:gs pos="0">
                <a:srgbClr val="bc9a0a"/>
              </a:gs>
              <a:gs pos="100000">
                <a:srgbClr val="f7dd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未知"/>
          <p:cNvSpPr/>
          <p:nvPr/>
        </p:nvSpPr>
        <p:spPr>
          <a:xfrm>
            <a:off x="3044880" y="1528920"/>
            <a:ext cx="900000" cy="939600"/>
          </a:xfrm>
          <a:custGeom>
            <a:avLst/>
            <a:gdLst/>
            <a:ahLst/>
            <a:rect l="l" t="t" r="r" b="b"/>
            <a:pathLst>
              <a:path w="567" h="592">
                <a:moveTo>
                  <a:pt x="0" y="592"/>
                </a:moveTo>
                <a:lnTo>
                  <a:pt x="567" y="543"/>
                </a:lnTo>
                <a:lnTo>
                  <a:pt x="288" y="0"/>
                </a:lnTo>
                <a:lnTo>
                  <a:pt x="0" y="592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>
            <a:off x="509760" y="3879720"/>
            <a:ext cx="1358640" cy="2051280"/>
          </a:xfrm>
          <a:custGeom>
            <a:avLst/>
            <a:gdLst/>
            <a:ahLst/>
            <a:rect l="l" t="t" r="r" b="b"/>
            <a:pathLst>
              <a:path w="856" h="1292">
                <a:moveTo>
                  <a:pt x="535" y="1292"/>
                </a:moveTo>
                <a:lnTo>
                  <a:pt x="856" y="658"/>
                </a:lnTo>
                <a:lnTo>
                  <a:pt x="412" y="0"/>
                </a:lnTo>
                <a:lnTo>
                  <a:pt x="0" y="395"/>
                </a:lnTo>
                <a:lnTo>
                  <a:pt x="535" y="1292"/>
                </a:lnTo>
                <a:close/>
              </a:path>
            </a:pathLst>
          </a:cu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>
            <a:off x="1254240" y="3110040"/>
            <a:ext cx="1162080" cy="1646280"/>
          </a:xfrm>
          <a:custGeom>
            <a:avLst/>
            <a:gdLst/>
            <a:ahLst/>
            <a:rect l="l" t="t" r="r" b="b"/>
            <a:pathLst>
              <a:path w="732" h="1070">
                <a:moveTo>
                  <a:pt x="428" y="1070"/>
                </a:moveTo>
                <a:lnTo>
                  <a:pt x="0" y="420"/>
                </a:lnTo>
                <a:lnTo>
                  <a:pt x="428" y="0"/>
                </a:lnTo>
                <a:lnTo>
                  <a:pt x="732" y="420"/>
                </a:lnTo>
                <a:lnTo>
                  <a:pt x="428" y="107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未知"/>
          <p:cNvSpPr/>
          <p:nvPr/>
        </p:nvSpPr>
        <p:spPr>
          <a:xfrm>
            <a:off x="2835360" y="1541520"/>
            <a:ext cx="666720" cy="927000"/>
          </a:xfrm>
          <a:custGeom>
            <a:avLst/>
            <a:gdLst/>
            <a:ahLst/>
            <a:rect l="l" t="t" r="r" b="b"/>
            <a:pathLst>
              <a:path w="420" h="584">
                <a:moveTo>
                  <a:pt x="140" y="584"/>
                </a:moveTo>
                <a:lnTo>
                  <a:pt x="0" y="411"/>
                </a:lnTo>
                <a:lnTo>
                  <a:pt x="420" y="0"/>
                </a:lnTo>
                <a:lnTo>
                  <a:pt x="140" y="584"/>
                </a:lnTo>
                <a:close/>
              </a:path>
            </a:pathLst>
          </a:custGeom>
          <a:gradFill rotWithShape="0">
            <a:gsLst>
              <a:gs pos="0">
                <a:srgbClr val="f7dd6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2025720" y="2287440"/>
            <a:ext cx="966600" cy="1343160"/>
          </a:xfrm>
          <a:custGeom>
            <a:avLst/>
            <a:gdLst/>
            <a:ahLst/>
            <a:rect l="l" t="t" r="r" b="b"/>
            <a:pathLst>
              <a:path w="609" h="806">
                <a:moveTo>
                  <a:pt x="280" y="806"/>
                </a:moveTo>
                <a:lnTo>
                  <a:pt x="609" y="197"/>
                </a:lnTo>
                <a:lnTo>
                  <a:pt x="428" y="0"/>
                </a:lnTo>
                <a:lnTo>
                  <a:pt x="0" y="411"/>
                </a:lnTo>
                <a:lnTo>
                  <a:pt x="280" y="806"/>
                </a:lnTo>
                <a:close/>
              </a:path>
            </a:pathLst>
          </a:custGeom>
          <a:gradFill rotWithShape="0">
            <a:gsLst>
              <a:gs pos="0">
                <a:srgbClr val="bc9a0a"/>
              </a:gs>
              <a:gs pos="100000">
                <a:srgbClr val="f7dd6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4960" y="506268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90960" y="397044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55840" y="287820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59240" y="186228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  <a:ea typeface="Gulim"/>
              </a:rPr>
              <a:t>Text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22827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27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27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27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11680" y="2433600"/>
            <a:ext cx="15271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11680" y="3174840"/>
            <a:ext cx="15271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11680" y="3914640"/>
            <a:ext cx="15271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11680" y="4656240"/>
            <a:ext cx="15271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8800" y="2433600"/>
            <a:ext cx="152856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8800" y="3174840"/>
            <a:ext cx="152856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8800" y="3914640"/>
            <a:ext cx="152856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8800" y="4656240"/>
            <a:ext cx="152856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673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673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673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673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1240" y="2433600"/>
            <a:ext cx="1541520" cy="74124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1240" y="3174840"/>
            <a:ext cx="1541520" cy="73980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1240" y="3914640"/>
            <a:ext cx="1541520" cy="74160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1240" y="4656240"/>
            <a:ext cx="1541520" cy="741240"/>
          </a:xfrm>
          <a:prstGeom prst="rect">
            <a:avLst/>
          </a:prstGeom>
          <a:gradFill rotWithShape="0">
            <a:gsLst>
              <a:gs pos="0">
                <a:srgbClr val="bc9a0a"/>
              </a:gs>
              <a:gs pos="100000">
                <a:srgbClr val="564604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27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11680" y="2039760"/>
            <a:ext cx="15271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8800" y="2039760"/>
            <a:ext cx="152856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673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1240" y="2039760"/>
            <a:ext cx="1541520" cy="3938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392120" y="1376280"/>
          <a:ext cx="6267600" cy="49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1376280"/>
                    <a:ext cx="626760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20" y="6454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031760" y="1447920"/>
          <a:ext cx="67755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447920"/>
                    <a:ext cx="67755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720" y="304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9440" y="5295600"/>
            <a:ext cx="81536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Thank You!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59000" y="5877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dd6d"/>
                </a:solidFill>
                <a:latin typeface="Verdana"/>
                <a:ea typeface="Gulim"/>
              </a:rPr>
              <a:t>Add Your Company Sloga</a:t>
            </a:r>
            <a:r>
              <a:rPr b="1" lang="zh-CN" sz="2000" spc="-1" strike="noStrike">
                <a:solidFill>
                  <a:srgbClr val="f7dd6d"/>
                </a:solidFill>
                <a:latin typeface="Verdana"/>
                <a:ea typeface="宋体"/>
              </a:rPr>
              <a:t>n</a:t>
            </a:r>
            <a:endParaRPr b="1" lang="en-US" sz="2000" spc="-1" strike="noStrike">
              <a:solidFill>
                <a:srgbClr val="f7dd6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http://www.eeppt.com</dc:creator>
  <dc:description>ppt模板下载网站 http://www.eeppt.com</dc:description>
  <dc:language>en-US</dc:language>
  <cp:lastModifiedBy/>
  <dcterms:modified xsi:type="dcterms:W3CDTF">2015-06-14T07:25:51Z</dcterms:modified>
  <cp:revision>4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