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FB7-290D-4C2C-9C5F-350E9251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D33-E0FD-47C8-AAD9-DB2DE256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1E0-5B74-4248-84EE-E8EB3C6B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A7B-6ED2-46AF-9CDB-83B89826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E0B-6E48-49E0-81B3-9D73058F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F89-0EC8-4574-B965-47FE2D2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B45-C798-4809-A15C-C2B7302D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367-78FF-4F29-902C-C65F9DA1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7D4-2097-4D60-84F3-75E141C5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EBB-78BE-4E71-9593-278CDDE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BFF-DDF1-49FA-91DD-296A000D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157-BBCC-4394-832A-C82FD9F4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362D-74AB-466E-A50B-751870824D8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FF03-75A9-4B49-BDD6-459679B0F57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43"/>
          <p:cNvSpPr/>
          <p:nvPr/>
        </p:nvSpPr>
        <p:spPr>
          <a:xfrm>
            <a:off x="3851280" y="1268280"/>
            <a:ext cx="4648320" cy="4648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73280" y="1348920"/>
            <a:ext cx="2160" cy="1792440"/>
            <a:chOff x="6173280" y="1348920"/>
            <a:chExt cx="2160" cy="1792440"/>
          </a:xfrm>
        </p:grpSpPr>
        <p:sp>
          <p:nvSpPr>
            <p:cNvPr id="44" name="Line 247"/>
            <p:cNvSpPr/>
            <p:nvPr/>
          </p:nvSpPr>
          <p:spPr>
            <a:xfrm flipV="1">
              <a:off x="6173640" y="1348920"/>
              <a:ext cx="1800" cy="1792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 rot="10800000">
              <a:off x="6173280" y="1348920"/>
              <a:ext cx="1800" cy="179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427640" y="2205000"/>
            <a:ext cx="1368360" cy="1131840"/>
            <a:chOff x="4427640" y="2205000"/>
            <a:chExt cx="1368360" cy="1131840"/>
          </a:xfrm>
        </p:grpSpPr>
        <p:sp>
          <p:nvSpPr>
            <p:cNvPr id="47" name="Line 249"/>
            <p:cNvSpPr/>
            <p:nvPr/>
          </p:nvSpPr>
          <p:spPr>
            <a:xfrm>
              <a:off x="4427640" y="2205000"/>
              <a:ext cx="1368360" cy="1131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427640" y="2205000"/>
              <a:ext cx="1368360" cy="113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252"/>
          <p:cNvSpPr/>
          <p:nvPr/>
        </p:nvSpPr>
        <p:spPr>
          <a:xfrm>
            <a:off x="3970440" y="1951200"/>
            <a:ext cx="196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5"/>
          <p:cNvSpPr/>
          <p:nvPr/>
        </p:nvSpPr>
        <p:spPr>
          <a:xfrm>
            <a:off x="5533920" y="2432160"/>
            <a:ext cx="196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6"/>
          <p:cNvSpPr/>
          <p:nvPr/>
        </p:nvSpPr>
        <p:spPr>
          <a:xfrm>
            <a:off x="5845320" y="426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57"/>
          <p:cNvSpPr/>
          <p:nvPr/>
        </p:nvSpPr>
        <p:spPr>
          <a:xfrm>
            <a:off x="3352680" y="3429000"/>
            <a:ext cx="196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83"/>
          <p:cNvGrpSpPr/>
          <p:nvPr/>
        </p:nvGrpSpPr>
        <p:grpSpPr>
          <a:xfrm>
            <a:off x="971640" y="2565360"/>
            <a:ext cx="2117520" cy="2305080"/>
            <a:chOff x="971640" y="2565360"/>
            <a:chExt cx="2117520" cy="2305080"/>
          </a:xfrm>
        </p:grpSpPr>
        <p:sp>
          <p:nvSpPr>
            <p:cNvPr id="54" name="AutoShape 182"/>
            <p:cNvSpPr/>
            <p:nvPr/>
          </p:nvSpPr>
          <p:spPr>
            <a:xfrm>
              <a:off x="971640" y="2565360"/>
              <a:ext cx="2117520" cy="5598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83"/>
            <p:cNvSpPr/>
            <p:nvPr/>
          </p:nvSpPr>
          <p:spPr>
            <a:xfrm>
              <a:off x="974160" y="2572200"/>
              <a:ext cx="2114640" cy="182520"/>
            </a:xfrm>
            <a:prstGeom prst="roundRect">
              <a:avLst>
                <a:gd name="adj" fmla="val 188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22"/>
            <p:cNvSpPr/>
            <p:nvPr/>
          </p:nvSpPr>
          <p:spPr>
            <a:xfrm>
              <a:off x="983880" y="3126960"/>
              <a:ext cx="2089800" cy="6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58"/>
            <p:cNvSpPr/>
            <p:nvPr/>
          </p:nvSpPr>
          <p:spPr>
            <a:xfrm>
              <a:off x="971640" y="3373560"/>
              <a:ext cx="2117520" cy="5598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59"/>
            <p:cNvSpPr/>
            <p:nvPr/>
          </p:nvSpPr>
          <p:spPr>
            <a:xfrm>
              <a:off x="974160" y="3380400"/>
              <a:ext cx="2114640" cy="182520"/>
            </a:xfrm>
            <a:prstGeom prst="roundRect">
              <a:avLst>
                <a:gd name="adj" fmla="val 188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61"/>
            <p:cNvSpPr/>
            <p:nvPr/>
          </p:nvSpPr>
          <p:spPr>
            <a:xfrm>
              <a:off x="983880" y="3935520"/>
              <a:ext cx="2089800" cy="61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62"/>
            <p:cNvSpPr/>
            <p:nvPr/>
          </p:nvSpPr>
          <p:spPr>
            <a:xfrm>
              <a:off x="971640" y="4246920"/>
              <a:ext cx="2117520" cy="559800"/>
            </a:xfrm>
            <a:prstGeom prst="roundRect">
              <a:avLst>
                <a:gd name="adj" fmla="val 90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63"/>
            <p:cNvSpPr/>
            <p:nvPr/>
          </p:nvSpPr>
          <p:spPr>
            <a:xfrm>
              <a:off x="974160" y="4253760"/>
              <a:ext cx="2114640" cy="182160"/>
            </a:xfrm>
            <a:prstGeom prst="roundRect">
              <a:avLst>
                <a:gd name="adj" fmla="val 1881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65"/>
            <p:cNvSpPr/>
            <p:nvPr/>
          </p:nvSpPr>
          <p:spPr>
            <a:xfrm>
              <a:off x="983880" y="4808520"/>
              <a:ext cx="2089800" cy="61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266"/>
          <p:cNvSpPr/>
          <p:nvPr/>
        </p:nvSpPr>
        <p:spPr>
          <a:xfrm>
            <a:off x="6066360" y="4546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7"/>
          <p:cNvSpPr/>
          <p:nvPr/>
        </p:nvSpPr>
        <p:spPr>
          <a:xfrm>
            <a:off x="6066360" y="4762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8"/>
          <p:cNvSpPr/>
          <p:nvPr/>
        </p:nvSpPr>
        <p:spPr>
          <a:xfrm>
            <a:off x="6066360" y="4978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9"/>
          <p:cNvSpPr/>
          <p:nvPr/>
        </p:nvSpPr>
        <p:spPr>
          <a:xfrm>
            <a:off x="6066360" y="519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998680" y="4556160"/>
            <a:ext cx="2160" cy="792000"/>
            <a:chOff x="5998680" y="4556160"/>
            <a:chExt cx="2160" cy="792000"/>
          </a:xfrm>
        </p:grpSpPr>
        <p:sp>
          <p:nvSpPr>
            <p:cNvPr id="68" name="Line 270"/>
            <p:cNvSpPr/>
            <p:nvPr/>
          </p:nvSpPr>
          <p:spPr>
            <a:xfrm flipV="1">
              <a:off x="5999040" y="4556160"/>
              <a:ext cx="1800" cy="792000"/>
            </a:xfrm>
            <a:prstGeom prst="line">
              <a:avLst/>
            </a:prstGeom>
            <a:ln w="19080">
              <a:solidFill>
                <a:srgbClr val="386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 rot="10800000">
              <a:off x="5998680" y="4556160"/>
              <a:ext cx="18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71"/>
          <p:cNvSpPr/>
          <p:nvPr/>
        </p:nvSpPr>
        <p:spPr>
          <a:xfrm>
            <a:off x="5685840" y="267984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2"/>
          <p:cNvSpPr/>
          <p:nvPr/>
        </p:nvSpPr>
        <p:spPr>
          <a:xfrm>
            <a:off x="5685840" y="289548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532560" y="2717640"/>
            <a:ext cx="1440" cy="277920"/>
            <a:chOff x="6532560" y="2717640"/>
            <a:chExt cx="1440" cy="277920"/>
          </a:xfrm>
        </p:grpSpPr>
        <p:sp>
          <p:nvSpPr>
            <p:cNvPr id="73" name="Line 275"/>
            <p:cNvSpPr/>
            <p:nvPr/>
          </p:nvSpPr>
          <p:spPr>
            <a:xfrm flipV="1">
              <a:off x="6532560" y="2717640"/>
              <a:ext cx="1440" cy="277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10800000">
              <a:off x="6532560" y="2717640"/>
              <a:ext cx="144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76"/>
          <p:cNvSpPr/>
          <p:nvPr/>
        </p:nvSpPr>
        <p:spPr>
          <a:xfrm>
            <a:off x="3507840" y="371628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7"/>
          <p:cNvSpPr/>
          <p:nvPr/>
        </p:nvSpPr>
        <p:spPr>
          <a:xfrm>
            <a:off x="3483360" y="3932280"/>
            <a:ext cx="209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54560" y="3754440"/>
            <a:ext cx="1440" cy="277920"/>
            <a:chOff x="4354560" y="3754440"/>
            <a:chExt cx="1440" cy="277920"/>
          </a:xfrm>
        </p:grpSpPr>
        <p:sp>
          <p:nvSpPr>
            <p:cNvPr id="78" name="Line 278"/>
            <p:cNvSpPr/>
            <p:nvPr/>
          </p:nvSpPr>
          <p:spPr>
            <a:xfrm flipV="1">
              <a:off x="4354560" y="3754440"/>
              <a:ext cx="1440" cy="277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 rot="10800000">
              <a:off x="4354560" y="3754440"/>
              <a:ext cx="144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79"/>
          <p:cNvSpPr/>
          <p:nvPr/>
        </p:nvSpPr>
        <p:spPr>
          <a:xfrm>
            <a:off x="4041000" y="219060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0"/>
          <p:cNvSpPr/>
          <p:nvPr/>
        </p:nvSpPr>
        <p:spPr>
          <a:xfrm>
            <a:off x="4041000" y="240660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Verdana"/>
                <a:ea typeface="HY헤드라인M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88080" y="2228760"/>
            <a:ext cx="1440" cy="277920"/>
            <a:chOff x="4888080" y="2228760"/>
            <a:chExt cx="1440" cy="277920"/>
          </a:xfrm>
        </p:grpSpPr>
        <p:sp>
          <p:nvSpPr>
            <p:cNvPr id="83" name="Line 281"/>
            <p:cNvSpPr/>
            <p:nvPr/>
          </p:nvSpPr>
          <p:spPr>
            <a:xfrm flipV="1">
              <a:off x="4888080" y="2228760"/>
              <a:ext cx="1440" cy="27792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0800000">
              <a:off x="4888080" y="2228760"/>
              <a:ext cx="1440" cy="27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84"/>
          <p:cNvSpPr/>
          <p:nvPr/>
        </p:nvSpPr>
        <p:spPr>
          <a:xfrm>
            <a:off x="1587240" y="2749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HY헤드라인M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5"/>
          <p:cNvSpPr/>
          <p:nvPr/>
        </p:nvSpPr>
        <p:spPr>
          <a:xfrm>
            <a:off x="1543320" y="355428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HY헤드라인M"/>
              </a:rPr>
              <a:t>consul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6"/>
          <p:cNvSpPr/>
          <p:nvPr/>
        </p:nvSpPr>
        <p:spPr>
          <a:xfrm>
            <a:off x="1633680" y="441792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  <a:ea typeface="HY헤드라인M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4"/>
          <p:cNvSpPr/>
          <p:nvPr/>
        </p:nvSpPr>
        <p:spPr>
          <a:xfrm>
            <a:off x="5718240" y="3135240"/>
            <a:ext cx="914400" cy="914400"/>
          </a:xfrm>
          <a:prstGeom prst="pie">
            <a:avLst/>
          </a:prstGeom>
          <a:solidFill>
            <a:srgbClr val="00b05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AB4-5FEC-4CFA-81A5-1D16386D42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http://www.eeppt.com</dc:creator>
  <dc:description>ppt模板下载网站 http://www.eeppt.com</dc:description>
  <dc:language>en-US</dc:language>
  <cp:lastModifiedBy/>
  <dcterms:modified xsi:type="dcterms:W3CDTF">2015-06-15T00:46:03Z</dcterms:modified>
  <cp:revision>10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