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5647-2D96-4A9E-85A5-AB82E04D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822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8120" y="3978720"/>
            <a:ext cx="822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EEC-26D2-45E0-BFA7-12401C9D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8120" y="397872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5160" y="397872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080-D843-4395-B3AB-06CA4E5C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0560" y="151776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3000" y="151776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8120" y="397872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0560" y="397872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3000" y="397872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274-D13A-4705-98AE-8D90D066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8B85-213C-474F-B325-DF55B75E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8120" y="151776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5CD3-F1B0-490D-B00C-0B33CA8E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C331-A2A0-4AFB-A872-10198FAD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1D98-F1FC-43A3-9FFB-110685CE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D954-3B66-4CB7-8D35-B1915D14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1640" y="177840"/>
            <a:ext cx="687096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A339-E449-48D7-941A-C50ABD80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8120" y="397872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B61F-2756-4833-A64D-67C50BE7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8120" y="151776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6AF-4D7C-4EF3-8341-1BC69A61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5160" y="397872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FB22-BFF5-47B3-A794-6DDC5C25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8120" y="3978720"/>
            <a:ext cx="822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33F6-FA26-436F-AB37-67FBA1B4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822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8120" y="3978720"/>
            <a:ext cx="822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D4BB-9459-475C-B70A-30D9AF40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8120" y="397872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5160" y="397872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2F23-117B-4ADA-9F55-D68580D4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0560" y="151776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3000" y="151776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8120" y="397872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0560" y="397872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3000" y="3978720"/>
            <a:ext cx="264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12C2-3DD2-421A-BDA4-6FB223FD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283-2E73-4825-8491-5BA4A3B9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402-CF91-4756-8296-9721CE14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439-EFE8-4F25-8443-EB30F07C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640" y="177840"/>
            <a:ext cx="687096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DD9-6EAB-4AD5-A054-325F8E75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8120" y="397872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F97-83D3-4732-9E26-C994925D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5160" y="397872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96F-1B6B-402E-89B9-324C9BEA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812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5160" y="1517760"/>
            <a:ext cx="40158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8120" y="3978720"/>
            <a:ext cx="8229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F13-3091-4D80-8FE8-F92A9991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8120" y="151776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1819-7FC8-4134-808F-C5E62D6D5186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38120" y="151776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1102-84E7-4AD2-AAA3-9DA882FFC79E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Unbenannt-2"/>
          <p:cNvPicPr/>
          <p:nvPr/>
        </p:nvPicPr>
        <p:blipFill>
          <a:blip r:embed="rId1"/>
          <a:stretch/>
        </p:blipFill>
        <p:spPr>
          <a:xfrm>
            <a:off x="6262560" y="5456160"/>
            <a:ext cx="279360" cy="432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03640" y="432432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小人素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177840"/>
            <a:ext cx="687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8120" y="1574280"/>
            <a:ext cx="822960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华文细黑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71960" y="4495320"/>
            <a:ext cx="338616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感谢您的关注！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173-ABF4-4917-B98C-99C2808C2E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3:39:05Z</dcterms:created>
  <dc:creator>http://www.eeppt.com</dc:creator>
  <dc:description>ppt模板下载网站 http://www.eeppt.com</dc:description>
  <dc:language>en-US</dc:language>
  <cp:lastModifiedBy/>
  <dcterms:modified xsi:type="dcterms:W3CDTF">2015-06-15T01:09:2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