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E047-7B1F-48F5-9135-5495CA2B9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B32B-3A14-49C5-8431-97B0B2B1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D234-2B4D-49C6-AEAD-006632B8C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3300-9A6C-4638-9300-941C17F5E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B9F2-7B0C-42D9-A82F-61A58F54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33C4C-4138-442F-B0A4-FE39790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A1E23-4D4B-468D-8C27-13DF9B3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3E1E4-D347-4C6D-A522-36EABAE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D5616-DA88-4C64-B0A3-B8E927B4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704B-F596-4BA0-AA2E-B5D50157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40E6B-2742-45DF-B512-BA85382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8D2B-DCFE-466D-9AE0-6A0D89900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64F0C-7D87-4AF7-A602-E7EC3A3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35E52-7E04-486E-83A2-DBC255D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09B6C-4FDF-4913-A68F-4561CB9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A7230-1C4B-484F-98D4-2BFCB6C3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4268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9200" y="99072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4268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9200" y="3776760"/>
            <a:ext cx="2625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DC55-6428-4910-8C3B-9D1A0B91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EBE3-B923-48DC-BBCA-6F15F5E7F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AAEC-79E9-4321-ACDA-91FED52E4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A41B-CB95-4111-939B-1426FCB81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8185-8431-467C-934E-999DC8F21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D3DA-FE93-4A75-9A18-6F1965613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63960" y="377676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BCDA-0059-48BF-ABBD-CB4ECCA0D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3960" y="990720"/>
            <a:ext cx="397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8153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F946-8F10-4C53-B092-9AF18A7B7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84780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3923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33360"/>
            <a:ext cx="611280" cy="653724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e1d0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223920"/>
          <a:ext cx="60660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3920"/>
                    <a:ext cx="606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9D86-2C62-4B5B-8F8A-6ADD0B179891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0"/>
            <a:ext cx="6985080" cy="63086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57840" y="0"/>
          <a:ext cx="3666960" cy="20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7840" y="0"/>
                    <a:ext cx="36669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47640" y="4076640"/>
            <a:ext cx="6985080" cy="720720"/>
          </a:xfrm>
          <a:prstGeom prst="rect">
            <a:avLst/>
          </a:prstGeom>
          <a:solidFill>
            <a:srgbClr val="e1d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857840" y="1987560"/>
            <a:ext cx="3673440" cy="208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3080" y="6553080"/>
            <a:ext cx="1905120" cy="16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d091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1d09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AFF-9712-4A7F-B29D-8490C0407BED}" type="slidenum">
              <a:rPr b="0" lang="en-US" sz="1400" spc="-1" strike="noStrike">
                <a:solidFill>
                  <a:srgbClr val="e1d0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600200" y="4092120"/>
            <a:ext cx="6934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d3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94400" y="228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7c4d3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tongyon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3549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c4d36"/>
                </a:solidFill>
                <a:latin typeface="Arial"/>
              </a:rPr>
              <a:t>培训经典</a:t>
            </a:r>
            <a:r>
              <a:rPr b="1" lang="en-US" sz="5400" spc="-1" strike="noStrike">
                <a:solidFill>
                  <a:srgbClr val="7c4d36"/>
                </a:solidFill>
                <a:latin typeface="Arial"/>
              </a:rPr>
              <a:t>ppt</a:t>
            </a:r>
            <a:r>
              <a:rPr b="1" lang="zh-CN" sz="5400" spc="-1" strike="noStrike">
                <a:solidFill>
                  <a:srgbClr val="7c4d36"/>
                </a:solidFill>
                <a:latin typeface="Arial"/>
              </a:rPr>
              <a:t>演示模板</a:t>
            </a:r>
            <a:endParaRPr b="1" lang="en-US" sz="54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62160" y="4800600"/>
            <a:ext cx="512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257" name="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3a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b9d53">
                    <a:alpha val="0"/>
                  </a:srgbClr>
                </a:gs>
                <a:gs pos="100000">
                  <a:srgbClr val="6263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9db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d9db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461"/>
                </a:gs>
                <a:gs pos="50000">
                  <a:srgbClr val="6d9db5"/>
                </a:gs>
                <a:gs pos="100000">
                  <a:srgbClr val="3a54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d9db5">
                    <a:alpha val="0"/>
                  </a:srgbClr>
                </a:gs>
                <a:gs pos="100000">
                  <a:srgbClr val="4463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3a5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14c26"/>
                </a:gs>
                <a:gs pos="100000">
                  <a:srgbClr val="d3a5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71582c"/>
                </a:gs>
                <a:gs pos="50000">
                  <a:srgbClr val="d3a553"/>
                </a:gs>
                <a:gs pos="100000">
                  <a:srgbClr val="7158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0"/>
                  </a:srgbClr>
                </a:gs>
                <a:gs pos="100000">
                  <a:srgbClr val="8568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283" name="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288" name="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432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00200" y="993600"/>
            <a:ext cx="5715000" cy="5330520"/>
            <a:chOff x="1600200" y="993600"/>
            <a:chExt cx="5715000" cy="5330520"/>
          </a:xfrm>
        </p:grpSpPr>
        <p:sp>
          <p:nvSpPr>
            <p:cNvPr id="298" name=""/>
            <p:cNvSpPr/>
            <p:nvPr/>
          </p:nvSpPr>
          <p:spPr>
            <a:xfrm rot="13770000">
              <a:off x="4932720" y="35780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908080" y="30988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5067720" y="19400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7d7d7"/>
                </a:gs>
                <a:gs pos="100000">
                  <a:srgbClr val="80808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872160" y="1975680"/>
              <a:ext cx="1652400" cy="1684080"/>
              <a:chOff x="3872160" y="1975680"/>
              <a:chExt cx="165240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872160" y="1975680"/>
                <a:ext cx="1652400" cy="1684080"/>
                <a:chOff x="3872160" y="1975680"/>
                <a:chExt cx="165240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872160" y="19756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9db5"/>
                    </a:gs>
                    <a:gs pos="100000">
                      <a:srgbClr val="1a26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4060800" y="20034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9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978720" y="27079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317920" y="993600"/>
              <a:ext cx="925200" cy="912240"/>
              <a:chOff x="5317920" y="993600"/>
              <a:chExt cx="925200" cy="9122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317920" y="993600"/>
                <a:ext cx="894960" cy="912240"/>
                <a:chOff x="5317920" y="993600"/>
                <a:chExt cx="894960" cy="912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317920" y="9936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3a553"/>
                    </a:gs>
                    <a:gs pos="100000">
                      <a:srgbClr val="33271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5420160" y="10087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3a5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333760" y="1344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600200" y="2327040"/>
              <a:ext cx="1789920" cy="1894680"/>
              <a:chOff x="1600200" y="2327040"/>
              <a:chExt cx="1789920" cy="18946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600200" y="2327040"/>
                <a:ext cx="1789920" cy="1894680"/>
                <a:chOff x="1600200" y="2327040"/>
                <a:chExt cx="1789920" cy="189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600200" y="23270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d36"/>
                    </a:gs>
                    <a:gs pos="100000">
                      <a:srgbClr val="4e30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1804680" y="23583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4d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716120" y="3169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249520" y="3730320"/>
              <a:ext cx="2065680" cy="2105280"/>
              <a:chOff x="5249520" y="3730320"/>
              <a:chExt cx="206568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249520" y="3730320"/>
                <a:ext cx="2065680" cy="2105280"/>
                <a:chOff x="5249520" y="3730320"/>
                <a:chExt cx="206568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49520" y="37303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4f50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5485680" y="37652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b9d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564880" y="4642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806480" y="42919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10040" y="36633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93680" y="58359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19756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9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7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3a55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9b9d53">
                    <a:alpha val="0"/>
                  </a:srgbClr>
                </a:gs>
                <a:gs pos="100000">
                  <a:srgbClr val="6263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76280" y="76356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经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http://www.eeppt.com/moban/tongy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937120" y="4997520"/>
            <a:ext cx="2163960" cy="869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ef9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943600" y="1832040"/>
            <a:ext cx="2163600" cy="3961800"/>
            <a:chOff x="5943600" y="1832040"/>
            <a:chExt cx="2163600" cy="3961800"/>
          </a:xfrm>
        </p:grpSpPr>
        <p:sp>
          <p:nvSpPr>
            <p:cNvPr id="390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770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5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81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05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06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5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6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4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7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6" name=""/>
              <p:cNvCxnSpPr>
                <a:stCxn id="492" idx="3"/>
                <a:endCxn id="49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7" name=""/>
              <p:cNvCxnSpPr>
                <a:stCxn id="493" idx="3"/>
                <a:endCxn id="49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9" name=""/>
          <p:cNvSpPr/>
          <p:nvPr/>
        </p:nvSpPr>
        <p:spPr>
          <a:xfrm>
            <a:off x="70102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a553"/>
                  </a:gs>
                  <a:gs pos="100000">
                    <a:srgbClr val="927239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da0"/>
                  </a:gs>
                  <a:gs pos="50000">
                    <a:srgbClr val="d3a553">
                      <a:alpha val="0"/>
                    </a:srgbClr>
                  </a:gs>
                  <a:gs pos="100000">
                    <a:srgbClr val="e6cd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781"/>
                  </a:gs>
                  <a:gs pos="100000">
                    <a:srgbClr val="9b9d53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d53">
                      <a:alpha val="0"/>
                    </a:srgbClr>
                  </a:gs>
                  <a:gs pos="100000">
                    <a:srgbClr val="d3d4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6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8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b8d7e"/>
                  </a:gs>
                  <a:gs pos="100000">
                    <a:srgbClr val="7c4d36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c4d36">
                      <a:alpha val="0"/>
                    </a:srgbClr>
                  </a:gs>
                  <a:gs pos="100000">
                    <a:srgbClr val="bea79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28" name="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36" name="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542" name="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063800" y="2057400"/>
          <a:ext cx="7397640" cy="321480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e1d091"/>
                      </a:solidFill>
                    </a:lnR>
                    <a:lnT>
                      <a:noFill/>
                    </a:lnT>
                    <a:lnB w="5760">
                      <a:solidFill>
                        <a:srgbClr val="e1d0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d3a55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091"/>
                      </a:solidFill>
                    </a:lnL>
                    <a:lnR w="5760">
                      <a:solidFill>
                        <a:srgbClr val="e1d091"/>
                      </a:solidFill>
                    </a:lnR>
                    <a:lnT w="5760">
                      <a:solidFill>
                        <a:srgbClr val="e1d091"/>
                      </a:solidFill>
                    </a:lnT>
                    <a:lnB w="5760">
                      <a:solidFill>
                        <a:srgbClr val="e1d091"/>
                      </a:solidFill>
                    </a:lnB>
                    <a:solidFill>
                      <a:srgbClr val="fef9e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d091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9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23232"/>
                </a:gs>
                <a:gs pos="5000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bbc8b"/>
                </a:gs>
                <a:gs pos="100000">
                  <a:srgbClr val="9b9d5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f6332"/>
                </a:gs>
                <a:gs pos="100000">
                  <a:srgbClr val="d3a55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43291d"/>
                </a:gs>
                <a:gs pos="100000">
                  <a:srgbClr val="7c4d3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1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9db5"/>
                  </a:gs>
                  <a:gs pos="100000">
                    <a:srgbClr val="415f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100000">
                    <a:srgbClr val="6d9db5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100000">
                    <a:srgbClr val="6d9d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0102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914400" y="1447920"/>
            <a:ext cx="7475400" cy="4680000"/>
            <a:chOff x="914400" y="1447920"/>
            <a:chExt cx="7475400" cy="4680000"/>
          </a:xfrm>
        </p:grpSpPr>
        <p:sp>
          <p:nvSpPr>
            <p:cNvPr id="581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5f32"/>
                </a:gs>
                <a:gs pos="50000">
                  <a:srgbClr val="9b9d53"/>
                </a:gs>
                <a:gs pos="100000">
                  <a:srgbClr val="5d5f32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r>
                <a:rPr b="0" lang="en-US" sz="2000" spc="-1" strike="noStrike">
                  <a:solidFill>
                    <a:srgbClr val="fef9e2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0360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9e2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914400" y="4083120"/>
              <a:ext cx="1486080" cy="2013120"/>
              <a:chOff x="914400" y="4083120"/>
              <a:chExt cx="1486080" cy="201312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c4d36"/>
                      </a:gs>
                      <a:gs pos="100000">
                        <a:srgbClr val="4e30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c4d3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1066680" y="5707080"/>
                <a:ext cx="1206720" cy="38916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781680" y="4038840"/>
              <a:ext cx="1608120" cy="2086920"/>
              <a:chOff x="6781680" y="4038840"/>
              <a:chExt cx="1608120" cy="208692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6781680" y="4038840"/>
                <a:ext cx="1523880" cy="1531440"/>
                <a:chOff x="6781680" y="4038840"/>
                <a:chExt cx="1523880" cy="15314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6781680" y="4038840"/>
                  <a:ext cx="1523880" cy="1531440"/>
                  <a:chOff x="6781680" y="4038840"/>
                  <a:chExt cx="1523880" cy="15314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6781680" y="4038840"/>
                    <a:ext cx="1523880" cy="153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9db5"/>
                      </a:gs>
                      <a:gs pos="100000">
                        <a:srgbClr val="1a26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未知"/>
                  <p:cNvSpPr/>
                  <p:nvPr/>
                </p:nvSpPr>
                <p:spPr>
                  <a:xfrm>
                    <a:off x="6955920" y="4064040"/>
                    <a:ext cx="117540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d9db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6933960" y="563868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819520" y="4083120"/>
              <a:ext cx="1523880" cy="2044800"/>
              <a:chOff x="2819520" y="4083120"/>
              <a:chExt cx="1523880" cy="20448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4f50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b9d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8936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876920" y="4038840"/>
              <a:ext cx="1600200" cy="2089080"/>
              <a:chOff x="4876920" y="4038840"/>
              <a:chExt cx="1600200" cy="20890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3a553"/>
                      </a:gs>
                      <a:gs pos="100000">
                        <a:srgbClr val="6b542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3a55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502308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fef9e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9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4d36"/>
                </a:gs>
                <a:gs pos="100000">
                  <a:srgbClr val="e2d8d3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4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a553"/>
                </a:gs>
                <a:gs pos="100000">
                  <a:srgbClr val="f4ebd9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9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b9d53"/>
                </a:gs>
                <a:gs pos="100000">
                  <a:srgbClr val="e8e9d9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4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9db5"/>
                </a:gs>
                <a:gs pos="100000">
                  <a:srgbClr val="dfe9ee"/>
                </a:gs>
              </a:gsLst>
              <a:lin ang="10800000"/>
            </a:gra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d9db5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286000" y="29718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b9d53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b9d53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1d091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64B1-0940-49FB-AFAF-4043E5D3A7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4628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4d3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7c4d36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b9d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1" lang="en-US" sz="2400" spc="-1" strike="noStrike">
                <a:solidFill>
                  <a:srgbClr val="e1d091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e1d09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8d7e"/>
              </a:gs>
              <a:gs pos="100000">
                <a:srgbClr val="7c4d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4c28"/>
                    </a:gs>
                    <a:gs pos="100000">
                      <a:srgbClr val="9b9d5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d1d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d3a553"/>
                  </a:gs>
                  <a:gs pos="100000">
                    <a:srgbClr val="614c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edec2"/>
                  </a:gs>
                  <a:gs pos="100000">
                    <a:srgbClr val="d3a55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d3a553">
                      <a:alpha val="48235"/>
                    </a:srgbClr>
                  </a:gs>
                  <a:gs pos="100000">
                    <a:srgbClr val="a682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d3a55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dec7"/>
              </a:gs>
              <a:gs pos="100000">
                <a:srgbClr val="9b9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1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dfe0ca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3535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41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c4d36"/>
                </a:gs>
                <a:gs pos="100000">
                  <a:srgbClr val="2c1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9db5"/>
                </a:gs>
                <a:gs pos="100000">
                  <a:srgbClr val="25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dada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dadad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01028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79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80" name="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2ebd3"/>
                  </a:gs>
                  <a:gs pos="100000">
                    <a:srgbClr val="e1d09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b9d5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42c"/>
                  </a:gs>
                  <a:gs pos="50000">
                    <a:srgbClr val="9b9d53"/>
                  </a:gs>
                  <a:gs pos="100000">
                    <a:srgbClr val="53542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2318"/>
                  </a:gs>
                  <a:gs pos="50000">
                    <a:srgbClr val="7c4d36"/>
                  </a:gs>
                  <a:gs pos="100000">
                    <a:srgbClr val="3923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c4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826"/>
                  </a:gs>
                  <a:gs pos="50000">
                    <a:srgbClr val="9b9d53"/>
                  </a:gs>
                  <a:gs pos="100000">
                    <a:srgbClr val="4748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b9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3"/>
                  </a:gs>
                  <a:gs pos="50000">
                    <a:srgbClr val="6d9db5"/>
                  </a:gs>
                  <a:gs pos="100000">
                    <a:srgbClr val="32485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4c26"/>
                  </a:gs>
                  <a:gs pos="50000">
                    <a:srgbClr val="d3a553"/>
                  </a:gs>
                  <a:gs pos="100000">
                    <a:srgbClr val="614c2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3a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593727"/>
                  </a:gs>
                  <a:gs pos="50000">
                    <a:srgbClr val="7c4d36"/>
                  </a:gs>
                  <a:gs pos="100000">
                    <a:srgbClr val="59372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0713b"/>
                  </a:gs>
                  <a:gs pos="50000">
                    <a:srgbClr val="9b9d53"/>
                  </a:gs>
                  <a:gs pos="100000">
                    <a:srgbClr val="7071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d9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182"/>
                  </a:gs>
                  <a:gs pos="50000">
                    <a:srgbClr val="6d9db5"/>
                  </a:gs>
                  <a:gs pos="100000">
                    <a:srgbClr val="4e71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8773b"/>
                  </a:gs>
                  <a:gs pos="50000">
                    <a:srgbClr val="d3a553"/>
                  </a:gs>
                  <a:gs pos="100000">
                    <a:srgbClr val="9877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d09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e1d091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a3a56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c4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b9d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e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d9db5"/>
                </a:gs>
                <a:gs pos="100000">
                  <a:srgbClr val="aac5d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9e2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d9d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5"/>
                  </a:gs>
                  <a:gs pos="50000">
                    <a:srgbClr val="6d9db5"/>
                  </a:gs>
                  <a:gs pos="100000">
                    <a:srgbClr val="2a3c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ef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ef9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ef9e2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7:16:12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