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99B6-03BB-4B5F-9FD6-B7AEF0BA3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9B1A-636C-4913-A982-0663C1E7A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6982-2272-4A91-9A43-98143E380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27D8-B3E9-4B01-8B2C-2FEDEE4D1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21F7-D00C-42BE-8F36-857269244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DCC3-B543-4996-B293-6BC1304E7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3504-4504-4466-A524-F26578A23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227F-4F33-497E-9741-DD2B69135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1769-30C8-4055-B673-0D6C91E3F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CF87-5664-4864-8187-69792E776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B4E2-1F64-4892-8450-17AA19A75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08CE-917A-4675-BCD7-DCB1ED510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F375D-0396-4EE1-8B7D-CDD0A9BA2A2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24B8D-8D22-491A-BCBC-F7A6659496D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3"/>
          <p:cNvSpPr/>
          <p:nvPr/>
        </p:nvSpPr>
        <p:spPr>
          <a:xfrm>
            <a:off x="0" y="2286000"/>
            <a:ext cx="2000160" cy="4287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4"/>
          <p:cNvSpPr/>
          <p:nvPr/>
        </p:nvSpPr>
        <p:spPr>
          <a:xfrm>
            <a:off x="0" y="3000240"/>
            <a:ext cx="2786040" cy="4287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5"/>
          <p:cNvSpPr/>
          <p:nvPr/>
        </p:nvSpPr>
        <p:spPr>
          <a:xfrm>
            <a:off x="0" y="3714840"/>
            <a:ext cx="3643200" cy="428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6"/>
          <p:cNvSpPr/>
          <p:nvPr/>
        </p:nvSpPr>
        <p:spPr>
          <a:xfrm>
            <a:off x="0" y="4500720"/>
            <a:ext cx="4286160" cy="428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7"/>
          <p:cNvSpPr/>
          <p:nvPr/>
        </p:nvSpPr>
        <p:spPr>
          <a:xfrm>
            <a:off x="0" y="5500800"/>
            <a:ext cx="5072040" cy="428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8"/>
          <p:cNvSpPr/>
          <p:nvPr/>
        </p:nvSpPr>
        <p:spPr>
          <a:xfrm>
            <a:off x="642960" y="357120"/>
            <a:ext cx="814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强调关系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PPT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图表（附带动画效果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椭圆 9"/>
          <p:cNvSpPr/>
          <p:nvPr/>
        </p:nvSpPr>
        <p:spPr>
          <a:xfrm>
            <a:off x="1857240" y="2071800"/>
            <a:ext cx="857520" cy="857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  <a:ea typeface="宋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椭圆 10"/>
          <p:cNvSpPr/>
          <p:nvPr/>
        </p:nvSpPr>
        <p:spPr>
          <a:xfrm>
            <a:off x="3286080" y="3500280"/>
            <a:ext cx="857160" cy="857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  <a:ea typeface="宋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椭圆 11"/>
          <p:cNvSpPr/>
          <p:nvPr/>
        </p:nvSpPr>
        <p:spPr>
          <a:xfrm>
            <a:off x="2571840" y="2786040"/>
            <a:ext cx="857160" cy="857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  <a:ea typeface="宋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椭圆 12"/>
          <p:cNvSpPr/>
          <p:nvPr/>
        </p:nvSpPr>
        <p:spPr>
          <a:xfrm>
            <a:off x="5000760" y="5286240"/>
            <a:ext cx="857160" cy="857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  <a:ea typeface="宋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椭圆 13"/>
          <p:cNvSpPr/>
          <p:nvPr/>
        </p:nvSpPr>
        <p:spPr>
          <a:xfrm>
            <a:off x="4143240" y="4000680"/>
            <a:ext cx="1285920" cy="12855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  <a:ea typeface="宋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圆角矩形标注 14"/>
          <p:cNvSpPr/>
          <p:nvPr/>
        </p:nvSpPr>
        <p:spPr>
          <a:xfrm>
            <a:off x="5643720" y="2214720"/>
            <a:ext cx="3000240" cy="1714320"/>
          </a:xfrm>
          <a:prstGeom prst="wedgeRoundRectCallout">
            <a:avLst>
              <a:gd name="adj1" fmla="val -69888"/>
              <a:gd name="adj2" fmla="val 67699"/>
              <a:gd name="adj3" fmla="val 16667"/>
            </a:avLst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双击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77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" dur="770" fill="hold"/>
                                        <p:tgtEl>
                                          <p:spTgt spid="5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7" dur="77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9" dur="77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67E1-EDD9-494F-B5A6-726EC8DBCE7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http://www.eeppt.com</dc:creator>
  <dc:description>ppt模板下载网站 http://www.eeppt.com</dc:description>
  <dc:language>en-US</dc:language>
  <cp:lastModifiedBy/>
  <dcterms:modified xsi:type="dcterms:W3CDTF">2015-06-12T15:58:50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