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7A6-8270-4500-9707-2F7E3975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1E7-BC56-4553-9057-13C7EB33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28B-0EDC-4B31-B308-917D9477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791-47CB-42E3-8330-0772A85B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5F04-DEB5-420F-A667-22CA9B0B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AD98-ECE7-4627-B32C-CD3873EA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8D73-BB9F-4568-9849-CF3A3248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1861-3A2F-42E1-9F7B-FAC021C6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8F37-7889-49CA-AAF6-09E2582A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2329-5317-4B7F-9C8E-6EC3CFAD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B3FD-7A4E-4404-B6E4-F1F9D3CB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DE8-76A8-41DB-9D39-CEDC4047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FCDE-6622-495B-88B2-9E13177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D228-AE9F-4E74-8366-7FB0B9AE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2B9F-139F-4213-8805-50EBB337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7FA6-4267-4242-A42E-2BB638FA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6063-AE37-4AF9-9FBC-4F27CCBA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00B-33B3-4B35-9977-362E65A9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C32-4225-4719-A2EF-64342564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AD9-4D1B-44F7-B81C-663D18E1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F35-2A67-48F4-91ED-D9D3AF3A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683-33E9-4186-926D-7B5D0F6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B31-B9B1-4068-9502-2D9270DC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C83-FD40-42DB-99AC-02CF9891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1E5F-C4C4-43E9-828C-4A1E495F34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F304-8814-452F-88C4-CAB37E1D5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9915-2197-416F-B94B-0468F18686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84A1-BECF-492B-A791-6C63D019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9"/>
          <p:cNvGrpSpPr/>
          <p:nvPr/>
        </p:nvGrpSpPr>
        <p:grpSpPr>
          <a:xfrm>
            <a:off x="2873520" y="2652840"/>
            <a:ext cx="3918960" cy="1766880"/>
            <a:chOff x="2873520" y="2652840"/>
            <a:chExt cx="3918960" cy="1766880"/>
          </a:xfrm>
        </p:grpSpPr>
        <p:sp>
          <p:nvSpPr>
            <p:cNvPr id="83" name="矩形 3"/>
            <p:cNvSpPr/>
            <p:nvPr/>
          </p:nvSpPr>
          <p:spPr>
            <a:xfrm>
              <a:off x="2873520" y="265284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4"/>
            <p:cNvSpPr/>
            <p:nvPr/>
          </p:nvSpPr>
          <p:spPr>
            <a:xfrm>
              <a:off x="3860640" y="265284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5"/>
            <p:cNvSpPr/>
            <p:nvPr/>
          </p:nvSpPr>
          <p:spPr>
            <a:xfrm>
              <a:off x="4848120" y="265284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 形 6"/>
            <p:cNvSpPr/>
            <p:nvPr/>
          </p:nvSpPr>
          <p:spPr>
            <a:xfrm flipH="1">
              <a:off x="5276160" y="2652840"/>
              <a:ext cx="1515960" cy="174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7"/>
            <p:cNvSpPr/>
            <p:nvPr/>
          </p:nvSpPr>
          <p:spPr>
            <a:xfrm>
              <a:off x="4222080" y="356400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8"/>
            <p:cNvSpPr/>
            <p:nvPr/>
          </p:nvSpPr>
          <p:spPr>
            <a:xfrm>
              <a:off x="3150360" y="356400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0"/>
          <p:cNvSpPr/>
          <p:nvPr/>
        </p:nvSpPr>
        <p:spPr>
          <a:xfrm rot="645600">
            <a:off x="5330880" y="4002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肘形连接符 12"/>
          <p:cNvCxnSpPr/>
          <p:nvPr/>
        </p:nvCxnSpPr>
        <p:spPr>
          <a:xfrm rot="5400000">
            <a:off x="6167160" y="3811680"/>
            <a:ext cx="357840" cy="576360"/>
          </a:xfrm>
          <a:prstGeom prst="bentConnector3">
            <a:avLst>
              <a:gd name="adj1" fmla="val 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1" name="Text Box 39"/>
          <p:cNvSpPr/>
          <p:nvPr/>
        </p:nvSpPr>
        <p:spPr>
          <a:xfrm rot="457800">
            <a:off x="3203280" y="277020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 rot="457800">
            <a:off x="3989160" y="291780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 rot="457800">
            <a:off x="4862160" y="3060360"/>
            <a:ext cx="1058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 rot="457800">
            <a:off x="3131640" y="356076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 rot="457800">
            <a:off x="4076280" y="377028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 rot="457800">
            <a:off x="5917680" y="341784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形状 23"/>
          <p:cNvCxnSpPr/>
          <p:nvPr/>
        </p:nvCxnSpPr>
        <p:spPr>
          <a:xfrm flipH="1" flipV="1" rot="5400000">
            <a:off x="5635080" y="338400"/>
            <a:ext cx="1116720" cy="363924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cxnSp>
        <p:nvCxnSpPr>
          <p:cNvPr id="98" name="形状 24"/>
          <p:cNvCxnSpPr/>
          <p:nvPr/>
        </p:nvCxnSpPr>
        <p:spPr>
          <a:xfrm flipH="1" flipV="1" rot="5400000">
            <a:off x="6783120" y="1284120"/>
            <a:ext cx="361080" cy="284580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99" name="直接连接符 26"/>
          <p:cNvSpPr/>
          <p:nvPr/>
        </p:nvSpPr>
        <p:spPr>
          <a:xfrm>
            <a:off x="739800" y="2773440"/>
            <a:ext cx="266364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7"/>
          <p:cNvSpPr/>
          <p:nvPr/>
        </p:nvSpPr>
        <p:spPr>
          <a:xfrm>
            <a:off x="682560" y="3705120"/>
            <a:ext cx="2664000" cy="180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形状 30"/>
          <p:cNvCxnSpPr/>
          <p:nvPr/>
        </p:nvCxnSpPr>
        <p:spPr>
          <a:xfrm rot="5400000">
            <a:off x="3062160" y="2473920"/>
            <a:ext cx="396000" cy="500436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102" name="矩形 31"/>
          <p:cNvSpPr/>
          <p:nvPr/>
        </p:nvSpPr>
        <p:spPr>
          <a:xfrm>
            <a:off x="4432320" y="1219320"/>
            <a:ext cx="278748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4491000" y="120636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4491000" y="1635120"/>
            <a:ext cx="394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4"/>
          <p:cNvSpPr/>
          <p:nvPr/>
        </p:nvSpPr>
        <p:spPr>
          <a:xfrm>
            <a:off x="5562720" y="213516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5619600" y="212256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05640" y="2563920"/>
            <a:ext cx="297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7"/>
          <p:cNvSpPr/>
          <p:nvPr/>
        </p:nvSpPr>
        <p:spPr>
          <a:xfrm>
            <a:off x="704880" y="242100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762120" y="240840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9"/>
          <p:cNvSpPr/>
          <p:nvPr/>
        </p:nvSpPr>
        <p:spPr>
          <a:xfrm>
            <a:off x="776160" y="277812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0"/>
          <p:cNvSpPr/>
          <p:nvPr/>
        </p:nvSpPr>
        <p:spPr>
          <a:xfrm>
            <a:off x="704880" y="334980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762120" y="333684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776160" y="370692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3"/>
          <p:cNvSpPr/>
          <p:nvPr/>
        </p:nvSpPr>
        <p:spPr>
          <a:xfrm>
            <a:off x="776160" y="479124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833400" y="477828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847800" y="514836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6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调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30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