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9D15-1738-4512-B602-087DFAAEE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04A0-943D-409F-9719-B7019B0CC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3F06-2E9A-43F7-A03C-01A6BB75C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5522-6EEF-4E49-8A26-FDDC9CCC9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5BE09-8E4E-4883-82BA-EA119ADA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88FAE-9F35-4238-AA72-2964A216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B0BA6-B051-4E1D-A989-36A789B4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D236-7C7E-4EBB-B03C-6F5C547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5AB89-8A3F-41EE-8948-597D2DE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8019D-FD22-4AE8-8769-3690BE33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23D39-A98B-4234-956F-50A8A8E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CE77-158D-4240-8A78-620291217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FA9F-5048-4078-AD47-63BB4B5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87BDA-5081-48D3-BFEA-E6A52B6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C9658-AB77-4BE1-9C12-77F1863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74E0-BFDE-422F-A202-F6255A6D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5E2A-8055-466A-BD0C-86CD398E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AE6E-D336-4A54-AEAE-26A07783C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7A8C-6715-4D70-80A7-1ED5CDA17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2FB6-E041-4C0C-8249-0F9CC2F3B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B69D-C322-40AE-A43D-BB69223DD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D73C-667E-470D-8D86-0EF261775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1C93-CABC-4B23-B257-E603E4E78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60F5-7701-4224-AB02-76B221F3F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4360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5000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34800" y="971640"/>
            <a:ext cx="8496360" cy="544968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d4d4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9769-DE4A-437A-9A56-0840971BDF73}" type="slidenum">
              <a:rPr b="0" lang="ko-KR" sz="1200" spc="-1" strike="noStrike">
                <a:solidFill>
                  <a:srgbClr val="4d4d4d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040" y="958680"/>
            <a:ext cx="8496360" cy="545796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311680" y="4871880"/>
            <a:ext cx="703080" cy="1771560"/>
            <a:chOff x="8311680" y="4871880"/>
            <a:chExt cx="703080" cy="1771560"/>
          </a:xfrm>
        </p:grpSpPr>
        <p:grpSp>
          <p:nvGrpSpPr>
            <p:cNvPr id="8" name=""/>
            <p:cNvGrpSpPr/>
            <p:nvPr/>
          </p:nvGrpSpPr>
          <p:grpSpPr>
            <a:xfrm>
              <a:off x="8322840" y="4875480"/>
              <a:ext cx="691920" cy="1757880"/>
              <a:chOff x="8322840" y="4875480"/>
              <a:chExt cx="691920" cy="1757880"/>
            </a:xfrm>
          </p:grpSpPr>
          <p:sp>
            <p:nvSpPr>
              <p:cNvPr id="9" name=""/>
              <p:cNvSpPr/>
              <p:nvPr/>
            </p:nvSpPr>
            <p:spPr>
              <a:xfrm flipH="1">
                <a:off x="8322480" y="621360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 flipH="1">
                <a:off x="8460360" y="628164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8323200" y="628164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8322480" y="6072480"/>
                <a:ext cx="276120" cy="1386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H="1">
                <a:off x="8460360" y="614052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8323560" y="6141240"/>
                <a:ext cx="137880" cy="209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8326440" y="5934240"/>
                <a:ext cx="276120" cy="277920"/>
                <a:chOff x="8326440" y="5934240"/>
                <a:chExt cx="276120" cy="277920"/>
              </a:xfrm>
            </p:grpSpPr>
            <p:sp>
              <p:nvSpPr>
                <p:cNvPr id="16" name=""/>
                <p:cNvSpPr/>
                <p:nvPr/>
              </p:nvSpPr>
              <p:spPr>
                <a:xfrm flipH="1">
                  <a:off x="8326080" y="5934240"/>
                  <a:ext cx="276120" cy="1386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H="1">
                  <a:off x="8463960" y="60019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>
                  <a:off x="8327160" y="600192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"/>
              <p:cNvSpPr/>
              <p:nvPr/>
            </p:nvSpPr>
            <p:spPr>
              <a:xfrm flipH="1">
                <a:off x="8462160" y="628308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 flipH="1">
                <a:off x="8597160" y="6351120"/>
                <a:ext cx="137880" cy="2102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8462880" y="6351120"/>
                <a:ext cx="137880" cy="2102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2" name=""/>
              <p:cNvGrpSpPr/>
              <p:nvPr/>
            </p:nvGrpSpPr>
            <p:grpSpPr>
              <a:xfrm>
                <a:off x="8462520" y="6143400"/>
                <a:ext cx="276120" cy="277200"/>
                <a:chOff x="8462520" y="6143400"/>
                <a:chExt cx="276120" cy="277200"/>
              </a:xfrm>
            </p:grpSpPr>
            <p:sp>
              <p:nvSpPr>
                <p:cNvPr id="23" name=""/>
                <p:cNvSpPr/>
                <p:nvPr/>
              </p:nvSpPr>
              <p:spPr>
                <a:xfrm flipH="1">
                  <a:off x="8462160" y="61434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" name="未知"/>
                <p:cNvSpPr/>
                <p:nvPr/>
              </p:nvSpPr>
              <p:spPr>
                <a:xfrm flipH="1">
                  <a:off x="8600040" y="62103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" name="未知"/>
                <p:cNvSpPr/>
                <p:nvPr/>
              </p:nvSpPr>
              <p:spPr>
                <a:xfrm>
                  <a:off x="8463240" y="6211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8466120" y="6006960"/>
                <a:ext cx="276120" cy="277560"/>
                <a:chOff x="8466120" y="6006960"/>
                <a:chExt cx="276120" cy="277560"/>
              </a:xfrm>
            </p:grpSpPr>
            <p:sp>
              <p:nvSpPr>
                <p:cNvPr id="27" name=""/>
                <p:cNvSpPr/>
                <p:nvPr/>
              </p:nvSpPr>
              <p:spPr>
                <a:xfrm flipH="1">
                  <a:off x="8465760" y="600696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 flipH="1">
                  <a:off x="8601120" y="60735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8467200" y="607464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"/>
              <p:cNvGrpSpPr/>
              <p:nvPr/>
            </p:nvGrpSpPr>
            <p:grpSpPr>
              <a:xfrm>
                <a:off x="8605800" y="6356160"/>
                <a:ext cx="276120" cy="277200"/>
                <a:chOff x="8605800" y="6356160"/>
                <a:chExt cx="276120" cy="277200"/>
              </a:xfrm>
            </p:grpSpPr>
            <p:sp>
              <p:nvSpPr>
                <p:cNvPr id="31" name=""/>
                <p:cNvSpPr/>
                <p:nvPr/>
              </p:nvSpPr>
              <p:spPr>
                <a:xfrm flipH="1">
                  <a:off x="8605440" y="6356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>
                  <a:off x="8743320" y="64231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8606520" y="64238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8604360" y="6217200"/>
                <a:ext cx="276120" cy="277560"/>
                <a:chOff x="8604360" y="6217200"/>
                <a:chExt cx="276120" cy="277560"/>
              </a:xfrm>
            </p:grpSpPr>
            <p:sp>
              <p:nvSpPr>
                <p:cNvPr id="35" name=""/>
                <p:cNvSpPr/>
                <p:nvPr/>
              </p:nvSpPr>
              <p:spPr>
                <a:xfrm flipH="1">
                  <a:off x="8604000" y="621720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flipH="1">
                  <a:off x="8740080" y="62848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" name="未知"/>
                <p:cNvSpPr/>
                <p:nvPr/>
              </p:nvSpPr>
              <p:spPr>
                <a:xfrm>
                  <a:off x="8607240" y="628488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8322840" y="5795280"/>
                <a:ext cx="276120" cy="276480"/>
                <a:chOff x="8322840" y="5795280"/>
                <a:chExt cx="276120" cy="276480"/>
              </a:xfrm>
            </p:grpSpPr>
            <p:sp>
              <p:nvSpPr>
                <p:cNvPr id="39" name=""/>
                <p:cNvSpPr/>
                <p:nvPr/>
              </p:nvSpPr>
              <p:spPr>
                <a:xfrm flipH="1">
                  <a:off x="8322480" y="57952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0" name="未知"/>
                <p:cNvSpPr/>
                <p:nvPr/>
              </p:nvSpPr>
              <p:spPr>
                <a:xfrm flipH="1">
                  <a:off x="8456760" y="5862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1" name="未知"/>
                <p:cNvSpPr/>
                <p:nvPr/>
              </p:nvSpPr>
              <p:spPr>
                <a:xfrm>
                  <a:off x="8323200" y="5862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8465400" y="5864760"/>
                <a:ext cx="276120" cy="277920"/>
                <a:chOff x="8465400" y="5864760"/>
                <a:chExt cx="276120" cy="277920"/>
              </a:xfrm>
            </p:grpSpPr>
            <p:sp>
              <p:nvSpPr>
                <p:cNvPr id="43" name=""/>
                <p:cNvSpPr/>
                <p:nvPr/>
              </p:nvSpPr>
              <p:spPr>
                <a:xfrm flipH="1">
                  <a:off x="8465040" y="5864760"/>
                  <a:ext cx="276120" cy="1386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flipH="1">
                  <a:off x="8602920" y="59324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>
                  <a:off x="8466120" y="593244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8735760" y="5442120"/>
                <a:ext cx="276120" cy="277200"/>
                <a:chOff x="8735760" y="5442120"/>
                <a:chExt cx="276120" cy="277200"/>
              </a:xfrm>
            </p:grpSpPr>
            <p:sp>
              <p:nvSpPr>
                <p:cNvPr id="47" name=""/>
                <p:cNvSpPr/>
                <p:nvPr/>
              </p:nvSpPr>
              <p:spPr>
                <a:xfrm flipH="1">
                  <a:off x="8735400" y="544212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flipH="1">
                  <a:off x="8873280" y="5509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>
                  <a:off x="8736480" y="5509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8601480" y="5654160"/>
                <a:ext cx="276120" cy="276480"/>
                <a:chOff x="8601480" y="5654160"/>
                <a:chExt cx="276120" cy="276480"/>
              </a:xfrm>
            </p:grpSpPr>
            <p:sp>
              <p:nvSpPr>
                <p:cNvPr id="51" name=""/>
                <p:cNvSpPr/>
                <p:nvPr/>
              </p:nvSpPr>
              <p:spPr>
                <a:xfrm flipH="1">
                  <a:off x="8601120" y="5654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 flipH="1">
                  <a:off x="8739000" y="572112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>
                  <a:off x="8602200" y="572184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8607960" y="6076080"/>
                <a:ext cx="276120" cy="276480"/>
                <a:chOff x="8607960" y="6076080"/>
                <a:chExt cx="276120" cy="27648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8607600" y="60760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>
                  <a:off x="8745480" y="614304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>
                  <a:off x="8608680" y="61437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8726760" y="4875480"/>
                <a:ext cx="276120" cy="277200"/>
                <a:chOff x="8726760" y="4875480"/>
                <a:chExt cx="276120" cy="277200"/>
              </a:xfrm>
            </p:grpSpPr>
            <p:sp>
              <p:nvSpPr>
                <p:cNvPr id="59" name=""/>
                <p:cNvSpPr/>
                <p:nvPr/>
              </p:nvSpPr>
              <p:spPr>
                <a:xfrm flipH="1">
                  <a:off x="8726400" y="48754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 flipH="1">
                  <a:off x="8864280" y="49424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>
                  <a:off x="8727480" y="49431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8738640" y="5859000"/>
                <a:ext cx="276120" cy="277200"/>
                <a:chOff x="8738640" y="5859000"/>
                <a:chExt cx="276120" cy="277200"/>
              </a:xfrm>
            </p:grpSpPr>
            <p:sp>
              <p:nvSpPr>
                <p:cNvPr id="63" name=""/>
                <p:cNvSpPr/>
                <p:nvPr/>
              </p:nvSpPr>
              <p:spPr>
                <a:xfrm flipH="1">
                  <a:off x="8738280" y="58590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" name="未知"/>
                <p:cNvSpPr/>
                <p:nvPr/>
              </p:nvSpPr>
              <p:spPr>
                <a:xfrm flipH="1">
                  <a:off x="8874720" y="5926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" name="未知"/>
                <p:cNvSpPr/>
                <p:nvPr/>
              </p:nvSpPr>
              <p:spPr>
                <a:xfrm>
                  <a:off x="8741880" y="59266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8311680" y="4871880"/>
              <a:ext cx="691920" cy="1771560"/>
              <a:chOff x="8311680" y="4871880"/>
              <a:chExt cx="691920" cy="17715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8311320" y="622332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flipH="1">
                <a:off x="8449200" y="62913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8312040" y="62913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311320" y="6082200"/>
                <a:ext cx="276120" cy="1386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flipH="1">
                <a:off x="8449200" y="6150240"/>
                <a:ext cx="137880" cy="209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8312400" y="61509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8315280" y="5943960"/>
                <a:ext cx="276120" cy="277920"/>
                <a:chOff x="8315280" y="5943960"/>
                <a:chExt cx="276120" cy="277920"/>
              </a:xfrm>
            </p:grpSpPr>
            <p:sp>
              <p:nvSpPr>
                <p:cNvPr id="74" name=""/>
                <p:cNvSpPr/>
                <p:nvPr/>
              </p:nvSpPr>
              <p:spPr>
                <a:xfrm flipH="1">
                  <a:off x="8314920" y="594396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 flipH="1">
                  <a:off x="8452800" y="60116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>
                  <a:off x="8316000" y="601164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 flipH="1">
                <a:off x="8451000" y="629280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 flipH="1">
                <a:off x="8586000" y="6360840"/>
                <a:ext cx="137880" cy="210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8451720" y="6360840"/>
                <a:ext cx="137880" cy="210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8451360" y="6153120"/>
                <a:ext cx="276120" cy="277200"/>
                <a:chOff x="8451360" y="6153120"/>
                <a:chExt cx="276120" cy="277200"/>
              </a:xfrm>
            </p:grpSpPr>
            <p:sp>
              <p:nvSpPr>
                <p:cNvPr id="81" name=""/>
                <p:cNvSpPr/>
                <p:nvPr/>
              </p:nvSpPr>
              <p:spPr>
                <a:xfrm flipH="1">
                  <a:off x="8451000" y="615312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 flipH="1">
                  <a:off x="8588880" y="6220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>
                  <a:off x="8452080" y="6220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8454960" y="6016680"/>
                <a:ext cx="276120" cy="277560"/>
                <a:chOff x="8454960" y="6016680"/>
                <a:chExt cx="276120" cy="277560"/>
              </a:xfrm>
            </p:grpSpPr>
            <p:sp>
              <p:nvSpPr>
                <p:cNvPr id="85" name=""/>
                <p:cNvSpPr/>
                <p:nvPr/>
              </p:nvSpPr>
              <p:spPr>
                <a:xfrm flipH="1">
                  <a:off x="8454600" y="6016680"/>
                  <a:ext cx="276120" cy="13824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flipH="1">
                  <a:off x="8589960" y="608328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>
                  <a:off x="8456040" y="60843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594640" y="6366240"/>
                <a:ext cx="276120" cy="277200"/>
                <a:chOff x="8594640" y="6366240"/>
                <a:chExt cx="276120" cy="27720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8594280" y="6366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flipH="1">
                  <a:off x="8732160" y="64332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>
                  <a:off x="8595360" y="64339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8593200" y="6227280"/>
                <a:ext cx="276120" cy="277560"/>
                <a:chOff x="8593200" y="6227280"/>
                <a:chExt cx="276120" cy="27756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8592840" y="6227280"/>
                  <a:ext cx="276120" cy="13824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 flipH="1">
                  <a:off x="8728920" y="6294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5" name="未知"/>
                <p:cNvSpPr/>
                <p:nvPr/>
              </p:nvSpPr>
              <p:spPr>
                <a:xfrm>
                  <a:off x="8596080" y="62949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8311680" y="5805000"/>
                <a:ext cx="276120" cy="276480"/>
                <a:chOff x="8311680" y="5805000"/>
                <a:chExt cx="276120" cy="276480"/>
              </a:xfrm>
            </p:grpSpPr>
            <p:sp>
              <p:nvSpPr>
                <p:cNvPr id="97" name=""/>
                <p:cNvSpPr/>
                <p:nvPr/>
              </p:nvSpPr>
              <p:spPr>
                <a:xfrm flipH="1">
                  <a:off x="8311320" y="580500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8" name="未知"/>
                <p:cNvSpPr/>
                <p:nvPr/>
              </p:nvSpPr>
              <p:spPr>
                <a:xfrm flipH="1">
                  <a:off x="8445600" y="5872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9" name="未知"/>
                <p:cNvSpPr/>
                <p:nvPr/>
              </p:nvSpPr>
              <p:spPr>
                <a:xfrm>
                  <a:off x="8312040" y="5872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8454240" y="5874480"/>
                <a:ext cx="276120" cy="277920"/>
                <a:chOff x="8454240" y="5874480"/>
                <a:chExt cx="276120" cy="27792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8453880" y="587448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2" name="未知"/>
                <p:cNvSpPr/>
                <p:nvPr/>
              </p:nvSpPr>
              <p:spPr>
                <a:xfrm flipH="1">
                  <a:off x="8591760" y="59421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8454960" y="594216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724600" y="5451840"/>
                <a:ext cx="276120" cy="277200"/>
                <a:chOff x="8724600" y="5451840"/>
                <a:chExt cx="276120" cy="277200"/>
              </a:xfrm>
            </p:grpSpPr>
            <p:sp>
              <p:nvSpPr>
                <p:cNvPr id="105" name=""/>
                <p:cNvSpPr/>
                <p:nvPr/>
              </p:nvSpPr>
              <p:spPr>
                <a:xfrm flipH="1">
                  <a:off x="8724240" y="54518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6" name="未知"/>
                <p:cNvSpPr/>
                <p:nvPr/>
              </p:nvSpPr>
              <p:spPr>
                <a:xfrm flipH="1">
                  <a:off x="8862120" y="5518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7" name="未知"/>
                <p:cNvSpPr/>
                <p:nvPr/>
              </p:nvSpPr>
              <p:spPr>
                <a:xfrm>
                  <a:off x="8725320" y="55195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8590320" y="5664240"/>
                <a:ext cx="276120" cy="276480"/>
                <a:chOff x="8590320" y="5664240"/>
                <a:chExt cx="276120" cy="27648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8589960" y="5664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 flipH="1">
                  <a:off x="8727840" y="573120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8591040" y="573192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8590320" y="6085800"/>
                <a:ext cx="276120" cy="276480"/>
                <a:chOff x="8590320" y="6085800"/>
                <a:chExt cx="276120" cy="276480"/>
              </a:xfrm>
            </p:grpSpPr>
            <p:sp>
              <p:nvSpPr>
                <p:cNvPr id="113" name=""/>
                <p:cNvSpPr/>
                <p:nvPr/>
              </p:nvSpPr>
              <p:spPr>
                <a:xfrm flipH="1">
                  <a:off x="8589960" y="6085800"/>
                  <a:ext cx="276120" cy="13788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 flipH="1">
                  <a:off x="8727840" y="61527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8591040" y="61534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8715600" y="4871880"/>
                <a:ext cx="276120" cy="277200"/>
                <a:chOff x="8715600" y="4871880"/>
                <a:chExt cx="276120" cy="27720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8715240" y="4871880"/>
                  <a:ext cx="276120" cy="13788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 flipH="1">
                  <a:off x="8853120" y="49388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8716320" y="49395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727480" y="5868720"/>
                <a:ext cx="276120" cy="277200"/>
                <a:chOff x="8727480" y="5868720"/>
                <a:chExt cx="276120" cy="277200"/>
              </a:xfrm>
            </p:grpSpPr>
            <p:sp>
              <p:nvSpPr>
                <p:cNvPr id="121" name=""/>
                <p:cNvSpPr/>
                <p:nvPr/>
              </p:nvSpPr>
              <p:spPr>
                <a:xfrm flipH="1">
                  <a:off x="8727120" y="5868720"/>
                  <a:ext cx="276120" cy="13788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 flipH="1">
                  <a:off x="8863560" y="593640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8730720" y="59364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83040" y="2036880"/>
            <a:ext cx="4260960" cy="331632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17800"/>
            <a:ext cx="4881600" cy="33163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806120" y="1541880"/>
            <a:ext cx="6505920" cy="5561280"/>
            <a:chOff x="-1806120" y="1541880"/>
            <a:chExt cx="6505920" cy="5561280"/>
          </a:xfrm>
        </p:grpSpPr>
        <p:sp>
          <p:nvSpPr>
            <p:cNvPr id="163" name=""/>
            <p:cNvSpPr/>
            <p:nvPr/>
          </p:nvSpPr>
          <p:spPr>
            <a:xfrm flipH="1" rot="5407800">
              <a:off x="-1037880" y="2493360"/>
              <a:ext cx="2074680" cy="360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9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9506"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56800">
              <a:off x="-289440" y="2337840"/>
              <a:ext cx="4292640" cy="396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9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9506"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755-64E5-418E-8724-04F59A8B00B9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02560" y="4265640"/>
            <a:ext cx="1096920" cy="1062000"/>
            <a:chOff x="6802560" y="4265640"/>
            <a:chExt cx="1096920" cy="1062000"/>
          </a:xfrm>
        </p:grpSpPr>
        <p:sp>
          <p:nvSpPr>
            <p:cNvPr id="172" name=""/>
            <p:cNvSpPr/>
            <p:nvPr/>
          </p:nvSpPr>
          <p:spPr>
            <a:xfrm>
              <a:off x="6816960" y="426564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802560" y="431172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8050320" y="4268880"/>
            <a:ext cx="1096920" cy="1062000"/>
            <a:chOff x="8050320" y="4268880"/>
            <a:chExt cx="1096920" cy="1062000"/>
          </a:xfrm>
        </p:grpSpPr>
        <p:sp>
          <p:nvSpPr>
            <p:cNvPr id="175" name=""/>
            <p:cNvSpPr/>
            <p:nvPr/>
          </p:nvSpPr>
          <p:spPr>
            <a:xfrm>
              <a:off x="8064720" y="426888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050320" y="431496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518080" y="4268880"/>
            <a:ext cx="1096920" cy="1062000"/>
            <a:chOff x="5518080" y="4268880"/>
            <a:chExt cx="1096920" cy="1062000"/>
          </a:xfrm>
        </p:grpSpPr>
        <p:sp>
          <p:nvSpPr>
            <p:cNvPr id="178" name=""/>
            <p:cNvSpPr/>
            <p:nvPr/>
          </p:nvSpPr>
          <p:spPr>
            <a:xfrm>
              <a:off x="5532480" y="426888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518080" y="431496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385920" y="2395440"/>
            <a:ext cx="3290760" cy="3305160"/>
            <a:chOff x="385920" y="2395440"/>
            <a:chExt cx="3290760" cy="3305160"/>
          </a:xfrm>
        </p:grpSpPr>
        <p:sp>
          <p:nvSpPr>
            <p:cNvPr id="181" name=""/>
            <p:cNvSpPr/>
            <p:nvPr/>
          </p:nvSpPr>
          <p:spPr>
            <a:xfrm>
              <a:off x="400320" y="2423880"/>
              <a:ext cx="3276360" cy="32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5078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5920" y="2395440"/>
              <a:ext cx="3124080" cy="3124080"/>
            </a:xfrm>
            <a:prstGeom prst="ellipse">
              <a:avLst/>
            </a:pr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62080" y="1560600"/>
            <a:ext cx="1495440" cy="3767040"/>
            <a:chOff x="1162080" y="1560600"/>
            <a:chExt cx="1495440" cy="3767040"/>
          </a:xfrm>
        </p:grpSpPr>
        <p:grpSp>
          <p:nvGrpSpPr>
            <p:cNvPr id="185" name=""/>
            <p:cNvGrpSpPr/>
            <p:nvPr/>
          </p:nvGrpSpPr>
          <p:grpSpPr>
            <a:xfrm>
              <a:off x="1185840" y="1568520"/>
              <a:ext cx="1471680" cy="3738240"/>
              <a:chOff x="1185840" y="1568520"/>
              <a:chExt cx="1471680" cy="37382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1185840" y="4413240"/>
                <a:ext cx="58752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flipH="1">
                <a:off x="1479600" y="455796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1185840" y="455796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185840" y="4113360"/>
                <a:ext cx="587520" cy="2952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flipH="1">
                <a:off x="1479600" y="425772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1187280" y="4259160"/>
                <a:ext cx="293760" cy="446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193760" y="3819600"/>
                <a:ext cx="587520" cy="592200"/>
                <a:chOff x="1193760" y="3819600"/>
                <a:chExt cx="587520" cy="5922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>
                  <a:off x="1193760" y="38196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flipH="1">
                  <a:off x="1487520" y="39639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>
                  <a:off x="1195200" y="396396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1482120" y="4560840"/>
                <a:ext cx="58716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 flipH="1">
                <a:off x="1770120" y="4705560"/>
                <a:ext cx="29376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1482840" y="470556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1482480" y="4264200"/>
                <a:ext cx="587160" cy="590400"/>
                <a:chOff x="1482480" y="4264200"/>
                <a:chExt cx="587160" cy="59040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1482120" y="426420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1" name="未知"/>
                <p:cNvSpPr/>
                <p:nvPr/>
              </p:nvSpPr>
              <p:spPr>
                <a:xfrm flipH="1">
                  <a:off x="1775520" y="4407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>
                  <a:off x="1483920" y="4408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490760" y="3973680"/>
                <a:ext cx="586800" cy="590040"/>
                <a:chOff x="1490760" y="3973680"/>
                <a:chExt cx="586800" cy="59004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1490760" y="3973680"/>
                  <a:ext cx="586800" cy="2941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flipH="1">
                  <a:off x="1777680" y="4115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>
                  <a:off x="1492200" y="4117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787400" y="4716360"/>
                <a:ext cx="587520" cy="590400"/>
                <a:chOff x="1787400" y="4716360"/>
                <a:chExt cx="587520" cy="59040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1787400" y="471636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flipH="1">
                  <a:off x="2081160" y="48592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>
                  <a:off x="1788840" y="486072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783800" y="4421160"/>
                <a:ext cx="587160" cy="590400"/>
                <a:chOff x="1783800" y="4421160"/>
                <a:chExt cx="587160" cy="5904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1783440" y="4421160"/>
                  <a:ext cx="587160" cy="2941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flipH="1">
                  <a:off x="2072880" y="4565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>
                  <a:off x="1789560" y="456516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185840" y="3524400"/>
                <a:ext cx="587520" cy="588960"/>
                <a:chOff x="1185840" y="3524400"/>
                <a:chExt cx="587520" cy="588960"/>
              </a:xfrm>
            </p:grpSpPr>
            <p:sp>
              <p:nvSpPr>
                <p:cNvPr id="216" name=""/>
                <p:cNvSpPr/>
                <p:nvPr/>
              </p:nvSpPr>
              <p:spPr>
                <a:xfrm flipH="1">
                  <a:off x="1185840" y="3524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flipH="1">
                  <a:off x="1471680" y="3668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8" name="未知"/>
                <p:cNvSpPr/>
                <p:nvPr/>
              </p:nvSpPr>
              <p:spPr>
                <a:xfrm>
                  <a:off x="1185840" y="3668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488960" y="3672000"/>
                <a:ext cx="587520" cy="592200"/>
                <a:chOff x="1488960" y="3672000"/>
                <a:chExt cx="587520" cy="59220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1488960" y="36720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 flipH="1">
                  <a:off x="1782720" y="38163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>
                  <a:off x="1490400" y="381636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063520" y="2773440"/>
                <a:ext cx="587160" cy="590400"/>
                <a:chOff x="2063520" y="2773440"/>
                <a:chExt cx="587160" cy="590400"/>
              </a:xfrm>
            </p:grpSpPr>
            <p:sp>
              <p:nvSpPr>
                <p:cNvPr id="224" name=""/>
                <p:cNvSpPr/>
                <p:nvPr/>
              </p:nvSpPr>
              <p:spPr>
                <a:xfrm flipH="1">
                  <a:off x="2063160" y="277344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flipH="1">
                  <a:off x="2356560" y="29163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>
                  <a:off x="2064960" y="29178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777680" y="3224160"/>
                <a:ext cx="587160" cy="588960"/>
                <a:chOff x="1777680" y="3224160"/>
                <a:chExt cx="587160" cy="588960"/>
              </a:xfrm>
            </p:grpSpPr>
            <p:sp>
              <p:nvSpPr>
                <p:cNvPr id="228" name=""/>
                <p:cNvSpPr/>
                <p:nvPr/>
              </p:nvSpPr>
              <p:spPr>
                <a:xfrm flipH="1">
                  <a:off x="1777320" y="322416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9" name="未知"/>
                <p:cNvSpPr/>
                <p:nvPr/>
              </p:nvSpPr>
              <p:spPr>
                <a:xfrm flipH="1">
                  <a:off x="2070720" y="3367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0" name="未知"/>
                <p:cNvSpPr/>
                <p:nvPr/>
              </p:nvSpPr>
              <p:spPr>
                <a:xfrm>
                  <a:off x="1779120" y="3368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792080" y="4121280"/>
                <a:ext cx="587160" cy="588960"/>
                <a:chOff x="1792080" y="4121280"/>
                <a:chExt cx="587160" cy="588960"/>
              </a:xfrm>
            </p:grpSpPr>
            <p:sp>
              <p:nvSpPr>
                <p:cNvPr id="232" name=""/>
                <p:cNvSpPr/>
                <p:nvPr/>
              </p:nvSpPr>
              <p:spPr>
                <a:xfrm flipH="1">
                  <a:off x="1791720" y="412128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 flipH="1">
                  <a:off x="2085120" y="4264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4" name="未知"/>
                <p:cNvSpPr/>
                <p:nvPr/>
              </p:nvSpPr>
              <p:spPr>
                <a:xfrm>
                  <a:off x="1793520" y="42656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044440" y="1568520"/>
                <a:ext cx="587160" cy="590400"/>
                <a:chOff x="2044440" y="1568520"/>
                <a:chExt cx="587160" cy="590400"/>
              </a:xfrm>
            </p:grpSpPr>
            <p:sp>
              <p:nvSpPr>
                <p:cNvPr id="236" name=""/>
                <p:cNvSpPr/>
                <p:nvPr/>
              </p:nvSpPr>
              <p:spPr>
                <a:xfrm flipH="1">
                  <a:off x="2044080" y="156852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flipH="1">
                  <a:off x="2337480" y="17114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>
                  <a:off x="2045880" y="1712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070000" y="3659400"/>
                <a:ext cx="587520" cy="590400"/>
                <a:chOff x="2070000" y="3659400"/>
                <a:chExt cx="587520" cy="590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070000" y="3659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1" name="未知"/>
                <p:cNvSpPr/>
                <p:nvPr/>
              </p:nvSpPr>
              <p:spPr>
                <a:xfrm flipH="1">
                  <a:off x="2360520" y="3803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>
                  <a:off x="2076480" y="38037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162080" y="1560600"/>
              <a:ext cx="1471680" cy="3767040"/>
              <a:chOff x="1162080" y="1560600"/>
              <a:chExt cx="1471680" cy="376704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162080" y="4434120"/>
                <a:ext cx="587520" cy="29340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 flipH="1">
                <a:off x="1455840" y="457848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1162080" y="457848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162080" y="4133880"/>
                <a:ext cx="587520" cy="2952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flipH="1">
                <a:off x="1455840" y="4278240"/>
                <a:ext cx="293760" cy="446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1163520" y="42800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170000" y="3840120"/>
                <a:ext cx="587520" cy="592200"/>
                <a:chOff x="1170000" y="3840120"/>
                <a:chExt cx="5875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1170000" y="38401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2" name="未知"/>
                <p:cNvSpPr/>
                <p:nvPr/>
              </p:nvSpPr>
              <p:spPr>
                <a:xfrm flipH="1">
                  <a:off x="1463760" y="39844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>
                  <a:off x="1171440" y="398448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>
                <a:off x="1458360" y="4581720"/>
                <a:ext cx="587160" cy="29376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 flipH="1">
                <a:off x="1746360" y="4726080"/>
                <a:ext cx="293760" cy="4478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1459080" y="4726080"/>
                <a:ext cx="293400" cy="4478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458720" y="4284720"/>
                <a:ext cx="587160" cy="590400"/>
                <a:chOff x="1458720" y="4284720"/>
                <a:chExt cx="587160" cy="5904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1458360" y="428472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flipH="1">
                  <a:off x="1751760" y="44276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>
                  <a:off x="1460160" y="44290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467000" y="3994200"/>
                <a:ext cx="586800" cy="590400"/>
                <a:chOff x="1467000" y="3994200"/>
                <a:chExt cx="586800" cy="59040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1467000" y="3994200"/>
                  <a:ext cx="586800" cy="29412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flipH="1">
                  <a:off x="1753920" y="413640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>
                  <a:off x="1468440" y="413820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763640" y="4737240"/>
                <a:ext cx="587520" cy="590400"/>
                <a:chOff x="1763640" y="4737240"/>
                <a:chExt cx="587520" cy="590400"/>
              </a:xfrm>
            </p:grpSpPr>
            <p:sp>
              <p:nvSpPr>
                <p:cNvPr id="266" name=""/>
                <p:cNvSpPr/>
                <p:nvPr/>
              </p:nvSpPr>
              <p:spPr>
                <a:xfrm flipH="1">
                  <a:off x="1763640" y="473724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7" name="未知"/>
                <p:cNvSpPr/>
                <p:nvPr/>
              </p:nvSpPr>
              <p:spPr>
                <a:xfrm flipH="1">
                  <a:off x="2057400" y="48801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>
                  <a:off x="1765080" y="488160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760040" y="4442040"/>
                <a:ext cx="587160" cy="590040"/>
                <a:chOff x="1760040" y="4442040"/>
                <a:chExt cx="587160" cy="590040"/>
              </a:xfrm>
            </p:grpSpPr>
            <p:sp>
              <p:nvSpPr>
                <p:cNvPr id="270" name=""/>
                <p:cNvSpPr/>
                <p:nvPr/>
              </p:nvSpPr>
              <p:spPr>
                <a:xfrm flipH="1">
                  <a:off x="1759680" y="4442040"/>
                  <a:ext cx="587160" cy="29412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1" name="未知"/>
                <p:cNvSpPr/>
                <p:nvPr/>
              </p:nvSpPr>
              <p:spPr>
                <a:xfrm flipH="1">
                  <a:off x="2049120" y="45860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2" name="未知"/>
                <p:cNvSpPr/>
                <p:nvPr/>
              </p:nvSpPr>
              <p:spPr>
                <a:xfrm>
                  <a:off x="1765800" y="45860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162080" y="3544920"/>
                <a:ext cx="587520" cy="588960"/>
                <a:chOff x="1162080" y="3544920"/>
                <a:chExt cx="587520" cy="5889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1162080" y="354492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 flipH="1">
                  <a:off x="1447920" y="3689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>
                  <a:off x="1162080" y="3689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465200" y="3692520"/>
                <a:ext cx="587520" cy="592200"/>
                <a:chOff x="1465200" y="3692520"/>
                <a:chExt cx="587520" cy="59220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1465200" y="36925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 flipH="1">
                  <a:off x="1758960" y="38368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>
                  <a:off x="1466640" y="383688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039760" y="2793960"/>
                <a:ext cx="587160" cy="590400"/>
                <a:chOff x="2039760" y="2793960"/>
                <a:chExt cx="587160" cy="590400"/>
              </a:xfrm>
            </p:grpSpPr>
            <p:sp>
              <p:nvSpPr>
                <p:cNvPr id="282" name=""/>
                <p:cNvSpPr/>
                <p:nvPr/>
              </p:nvSpPr>
              <p:spPr>
                <a:xfrm flipH="1">
                  <a:off x="2039400" y="279396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flipH="1">
                  <a:off x="2332800" y="2936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>
                  <a:off x="2041200" y="2938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753920" y="3245040"/>
                <a:ext cx="587160" cy="588960"/>
                <a:chOff x="1753920" y="3245040"/>
                <a:chExt cx="587160" cy="588960"/>
              </a:xfrm>
            </p:grpSpPr>
            <p:sp>
              <p:nvSpPr>
                <p:cNvPr id="286" name=""/>
                <p:cNvSpPr/>
                <p:nvPr/>
              </p:nvSpPr>
              <p:spPr>
                <a:xfrm flipH="1">
                  <a:off x="1753560" y="324504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 flipH="1">
                  <a:off x="2046960" y="33879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未知"/>
                <p:cNvSpPr/>
                <p:nvPr/>
              </p:nvSpPr>
              <p:spPr>
                <a:xfrm>
                  <a:off x="1755360" y="33894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753920" y="4141800"/>
                <a:ext cx="587160" cy="588960"/>
                <a:chOff x="1753920" y="4141800"/>
                <a:chExt cx="587160" cy="588960"/>
              </a:xfrm>
            </p:grpSpPr>
            <p:sp>
              <p:nvSpPr>
                <p:cNvPr id="290" name=""/>
                <p:cNvSpPr/>
                <p:nvPr/>
              </p:nvSpPr>
              <p:spPr>
                <a:xfrm flipH="1">
                  <a:off x="1753560" y="4141800"/>
                  <a:ext cx="587160" cy="29376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 flipH="1">
                  <a:off x="2046960" y="4284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>
                  <a:off x="1755360" y="4286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020680" y="1560600"/>
                <a:ext cx="587160" cy="590400"/>
                <a:chOff x="2020680" y="1560600"/>
                <a:chExt cx="587160" cy="5904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2020320" y="1560600"/>
                  <a:ext cx="587160" cy="29376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flipH="1">
                  <a:off x="2313720" y="170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2022120" y="170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046240" y="3679920"/>
                <a:ext cx="587520" cy="590400"/>
                <a:chOff x="2046240" y="3679920"/>
                <a:chExt cx="587520" cy="59040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2046240" y="3679920"/>
                  <a:ext cx="587520" cy="29376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flipH="1">
                  <a:off x="2336760" y="3824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2052720" y="382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1" name=""/>
          <p:cNvSpPr/>
          <p:nvPr/>
        </p:nvSpPr>
        <p:spPr>
          <a:xfrm flipV="1" rot="8419200">
            <a:off x="6585840" y="4744440"/>
            <a:ext cx="142920" cy="173160"/>
          </a:xfrm>
          <a:prstGeom prst="rtTriangle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8419200">
            <a:off x="7867440" y="4768560"/>
            <a:ext cx="142560" cy="172800"/>
          </a:xfrm>
          <a:prstGeom prst="rtTriangle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hyperlink" Target="http://www.eeppt.com/moban/jianjie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514840" y="3530520"/>
            <a:ext cx="3621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48080" y="3133800"/>
            <a:ext cx="566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subtitle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57320" y="488880"/>
            <a:ext cx="7189920" cy="13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Verdana"/>
                <a:ea typeface="Gulim"/>
              </a:rPr>
              <a:t>浅绿色清新风格</a:t>
            </a:r>
            <a:r>
              <a:rPr b="1" lang="zh-CN" sz="4800" spc="-1" strike="noStrike">
                <a:solidFill>
                  <a:srgbClr val="4d4d4d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4d4d4d"/>
                </a:solidFill>
                <a:latin typeface="Verdana"/>
                <a:ea typeface="Gulim"/>
              </a:rPr>
              <a:t>模板</a:t>
            </a:r>
            <a:r>
              <a:rPr b="1" lang="en-US" sz="4400" spc="-1" strike="noStrike">
                <a:solidFill>
                  <a:srgbClr val="507800"/>
                </a:solidFill>
                <a:latin typeface="Verdana"/>
                <a:ea typeface="Gulim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5616720" y="450360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97600" y="449892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36000" y="449424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C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12080" y="6504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11160" y="4711680"/>
            <a:ext cx="1828800" cy="1346400"/>
          </a:xfrm>
          <a:prstGeom prst="rect">
            <a:avLst/>
          </a:pr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39960" y="4711680"/>
            <a:ext cx="4089600" cy="13464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23760" y="4457880"/>
            <a:ext cx="2463840" cy="253800"/>
          </a:xfrm>
          <a:prstGeom prst="parallelogram">
            <a:avLst>
              <a:gd name="adj" fmla="val 261257"/>
            </a:avLst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14760" y="4457880"/>
            <a:ext cx="4673520" cy="253800"/>
          </a:xfrm>
          <a:prstGeom prst="parallelogram">
            <a:avLst>
              <a:gd name="adj" fmla="val 21082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84320" y="5086440"/>
            <a:ext cx="1438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63720" y="4711680"/>
            <a:ext cx="39816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96960" y="3581280"/>
            <a:ext cx="1638360" cy="876600"/>
          </a:xfrm>
          <a:prstGeom prst="rect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35320" y="3581280"/>
            <a:ext cx="4127400" cy="8766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09560" y="3327480"/>
            <a:ext cx="2210040" cy="253800"/>
          </a:xfrm>
          <a:prstGeom prst="parallelogram">
            <a:avLst>
              <a:gd name="adj" fmla="val 234345"/>
            </a:avLst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22720" y="3327480"/>
            <a:ext cx="4635360" cy="253800"/>
          </a:xfrm>
          <a:prstGeom prst="parallelogram">
            <a:avLst>
              <a:gd name="adj" fmla="val 193208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06800" y="2666880"/>
            <a:ext cx="1473120" cy="66060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9920" y="2666880"/>
            <a:ext cx="4152960" cy="6606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19400" y="2413080"/>
            <a:ext cx="1981080" cy="253800"/>
          </a:xfrm>
          <a:prstGeom prst="parallelogram">
            <a:avLst>
              <a:gd name="adj" fmla="val 210066"/>
            </a:avLst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2400480"/>
            <a:ext cx="4635720" cy="266400"/>
          </a:xfrm>
          <a:prstGeom prst="parallelogram">
            <a:avLst>
              <a:gd name="adj" fmla="val 18408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52560" y="1638360"/>
            <a:ext cx="1359000" cy="77472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11560" y="1638360"/>
            <a:ext cx="4127400" cy="7747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52560" y="1409760"/>
            <a:ext cx="1841760" cy="228600"/>
          </a:xfrm>
          <a:prstGeom prst="parallelogram">
            <a:avLst>
              <a:gd name="adj" fmla="val 216822"/>
            </a:avLst>
          </a:prstGeom>
          <a:gradFill rotWithShape="0">
            <a:gsLst>
              <a:gs pos="0">
                <a:srgbClr val="ffffff"/>
              </a:gs>
              <a:gs pos="100000">
                <a:srgbClr val="f2ef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3400" y="1409760"/>
            <a:ext cx="4622760" cy="228600"/>
          </a:xfrm>
          <a:prstGeom prst="parallelogram">
            <a:avLst>
              <a:gd name="adj" fmla="val 21392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5480" y="6045120"/>
            <a:ext cx="7486920" cy="0"/>
          </a:xfrm>
          <a:prstGeom prst="line">
            <a:avLst/>
          </a:prstGeom>
          <a:ln w="2844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0520" y="4444920"/>
            <a:ext cx="734076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00360" y="3340080"/>
            <a:ext cx="674352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22440" y="2400480"/>
            <a:ext cx="610884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489800">
            <a:off x="1609560" y="157644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489800">
            <a:off x="1063440" y="254160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489800">
            <a:off x="517320" y="350676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1681200" y="3705120"/>
            <a:ext cx="143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32000" y="2692440"/>
            <a:ext cx="134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82800" y="1679400"/>
            <a:ext cx="1262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ad2f"/>
                </a:solidFill>
                <a:latin typeface="Verdana"/>
                <a:ea typeface="HY헤드라인M"/>
              </a:rPr>
              <a:t>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3627360"/>
            <a:ext cx="398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7840" y="2639880"/>
            <a:ext cx="3981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91040" y="1652760"/>
            <a:ext cx="39812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40FE-B6F6-4D60-835B-40359ED326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982880" y="3252960"/>
            <a:ext cx="6262560" cy="66816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6560" y="3252960"/>
            <a:ext cx="123192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8360" y="3940200"/>
            <a:ext cx="123156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bad16f"/>
              </a:gs>
              <a:gs pos="100000">
                <a:srgbClr val="556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9800" y="4627440"/>
            <a:ext cx="1231920" cy="66384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1240" y="5315040"/>
            <a:ext cx="123192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bad16f"/>
              </a:gs>
              <a:gs pos="100000">
                <a:srgbClr val="556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3560" y="1393920"/>
            <a:ext cx="7459560" cy="1639800"/>
          </a:xfrm>
          <a:prstGeom prst="roundRect">
            <a:avLst>
              <a:gd name="adj" fmla="val 8713"/>
            </a:avLst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5160" y="1244520"/>
            <a:ext cx="2184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8496" dir="14625520" blurRad="0" rotWithShape="0">
              <a:srgbClr val="507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982880" y="3929040"/>
            <a:ext cx="6262560" cy="66852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87560" y="4629240"/>
            <a:ext cx="6262560" cy="66816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7560" y="5305320"/>
            <a:ext cx="6262560" cy="66852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 flipH="1">
            <a:off x="7402320" y="4635360"/>
            <a:ext cx="166680" cy="35892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89160" y="4637160"/>
            <a:ext cx="166680" cy="35856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90560" y="4638600"/>
            <a:ext cx="166680" cy="35892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034640" y="4640400"/>
            <a:ext cx="166680" cy="35856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249800" y="1958760"/>
            <a:ext cx="1414440" cy="297180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6520" y="1547640"/>
            <a:ext cx="1832040" cy="533520"/>
          </a:xfrm>
          <a:prstGeom prst="rect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46720" y="2355840"/>
            <a:ext cx="1535040" cy="3999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1480" y="4900680"/>
            <a:ext cx="59868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60640" y="3683160"/>
            <a:ext cx="13575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40040" y="2979720"/>
            <a:ext cx="1371600" cy="4032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19800" y="2979720"/>
            <a:ext cx="1371600" cy="4032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30280" y="4900680"/>
            <a:ext cx="59724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8640" y="4900680"/>
            <a:ext cx="60012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24560" y="4900680"/>
            <a:ext cx="59832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11640" y="3192480"/>
            <a:ext cx="2993760" cy="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08160" y="4640400"/>
            <a:ext cx="6361200" cy="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Organization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7153200" y="4900680"/>
            <a:ext cx="59868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87520" y="1906560"/>
            <a:ext cx="1587240" cy="37623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93920" y="19144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8880" y="1920960"/>
            <a:ext cx="1587600" cy="376236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03840" y="19270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77120" y="2066760"/>
            <a:ext cx="1157400" cy="361008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877" y="0"/>
                </a:lnTo>
                <a:lnTo>
                  <a:pt x="21600" y="10800"/>
                </a:lnTo>
                <a:lnTo>
                  <a:pt x="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Sub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21480" y="1522440"/>
            <a:ext cx="2104920" cy="1093680"/>
          </a:xfrm>
          <a:prstGeom prst="rightArrow">
            <a:avLst>
              <a:gd name="adj1" fmla="val 65917"/>
              <a:gd name="adj2" fmla="val 49684"/>
            </a:avLst>
          </a:pr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77920" y="3402000"/>
            <a:ext cx="292320" cy="29196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2163960" y="34884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9260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3879000" y="3501000"/>
            <a:ext cx="169920" cy="11448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0224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5588280" y="35010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4035600" y="1522440"/>
            <a:ext cx="2103120" cy="1093680"/>
          </a:xfrm>
          <a:prstGeom prst="rightArrow">
            <a:avLst>
              <a:gd name="adj1" fmla="val 65917"/>
              <a:gd name="adj2" fmla="val 49641"/>
            </a:avLst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16240" y="1522440"/>
            <a:ext cx="2128680" cy="1093680"/>
          </a:xfrm>
          <a:prstGeom prst="rightArrow">
            <a:avLst>
              <a:gd name="adj1" fmla="val 65917"/>
              <a:gd name="adj2" fmla="val 50244"/>
            </a:avLst>
          </a:pr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3400" y="1522440"/>
            <a:ext cx="2165400" cy="1093680"/>
          </a:xfrm>
          <a:prstGeom prst="rightArrow">
            <a:avLst>
              <a:gd name="adj1" fmla="val 65917"/>
              <a:gd name="adj2" fmla="val 51111"/>
            </a:avLst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47560" y="5748480"/>
            <a:ext cx="77533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41320" y="3673440"/>
            <a:ext cx="3587760" cy="189072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4400" y="3678120"/>
            <a:ext cx="3587760" cy="189072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3400" y="1820880"/>
            <a:ext cx="3587760" cy="186048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16480" y="1825560"/>
            <a:ext cx="3587760" cy="186048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3400" y="1327320"/>
            <a:ext cx="3584520" cy="502920"/>
          </a:xfrm>
          <a:prstGeom prst="cube">
            <a:avLst>
              <a:gd name="adj" fmla="val 12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03880" y="1332000"/>
            <a:ext cx="3584520" cy="503280"/>
          </a:xfrm>
          <a:prstGeom prst="cube">
            <a:avLst>
              <a:gd name="adj" fmla="val 123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429080" y="3581280"/>
            <a:ext cx="162000" cy="163800"/>
            <a:chOff x="4429080" y="3581280"/>
            <a:chExt cx="162000" cy="163800"/>
          </a:xfrm>
        </p:grpSpPr>
        <p:sp>
          <p:nvSpPr>
            <p:cNvPr id="404" name=""/>
            <p:cNvSpPr/>
            <p:nvPr/>
          </p:nvSpPr>
          <p:spPr>
            <a:xfrm>
              <a:off x="4460040" y="3618000"/>
              <a:ext cx="114840" cy="1159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4429080" y="3581280"/>
              <a:ext cx="162000" cy="1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3586320" y="2949480"/>
            <a:ext cx="1492200" cy="14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Our Mission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3549600" y="2989440"/>
            <a:ext cx="1569960" cy="1433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811680" y="3489480"/>
            <a:ext cx="1027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8680" y="6440400"/>
            <a:ext cx="5754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Arial"/>
                <a:hlinkClick r:id="rId5"/>
              </a:rPr>
              <a:t>简洁ppt模板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189216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857680"/>
            <a:ext cx="7461360" cy="49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487188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30320" y="537048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30320" y="2354400"/>
            <a:ext cx="6211800" cy="49500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16280" y="335592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30320" y="438300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4880" y="1384200"/>
            <a:ext cx="7442280" cy="495360"/>
          </a:xfrm>
          <a:prstGeom prst="rect">
            <a:avLst/>
          </a:pr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5160" y="4378320"/>
            <a:ext cx="7429680" cy="0"/>
          </a:xfrm>
          <a:prstGeom prst="line">
            <a:avLst/>
          </a:prstGeom>
          <a:ln w="0">
            <a:solidFill>
              <a:srgbClr val="dbe8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8120" y="1386000"/>
            <a:ext cx="7429320" cy="0"/>
          </a:xfrm>
          <a:prstGeom prst="line">
            <a:avLst/>
          </a:prstGeom>
          <a:ln w="1260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120" y="1881360"/>
            <a:ext cx="7429320" cy="0"/>
          </a:xfrm>
          <a:prstGeom prst="line">
            <a:avLst/>
          </a:prstGeom>
          <a:ln w="936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7200" y="139716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92680" y="139716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48160" y="138924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138600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59120" y="138600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1140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5592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0044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45320" y="14335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9840" y="14335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0" y="537048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0" y="2354400"/>
            <a:ext cx="1247760" cy="49500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0" y="335592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2800" y="438300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33640" y="191628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33640" y="239868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33640" y="288144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33640" y="339264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3640" y="387504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3640" y="442908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90440" y="4911840"/>
            <a:ext cx="470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33640" y="539424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" y="437832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8400" y="335592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160" y="384984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8400" y="486900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8400" y="284328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8400" y="235728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8400" y="536724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8400" y="585936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59120" y="1866960"/>
            <a:ext cx="4978080" cy="3993840"/>
            <a:chOff x="1959120" y="1866960"/>
            <a:chExt cx="4978080" cy="3993840"/>
          </a:xfrm>
        </p:grpSpPr>
        <p:sp>
          <p:nvSpPr>
            <p:cNvPr id="453" name=""/>
            <p:cNvSpPr/>
            <p:nvPr/>
          </p:nvSpPr>
          <p:spPr>
            <a:xfrm>
              <a:off x="6937200" y="19015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92680" y="19015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47800" y="189000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03280" y="18781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186696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Index on Projects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545240" y="1312920"/>
            <a:ext cx="898560" cy="2952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9880" y="3621240"/>
            <a:ext cx="7877160" cy="2369880"/>
          </a:xfrm>
          <a:prstGeom prst="rect">
            <a:avLst/>
          </a:prstGeom>
          <a:gradFill rotWithShape="0">
            <a:gsLst>
              <a:gs pos="0">
                <a:srgbClr val="dbe8b2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 rot="19947600">
            <a:off x="4628880" y="1362240"/>
            <a:ext cx="311040" cy="31248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lnTo>
                  <a:pt x="408" y="411"/>
                </a:lnTo>
                <a:lnTo>
                  <a:pt x="408" y="0"/>
                </a:lnTo>
                <a:lnTo>
                  <a:pt x="0" y="411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fefefe">
                  <a:alpha val="20000"/>
                </a:srgbClr>
              </a:gs>
            </a:gsLst>
            <a:lin ang="70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9880" y="1608120"/>
            <a:ext cx="7877160" cy="2030400"/>
          </a:xfrm>
          <a:prstGeom prst="rect">
            <a:avLst/>
          </a:prstGeom>
          <a:solidFill>
            <a:srgbClr val="dbe8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0720" y="1860480"/>
            <a:ext cx="3697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8120" y="2886120"/>
            <a:ext cx="217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8400" y="3938760"/>
            <a:ext cx="245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71840" y="226692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4240" y="4927680"/>
            <a:ext cx="225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643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6040" y="1312920"/>
            <a:ext cx="908280" cy="296640"/>
          </a:xfrm>
          <a:prstGeom prst="rect">
            <a:avLst/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81760" y="1320840"/>
            <a:ext cx="509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91120" y="133524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86440" y="1322280"/>
            <a:ext cx="466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91480" y="1328760"/>
            <a:ext cx="39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1200" y="32907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4371840"/>
            <a:ext cx="1990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00280" y="532440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53160" y="1596960"/>
            <a:ext cx="3417840" cy="4411440"/>
            <a:chOff x="4853160" y="1596960"/>
            <a:chExt cx="3417840" cy="4411440"/>
          </a:xfrm>
        </p:grpSpPr>
        <p:grpSp>
          <p:nvGrpSpPr>
            <p:cNvPr id="479" name=""/>
            <p:cNvGrpSpPr/>
            <p:nvPr/>
          </p:nvGrpSpPr>
          <p:grpSpPr>
            <a:xfrm>
              <a:off x="4853160" y="1596960"/>
              <a:ext cx="3414600" cy="2045880"/>
              <a:chOff x="4853160" y="1596960"/>
              <a:chExt cx="3414600" cy="20458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53160" y="1599480"/>
                <a:ext cx="906480" cy="2031840"/>
                <a:chOff x="4853160" y="1599480"/>
                <a:chExt cx="906480" cy="20318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57712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853160" y="1600560"/>
                  <a:ext cx="182520" cy="203076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22144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656400" y="1599480"/>
                <a:ext cx="1699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32800" y="1600200"/>
                <a:ext cx="182520" cy="203076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1080" y="1598040"/>
                <a:ext cx="166680" cy="203904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12080" y="1599480"/>
                <a:ext cx="1825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66320" y="1598040"/>
                <a:ext cx="182520" cy="20448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31360" y="1596960"/>
                <a:ext cx="1825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99640" y="1601640"/>
                <a:ext cx="1681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856400" y="3638520"/>
              <a:ext cx="3414600" cy="2369880"/>
              <a:chOff x="4856400" y="3638520"/>
              <a:chExt cx="3414600" cy="23698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4856400" y="3641760"/>
                <a:ext cx="906480" cy="2353320"/>
                <a:chOff x="4856400" y="3641760"/>
                <a:chExt cx="906480" cy="23533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58036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0" y="3643200"/>
                  <a:ext cx="182520" cy="235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22468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6659640" y="3641760"/>
                <a:ext cx="1699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36040" y="3642480"/>
                <a:ext cx="182520" cy="23522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304320" y="3639960"/>
                <a:ext cx="166680" cy="23619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5320" y="3641760"/>
                <a:ext cx="1825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69560" y="3639960"/>
                <a:ext cx="182520" cy="23684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34600" y="3638520"/>
                <a:ext cx="1825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02880" y="3643920"/>
                <a:ext cx="1681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577800" y="257796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" y="3637080"/>
            <a:ext cx="786636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9600" y="471024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59280" y="1989000"/>
            <a:ext cx="900000" cy="19548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80160" y="302436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59640" y="408636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51720" y="510228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Time Schedu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286680" y="1754280"/>
            <a:ext cx="2427120" cy="9284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08560" y="1754280"/>
            <a:ext cx="2388960" cy="92844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70320" y="1751040"/>
            <a:ext cx="2427120" cy="9428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440" y="1752480"/>
            <a:ext cx="2378160" cy="93996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97520" y="2017800"/>
            <a:ext cx="1576440" cy="439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02120" y="2014560"/>
            <a:ext cx="160992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27120" y="1982880"/>
            <a:ext cx="1931760" cy="434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0720" y="1987560"/>
            <a:ext cx="179244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381720" y="2641680"/>
            <a:ext cx="1949400" cy="30081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27720" y="2641680"/>
            <a:ext cx="1876320" cy="30081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30440" y="2639880"/>
            <a:ext cx="1986120" cy="30085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440" y="2646360"/>
            <a:ext cx="2011320" cy="300348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7120" y="318456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138096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000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338760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4664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5362200" y="2565360"/>
            <a:ext cx="292320" cy="29196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2124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726588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2456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2614680" y="319392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59400" y="320364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75320" y="321300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3:14:51Z</dcterms:created>
  <dc:creator>http://www.eeppt.com</dc:creator>
  <dc:description>ppt模板下载网站 http://www.eeppt.com</dc:description>
  <dc:language>en-US</dc:language>
  <cp:lastModifiedBy/>
  <dcterms:modified xsi:type="dcterms:W3CDTF">2015-06-14T07:34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