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0CB1-4C42-46F5-8BD9-10CCD103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0312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4F1E-1A41-43E8-8BAD-061C9CBC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FCA8-D017-4E6B-85E7-BAE4B5E0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62C3-6DED-4BF7-9578-6D9487A2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B146-B792-4309-9996-789D00EC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1708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390312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1708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1624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756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1624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756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D49B-9C27-45CB-AFC5-EC5DFEE8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D5CB-D063-4888-9701-115F2695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DA03-5BB9-41A7-B03B-BA2B1C2B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A489-FC7E-4D33-A8CA-E805C278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A664-1B6A-4991-AC84-3241C59A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0872-7392-499C-BF51-9812CBF3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F6F2-B7F4-4A64-A10E-DEDE1359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" y="1440"/>
            <a:ext cx="7329600" cy="1070280"/>
          </a:xfrm>
          <a:prstGeom prst="rect">
            <a:avLst/>
          </a:prstGeom>
          <a:solidFill>
            <a:srgbClr val="715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324560" y="1440"/>
            <a:ext cx="219240" cy="10702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124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53360"/>
            <a:ext cx="1676520" cy="404640"/>
          </a:xfrm>
          <a:prstGeom prst="rect">
            <a:avLst/>
          </a:prstGeom>
          <a:solidFill>
            <a:srgbClr val="98c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15e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715e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715ee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752120" y="65401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4038480" y="6552720"/>
            <a:ext cx="2362320" cy="2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03F0-6719-4F89-94CE-B8AAE4E54E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477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543800" y="0"/>
            <a:ext cx="1600200" cy="1074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7543800" y="0"/>
            <a:ext cx="1600200" cy="1074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7543800" y="0"/>
            <a:ext cx="1600200" cy="10746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7543800" y="0"/>
            <a:ext cx="1600200" cy="10746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05520" y="0"/>
            <a:ext cx="4047840" cy="3003480"/>
          </a:xfrm>
          <a:prstGeom prst="rect">
            <a:avLst/>
          </a:prstGeom>
          <a:solidFill>
            <a:srgbClr val="715ee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352680"/>
            <a:ext cx="5113440" cy="3505320"/>
          </a:xfrm>
          <a:prstGeom prst="rect">
            <a:avLst/>
          </a:prstGeom>
          <a:solidFill>
            <a:srgbClr val="98c13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0"/>
            <a:ext cx="4124160" cy="3006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52680"/>
            <a:ext cx="5113440" cy="35053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00480" y="3352680"/>
            <a:ext cx="4043520" cy="3505320"/>
          </a:xfrm>
          <a:prstGeom prst="rect">
            <a:avLst/>
          </a:prstGeom>
          <a:solidFill>
            <a:srgbClr val="98c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77280" y="59864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0" y="0"/>
            <a:ext cx="5104080" cy="3352680"/>
          </a:xfrm>
          <a:prstGeom prst="rect">
            <a:avLst/>
          </a:prstGeom>
          <a:solidFill>
            <a:srgbClr val="715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4724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2997360"/>
            <a:ext cx="4038480" cy="36036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0" y="2992320"/>
            <a:ext cx="5100840" cy="360360"/>
          </a:xfrm>
          <a:prstGeom prst="rect">
            <a:avLst/>
          </a:prstGeom>
          <a:solidFill>
            <a:srgbClr val="000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352680"/>
            <a:ext cx="5100480" cy="3505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99040" y="0"/>
            <a:ext cx="4044960" cy="30081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15ee6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hyperlink" Target="http://www.eeppt.com/moban/fengjing/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960" y="761760"/>
            <a:ext cx="6172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四季风景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114720" y="1535040"/>
            <a:ext cx="2641680" cy="2644920"/>
          </a:xfrm>
          <a:prstGeom prst="ellipse">
            <a:avLst/>
          </a:prstGeom>
          <a:solidFill>
            <a:srgbClr val="40bad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054320" y="2927520"/>
            <a:ext cx="2643480" cy="2643120"/>
          </a:xfrm>
          <a:prstGeom prst="ellipse">
            <a:avLst/>
          </a:prstGeom>
          <a:solidFill>
            <a:srgbClr val="238dd5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071800" y="2892600"/>
            <a:ext cx="2644560" cy="2643120"/>
          </a:xfrm>
          <a:prstGeom prst="ellipse">
            <a:avLst/>
          </a:prstGeom>
          <a:solidFill>
            <a:srgbClr val="98c13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2660760" y="2579400"/>
            <a:ext cx="1149120" cy="83340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5165640" y="2612880"/>
            <a:ext cx="1217520" cy="76536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4366800" y="4562640"/>
            <a:ext cx="25560" cy="104292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642840" y="350820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09480" y="18478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bad2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40bad2"/>
                </a:solidFill>
                <a:latin typeface="Arial"/>
              </a:rPr>
              <a:t>01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315120" y="18478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98c13d"/>
                </a:solidFill>
                <a:latin typeface="Arial"/>
              </a:rPr>
              <a:t>02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252960" y="554832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715ee6"/>
                </a:solidFill>
                <a:latin typeface="Arial"/>
              </a:rPr>
              <a:t>03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29080" y="187164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276640" y="398160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710240" y="402120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549680" y="1598760"/>
            <a:ext cx="0" cy="2560320"/>
          </a:xfrm>
          <a:prstGeom prst="line">
            <a:avLst/>
          </a:prstGeom>
          <a:ln w="12600">
            <a:solidFill>
              <a:srgbClr val="12445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38640" y="2198520"/>
            <a:ext cx="2428920" cy="1398600"/>
          </a:xfrm>
          <a:prstGeom prst="line">
            <a:avLst/>
          </a:prstGeom>
          <a:ln w="12600">
            <a:solidFill>
              <a:srgbClr val="12445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3538440" y="1863720"/>
            <a:ext cx="2009880" cy="2008080"/>
            <a:chOff x="3538440" y="1863720"/>
            <a:chExt cx="2009880" cy="2008080"/>
          </a:xfrm>
        </p:grpSpPr>
        <p:sp>
          <p:nvSpPr>
            <p:cNvPr id="478" name=""/>
            <p:cNvSpPr/>
            <p:nvPr/>
          </p:nvSpPr>
          <p:spPr>
            <a:xfrm>
              <a:off x="3538440" y="1863720"/>
              <a:ext cx="2009880" cy="2008080"/>
            </a:xfrm>
            <a:prstGeom prst="ellipse">
              <a:avLst/>
            </a:prstGeom>
            <a:noFill/>
            <a:ln w="9360">
              <a:solidFill>
                <a:srgbClr val="1244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669840" y="2001240"/>
              <a:ext cx="1745640" cy="1744200"/>
            </a:xfrm>
            <a:prstGeom prst="ellipse">
              <a:avLst/>
            </a:prstGeom>
            <a:noFill/>
            <a:ln w="9360">
              <a:solidFill>
                <a:srgbClr val="1244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814920" y="2152440"/>
              <a:ext cx="1468080" cy="1467000"/>
            </a:xfrm>
            <a:prstGeom prst="ellipse">
              <a:avLst/>
            </a:prstGeom>
            <a:noFill/>
            <a:ln w="9360">
              <a:solidFill>
                <a:srgbClr val="1244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41280" y="2304000"/>
              <a:ext cx="1190520" cy="1189080"/>
            </a:xfrm>
            <a:prstGeom prst="ellipse">
              <a:avLst/>
            </a:prstGeom>
            <a:noFill/>
            <a:ln w="9360">
              <a:solidFill>
                <a:srgbClr val="1244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086000" y="2448720"/>
              <a:ext cx="912960" cy="911880"/>
            </a:xfrm>
            <a:prstGeom prst="ellipse">
              <a:avLst/>
            </a:prstGeom>
            <a:noFill/>
            <a:ln w="9360">
              <a:solidFill>
                <a:srgbClr val="1244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18840" y="2574720"/>
              <a:ext cx="647640" cy="647280"/>
            </a:xfrm>
            <a:prstGeom prst="ellipse">
              <a:avLst/>
            </a:prstGeom>
            <a:noFill/>
            <a:ln w="9360">
              <a:solidFill>
                <a:srgbClr val="1244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38720" y="2701080"/>
              <a:ext cx="407880" cy="407520"/>
            </a:xfrm>
            <a:prstGeom prst="ellipse">
              <a:avLst/>
            </a:prstGeom>
            <a:noFill/>
            <a:ln w="9360">
              <a:solidFill>
                <a:srgbClr val="1244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 flipV="1">
            <a:off x="3330720" y="2224080"/>
            <a:ext cx="2431800" cy="1355760"/>
          </a:xfrm>
          <a:prstGeom prst="line">
            <a:avLst/>
          </a:prstGeom>
          <a:ln w="12600">
            <a:solidFill>
              <a:srgbClr val="12445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未知"/>
          <p:cNvSpPr/>
          <p:nvPr/>
        </p:nvSpPr>
        <p:spPr>
          <a:xfrm>
            <a:off x="3697200" y="2236680"/>
            <a:ext cx="1622520" cy="1165320"/>
          </a:xfrm>
          <a:custGeom>
            <a:avLst/>
            <a:gdLst/>
            <a:ahLst/>
            <a:rect l="l" t="t" r="r" b="b"/>
            <a:pathLst>
              <a:path w="1542" h="1110">
                <a:moveTo>
                  <a:pt x="804" y="0"/>
                </a:moveTo>
                <a:lnTo>
                  <a:pt x="54" y="198"/>
                </a:lnTo>
                <a:lnTo>
                  <a:pt x="0" y="1110"/>
                </a:lnTo>
                <a:lnTo>
                  <a:pt x="804" y="1098"/>
                </a:lnTo>
                <a:lnTo>
                  <a:pt x="960" y="714"/>
                </a:lnTo>
                <a:lnTo>
                  <a:pt x="1542" y="204"/>
                </a:lnTo>
                <a:lnTo>
                  <a:pt x="804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rcRect l="37892" t="32815" r="31252" b="24483"/>
          <a:stretch/>
        </p:blipFill>
        <p:spPr>
          <a:xfrm flipH="1" rot="35400">
            <a:off x="4686120" y="2953800"/>
            <a:ext cx="69840" cy="7164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rcRect l="37892" t="32815" r="31252" b="24483"/>
          <a:stretch/>
        </p:blipFill>
        <p:spPr>
          <a:xfrm flipH="1" rot="40800">
            <a:off x="4468320" y="2162160"/>
            <a:ext cx="150840" cy="1555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rcRect l="37892" t="32815" r="31252" b="24483"/>
          <a:stretch/>
        </p:blipFill>
        <p:spPr>
          <a:xfrm flipH="1" rot="43200">
            <a:off x="3666600" y="2339640"/>
            <a:ext cx="201600" cy="20484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4"/>
          <a:srcRect l="37892" t="32815" r="31252" b="24483"/>
          <a:stretch/>
        </p:blipFill>
        <p:spPr>
          <a:xfrm flipH="1" rot="40800">
            <a:off x="3536280" y="3259080"/>
            <a:ext cx="271440" cy="2811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5"/>
          <a:srcRect l="37892" t="32815" r="31252" b="24483"/>
          <a:stretch/>
        </p:blipFill>
        <p:spPr>
          <a:xfrm flipH="1" rot="38400">
            <a:off x="4479120" y="3314520"/>
            <a:ext cx="128520" cy="13320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6"/>
          <a:srcRect l="37892" t="32815" r="31252" b="24483"/>
          <a:stretch/>
        </p:blipFill>
        <p:spPr>
          <a:xfrm flipH="1" rot="43800">
            <a:off x="5221440" y="2369880"/>
            <a:ext cx="198360" cy="20628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3951000" y="131436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951000" y="42894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383080" y="36162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439720" y="36162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439720" y="193212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492520" y="193212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066680" y="4135320"/>
            <a:ext cx="251964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7"/>
          <a:srcRect l="37892" t="32815" r="31252" b="24483"/>
          <a:stretch/>
        </p:blipFill>
        <p:spPr>
          <a:xfrm flipH="1" rot="40800">
            <a:off x="1269720" y="3974760"/>
            <a:ext cx="365040" cy="37476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1073160" y="4359240"/>
            <a:ext cx="760320" cy="37800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833480" y="4137120"/>
            <a:ext cx="1751040" cy="231840"/>
          </a:xfrm>
          <a:prstGeom prst="rect">
            <a:avLst/>
          </a:prstGeom>
          <a:solidFill>
            <a:srgbClr val="238d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076400" y="435276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9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158200" y="411948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909800" y="434016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066680" y="4905360"/>
            <a:ext cx="251964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073160" y="5129280"/>
            <a:ext cx="760320" cy="37764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833480" y="4906800"/>
            <a:ext cx="1751040" cy="231840"/>
          </a:xfrm>
          <a:prstGeom prst="rect">
            <a:avLst/>
          </a:prstGeom>
          <a:solidFill>
            <a:srgbClr val="238d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076400" y="512280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158200" y="4890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909800" y="511164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066680" y="5661000"/>
            <a:ext cx="251964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073160" y="5884920"/>
            <a:ext cx="760320" cy="37620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833480" y="5662440"/>
            <a:ext cx="1751040" cy="231840"/>
          </a:xfrm>
          <a:prstGeom prst="rect">
            <a:avLst/>
          </a:prstGeom>
          <a:solidFill>
            <a:srgbClr val="238d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076400" y="587844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58200" y="56451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909800" y="586584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30960" y="4118040"/>
            <a:ext cx="251748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435640" y="4341960"/>
            <a:ext cx="762120" cy="37764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197760" y="4119480"/>
            <a:ext cx="1750680" cy="231840"/>
          </a:xfrm>
          <a:prstGeom prst="rect">
            <a:avLst/>
          </a:prstGeom>
          <a:solidFill>
            <a:srgbClr val="238d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440320" y="433548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4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522480" y="410364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73720" y="432432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430960" y="4878360"/>
            <a:ext cx="251748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435640" y="5100480"/>
            <a:ext cx="762120" cy="37800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197760" y="4879800"/>
            <a:ext cx="1750680" cy="231840"/>
          </a:xfrm>
          <a:prstGeom prst="rect">
            <a:avLst/>
          </a:prstGeom>
          <a:solidFill>
            <a:srgbClr val="238d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440320" y="509436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3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522480" y="4863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273720" y="508176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30960" y="5640480"/>
            <a:ext cx="251748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435640" y="5864400"/>
            <a:ext cx="762120" cy="37764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97760" y="5641920"/>
            <a:ext cx="1750680" cy="231840"/>
          </a:xfrm>
          <a:prstGeom prst="rect">
            <a:avLst/>
          </a:prstGeom>
          <a:solidFill>
            <a:srgbClr val="238d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440320" y="585792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522480" y="562464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273720" y="584676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8"/>
          <a:srcRect l="37892" t="32815" r="31252" b="24483"/>
          <a:stretch/>
        </p:blipFill>
        <p:spPr>
          <a:xfrm flipH="1" rot="42600">
            <a:off x="1277640" y="4812840"/>
            <a:ext cx="288720" cy="29232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9"/>
          <a:srcRect l="37892" t="32815" r="31252" b="24483"/>
          <a:stretch/>
        </p:blipFill>
        <p:spPr>
          <a:xfrm flipH="1" rot="42000">
            <a:off x="1304640" y="5625720"/>
            <a:ext cx="234720" cy="23976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10"/>
          <a:srcRect l="37892" t="32815" r="31252" b="24483"/>
          <a:stretch/>
        </p:blipFill>
        <p:spPr>
          <a:xfrm flipH="1" rot="40800">
            <a:off x="5709960" y="4129200"/>
            <a:ext cx="150840" cy="1555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11"/>
          <a:srcRect l="37892" t="32815" r="31252" b="24483"/>
          <a:stretch/>
        </p:blipFill>
        <p:spPr>
          <a:xfrm flipH="1" rot="38400">
            <a:off x="5720760" y="4917600"/>
            <a:ext cx="128520" cy="1335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12"/>
          <a:srcRect l="37892" t="32815" r="31252" b="24483"/>
          <a:stretch/>
        </p:blipFill>
        <p:spPr>
          <a:xfrm flipH="1" rot="36600">
            <a:off x="5752440" y="5705640"/>
            <a:ext cx="68040" cy="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43000" y="1981080"/>
            <a:ext cx="3833640" cy="383400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648028">
                  <a:alpha val="12156"/>
                </a:srgbClr>
              </a:gs>
              <a:gs pos="50000">
                <a:srgbClr val="98c13d"/>
              </a:gs>
              <a:gs pos="100000">
                <a:srgbClr val="648028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287584"/>
              </a:gs>
              <a:gs pos="100000">
                <a:srgbClr val="40bad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7faf2"/>
              </a:gs>
              <a:gs pos="100000">
                <a:srgbClr val="98c13d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fdf9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7faf2"/>
              </a:gs>
              <a:gs pos="100000">
                <a:srgbClr val="98c13d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fdf9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7faf2"/>
              </a:gs>
              <a:gs pos="100000">
                <a:srgbClr val="98c13d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38280" y="3703680"/>
            <a:ext cx="4362480" cy="126504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rot="16200000">
            <a:off x="2260440" y="1744920"/>
            <a:ext cx="1536120" cy="40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124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rot="16200000">
            <a:off x="2396880" y="1643400"/>
            <a:ext cx="1379160" cy="390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c2baf3"/>
              </a:gs>
              <a:gs pos="100000">
                <a:srgbClr val="715e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16200000">
            <a:off x="2334600" y="1743480"/>
            <a:ext cx="1379520" cy="3854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238dd5"/>
              </a:gs>
              <a:gs pos="100000">
                <a:srgbClr val="93c6e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16200000">
            <a:off x="2326680" y="1731960"/>
            <a:ext cx="1414080" cy="384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b1e2eb"/>
              </a:gs>
              <a:gs pos="100000">
                <a:srgbClr val="40bad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938760" y="37512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438800" y="34448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857840" y="3884760"/>
            <a:ext cx="0" cy="115920"/>
          </a:xfrm>
          <a:prstGeom prst="line">
            <a:avLst/>
          </a:prstGeom>
          <a:ln w="9360">
            <a:solidFill>
              <a:srgbClr val="1c1c1c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443480" y="4143240"/>
            <a:ext cx="0" cy="69840"/>
          </a:xfrm>
          <a:prstGeom prst="line">
            <a:avLst/>
          </a:prstGeom>
          <a:ln w="9360">
            <a:solidFill>
              <a:srgbClr val="1c1c1c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200320" y="3635280"/>
            <a:ext cx="1014480" cy="83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16200000">
            <a:off x="2291040" y="1361880"/>
            <a:ext cx="1844640" cy="470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4d621f"/>
              </a:gs>
              <a:gs pos="100000">
                <a:srgbClr val="98c13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未知"/>
          <p:cNvSpPr/>
          <p:nvPr/>
        </p:nvSpPr>
        <p:spPr>
          <a:xfrm>
            <a:off x="5210280" y="309420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98c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rot="16200000">
            <a:off x="2301120" y="1197720"/>
            <a:ext cx="1845360" cy="471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98c13d"/>
              </a:gs>
              <a:gs pos="100000">
                <a:srgbClr val="85a83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95680" y="286560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5" name=""/>
          <p:cNvCxnSpPr>
            <a:endCxn id="564" idx="3"/>
          </p:cNvCxnSpPr>
          <p:nvPr/>
        </p:nvCxnSpPr>
        <p:spPr>
          <a:xfrm flipV="1" rot="10800000">
            <a:off x="3631320" y="2179440"/>
            <a:ext cx="2417040" cy="88488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endCxn id="557" idx="3"/>
          </p:cNvCxnSpPr>
          <p:nvPr/>
        </p:nvCxnSpPr>
        <p:spPr>
          <a:xfrm rot="10800000">
            <a:off x="4974480" y="3596400"/>
            <a:ext cx="1226160" cy="1836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3006720" y="386568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33360" y="137160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4458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6048360" y="1996920"/>
            <a:ext cx="2028960" cy="482400"/>
            <a:chOff x="6048360" y="1996920"/>
            <a:chExt cx="2028960" cy="482400"/>
          </a:xfrm>
        </p:grpSpPr>
        <p:sp>
          <p:nvSpPr>
            <p:cNvPr id="570" name="未知"/>
            <p:cNvSpPr/>
            <p:nvPr/>
          </p:nvSpPr>
          <p:spPr>
            <a:xfrm>
              <a:off x="6167880" y="227484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8360" y="19969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77972f"/>
                </a:gs>
                <a:gs pos="100000">
                  <a:srgbClr val="98c1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6048360" y="3551400"/>
            <a:ext cx="2028960" cy="482040"/>
            <a:chOff x="6048360" y="3551400"/>
            <a:chExt cx="2028960" cy="482040"/>
          </a:xfrm>
        </p:grpSpPr>
        <p:sp>
          <p:nvSpPr>
            <p:cNvPr id="573" name="未知"/>
            <p:cNvSpPr/>
            <p:nvPr/>
          </p:nvSpPr>
          <p:spPr>
            <a:xfrm>
              <a:off x="6167880" y="38289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048360" y="35514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5849b4"/>
                </a:gs>
                <a:gs pos="100000">
                  <a:srgbClr val="715ee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6048360" y="4923000"/>
            <a:ext cx="2028960" cy="482040"/>
            <a:chOff x="6048360" y="4923000"/>
            <a:chExt cx="2028960" cy="482040"/>
          </a:xfrm>
        </p:grpSpPr>
        <p:sp>
          <p:nvSpPr>
            <p:cNvPr id="576" name="未知"/>
            <p:cNvSpPr/>
            <p:nvPr/>
          </p:nvSpPr>
          <p:spPr>
            <a:xfrm>
              <a:off x="6167880" y="52005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048360" y="4923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1b6ea7"/>
                </a:gs>
                <a:gs pos="100000">
                  <a:srgbClr val="238dd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866880" y="5151600"/>
            <a:ext cx="2028600" cy="482040"/>
            <a:chOff x="866880" y="5151600"/>
            <a:chExt cx="2028600" cy="482040"/>
          </a:xfrm>
        </p:grpSpPr>
        <p:sp>
          <p:nvSpPr>
            <p:cNvPr id="579" name="未知"/>
            <p:cNvSpPr/>
            <p:nvPr/>
          </p:nvSpPr>
          <p:spPr>
            <a:xfrm>
              <a:off x="986400" y="5429160"/>
              <a:ext cx="17888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66880" y="5151600"/>
              <a:ext cx="2028600" cy="423000"/>
            </a:xfrm>
            <a:prstGeom prst="rect">
              <a:avLst/>
            </a:prstGeom>
            <a:gradFill rotWithShape="0">
              <a:gsLst>
                <a:gs pos="0">
                  <a:srgbClr val="3292a4"/>
                </a:gs>
                <a:gs pos="100000">
                  <a:srgbClr val="40ba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81" name=""/>
          <p:cNvCxnSpPr/>
          <p:nvPr/>
        </p:nvCxnSpPr>
        <p:spPr>
          <a:xfrm rot="10800000">
            <a:off x="4523760" y="3931560"/>
            <a:ext cx="1524600" cy="1220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2" name=""/>
          <p:cNvCxnSpPr/>
          <p:nvPr/>
        </p:nvCxnSpPr>
        <p:spPr>
          <a:xfrm flipH="1" flipV="1" rot="5400000">
            <a:off x="2422080" y="4633200"/>
            <a:ext cx="1203840" cy="2581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3" name=""/>
          <p:cNvSpPr/>
          <p:nvPr/>
        </p:nvSpPr>
        <p:spPr>
          <a:xfrm>
            <a:off x="6351840" y="40086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99720" y="24541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28160" y="53802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1775520" y="2149560"/>
            <a:ext cx="995760" cy="1294200"/>
            <a:chOff x="1775520" y="2149560"/>
            <a:chExt cx="995760" cy="1294200"/>
          </a:xfrm>
        </p:grpSpPr>
        <p:grpSp>
          <p:nvGrpSpPr>
            <p:cNvPr id="587" name=""/>
            <p:cNvGrpSpPr/>
            <p:nvPr/>
          </p:nvGrpSpPr>
          <p:grpSpPr>
            <a:xfrm>
              <a:off x="1775520" y="2152080"/>
              <a:ext cx="990720" cy="1291680"/>
              <a:chOff x="1775520" y="2152080"/>
              <a:chExt cx="990720" cy="1291680"/>
            </a:xfrm>
          </p:grpSpPr>
          <p:sp>
            <p:nvSpPr>
              <p:cNvPr id="588" name="未知"/>
              <p:cNvSpPr/>
              <p:nvPr/>
            </p:nvSpPr>
            <p:spPr>
              <a:xfrm>
                <a:off x="1775520" y="2658600"/>
                <a:ext cx="99072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043000" y="2152080"/>
                <a:ext cx="48096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0" name="未知"/>
            <p:cNvSpPr/>
            <p:nvPr/>
          </p:nvSpPr>
          <p:spPr>
            <a:xfrm>
              <a:off x="1781280" y="2653920"/>
              <a:ext cx="99000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abb4"/>
                </a:gs>
                <a:gs pos="100000">
                  <a:srgbClr val="002c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未知"/>
            <p:cNvSpPr/>
            <p:nvPr/>
          </p:nvSpPr>
          <p:spPr>
            <a:xfrm>
              <a:off x="197532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04840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005b60"/>
                </a:gs>
                <a:gs pos="50000">
                  <a:srgbClr val="00a4ac"/>
                </a:gs>
                <a:gs pos="100000">
                  <a:srgbClr val="005b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未知"/>
            <p:cNvSpPr/>
            <p:nvPr/>
          </p:nvSpPr>
          <p:spPr>
            <a:xfrm>
              <a:off x="209736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2029320" y="2155680"/>
              <a:ext cx="344880" cy="359280"/>
              <a:chOff x="2029320" y="2155680"/>
              <a:chExt cx="344880" cy="35928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2037960" y="2155680"/>
                <a:ext cx="336240" cy="273960"/>
                <a:chOff x="2037960" y="2155680"/>
                <a:chExt cx="336240" cy="273960"/>
              </a:xfrm>
            </p:grpSpPr>
            <p:sp>
              <p:nvSpPr>
                <p:cNvPr id="596" name=""/>
                <p:cNvSpPr/>
                <p:nvPr/>
              </p:nvSpPr>
              <p:spPr>
                <a:xfrm flipH="1" rot="15040200">
                  <a:off x="219024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H="1" rot="14224200">
                  <a:off x="215100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H="1" rot="13928400">
                  <a:off x="2132640" y="21549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 rot="13396200">
                  <a:off x="2111040" y="2178000"/>
                  <a:ext cx="95760" cy="25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2029320" y="2177280"/>
                <a:ext cx="271800" cy="337680"/>
                <a:chOff x="2029320" y="2177280"/>
                <a:chExt cx="271800" cy="337680"/>
              </a:xfrm>
            </p:grpSpPr>
            <p:sp>
              <p:nvSpPr>
                <p:cNvPr id="601" name=""/>
                <p:cNvSpPr/>
                <p:nvPr/>
              </p:nvSpPr>
              <p:spPr>
                <a:xfrm flipH="1" rot="13687200">
                  <a:off x="2125800" y="21708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H="1" rot="12871200">
                  <a:off x="2095920" y="22003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H="1" rot="12576000">
                  <a:off x="2085120" y="222336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H="1" rot="12043800">
                  <a:off x="207396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5" name=""/>
            <p:cNvGrpSpPr/>
            <p:nvPr/>
          </p:nvGrpSpPr>
          <p:grpSpPr>
            <a:xfrm>
              <a:off x="1849320" y="2691360"/>
              <a:ext cx="429120" cy="517320"/>
              <a:chOff x="1849320" y="2691360"/>
              <a:chExt cx="429120" cy="51732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1849320" y="2691360"/>
                <a:ext cx="429120" cy="405000"/>
                <a:chOff x="1849320" y="2691360"/>
                <a:chExt cx="429120" cy="405000"/>
              </a:xfrm>
            </p:grpSpPr>
            <p:sp>
              <p:nvSpPr>
                <p:cNvPr id="607" name=""/>
                <p:cNvSpPr/>
                <p:nvPr/>
              </p:nvSpPr>
              <p:spPr>
                <a:xfrm flipH="1" rot="14424600">
                  <a:off x="2045160" y="263988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H="1" rot="13608600">
                  <a:off x="1992960" y="267192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H="1" rot="13313400">
                  <a:off x="1969200" y="269856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 rot="12781200">
                  <a:off x="1941480" y="27306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1850760" y="2719800"/>
                <a:ext cx="307800" cy="488880"/>
                <a:chOff x="1850760" y="2719800"/>
                <a:chExt cx="307800" cy="488880"/>
              </a:xfrm>
            </p:grpSpPr>
            <p:sp>
              <p:nvSpPr>
                <p:cNvPr id="612" name=""/>
                <p:cNvSpPr/>
                <p:nvPr/>
              </p:nvSpPr>
              <p:spPr>
                <a:xfrm flipH="1" rot="13071600">
                  <a:off x="1958040" y="27104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H="1" rot="12256200">
                  <a:off x="1922400" y="27597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 rot="11960400">
                  <a:off x="1909080" y="27932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flipH="1" rot="11428200">
                  <a:off x="1896480" y="28335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6" name=""/>
          <p:cNvSpPr/>
          <p:nvPr/>
        </p:nvSpPr>
        <p:spPr>
          <a:xfrm>
            <a:off x="1320120" y="3444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1242000" y="2149560"/>
            <a:ext cx="996120" cy="1294200"/>
            <a:chOff x="1242000" y="2149560"/>
            <a:chExt cx="996120" cy="1294200"/>
          </a:xfrm>
        </p:grpSpPr>
        <p:grpSp>
          <p:nvGrpSpPr>
            <p:cNvPr id="618" name=""/>
            <p:cNvGrpSpPr/>
            <p:nvPr/>
          </p:nvGrpSpPr>
          <p:grpSpPr>
            <a:xfrm>
              <a:off x="1242000" y="2152080"/>
              <a:ext cx="991080" cy="1291680"/>
              <a:chOff x="1242000" y="2152080"/>
              <a:chExt cx="991080" cy="1291680"/>
            </a:xfrm>
          </p:grpSpPr>
          <p:sp>
            <p:nvSpPr>
              <p:cNvPr id="619" name="未知"/>
              <p:cNvSpPr/>
              <p:nvPr/>
            </p:nvSpPr>
            <p:spPr>
              <a:xfrm>
                <a:off x="1242000" y="2658600"/>
                <a:ext cx="99108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509840" y="2152080"/>
                <a:ext cx="48132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未知"/>
            <p:cNvSpPr/>
            <p:nvPr/>
          </p:nvSpPr>
          <p:spPr>
            <a:xfrm>
              <a:off x="1247760" y="2653920"/>
              <a:ext cx="99036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40bad2"/>
                </a:gs>
                <a:gs pos="100000">
                  <a:srgbClr val="10303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未知"/>
            <p:cNvSpPr/>
            <p:nvPr/>
          </p:nvSpPr>
          <p:spPr>
            <a:xfrm>
              <a:off x="144216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40bad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1524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236775"/>
                </a:gs>
                <a:gs pos="50000">
                  <a:srgbClr val="40bad2"/>
                </a:gs>
                <a:gs pos="100000">
                  <a:srgbClr val="236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未知"/>
            <p:cNvSpPr/>
            <p:nvPr/>
          </p:nvSpPr>
          <p:spPr>
            <a:xfrm>
              <a:off x="156384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40bad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1496160" y="2155680"/>
              <a:ext cx="344880" cy="359280"/>
              <a:chOff x="1496160" y="2155680"/>
              <a:chExt cx="344880" cy="359280"/>
            </a:xfrm>
          </p:grpSpPr>
          <p:grpSp>
            <p:nvGrpSpPr>
              <p:cNvPr id="626" name=""/>
              <p:cNvGrpSpPr/>
              <p:nvPr/>
            </p:nvGrpSpPr>
            <p:grpSpPr>
              <a:xfrm>
                <a:off x="1504440" y="2155680"/>
                <a:ext cx="336600" cy="273960"/>
                <a:chOff x="1504440" y="2155680"/>
                <a:chExt cx="336600" cy="273960"/>
              </a:xfrm>
            </p:grpSpPr>
            <p:sp>
              <p:nvSpPr>
                <p:cNvPr id="627" name=""/>
                <p:cNvSpPr/>
                <p:nvPr/>
              </p:nvSpPr>
              <p:spPr>
                <a:xfrm flipH="1" rot="15040200">
                  <a:off x="165708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flipH="1" rot="14224200">
                  <a:off x="161784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flipH="1" rot="13928400">
                  <a:off x="1599480" y="21549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flipH="1" rot="13396200">
                  <a:off x="1577880" y="217728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1496160" y="2177280"/>
                <a:ext cx="271800" cy="337680"/>
                <a:chOff x="1496160" y="2177280"/>
                <a:chExt cx="271800" cy="337680"/>
              </a:xfrm>
            </p:grpSpPr>
            <p:sp>
              <p:nvSpPr>
                <p:cNvPr id="632" name=""/>
                <p:cNvSpPr/>
                <p:nvPr/>
              </p:nvSpPr>
              <p:spPr>
                <a:xfrm flipH="1" rot="13687200">
                  <a:off x="1592640" y="21708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flipH="1" rot="12871200">
                  <a:off x="1562400" y="22003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flipH="1" rot="12576000">
                  <a:off x="1551960" y="22230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H="1" rot="12043800">
                  <a:off x="154044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6" name=""/>
            <p:cNvGrpSpPr/>
            <p:nvPr/>
          </p:nvGrpSpPr>
          <p:grpSpPr>
            <a:xfrm>
              <a:off x="1315800" y="2691360"/>
              <a:ext cx="429120" cy="517320"/>
              <a:chOff x="1315800" y="2691360"/>
              <a:chExt cx="429120" cy="517320"/>
            </a:xfrm>
          </p:grpSpPr>
          <p:grpSp>
            <p:nvGrpSpPr>
              <p:cNvPr id="637" name=""/>
              <p:cNvGrpSpPr/>
              <p:nvPr/>
            </p:nvGrpSpPr>
            <p:grpSpPr>
              <a:xfrm>
                <a:off x="1315800" y="2691360"/>
                <a:ext cx="429120" cy="405000"/>
                <a:chOff x="1315800" y="2691360"/>
                <a:chExt cx="429120" cy="405000"/>
              </a:xfrm>
            </p:grpSpPr>
            <p:sp>
              <p:nvSpPr>
                <p:cNvPr id="638" name=""/>
                <p:cNvSpPr/>
                <p:nvPr/>
              </p:nvSpPr>
              <p:spPr>
                <a:xfrm flipH="1" rot="14424600">
                  <a:off x="1511640" y="263988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flipH="1" rot="13608600">
                  <a:off x="1459440" y="267192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H="1" rot="13313400">
                  <a:off x="1435680" y="269856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H="1" rot="12781200">
                  <a:off x="1407960" y="27306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1317240" y="2719800"/>
                <a:ext cx="307800" cy="488880"/>
                <a:chOff x="1317240" y="2719800"/>
                <a:chExt cx="307800" cy="488880"/>
              </a:xfrm>
            </p:grpSpPr>
            <p:sp>
              <p:nvSpPr>
                <p:cNvPr id="643" name=""/>
                <p:cNvSpPr/>
                <p:nvPr/>
              </p:nvSpPr>
              <p:spPr>
                <a:xfrm flipH="1" rot="13071600">
                  <a:off x="1424520" y="27104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flipH="1" rot="12256200">
                  <a:off x="1388880" y="27597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H="1" rot="11960400">
                  <a:off x="1375560" y="27932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flipH="1" rot="11428200">
                  <a:off x="1362960" y="28335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47" name=""/>
          <p:cNvSpPr/>
          <p:nvPr/>
        </p:nvSpPr>
        <p:spPr>
          <a:xfrm>
            <a:off x="1170360" y="563868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16292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 flipH="1">
            <a:off x="2401200" y="1771560"/>
            <a:ext cx="4428360" cy="454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8" y="0"/>
                </a:moveTo>
                <a:arcTo wR="10800" hR="10800" stAng="-5384563" swAng="5384563"/>
                <a:lnTo>
                  <a:pt x="10800" y="10800"/>
                </a:lnTo>
                <a:close/>
              </a:path>
              <a:path fill="none" w="21600" h="21600">
                <a:moveTo>
                  <a:pt x="10848" y="0"/>
                </a:moveTo>
                <a:arcTo wR="10800" hR="10800" stAng="-5384563" swAng="5384563"/>
              </a:path>
            </a:pathLst>
          </a:custGeom>
          <a:solidFill>
            <a:srgbClr val="40bad2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2412720" y="1870560"/>
            <a:ext cx="4374000" cy="436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98c13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340360" y="1771560"/>
            <a:ext cx="45378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7" y="0"/>
                </a:moveTo>
                <a:arcTo wR="10800" hR="10800" stAng="-5413589" swAng="5413589"/>
                <a:lnTo>
                  <a:pt x="10800" y="10800"/>
                </a:lnTo>
                <a:close/>
              </a:path>
              <a:path fill="none" w="21600" h="21600">
                <a:moveTo>
                  <a:pt x="10757" y="0"/>
                </a:moveTo>
                <a:arcTo wR="10800" hR="10800" stAng="-5413589" swAng="5413589"/>
              </a:path>
            </a:pathLst>
          </a:custGeom>
          <a:solidFill>
            <a:srgbClr val="238dd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2340000" y="1853280"/>
            <a:ext cx="4536720" cy="43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12445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27920" y="1930320"/>
            <a:ext cx="4164480" cy="424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186294"/>
              </a:gs>
              <a:gs pos="100000">
                <a:srgbClr val="238dd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3151080" y="2505960"/>
            <a:ext cx="2926800" cy="299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98c13d"/>
              </a:gs>
              <a:gs pos="100000">
                <a:srgbClr val="69862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3434400" y="2823840"/>
            <a:ext cx="2351520" cy="24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81f28"/>
              </a:gs>
              <a:gs pos="100000">
                <a:srgbClr val="124458">
                  <a:alpha val="9019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2961720" y="2354400"/>
            <a:ext cx="3307320" cy="339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8" y="0"/>
                </a:moveTo>
                <a:arcTo wR="10800" hR="10800" stAng="-5384563" swAng="5384563"/>
                <a:lnTo>
                  <a:pt x="10800" y="10800"/>
                </a:lnTo>
                <a:close/>
              </a:path>
              <a:path fill="none" w="21600" h="21600">
                <a:moveTo>
                  <a:pt x="10848" y="0"/>
                </a:moveTo>
                <a:arcTo wR="10800" hR="10800" stAng="-5384563" swAng="5384563"/>
              </a:path>
            </a:pathLst>
          </a:custGeom>
          <a:gradFill rotWithShape="0">
            <a:gsLst>
              <a:gs pos="0">
                <a:srgbClr val="26707f"/>
              </a:gs>
              <a:gs pos="100000">
                <a:srgbClr val="40bad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075040" y="4043520"/>
            <a:ext cx="5070240" cy="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608360" y="1571760"/>
            <a:ext cx="0" cy="481464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2152800" y="1469880"/>
            <a:ext cx="339480" cy="768600"/>
            <a:chOff x="2152800" y="1469880"/>
            <a:chExt cx="339480" cy="768600"/>
          </a:xfrm>
        </p:grpSpPr>
        <p:pic>
          <p:nvPicPr>
            <p:cNvPr id="660" name="" descr=""/>
            <p:cNvPicPr/>
            <p:nvPr/>
          </p:nvPicPr>
          <p:blipFill>
            <a:blip r:embed="rId1"/>
            <a:stretch/>
          </p:blipFill>
          <p:spPr>
            <a:xfrm>
              <a:off x="2152800" y="1469880"/>
              <a:ext cx="33948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未知"/>
            <p:cNvSpPr/>
            <p:nvPr/>
          </p:nvSpPr>
          <p:spPr>
            <a:xfrm>
              <a:off x="2258640" y="147024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未知"/>
            <p:cNvSpPr/>
            <p:nvPr/>
          </p:nvSpPr>
          <p:spPr>
            <a:xfrm>
              <a:off x="2195280" y="1638720"/>
              <a:ext cx="270360" cy="56592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6877080" y="1469880"/>
            <a:ext cx="339840" cy="768600"/>
            <a:chOff x="6877080" y="1469880"/>
            <a:chExt cx="339840" cy="768600"/>
          </a:xfrm>
        </p:grpSpPr>
        <p:pic>
          <p:nvPicPr>
            <p:cNvPr id="664" name="" descr=""/>
            <p:cNvPicPr/>
            <p:nvPr/>
          </p:nvPicPr>
          <p:blipFill>
            <a:blip r:embed="rId2"/>
            <a:stretch/>
          </p:blipFill>
          <p:spPr>
            <a:xfrm>
              <a:off x="6877080" y="1469880"/>
              <a:ext cx="3398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未知"/>
            <p:cNvSpPr/>
            <p:nvPr/>
          </p:nvSpPr>
          <p:spPr>
            <a:xfrm>
              <a:off x="6983280" y="147024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33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未知"/>
            <p:cNvSpPr/>
            <p:nvPr/>
          </p:nvSpPr>
          <p:spPr>
            <a:xfrm>
              <a:off x="6919560" y="1638720"/>
              <a:ext cx="270360" cy="56592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33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6915240" y="5272200"/>
            <a:ext cx="339480" cy="768240"/>
            <a:chOff x="6915240" y="5272200"/>
            <a:chExt cx="339480" cy="768240"/>
          </a:xfrm>
        </p:grpSpPr>
        <p:pic>
          <p:nvPicPr>
            <p:cNvPr id="668" name="" descr=""/>
            <p:cNvPicPr/>
            <p:nvPr/>
          </p:nvPicPr>
          <p:blipFill>
            <a:blip r:embed="rId3"/>
            <a:stretch/>
          </p:blipFill>
          <p:spPr>
            <a:xfrm>
              <a:off x="6915240" y="5272200"/>
              <a:ext cx="339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未知"/>
            <p:cNvSpPr/>
            <p:nvPr/>
          </p:nvSpPr>
          <p:spPr>
            <a:xfrm>
              <a:off x="7021080" y="527256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66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未知"/>
            <p:cNvSpPr/>
            <p:nvPr/>
          </p:nvSpPr>
          <p:spPr>
            <a:xfrm>
              <a:off x="6957720" y="5441040"/>
              <a:ext cx="270360" cy="56556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66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2036880" y="5272200"/>
            <a:ext cx="339480" cy="768240"/>
            <a:chOff x="2036880" y="5272200"/>
            <a:chExt cx="339480" cy="768240"/>
          </a:xfrm>
        </p:grpSpPr>
        <p:pic>
          <p:nvPicPr>
            <p:cNvPr id="672" name="" descr=""/>
            <p:cNvPicPr/>
            <p:nvPr/>
          </p:nvPicPr>
          <p:blipFill>
            <a:blip r:embed="rId4"/>
            <a:stretch/>
          </p:blipFill>
          <p:spPr>
            <a:xfrm>
              <a:off x="2036880" y="5272200"/>
              <a:ext cx="339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未知"/>
            <p:cNvSpPr/>
            <p:nvPr/>
          </p:nvSpPr>
          <p:spPr>
            <a:xfrm>
              <a:off x="2142720" y="527256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未知"/>
            <p:cNvSpPr/>
            <p:nvPr/>
          </p:nvSpPr>
          <p:spPr>
            <a:xfrm>
              <a:off x="2079360" y="5441040"/>
              <a:ext cx="270360" cy="56556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7268040" y="561492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344480" y="11955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184520" y="39132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540800" y="39132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4345560" y="646272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870440" y="516744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Product_2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245720" y="181296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843440" y="304488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Product_7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997560" y="17748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973240" y="287640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Product_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97560" y="55944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577960" y="458136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Product_3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976480" y="3174840"/>
            <a:ext cx="465120" cy="532080"/>
          </a:xfrm>
          <a:custGeom>
            <a:avLst/>
            <a:gdLst>
              <a:gd name="textAreaLeft" fmla="*/ 0 w 465120"/>
              <a:gd name="textAreaRight" fmla="*/ 465480 w 46512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8c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491080" y="3174840"/>
            <a:ext cx="463680" cy="532080"/>
          </a:xfrm>
          <a:custGeom>
            <a:avLst/>
            <a:gdLst>
              <a:gd name="textAreaLeft" fmla="*/ 0 w 463680"/>
              <a:gd name="textAreaRight" fmla="*/ 464040 w 46368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15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15ee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715ee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1516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3c327b"/>
              </a:gs>
              <a:gs pos="50000">
                <a:srgbClr val="715ee6"/>
              </a:gs>
              <a:gs pos="100000">
                <a:srgbClr val="3c327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180120" y="258444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715ee6">
                  <a:alpha val="0"/>
                </a:srgbClr>
              </a:gs>
              <a:gs pos="100000">
                <a:srgbClr val="473b9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243480" y="2660760"/>
            <a:ext cx="15559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238dd5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238dd5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120680" y="2568600"/>
            <a:ext cx="1725840" cy="1733400"/>
          </a:xfrm>
          <a:prstGeom prst="ellipse">
            <a:avLst/>
          </a:prstGeom>
          <a:gradFill rotWithShape="0">
            <a:gsLst>
              <a:gs pos="0">
                <a:srgbClr val="124c72"/>
              </a:gs>
              <a:gs pos="50000">
                <a:srgbClr val="238dd5"/>
              </a:gs>
              <a:gs pos="100000">
                <a:srgbClr val="124c7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122480" y="257184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238dd5">
                  <a:alpha val="0"/>
                </a:srgbClr>
              </a:gs>
              <a:gs pos="100000">
                <a:srgbClr val="16598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206360" y="2655720"/>
            <a:ext cx="155448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231920" y="2678040"/>
            <a:ext cx="1503360" cy="1511280"/>
            <a:chOff x="1231920" y="2678040"/>
            <a:chExt cx="1503360" cy="1511280"/>
          </a:xfrm>
        </p:grpSpPr>
        <p:sp>
          <p:nvSpPr>
            <p:cNvPr id="702" name=""/>
            <p:cNvSpPr/>
            <p:nvPr/>
          </p:nvSpPr>
          <p:spPr>
            <a:xfrm>
              <a:off x="123192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25100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26648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34820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8c13d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46581c"/>
              </a:gs>
              <a:gs pos="100000">
                <a:srgbClr val="98c13d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6370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516820"/>
              </a:gs>
              <a:gs pos="50000">
                <a:srgbClr val="98c13d"/>
              </a:gs>
              <a:gs pos="100000">
                <a:srgbClr val="51682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38520" y="257796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98c13d">
                  <a:alpha val="0"/>
                </a:srgbClr>
              </a:gs>
              <a:gs pos="100000">
                <a:srgbClr val="607a2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722760" y="2660760"/>
            <a:ext cx="15541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3747960" y="2678040"/>
            <a:ext cx="1503360" cy="1511280"/>
            <a:chOff x="3747960" y="2678040"/>
            <a:chExt cx="1503360" cy="1511280"/>
          </a:xfrm>
        </p:grpSpPr>
        <p:sp>
          <p:nvSpPr>
            <p:cNvPr id="712" name=""/>
            <p:cNvSpPr/>
            <p:nvPr/>
          </p:nvSpPr>
          <p:spPr>
            <a:xfrm>
              <a:off x="374796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76704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78252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6424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272280" y="2678040"/>
            <a:ext cx="1504800" cy="1511280"/>
            <a:chOff x="6272280" y="2678040"/>
            <a:chExt cx="1504800" cy="1511280"/>
          </a:xfrm>
        </p:grpSpPr>
        <p:sp>
          <p:nvSpPr>
            <p:cNvPr id="717" name=""/>
            <p:cNvSpPr/>
            <p:nvPr/>
          </p:nvSpPr>
          <p:spPr>
            <a:xfrm>
              <a:off x="6272280" y="2678040"/>
              <a:ext cx="150480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291360" y="2686320"/>
              <a:ext cx="146844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06840" y="2700720"/>
              <a:ext cx="139644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388920" y="2739600"/>
              <a:ext cx="124128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1035000" y="4933800"/>
            <a:ext cx="18925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54960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08004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5998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12236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6434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未知"/>
          <p:cNvSpPr/>
          <p:nvPr/>
        </p:nvSpPr>
        <p:spPr>
          <a:xfrm>
            <a:off x="868320" y="2903400"/>
            <a:ext cx="7505640" cy="2676600"/>
          </a:xfrm>
          <a:custGeom>
            <a:avLst/>
            <a:gdLst/>
            <a:ahLst/>
            <a:rect l="l" t="t" r="r" b="b"/>
            <a:pathLst>
              <a:path w="4728" h="1686">
                <a:moveTo>
                  <a:pt x="1422" y="3"/>
                </a:moveTo>
                <a:cubicBezTo>
                  <a:pt x="1450" y="0"/>
                  <a:pt x="252" y="159"/>
                  <a:pt x="192" y="705"/>
                </a:cubicBezTo>
                <a:cubicBezTo>
                  <a:pt x="222" y="1041"/>
                  <a:pt x="828" y="1203"/>
                  <a:pt x="1096" y="1292"/>
                </a:cubicBezTo>
                <a:cubicBezTo>
                  <a:pt x="1364" y="1381"/>
                  <a:pt x="1955" y="1428"/>
                  <a:pt x="2388" y="1428"/>
                </a:cubicBezTo>
                <a:cubicBezTo>
                  <a:pt x="2821" y="1428"/>
                  <a:pt x="3307" y="1379"/>
                  <a:pt x="3672" y="1275"/>
                </a:cubicBezTo>
                <a:cubicBezTo>
                  <a:pt x="4037" y="1171"/>
                  <a:pt x="4506" y="987"/>
                  <a:pt x="4524" y="705"/>
                </a:cubicBezTo>
                <a:cubicBezTo>
                  <a:pt x="4518" y="207"/>
                  <a:pt x="3269" y="50"/>
                  <a:pt x="3294" y="27"/>
                </a:cubicBezTo>
                <a:cubicBezTo>
                  <a:pt x="3324" y="29"/>
                  <a:pt x="4674" y="201"/>
                  <a:pt x="4704" y="717"/>
                </a:cubicBezTo>
                <a:cubicBezTo>
                  <a:pt x="4728" y="1077"/>
                  <a:pt x="4236" y="1365"/>
                  <a:pt x="3798" y="1488"/>
                </a:cubicBezTo>
                <a:cubicBezTo>
                  <a:pt x="3360" y="1611"/>
                  <a:pt x="2883" y="1680"/>
                  <a:pt x="2412" y="1683"/>
                </a:cubicBezTo>
                <a:cubicBezTo>
                  <a:pt x="1941" y="1686"/>
                  <a:pt x="1374" y="1644"/>
                  <a:pt x="972" y="1506"/>
                </a:cubicBezTo>
                <a:cubicBezTo>
                  <a:pt x="570" y="1368"/>
                  <a:pt x="0" y="1173"/>
                  <a:pt x="24" y="723"/>
                </a:cubicBezTo>
                <a:cubicBezTo>
                  <a:pt x="42" y="117"/>
                  <a:pt x="1394" y="6"/>
                  <a:pt x="1422" y="3"/>
                </a:cubicBezTo>
                <a:close/>
              </a:path>
            </a:pathLst>
          </a:custGeom>
          <a:gradFill rotWithShape="0">
            <a:gsLst>
              <a:gs pos="0">
                <a:srgbClr val="336699"/>
              </a:gs>
              <a:gs pos="100000">
                <a:srgbClr val="d6e0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865600" y="2700360"/>
            <a:ext cx="3606480" cy="759960"/>
            <a:chOff x="2865600" y="2700360"/>
            <a:chExt cx="3606480" cy="759960"/>
          </a:xfrm>
        </p:grpSpPr>
        <p:sp>
          <p:nvSpPr>
            <p:cNvPr id="730" name=""/>
            <p:cNvSpPr/>
            <p:nvPr/>
          </p:nvSpPr>
          <p:spPr>
            <a:xfrm>
              <a:off x="2865600" y="2715480"/>
              <a:ext cx="3603600" cy="744840"/>
            </a:xfrm>
            <a:prstGeom prst="ellipse">
              <a:avLst/>
            </a:prstGeom>
            <a:gradFill rotWithShape="0">
              <a:gsLst>
                <a:gs pos="0">
                  <a:srgbClr val="003854"/>
                </a:gs>
                <a:gs pos="50000">
                  <a:srgbClr val="006699"/>
                </a:gs>
                <a:gs pos="100000">
                  <a:srgbClr val="003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865600" y="2703960"/>
              <a:ext cx="3606480" cy="70416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a8ca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868120" y="2700360"/>
              <a:ext cx="3583080" cy="694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ff">
                    <a:alpha val="5098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3327480" y="2782800"/>
            <a:ext cx="56664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666880" y="2362320"/>
            <a:ext cx="173988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308c9f"/>
              </a:gs>
              <a:gs pos="100000">
                <a:srgbClr val="40bad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449600" y="2006640"/>
            <a:ext cx="567000" cy="114444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741840" y="1712880"/>
            <a:ext cx="2043000" cy="57636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1e79b7"/>
              </a:gs>
              <a:gs pos="100000">
                <a:srgbClr val="238d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38880" y="2782800"/>
            <a:ext cx="56664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62520" y="2367000"/>
            <a:ext cx="168912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82a534"/>
              </a:gs>
              <a:gs pos="100000">
                <a:srgbClr val="98c1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65600" y="25671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984920" y="25671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087800" y="18907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rot="1218000">
            <a:off x="1399680" y="47563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rot="20616600">
            <a:off x="6283440" y="486252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459160" y="367344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3608280" y="4479840"/>
            <a:ext cx="1863720" cy="184464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3611520" y="4473720"/>
            <a:ext cx="1863720" cy="1850760"/>
          </a:xfrm>
          <a:prstGeom prst="ellipse">
            <a:avLst/>
          </a:prstGeom>
          <a:gradFill rotWithShape="0">
            <a:gsLst>
              <a:gs pos="0">
                <a:srgbClr val="ffff00">
                  <a:alpha val="85098"/>
                </a:srgbClr>
              </a:gs>
              <a:gs pos="100000">
                <a:srgbClr val="ffff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>
                <a:alpha val="5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957480" y="5130720"/>
            <a:ext cx="117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2019240" y="2438280"/>
            <a:ext cx="5257080" cy="2895480"/>
            <a:chOff x="2019240" y="2438280"/>
            <a:chExt cx="5257080" cy="2895480"/>
          </a:xfrm>
        </p:grpSpPr>
        <p:sp>
          <p:nvSpPr>
            <p:cNvPr id="750" name="未知"/>
            <p:cNvSpPr/>
            <p:nvPr/>
          </p:nvSpPr>
          <p:spPr>
            <a:xfrm>
              <a:off x="2811600" y="392832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未知"/>
            <p:cNvSpPr/>
            <p:nvPr/>
          </p:nvSpPr>
          <p:spPr>
            <a:xfrm>
              <a:off x="3647160" y="2438280"/>
              <a:ext cx="3619800" cy="178668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未知"/>
            <p:cNvSpPr/>
            <p:nvPr/>
          </p:nvSpPr>
          <p:spPr>
            <a:xfrm>
              <a:off x="2019240" y="28346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1943280" y="2362320"/>
            <a:ext cx="5333400" cy="2818800"/>
            <a:chOff x="1943280" y="2362320"/>
            <a:chExt cx="5333400" cy="2818800"/>
          </a:xfrm>
        </p:grpSpPr>
        <p:sp>
          <p:nvSpPr>
            <p:cNvPr id="754" name="未知"/>
            <p:cNvSpPr/>
            <p:nvPr/>
          </p:nvSpPr>
          <p:spPr>
            <a:xfrm>
              <a:off x="2747160" y="3812760"/>
              <a:ext cx="4529520" cy="136836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98c13d"/>
                </a:gs>
                <a:gs pos="100000">
                  <a:srgbClr val="4658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未知"/>
            <p:cNvSpPr/>
            <p:nvPr/>
          </p:nvSpPr>
          <p:spPr>
            <a:xfrm>
              <a:off x="3594600" y="236232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40bad2"/>
                </a:gs>
                <a:gs pos="100000">
                  <a:srgbClr val="1d55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未知"/>
            <p:cNvSpPr/>
            <p:nvPr/>
          </p:nvSpPr>
          <p:spPr>
            <a:xfrm>
              <a:off x="1943280" y="2748240"/>
              <a:ext cx="200628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715ee6"/>
                </a:gs>
                <a:gs pos="100000">
                  <a:srgbClr val="9789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5715000" y="161928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762440" y="5334120"/>
            <a:ext cx="3048120" cy="853920"/>
          </a:xfrm>
          <a:noFill/>
          <a:ln w="9360">
            <a:solidFill>
              <a:srgbClr val="98c13d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71680" y="1676520"/>
            <a:ext cx="2192040" cy="965160"/>
          </a:xfrm>
          <a:noFill/>
          <a:ln w="9360">
            <a:solidFill>
              <a:srgbClr val="124458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16292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5532480" y="3643200"/>
            <a:ext cx="1643040" cy="1625760"/>
          </a:xfrm>
          <a:prstGeom prst="rect">
            <a:avLst/>
          </a:prstGeom>
          <a:ln w="0">
            <a:noFill/>
          </a:ln>
        </p:spPr>
      </p:pic>
      <p:sp>
        <p:nvSpPr>
          <p:cNvPr id="762" name="未知"/>
          <p:cNvSpPr/>
          <p:nvPr/>
        </p:nvSpPr>
        <p:spPr>
          <a:xfrm rot="851400">
            <a:off x="4339800" y="3736440"/>
            <a:ext cx="1041480" cy="777960"/>
          </a:xfrm>
          <a:custGeom>
            <a:avLst/>
            <a:gdLst/>
            <a:ahLst/>
            <a:rect l="l" t="t" r="r" b="b"/>
            <a:pathLst>
              <a:path w="1168" h="1041">
                <a:moveTo>
                  <a:pt x="959" y="451"/>
                </a:moveTo>
                <a:lnTo>
                  <a:pt x="959" y="595"/>
                </a:lnTo>
                <a:cubicBezTo>
                  <a:pt x="731" y="553"/>
                  <a:pt x="274" y="438"/>
                  <a:pt x="221" y="0"/>
                </a:cubicBezTo>
                <a:cubicBezTo>
                  <a:pt x="89" y="75"/>
                  <a:pt x="0" y="906"/>
                  <a:pt x="71" y="1041"/>
                </a:cubicBezTo>
                <a:cubicBezTo>
                  <a:pt x="377" y="619"/>
                  <a:pt x="814" y="742"/>
                  <a:pt x="959" y="713"/>
                </a:cubicBezTo>
                <a:lnTo>
                  <a:pt x="959" y="870"/>
                </a:lnTo>
                <a:lnTo>
                  <a:pt x="1168" y="667"/>
                </a:lnTo>
                <a:lnTo>
                  <a:pt x="959" y="451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989898"/>
              </a:gs>
            </a:gsLst>
            <a:lin ang="9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2"/>
          <a:stretch/>
        </p:blipFill>
        <p:spPr>
          <a:xfrm>
            <a:off x="1503360" y="1843200"/>
            <a:ext cx="3181320" cy="3152520"/>
          </a:xfrm>
          <a:prstGeom prst="rect">
            <a:avLst/>
          </a:prstGeom>
          <a:ln w="0">
            <a:noFill/>
          </a:ln>
        </p:spPr>
      </p:pic>
      <p:grpSp>
        <p:nvGrpSpPr>
          <p:cNvPr id="764" name=""/>
          <p:cNvGrpSpPr/>
          <p:nvPr/>
        </p:nvGrpSpPr>
        <p:grpSpPr>
          <a:xfrm>
            <a:off x="2095200" y="2615400"/>
            <a:ext cx="2745720" cy="2503080"/>
            <a:chOff x="2095200" y="2615400"/>
            <a:chExt cx="2745720" cy="2503080"/>
          </a:xfrm>
        </p:grpSpPr>
        <p:grpSp>
          <p:nvGrpSpPr>
            <p:cNvPr id="765" name=""/>
            <p:cNvGrpSpPr/>
            <p:nvPr/>
          </p:nvGrpSpPr>
          <p:grpSpPr>
            <a:xfrm>
              <a:off x="2728440" y="2615400"/>
              <a:ext cx="2112480" cy="2478240"/>
              <a:chOff x="2728440" y="2615400"/>
              <a:chExt cx="2112480" cy="2478240"/>
            </a:xfrm>
          </p:grpSpPr>
          <p:sp>
            <p:nvSpPr>
              <p:cNvPr id="766" name=""/>
              <p:cNvSpPr/>
              <p:nvPr/>
            </p:nvSpPr>
            <p:spPr>
              <a:xfrm flipH="1" flipV="1" rot="1528800">
                <a:off x="3905280" y="2622960"/>
                <a:ext cx="502560" cy="2058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 flipV="1" rot="2344200">
                <a:off x="3745440" y="2926080"/>
                <a:ext cx="502560" cy="2057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flipV="1" rot="2640000">
                <a:off x="3613320" y="3072600"/>
                <a:ext cx="502560" cy="2058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 flipV="1" rot="3172200">
                <a:off x="3448440" y="3243240"/>
                <a:ext cx="502560" cy="205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2095200" y="3297240"/>
              <a:ext cx="2653920" cy="1821240"/>
              <a:chOff x="2095200" y="3297240"/>
              <a:chExt cx="2653920" cy="1821240"/>
            </a:xfrm>
          </p:grpSpPr>
          <p:sp>
            <p:nvSpPr>
              <p:cNvPr id="771" name=""/>
              <p:cNvSpPr/>
              <p:nvPr/>
            </p:nvSpPr>
            <p:spPr>
              <a:xfrm flipH="1" flipV="1" rot="2881800">
                <a:off x="3561840" y="3143880"/>
                <a:ext cx="505080" cy="2059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 flipV="1" rot="3697200">
                <a:off x="3297960" y="3362040"/>
                <a:ext cx="505080" cy="2058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 flipV="1" rot="3993000">
                <a:off x="3118680" y="3447720"/>
                <a:ext cx="505080" cy="2058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 flipV="1" rot="4525200">
                <a:off x="2901600" y="3541320"/>
                <a:ext cx="505080" cy="2058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"/>
          <p:cNvSpPr/>
          <p:nvPr/>
        </p:nvSpPr>
        <p:spPr>
          <a:xfrm flipH="1" flipV="1" rot="5400000">
            <a:off x="1519920" y="1841400"/>
            <a:ext cx="3168360" cy="316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15" y="1"/>
                </a:moveTo>
                <a:arcTo wR="10800" hR="10800" stAng="-5363540" swAng="5395462"/>
                <a:lnTo>
                  <a:pt x="10800" y="10800"/>
                </a:lnTo>
                <a:close/>
              </a:path>
              <a:path fill="none" w="21600" h="21600">
                <a:moveTo>
                  <a:pt x="10915" y="1"/>
                </a:moveTo>
                <a:arcTo wR="10800" hR="10800" stAng="-5363540" swAng="5395462"/>
              </a:path>
            </a:pathLst>
          </a:custGeom>
          <a:solidFill>
            <a:srgbClr val="98c13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557360" y="1844640"/>
            <a:ext cx="3117600" cy="318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715ee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 rot="16200000">
            <a:off x="1558800" y="1855080"/>
            <a:ext cx="3095640" cy="316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70" y="2"/>
                </a:moveTo>
                <a:arcTo wR="10800" hR="10800" stAng="-5473296" swAng="5505218"/>
                <a:lnTo>
                  <a:pt x="10800" y="10800"/>
                </a:lnTo>
                <a:close/>
              </a:path>
              <a:path fill="none" w="21600" h="21600">
                <a:moveTo>
                  <a:pt x="10570" y="2"/>
                </a:moveTo>
                <a:arcTo wR="10800" hR="10800" stAng="-5473296" swAng="5505218"/>
              </a:path>
            </a:pathLst>
          </a:custGeom>
          <a:solidFill>
            <a:srgbClr val="238dd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557360" y="1872360"/>
            <a:ext cx="3117600" cy="310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ccff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435400" y="2752560"/>
            <a:ext cx="1349280" cy="134964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533920" y="3630600"/>
            <a:ext cx="1638360" cy="1646280"/>
          </a:xfrm>
          <a:prstGeom prst="ellipse">
            <a:avLst/>
          </a:prstGeom>
          <a:solidFill>
            <a:srgbClr val="ccff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351480" y="3633840"/>
            <a:ext cx="0" cy="1630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533920" y="4459320"/>
            <a:ext cx="1631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2930040" y="3368880"/>
            <a:ext cx="1807920" cy="1705320"/>
            <a:chOff x="2930040" y="3368880"/>
            <a:chExt cx="1807920" cy="1705320"/>
          </a:xfrm>
        </p:grpSpPr>
        <p:sp>
          <p:nvSpPr>
            <p:cNvPr id="784" name=""/>
            <p:cNvSpPr/>
            <p:nvPr/>
          </p:nvSpPr>
          <p:spPr>
            <a:xfrm flipH="1" flipV="1" rot="2089200">
              <a:off x="3960360" y="3326760"/>
              <a:ext cx="353880" cy="159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 flipV="1" rot="2905200">
              <a:off x="3799800" y="3538800"/>
              <a:ext cx="353880" cy="159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 flipV="1" rot="3200400">
              <a:off x="3684240" y="3636720"/>
              <a:ext cx="353880" cy="159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 flipV="1" rot="3732600">
              <a:off x="3540600" y="3749400"/>
              <a:ext cx="353880" cy="159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1848240" y="24652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</a:rPr>
              <a:t>Sub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429360" y="24652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</a:rPr>
              <a:t>Sub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848240" y="39466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</a:rPr>
              <a:t>Sub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451680" y="39466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</a:rPr>
              <a:t>Sub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503440" y="2981160"/>
            <a:ext cx="119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Arial"/>
              </a:rPr>
              <a:t>A title abou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518440" y="412740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</a:rPr>
              <a:t>Subtitle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340680" y="412740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</a:rPr>
              <a:t>Subtitle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518440" y="459108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</a:rPr>
              <a:t>Subtitle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330960" y="458136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</a:rPr>
              <a:t>Subtitle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855800" y="5283360"/>
            <a:ext cx="24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200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</a:rPr>
              <a:t>Company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995720" y="2198520"/>
            <a:ext cx="2862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2286000" y="3047760"/>
            <a:ext cx="5167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2133720" y="2057400"/>
            <a:ext cx="5340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24458"/>
                    </a:gs>
                    <a:gs pos="100000">
                      <a:srgbClr val="715ee6"/>
                    </a:gs>
                  </a:gsLst>
                  <a:lin ang="108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24458"/>
                  </a:gs>
                  <a:gs pos="100000">
                    <a:srgbClr val="715ee6"/>
                  </a:gs>
                </a:gsLst>
                <a:lin ang="108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03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0bad2"/>
                </a:gs>
                <a:gs pos="50000">
                  <a:srgbClr val="d5eff4"/>
                </a:gs>
                <a:gs pos="100000">
                  <a:srgbClr val="40bad2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40bad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8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8c13d"/>
                </a:gs>
                <a:gs pos="50000">
                  <a:srgbClr val="e8f0d5"/>
                </a:gs>
                <a:gs pos="100000">
                  <a:srgbClr val="98c13d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98c13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13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15ee6"/>
                </a:gs>
                <a:gs pos="50000">
                  <a:srgbClr val="e0dcf8"/>
                </a:gs>
                <a:gs pos="100000">
                  <a:srgbClr val="715ee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715ee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8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38dd5"/>
                </a:gs>
                <a:gs pos="50000">
                  <a:srgbClr val="cfe5f5"/>
                </a:gs>
                <a:gs pos="100000">
                  <a:srgbClr val="238dd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238d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715ee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715ee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715ee6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715ee6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715ee6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715ee6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715ee6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715ee6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715ee6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715ee6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715ee6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715ee6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715ee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715ee6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715ee6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F8F0-B2CA-44A5-8A8B-36FACF9BDA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未知"/>
          <p:cNvSpPr/>
          <p:nvPr/>
        </p:nvSpPr>
        <p:spPr>
          <a:xfrm>
            <a:off x="990720" y="509112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8c13d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未知"/>
          <p:cNvSpPr/>
          <p:nvPr/>
        </p:nvSpPr>
        <p:spPr>
          <a:xfrm rot="10800000">
            <a:off x="6076440" y="416880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8c13d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42640" y="16002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2640" y="40384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未知"/>
          <p:cNvSpPr/>
          <p:nvPr/>
        </p:nvSpPr>
        <p:spPr>
          <a:xfrm>
            <a:off x="990720" y="2833560"/>
            <a:ext cx="201924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715ee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未知"/>
          <p:cNvSpPr/>
          <p:nvPr/>
        </p:nvSpPr>
        <p:spPr>
          <a:xfrm rot="10800000">
            <a:off x="6039000" y="188136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715ee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90520" y="227160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8a8de"/>
              </a:gs>
              <a:gs pos="50000">
                <a:srgbClr val="238dd5"/>
              </a:gs>
              <a:gs pos="100000">
                <a:srgbClr val="58a8d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66840" y="455760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ec9dc"/>
              </a:gs>
              <a:gs pos="50000">
                <a:srgbClr val="40bad2"/>
              </a:gs>
              <a:gs pos="100000">
                <a:srgbClr val="6ec9d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55744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e7e7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838080" y="2286000"/>
            <a:ext cx="1838160" cy="3309840"/>
            <a:chOff x="838080" y="2286000"/>
            <a:chExt cx="1838160" cy="3309840"/>
          </a:xfrm>
        </p:grpSpPr>
        <p:sp>
          <p:nvSpPr>
            <p:cNvPr id="134" name=""/>
            <p:cNvSpPr/>
            <p:nvPr/>
          </p:nvSpPr>
          <p:spPr>
            <a:xfrm>
              <a:off x="83808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8c13d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14400" y="23241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8c1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630600" y="2286000"/>
            <a:ext cx="1838160" cy="3309840"/>
            <a:chOff x="3630600" y="2286000"/>
            <a:chExt cx="1838160" cy="3309840"/>
          </a:xfrm>
        </p:grpSpPr>
        <p:sp>
          <p:nvSpPr>
            <p:cNvPr id="137" name=""/>
            <p:cNvSpPr/>
            <p:nvPr/>
          </p:nvSpPr>
          <p:spPr>
            <a:xfrm>
              <a:off x="36306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bad2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03680" y="23241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0bad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467400" y="2286000"/>
            <a:ext cx="1838160" cy="3309840"/>
            <a:chOff x="6467400" y="2286000"/>
            <a:chExt cx="1838160" cy="3309840"/>
          </a:xfrm>
        </p:grpSpPr>
        <p:sp>
          <p:nvSpPr>
            <p:cNvPr id="140" name=""/>
            <p:cNvSpPr/>
            <p:nvPr/>
          </p:nvSpPr>
          <p:spPr>
            <a:xfrm>
              <a:off x="64674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8c13d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43720" y="233352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8c1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9144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971800" y="3809880"/>
            <a:ext cx="504000" cy="496440"/>
            <a:chOff x="2971800" y="3809880"/>
            <a:chExt cx="504000" cy="496440"/>
          </a:xfrm>
        </p:grpSpPr>
        <p:grpSp>
          <p:nvGrpSpPr>
            <p:cNvPr id="146" name=""/>
            <p:cNvGrpSpPr/>
            <p:nvPr/>
          </p:nvGrpSpPr>
          <p:grpSpPr>
            <a:xfrm>
              <a:off x="3173400" y="3809880"/>
              <a:ext cx="302400" cy="496440"/>
              <a:chOff x="3173400" y="3809880"/>
              <a:chExt cx="302400" cy="496440"/>
            </a:xfrm>
          </p:grpSpPr>
          <p:sp>
            <p:nvSpPr>
              <p:cNvPr id="147" name=""/>
              <p:cNvSpPr/>
              <p:nvPr/>
            </p:nvSpPr>
            <p:spPr>
              <a:xfrm>
                <a:off x="31734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742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3750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2742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1734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2971800" y="3809880"/>
              <a:ext cx="302400" cy="496440"/>
              <a:chOff x="2971800" y="3809880"/>
              <a:chExt cx="302400" cy="496440"/>
            </a:xfrm>
          </p:grpSpPr>
          <p:sp>
            <p:nvSpPr>
              <p:cNvPr id="153" name=""/>
              <p:cNvSpPr/>
              <p:nvPr/>
            </p:nvSpPr>
            <p:spPr>
              <a:xfrm>
                <a:off x="29718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0726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1734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0726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9718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" name=""/>
          <p:cNvGrpSpPr/>
          <p:nvPr/>
        </p:nvGrpSpPr>
        <p:grpSpPr>
          <a:xfrm>
            <a:off x="5715000" y="3809880"/>
            <a:ext cx="504000" cy="496440"/>
            <a:chOff x="5715000" y="3809880"/>
            <a:chExt cx="504000" cy="496440"/>
          </a:xfrm>
        </p:grpSpPr>
        <p:grpSp>
          <p:nvGrpSpPr>
            <p:cNvPr id="159" name=""/>
            <p:cNvGrpSpPr/>
            <p:nvPr/>
          </p:nvGrpSpPr>
          <p:grpSpPr>
            <a:xfrm>
              <a:off x="5916600" y="3809880"/>
              <a:ext cx="302400" cy="496440"/>
              <a:chOff x="5916600" y="3809880"/>
              <a:chExt cx="302400" cy="496440"/>
            </a:xfrm>
          </p:grpSpPr>
          <p:sp>
            <p:nvSpPr>
              <p:cNvPr id="160" name=""/>
              <p:cNvSpPr/>
              <p:nvPr/>
            </p:nvSpPr>
            <p:spPr>
              <a:xfrm>
                <a:off x="59166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0174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1182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174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9166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5715000" y="3809880"/>
              <a:ext cx="302400" cy="496440"/>
              <a:chOff x="5715000" y="3809880"/>
              <a:chExt cx="302400" cy="496440"/>
            </a:xfrm>
          </p:grpSpPr>
          <p:sp>
            <p:nvSpPr>
              <p:cNvPr id="166" name=""/>
              <p:cNvSpPr/>
              <p:nvPr/>
            </p:nvSpPr>
            <p:spPr>
              <a:xfrm>
                <a:off x="57150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158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9166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158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7150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"/>
          <p:cNvSpPr/>
          <p:nvPr/>
        </p:nvSpPr>
        <p:spPr>
          <a:xfrm>
            <a:off x="990720" y="160020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528948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6200" y="5245200"/>
            <a:ext cx="2143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21520" y="419904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1960" y="4218120"/>
            <a:ext cx="2143080" cy="987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17840" y="447372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 rot="5400000">
            <a:off x="3170880" y="4503240"/>
            <a:ext cx="419040" cy="41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0926193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0926193"/>
              </a:path>
            </a:pathLst>
          </a:custGeom>
          <a:solidFill>
            <a:srgbClr val="238dd5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920" y="55753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9670200">
            <a:off x="2829240" y="5254920"/>
            <a:ext cx="76356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715ee6"/>
          </a:solidFill>
          <a:ln w="9360">
            <a:solidFill>
              <a:srgbClr val="c0c0c0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04040" y="5545080"/>
            <a:ext cx="96012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00800" y="446400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5844600" y="5474160"/>
            <a:ext cx="5058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82320" y="4503600"/>
            <a:ext cx="690840" cy="69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40bad2"/>
          </a:solidFill>
          <a:ln w="9360">
            <a:solidFill>
              <a:srgbClr val="40bad2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48000" y="4510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13320" y="55846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28920" y="5621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02160" y="4508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24200" y="130824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824200" y="130320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824560" y="1303200"/>
            <a:ext cx="329616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177992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177992"/>
              </a:path>
            </a:pathLst>
          </a:custGeom>
          <a:solidFill>
            <a:srgbClr val="40bad2">
              <a:alpha val="50000"/>
            </a:srgbClr>
          </a:solidFill>
          <a:ln w="9360">
            <a:solidFill>
              <a:srgbClr val="40b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832120" y="1304280"/>
            <a:ext cx="3302280" cy="329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2" y="2384"/>
                </a:moveTo>
                <a:arcTo wR="10800" hR="10800" stAng="-7728407" swAng="5716793"/>
                <a:lnTo>
                  <a:pt x="10800" y="10800"/>
                </a:lnTo>
                <a:close/>
              </a:path>
              <a:path fill="none" w="21600" h="21600">
                <a:moveTo>
                  <a:pt x="4032" y="2384"/>
                </a:moveTo>
                <a:arcTo wR="10800" hR="10800" stAng="-7728407" swAng="5716793"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 rot="5400000">
            <a:off x="2840400" y="1309320"/>
            <a:ext cx="3283920" cy="329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238dd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784960" y="2986560"/>
            <a:ext cx="1886400" cy="1779480"/>
            <a:chOff x="2784960" y="2986560"/>
            <a:chExt cx="1886400" cy="1779480"/>
          </a:xfrm>
        </p:grpSpPr>
        <p:sp>
          <p:nvSpPr>
            <p:cNvPr id="196" name=""/>
            <p:cNvSpPr/>
            <p:nvPr/>
          </p:nvSpPr>
          <p:spPr>
            <a:xfrm flipV="1" rot="19510800">
              <a:off x="3226320" y="294300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 rot="18694800">
              <a:off x="3393720" y="3164040"/>
              <a:ext cx="369720" cy="166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 rot="18399600">
              <a:off x="3515040" y="326592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 rot="17867400">
              <a:off x="3664440" y="338256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 rot="9670200">
            <a:off x="2830320" y="1299960"/>
            <a:ext cx="329940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715ee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13200" y="2403360"/>
            <a:ext cx="1123920" cy="1123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62360" y="27036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43400" y="28987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10080" y="175104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10080" y="38829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0360" y="426420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8dd5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73680" y="528156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3640" y="53625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15ee6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86640" y="422100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bad2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243320" y="1310760"/>
            <a:ext cx="1823760" cy="1508040"/>
            <a:chOff x="4243320" y="1310760"/>
            <a:chExt cx="1823760" cy="1508040"/>
          </a:xfrm>
        </p:grpSpPr>
        <p:grpSp>
          <p:nvGrpSpPr>
            <p:cNvPr id="211" name=""/>
            <p:cNvGrpSpPr/>
            <p:nvPr/>
          </p:nvGrpSpPr>
          <p:grpSpPr>
            <a:xfrm>
              <a:off x="4641840" y="1310760"/>
              <a:ext cx="1425240" cy="1508040"/>
              <a:chOff x="4641840" y="1310760"/>
              <a:chExt cx="1425240" cy="1508040"/>
            </a:xfrm>
          </p:grpSpPr>
          <p:sp>
            <p:nvSpPr>
              <p:cNvPr id="212" name=""/>
              <p:cNvSpPr/>
              <p:nvPr/>
            </p:nvSpPr>
            <p:spPr>
              <a:xfrm flipV="1" rot="8983800">
                <a:off x="5455800" y="1504440"/>
                <a:ext cx="2959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 rot="8167800">
                <a:off x="5337000" y="1317960"/>
                <a:ext cx="29628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 rot="7872600">
                <a:off x="5245560" y="122904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 rot="7340400">
                <a:off x="5134320" y="1126080"/>
                <a:ext cx="29592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243320" y="1317960"/>
              <a:ext cx="1743120" cy="1049400"/>
              <a:chOff x="4243320" y="1317960"/>
              <a:chExt cx="1743120" cy="1049400"/>
            </a:xfrm>
          </p:grpSpPr>
          <p:sp>
            <p:nvSpPr>
              <p:cNvPr id="217" name=""/>
              <p:cNvSpPr/>
              <p:nvPr/>
            </p:nvSpPr>
            <p:spPr>
              <a:xfrm flipV="1" rot="7630800">
                <a:off x="5217480" y="118152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6814800">
                <a:off x="5036040" y="105408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 rot="6519600">
                <a:off x="4917240" y="100656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 rot="5987400">
                <a:off x="4775040" y="95544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未知"/>
          <p:cNvSpPr/>
          <p:nvPr/>
        </p:nvSpPr>
        <p:spPr>
          <a:xfrm>
            <a:off x="3192480" y="2022480"/>
            <a:ext cx="2943360" cy="121932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441"/>
                </a:moveTo>
                <a:cubicBezTo>
                  <a:pt x="181" y="610"/>
                  <a:pt x="402" y="750"/>
                  <a:pt x="396" y="762"/>
                </a:cubicBezTo>
                <a:cubicBezTo>
                  <a:pt x="492" y="672"/>
                  <a:pt x="672" y="528"/>
                  <a:pt x="912" y="528"/>
                </a:cubicBezTo>
                <a:cubicBezTo>
                  <a:pt x="1152" y="528"/>
                  <a:pt x="1320" y="642"/>
                  <a:pt x="1446" y="768"/>
                </a:cubicBezTo>
                <a:lnTo>
                  <a:pt x="1854" y="429"/>
                </a:lnTo>
                <a:cubicBezTo>
                  <a:pt x="1732" y="261"/>
                  <a:pt x="1428" y="0"/>
                  <a:pt x="918" y="0"/>
                </a:cubicBezTo>
                <a:cubicBezTo>
                  <a:pt x="408" y="0"/>
                  <a:pt x="138" y="255"/>
                  <a:pt x="0" y="441"/>
                </a:cubicBezTo>
                <a:close/>
              </a:path>
            </a:pathLst>
          </a:custGeom>
          <a:solidFill>
            <a:srgbClr val="124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60640" y="271476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806560" y="263844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75160" y="3098880"/>
            <a:ext cx="2151000" cy="2151000"/>
          </a:xfrm>
          <a:prstGeom prst="ellipse">
            <a:avLst/>
          </a:prstGeom>
          <a:gradFill rotWithShape="0">
            <a:gsLst>
              <a:gs pos="0">
                <a:srgbClr val="dbe9bc"/>
              </a:gs>
              <a:gs pos="100000">
                <a:srgbClr val="98c13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1244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84480" y="3951360"/>
            <a:ext cx="39852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87496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27360" y="3951360"/>
            <a:ext cx="2001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815800" y="3951360"/>
            <a:ext cx="39996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6204960" y="3951360"/>
            <a:ext cx="1998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6334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7652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469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未知"/>
          <p:cNvSpPr/>
          <p:nvPr/>
        </p:nvSpPr>
        <p:spPr>
          <a:xfrm>
            <a:off x="3192480" y="5105520"/>
            <a:ext cx="2943360" cy="121896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327"/>
                </a:moveTo>
                <a:cubicBezTo>
                  <a:pt x="181" y="158"/>
                  <a:pt x="402" y="18"/>
                  <a:pt x="396" y="6"/>
                </a:cubicBezTo>
                <a:cubicBezTo>
                  <a:pt x="492" y="96"/>
                  <a:pt x="672" y="240"/>
                  <a:pt x="912" y="240"/>
                </a:cubicBezTo>
                <a:cubicBezTo>
                  <a:pt x="1152" y="240"/>
                  <a:pt x="1320" y="126"/>
                  <a:pt x="1446" y="0"/>
                </a:cubicBezTo>
                <a:lnTo>
                  <a:pt x="1854" y="339"/>
                </a:lnTo>
                <a:cubicBezTo>
                  <a:pt x="1732" y="507"/>
                  <a:pt x="1428" y="768"/>
                  <a:pt x="918" y="768"/>
                </a:cubicBezTo>
                <a:cubicBezTo>
                  <a:pt x="408" y="768"/>
                  <a:pt x="138" y="513"/>
                  <a:pt x="0" y="327"/>
                </a:cubicBezTo>
                <a:close/>
              </a:path>
            </a:pathLst>
          </a:custGeom>
          <a:solidFill>
            <a:srgbClr val="238d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27440" y="3751200"/>
            <a:ext cx="1843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05160" y="24004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343320" y="56656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396252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s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83400" y="3971880"/>
            <a:ext cx="20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s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135576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s Title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00240" y="1438200"/>
            <a:ext cx="276480" cy="276480"/>
            <a:chOff x="3000240" y="1438200"/>
            <a:chExt cx="276480" cy="276480"/>
          </a:xfrm>
        </p:grpSpPr>
        <p:grpSp>
          <p:nvGrpSpPr>
            <p:cNvPr id="242" name=""/>
            <p:cNvGrpSpPr/>
            <p:nvPr/>
          </p:nvGrpSpPr>
          <p:grpSpPr>
            <a:xfrm>
              <a:off x="3000240" y="1438200"/>
              <a:ext cx="276480" cy="276480"/>
              <a:chOff x="3000240" y="1438200"/>
              <a:chExt cx="276480" cy="276480"/>
            </a:xfrm>
          </p:grpSpPr>
          <p:sp>
            <p:nvSpPr>
              <p:cNvPr id="243" name=""/>
              <p:cNvSpPr/>
              <p:nvPr/>
            </p:nvSpPr>
            <p:spPr>
              <a:xfrm>
                <a:off x="3000240" y="1438200"/>
                <a:ext cx="276480" cy="2764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07440" y="1443600"/>
                <a:ext cx="263880" cy="265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018240" y="1454400"/>
                <a:ext cx="241920" cy="24372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25440" y="1460160"/>
                <a:ext cx="227520" cy="22896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028680" y="1463760"/>
                <a:ext cx="219960" cy="221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3033000" y="1468440"/>
              <a:ext cx="214200" cy="214920"/>
            </a:xfrm>
            <a:prstGeom prst="ellipse">
              <a:avLst/>
            </a:prstGeom>
            <a:gradFill rotWithShape="0">
              <a:gsLst>
                <a:gs pos="0">
                  <a:srgbClr val="172f5e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35080" y="2987640"/>
            <a:ext cx="4119480" cy="24512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843440" y="2963880"/>
            <a:ext cx="4181400" cy="24861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87200" y="1676520"/>
            <a:ext cx="4572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1. Describe contents for a Ch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27720" y="1676520"/>
            <a:ext cx="457200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2. Describe contents for a Ch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53560" y="563580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Chart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266840" y="4581360"/>
            <a:ext cx="415800" cy="451080"/>
            <a:chOff x="1266840" y="4581360"/>
            <a:chExt cx="415800" cy="451080"/>
          </a:xfrm>
        </p:grpSpPr>
        <p:sp>
          <p:nvSpPr>
            <p:cNvPr id="256" name=""/>
            <p:cNvSpPr/>
            <p:nvPr/>
          </p:nvSpPr>
          <p:spPr>
            <a:xfrm>
              <a:off x="1432080" y="4581360"/>
              <a:ext cx="68040" cy="65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29840" y="475992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10920" y="468972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58280" y="49842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78800" y="485172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414440" y="473976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1482480" y="463536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32240" y="464256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62040" y="482868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61320" y="4758120"/>
              <a:ext cx="1764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1582920" y="466416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66840" y="46861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6360" y="472896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1498320" y="486792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63400" y="48697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7760" y="487728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15680" y="49039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897520" y="4567320"/>
            <a:ext cx="415800" cy="450720"/>
            <a:chOff x="5897520" y="4567320"/>
            <a:chExt cx="415800" cy="450720"/>
          </a:xfrm>
        </p:grpSpPr>
        <p:sp>
          <p:nvSpPr>
            <p:cNvPr id="274" name=""/>
            <p:cNvSpPr/>
            <p:nvPr/>
          </p:nvSpPr>
          <p:spPr>
            <a:xfrm>
              <a:off x="6062760" y="4567320"/>
              <a:ext cx="68040" cy="648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60520" y="474588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41600" y="467568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88960" y="49698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09480" y="483768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045120" y="472572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6113160" y="462132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62920" y="4628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92720" y="481464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192000" y="4744080"/>
              <a:ext cx="17640" cy="8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13600" y="464976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897520" y="46720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27040" y="471492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129000" y="485352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94080" y="48556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38440" y="486288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46360" y="4889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043000" y="4442400"/>
            <a:ext cx="235800" cy="574560"/>
            <a:chOff x="2043000" y="4442400"/>
            <a:chExt cx="235800" cy="574560"/>
          </a:xfrm>
        </p:grpSpPr>
        <p:sp>
          <p:nvSpPr>
            <p:cNvPr id="292" name="未知"/>
            <p:cNvSpPr/>
            <p:nvPr/>
          </p:nvSpPr>
          <p:spPr>
            <a:xfrm rot="21490800">
              <a:off x="2048760" y="4729320"/>
              <a:ext cx="225360" cy="28368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 rot="21490800">
              <a:off x="2043360" y="4876920"/>
              <a:ext cx="231120" cy="295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 rot="21490800">
              <a:off x="2097360" y="4579200"/>
              <a:ext cx="107280" cy="31500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2094840" y="46504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096280" y="46900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2097360" y="472572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2098440" y="47638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099520" y="47980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102040" y="48128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102040" y="482112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102400" y="48326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100600" y="47714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100960" y="478008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101320" y="47912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099520" y="473364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099520" y="47419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099880" y="47534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098440" y="469944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098440" y="470808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098800" y="47192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2097000" y="46598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097360" y="46681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097720" y="46796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132640" y="4442400"/>
              <a:ext cx="5760" cy="137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125080" y="4586400"/>
              <a:ext cx="2988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678360" y="4484880"/>
            <a:ext cx="219600" cy="539640"/>
            <a:chOff x="6678360" y="4484880"/>
            <a:chExt cx="219600" cy="539640"/>
          </a:xfrm>
        </p:grpSpPr>
        <p:sp>
          <p:nvSpPr>
            <p:cNvPr id="318" name="未知"/>
            <p:cNvSpPr/>
            <p:nvPr/>
          </p:nvSpPr>
          <p:spPr>
            <a:xfrm rot="21490800">
              <a:off x="6683400" y="4754520"/>
              <a:ext cx="210240" cy="26640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 rot="21490800">
              <a:off x="6678720" y="4893120"/>
              <a:ext cx="215280" cy="277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 rot="21490800">
              <a:off x="6728760" y="4613760"/>
              <a:ext cx="100080" cy="29556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6726600" y="468072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6727680" y="471780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728760" y="475128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729840" y="478728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6730920" y="481932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6733080" y="48330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6733440" y="484092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6733800" y="485136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6732000" y="479412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6732000" y="4802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6732360" y="481284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730560" y="47581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6730920" y="4766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6731280" y="477684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729840" y="472644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729840" y="473436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730200" y="47448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728400" y="46890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6728760" y="46969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6729120" y="47077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761160" y="4484880"/>
              <a:ext cx="5760" cy="129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6753960" y="4620240"/>
              <a:ext cx="2772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153960" y="4548240"/>
            <a:ext cx="611280" cy="485280"/>
            <a:chOff x="3153960" y="4548240"/>
            <a:chExt cx="611280" cy="485280"/>
          </a:xfrm>
        </p:grpSpPr>
        <p:sp>
          <p:nvSpPr>
            <p:cNvPr id="344" name="未知"/>
            <p:cNvSpPr/>
            <p:nvPr/>
          </p:nvSpPr>
          <p:spPr>
            <a:xfrm flipH="1">
              <a:off x="3153600" y="4646880"/>
              <a:ext cx="307800" cy="38664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265920" y="4548240"/>
              <a:ext cx="82080" cy="1015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3471120" y="4654080"/>
              <a:ext cx="294120" cy="37080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80560" y="4560840"/>
              <a:ext cx="77760" cy="95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7794720" y="4545000"/>
            <a:ext cx="621720" cy="477360"/>
            <a:chOff x="7794720" y="4545000"/>
            <a:chExt cx="621720" cy="477360"/>
          </a:xfrm>
        </p:grpSpPr>
        <p:sp>
          <p:nvSpPr>
            <p:cNvPr id="349" name="未知"/>
            <p:cNvSpPr/>
            <p:nvPr/>
          </p:nvSpPr>
          <p:spPr>
            <a:xfrm flipH="1">
              <a:off x="7794720" y="4642200"/>
              <a:ext cx="313200" cy="38016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908480" y="4545000"/>
              <a:ext cx="83520" cy="100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8116920" y="4649040"/>
              <a:ext cx="299520" cy="36468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228520" y="4557240"/>
              <a:ext cx="78840" cy="943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2581560" y="4448160"/>
            <a:ext cx="437760" cy="577080"/>
            <a:chOff x="2581560" y="4448160"/>
            <a:chExt cx="437760" cy="577080"/>
          </a:xfrm>
        </p:grpSpPr>
        <p:grpSp>
          <p:nvGrpSpPr>
            <p:cNvPr id="354" name=""/>
            <p:cNvGrpSpPr/>
            <p:nvPr/>
          </p:nvGrpSpPr>
          <p:grpSpPr>
            <a:xfrm>
              <a:off x="2738880" y="4448160"/>
              <a:ext cx="130680" cy="471240"/>
              <a:chOff x="2738880" y="4448160"/>
              <a:chExt cx="130680" cy="471240"/>
            </a:xfrm>
          </p:grpSpPr>
          <p:sp>
            <p:nvSpPr>
              <p:cNvPr id="355" name="未知"/>
              <p:cNvSpPr/>
              <p:nvPr/>
            </p:nvSpPr>
            <p:spPr>
              <a:xfrm flipH="1">
                <a:off x="277992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未知"/>
              <p:cNvSpPr/>
              <p:nvPr/>
            </p:nvSpPr>
            <p:spPr>
              <a:xfrm flipH="1">
                <a:off x="283140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未知"/>
              <p:cNvSpPr/>
              <p:nvPr/>
            </p:nvSpPr>
            <p:spPr>
              <a:xfrm flipH="1">
                <a:off x="273852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未知"/>
              <p:cNvSpPr/>
              <p:nvPr/>
            </p:nvSpPr>
            <p:spPr>
              <a:xfrm flipH="1">
                <a:off x="277488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未知"/>
              <p:cNvSpPr/>
              <p:nvPr/>
            </p:nvSpPr>
            <p:spPr>
              <a:xfrm flipH="1">
                <a:off x="274176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2888640" y="4538160"/>
              <a:ext cx="130680" cy="471240"/>
              <a:chOff x="2888640" y="4538160"/>
              <a:chExt cx="130680" cy="471240"/>
            </a:xfrm>
          </p:grpSpPr>
          <p:sp>
            <p:nvSpPr>
              <p:cNvPr id="361" name="未知"/>
              <p:cNvSpPr/>
              <p:nvPr/>
            </p:nvSpPr>
            <p:spPr>
              <a:xfrm flipH="1">
                <a:off x="292968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未知"/>
              <p:cNvSpPr/>
              <p:nvPr/>
            </p:nvSpPr>
            <p:spPr>
              <a:xfrm flipH="1">
                <a:off x="298116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未知"/>
              <p:cNvSpPr/>
              <p:nvPr/>
            </p:nvSpPr>
            <p:spPr>
              <a:xfrm flipH="1">
                <a:off x="288828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未知"/>
              <p:cNvSpPr/>
              <p:nvPr/>
            </p:nvSpPr>
            <p:spPr>
              <a:xfrm flipH="1">
                <a:off x="292464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未知"/>
              <p:cNvSpPr/>
              <p:nvPr/>
            </p:nvSpPr>
            <p:spPr>
              <a:xfrm flipH="1">
                <a:off x="289152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2581560" y="4554000"/>
              <a:ext cx="130680" cy="471240"/>
              <a:chOff x="2581560" y="4554000"/>
              <a:chExt cx="130680" cy="471240"/>
            </a:xfrm>
          </p:grpSpPr>
          <p:sp>
            <p:nvSpPr>
              <p:cNvPr id="367" name="未知"/>
              <p:cNvSpPr/>
              <p:nvPr/>
            </p:nvSpPr>
            <p:spPr>
              <a:xfrm flipH="1">
                <a:off x="262260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未知"/>
              <p:cNvSpPr/>
              <p:nvPr/>
            </p:nvSpPr>
            <p:spPr>
              <a:xfrm flipH="1">
                <a:off x="267408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未知"/>
              <p:cNvSpPr/>
              <p:nvPr/>
            </p:nvSpPr>
            <p:spPr>
              <a:xfrm flipH="1">
                <a:off x="258120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未知"/>
              <p:cNvSpPr/>
              <p:nvPr/>
            </p:nvSpPr>
            <p:spPr>
              <a:xfrm flipH="1">
                <a:off x="261756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未知"/>
              <p:cNvSpPr/>
              <p:nvPr/>
            </p:nvSpPr>
            <p:spPr>
              <a:xfrm flipH="1">
                <a:off x="258444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2" name=""/>
          <p:cNvGrpSpPr/>
          <p:nvPr/>
        </p:nvGrpSpPr>
        <p:grpSpPr>
          <a:xfrm>
            <a:off x="7183800" y="4448160"/>
            <a:ext cx="437760" cy="577080"/>
            <a:chOff x="7183800" y="4448160"/>
            <a:chExt cx="437760" cy="577080"/>
          </a:xfrm>
        </p:grpSpPr>
        <p:grpSp>
          <p:nvGrpSpPr>
            <p:cNvPr id="373" name=""/>
            <p:cNvGrpSpPr/>
            <p:nvPr/>
          </p:nvGrpSpPr>
          <p:grpSpPr>
            <a:xfrm>
              <a:off x="7341120" y="4448160"/>
              <a:ext cx="130680" cy="471240"/>
              <a:chOff x="7341120" y="4448160"/>
              <a:chExt cx="130680" cy="471240"/>
            </a:xfrm>
          </p:grpSpPr>
          <p:sp>
            <p:nvSpPr>
              <p:cNvPr id="374" name="未知"/>
              <p:cNvSpPr/>
              <p:nvPr/>
            </p:nvSpPr>
            <p:spPr>
              <a:xfrm flipH="1">
                <a:off x="738216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未知"/>
              <p:cNvSpPr/>
              <p:nvPr/>
            </p:nvSpPr>
            <p:spPr>
              <a:xfrm flipH="1">
                <a:off x="743364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未知"/>
              <p:cNvSpPr/>
              <p:nvPr/>
            </p:nvSpPr>
            <p:spPr>
              <a:xfrm flipH="1">
                <a:off x="734076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未知"/>
              <p:cNvSpPr/>
              <p:nvPr/>
            </p:nvSpPr>
            <p:spPr>
              <a:xfrm flipH="1">
                <a:off x="737712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未知"/>
              <p:cNvSpPr/>
              <p:nvPr/>
            </p:nvSpPr>
            <p:spPr>
              <a:xfrm flipH="1">
                <a:off x="734400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7490880" y="4538160"/>
              <a:ext cx="130680" cy="471240"/>
              <a:chOff x="7490880" y="4538160"/>
              <a:chExt cx="130680" cy="471240"/>
            </a:xfrm>
          </p:grpSpPr>
          <p:sp>
            <p:nvSpPr>
              <p:cNvPr id="380" name="未知"/>
              <p:cNvSpPr/>
              <p:nvPr/>
            </p:nvSpPr>
            <p:spPr>
              <a:xfrm flipH="1">
                <a:off x="753192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未知"/>
              <p:cNvSpPr/>
              <p:nvPr/>
            </p:nvSpPr>
            <p:spPr>
              <a:xfrm flipH="1">
                <a:off x="758340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未知"/>
              <p:cNvSpPr/>
              <p:nvPr/>
            </p:nvSpPr>
            <p:spPr>
              <a:xfrm flipH="1">
                <a:off x="749052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未知"/>
              <p:cNvSpPr/>
              <p:nvPr/>
            </p:nvSpPr>
            <p:spPr>
              <a:xfrm flipH="1">
                <a:off x="752688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未知"/>
              <p:cNvSpPr/>
              <p:nvPr/>
            </p:nvSpPr>
            <p:spPr>
              <a:xfrm flipH="1">
                <a:off x="749376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7183800" y="4554000"/>
              <a:ext cx="130680" cy="471240"/>
              <a:chOff x="7183800" y="4554000"/>
              <a:chExt cx="130680" cy="471240"/>
            </a:xfrm>
          </p:grpSpPr>
          <p:sp>
            <p:nvSpPr>
              <p:cNvPr id="386" name="未知"/>
              <p:cNvSpPr/>
              <p:nvPr/>
            </p:nvSpPr>
            <p:spPr>
              <a:xfrm flipH="1">
                <a:off x="722484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未知"/>
              <p:cNvSpPr/>
              <p:nvPr/>
            </p:nvSpPr>
            <p:spPr>
              <a:xfrm flipH="1">
                <a:off x="727632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未知"/>
              <p:cNvSpPr/>
              <p:nvPr/>
            </p:nvSpPr>
            <p:spPr>
              <a:xfrm flipH="1">
                <a:off x="718344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未知"/>
              <p:cNvSpPr/>
              <p:nvPr/>
            </p:nvSpPr>
            <p:spPr>
              <a:xfrm flipH="1">
                <a:off x="721980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未知"/>
              <p:cNvSpPr/>
              <p:nvPr/>
            </p:nvSpPr>
            <p:spPr>
              <a:xfrm flipH="1">
                <a:off x="718668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"/>
          <p:cNvSpPr/>
          <p:nvPr/>
        </p:nvSpPr>
        <p:spPr>
          <a:xfrm>
            <a:off x="1752480" y="6400800"/>
            <a:ext cx="6188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715ee6"/>
                </a:solidFill>
                <a:uFillTx/>
                <a:latin typeface="Arial"/>
                <a:hlinkClick r:id="rId3"/>
              </a:rPr>
              <a:t>自然风景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fengj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3224160" y="2619000"/>
            <a:ext cx="2455920" cy="2454120"/>
          </a:xfrm>
          <a:custGeom>
            <a:avLst/>
            <a:gdLst>
              <a:gd name="textAreaLeft" fmla="*/ 613800 w 2455920"/>
              <a:gd name="textAreaRight" fmla="*/ 1842120 w 2455920"/>
              <a:gd name="textAreaTop" fmla="*/ 613440 h 2454120"/>
              <a:gd name="textAreaBottom" fmla="*/ 1840680 h 24541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17480" y="21160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4458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429240" y="470052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4458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47354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421320" y="2055960"/>
            <a:ext cx="1598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459160" y="1920960"/>
            <a:ext cx="1222200" cy="12254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2459160" y="1917720"/>
            <a:ext cx="1214280" cy="1233360"/>
          </a:xfrm>
          <a:prstGeom prst="ellipse">
            <a:avLst/>
          </a:prstGeom>
          <a:solidFill>
            <a:srgbClr val="98c13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2460600" y="4546440"/>
            <a:ext cx="1220760" cy="1225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2460600" y="4543560"/>
            <a:ext cx="1216080" cy="1233360"/>
          </a:xfrm>
          <a:prstGeom prst="ellipse">
            <a:avLst/>
          </a:prstGeom>
          <a:solidFill>
            <a:srgbClr val="715ee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5205240" y="4535640"/>
            <a:ext cx="1222560" cy="12254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5205240" y="4522680"/>
            <a:ext cx="1216080" cy="1233720"/>
          </a:xfrm>
          <a:prstGeom prst="ellipse">
            <a:avLst/>
          </a:prstGeom>
          <a:solidFill>
            <a:srgbClr val="98c13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4"/>
          <a:stretch/>
        </p:blipFill>
        <p:spPr>
          <a:xfrm>
            <a:off x="5205240" y="1906560"/>
            <a:ext cx="1221120" cy="12272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5205240" y="1905120"/>
            <a:ext cx="1216080" cy="1233360"/>
          </a:xfrm>
          <a:prstGeom prst="ellipse">
            <a:avLst/>
          </a:prstGeom>
          <a:solidFill>
            <a:srgbClr val="715ee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695680" y="25812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2882880" y="2170080"/>
            <a:ext cx="360360" cy="363240"/>
            <a:chOff x="2882880" y="2170080"/>
            <a:chExt cx="360360" cy="363240"/>
          </a:xfrm>
        </p:grpSpPr>
        <p:sp>
          <p:nvSpPr>
            <p:cNvPr id="408" name=""/>
            <p:cNvSpPr/>
            <p:nvPr/>
          </p:nvSpPr>
          <p:spPr>
            <a:xfrm>
              <a:off x="2882880" y="2170080"/>
              <a:ext cx="360360" cy="361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64320" y="2170080"/>
              <a:ext cx="0" cy="35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882880" y="234936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3088440" y="2172240"/>
              <a:ext cx="74520" cy="3564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2966400" y="2174760"/>
              <a:ext cx="81000" cy="35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 rot="5400000">
              <a:off x="3032640" y="231804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 flipV="1" rot="16200000">
              <a:off x="3035880" y="211212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605560" y="4781520"/>
            <a:ext cx="487080" cy="390240"/>
            <a:chOff x="5605560" y="4781520"/>
            <a:chExt cx="487080" cy="390240"/>
          </a:xfrm>
        </p:grpSpPr>
        <p:sp>
          <p:nvSpPr>
            <p:cNvPr id="416" name="未知"/>
            <p:cNvSpPr/>
            <p:nvPr/>
          </p:nvSpPr>
          <p:spPr>
            <a:xfrm>
              <a:off x="5958720" y="4781520"/>
              <a:ext cx="133920" cy="13536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5709240" y="4857840"/>
              <a:ext cx="315360" cy="263880"/>
            </a:xfrm>
            <a:custGeom>
              <a:avLst/>
              <a:gdLst/>
              <a:ahLst/>
              <a:rect l="l" t="t" r="r" b="b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5709240" y="4781520"/>
              <a:ext cx="263160" cy="274680"/>
            </a:xfrm>
            <a:custGeom>
              <a:avLst/>
              <a:gdLst/>
              <a:ahLst/>
              <a:rect l="l" t="t" r="r" b="b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5761080" y="4903200"/>
              <a:ext cx="324360" cy="21888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5629680" y="4976280"/>
              <a:ext cx="185760" cy="18900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5605560" y="5133960"/>
              <a:ext cx="45000" cy="378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5639040" y="5052240"/>
              <a:ext cx="7596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5649480" y="5118480"/>
              <a:ext cx="115200" cy="3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507200">
              <a:off x="6007680" y="4826520"/>
              <a:ext cx="49320" cy="3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2878200" y="4782960"/>
            <a:ext cx="409680" cy="355320"/>
            <a:chOff x="2878200" y="4782960"/>
            <a:chExt cx="409680" cy="355320"/>
          </a:xfrm>
        </p:grpSpPr>
        <p:sp>
          <p:nvSpPr>
            <p:cNvPr id="426" name=""/>
            <p:cNvSpPr/>
            <p:nvPr/>
          </p:nvSpPr>
          <p:spPr>
            <a:xfrm>
              <a:off x="2962080" y="4782960"/>
              <a:ext cx="244080" cy="246240"/>
            </a:xfrm>
            <a:custGeom>
              <a:avLst/>
              <a:gdLst>
                <a:gd name="textAreaLeft" fmla="*/ 4320 w 244080"/>
                <a:gd name="textAreaRight" fmla="*/ 239760 w 244080"/>
                <a:gd name="textAreaTop" fmla="*/ 4320 h 246240"/>
                <a:gd name="textAreaBottom" fmla="*/ 241920 h 246240"/>
              </a:gdLst>
              <a:ahLst/>
              <a:rect l="textAreaLeft" t="textAreaTop" r="textAreaRight" b="textAreaBottom"/>
              <a:pathLst>
                <a:path w="21600" h="21791">
                  <a:moveTo>
                    <a:pt x="1350" y="0"/>
                  </a:moveTo>
                  <a:arcTo wR="1350" hR="1350" stAng="16200000" swAng="-5400000"/>
                  <a:lnTo>
                    <a:pt x="0" y="20441"/>
                  </a:lnTo>
                  <a:arcTo wR="1350" hR="1350" stAng="10800000" swAng="-5400000"/>
                  <a:lnTo>
                    <a:pt x="20250" y="21791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878200" y="5029200"/>
              <a:ext cx="409680" cy="109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982960" y="4806360"/>
              <a:ext cx="201960" cy="193680"/>
            </a:xfrm>
            <a:prstGeom prst="roundRect">
              <a:avLst>
                <a:gd name="adj" fmla="val 797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3166560" y="5081760"/>
              <a:ext cx="61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057840" y="4856400"/>
              <a:ext cx="1022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3083760" y="4882680"/>
              <a:ext cx="6300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3101400" y="4964760"/>
              <a:ext cx="446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5595840" y="2170080"/>
            <a:ext cx="519120" cy="330120"/>
            <a:chOff x="5595840" y="2170080"/>
            <a:chExt cx="519120" cy="330120"/>
          </a:xfrm>
        </p:grpSpPr>
        <p:grpSp>
          <p:nvGrpSpPr>
            <p:cNvPr id="434" name=""/>
            <p:cNvGrpSpPr/>
            <p:nvPr/>
          </p:nvGrpSpPr>
          <p:grpSpPr>
            <a:xfrm>
              <a:off x="5595840" y="2170080"/>
              <a:ext cx="519120" cy="330120"/>
              <a:chOff x="5595840" y="2170080"/>
              <a:chExt cx="519120" cy="330120"/>
            </a:xfrm>
          </p:grpSpPr>
          <p:sp>
            <p:nvSpPr>
              <p:cNvPr id="435" name="未知"/>
              <p:cNvSpPr/>
              <p:nvPr/>
            </p:nvSpPr>
            <p:spPr>
              <a:xfrm>
                <a:off x="5595840" y="2170080"/>
                <a:ext cx="519120" cy="330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000000">
                  <a:alpha val="60000"/>
                </a:srgbClr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未知"/>
              <p:cNvSpPr/>
              <p:nvPr/>
            </p:nvSpPr>
            <p:spPr>
              <a:xfrm>
                <a:off x="5879160" y="2309760"/>
                <a:ext cx="227160" cy="18072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617800" y="2282040"/>
                <a:ext cx="267120" cy="145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未知"/>
            <p:cNvSpPr/>
            <p:nvPr/>
          </p:nvSpPr>
          <p:spPr>
            <a:xfrm>
              <a:off x="5960520" y="2415600"/>
              <a:ext cx="50760" cy="464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5442120" y="258120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697120" y="523728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442120" y="523728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30760" y="34560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16292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42920" y="1600200"/>
            <a:ext cx="2743200" cy="441972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9240" y="2590920"/>
            <a:ext cx="22096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bad2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0bad2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38400" y="1676520"/>
            <a:ext cx="510552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3114720" y="1828800"/>
            <a:ext cx="4924440" cy="1228680"/>
            <a:chOff x="3114720" y="1828800"/>
            <a:chExt cx="4924440" cy="1228680"/>
          </a:xfrm>
        </p:grpSpPr>
        <p:sp>
          <p:nvSpPr>
            <p:cNvPr id="449" name=""/>
            <p:cNvSpPr/>
            <p:nvPr/>
          </p:nvSpPr>
          <p:spPr>
            <a:xfrm>
              <a:off x="316224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8f0d5"/>
                </a:gs>
                <a:gs pos="100000">
                  <a:srgbClr val="98c1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14720" y="228600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3114720" y="3191040"/>
            <a:ext cx="4924440" cy="1228680"/>
            <a:chOff x="3114720" y="3191040"/>
            <a:chExt cx="4924440" cy="1228680"/>
          </a:xfrm>
        </p:grpSpPr>
        <p:sp>
          <p:nvSpPr>
            <p:cNvPr id="452" name=""/>
            <p:cNvSpPr/>
            <p:nvPr/>
          </p:nvSpPr>
          <p:spPr>
            <a:xfrm>
              <a:off x="316224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0dcf8"/>
                </a:gs>
                <a:gs pos="100000">
                  <a:srgbClr val="715e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114720" y="3657600"/>
              <a:ext cx="533520" cy="381240"/>
            </a:xfrm>
            <a:prstGeom prst="rightArrow">
              <a:avLst>
                <a:gd name="adj1" fmla="val 50000"/>
                <a:gd name="adj2" fmla="val 5831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114720" y="4495680"/>
            <a:ext cx="4924440" cy="1228680"/>
            <a:chOff x="3114720" y="4495680"/>
            <a:chExt cx="4924440" cy="1228680"/>
          </a:xfrm>
        </p:grpSpPr>
        <p:sp>
          <p:nvSpPr>
            <p:cNvPr id="455" name=""/>
            <p:cNvSpPr/>
            <p:nvPr/>
          </p:nvSpPr>
          <p:spPr>
            <a:xfrm>
              <a:off x="316224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5eff4"/>
                </a:gs>
                <a:gs pos="100000">
                  <a:srgbClr val="40bad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14720" y="495288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3800520" y="4660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00520" y="3355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800520" y="199404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09:56:08Z</dcterms:created>
  <dc:creator>http://www.eeppt.com</dc:creator>
  <dc:description>ppt模板下载网站 http://www.eeppt.com</dc:description>
  <dc:language>en-US</dc:language>
  <cp:lastModifiedBy/>
  <dcterms:modified xsi:type="dcterms:W3CDTF">2015-06-14T08:04:1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