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882-515B-4C0F-82EC-A192258A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678-F532-4E23-964B-2884C994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E7D-5DA0-4B7F-8FE3-6C9E99E6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400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0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400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0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214-BEB8-4CD4-96DC-3A631784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F8F-7860-4411-8428-8E832C9B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FA61-E1BB-4600-ACD6-B3299BA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1249-E9B8-427E-B28C-1457EDD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8CFC-DEBC-4C44-B585-3F234CF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09EC-4291-4576-BE9B-B2D91BF6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09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5EB-3C14-4118-8F37-984F6AB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756-2CD1-4CD3-ACA2-AAAC150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47F-8E42-4176-9D0E-B4BCCEE6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F618-706C-45F1-B4DF-216B700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F323-FED9-4A32-AD22-B122E65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4FB6-F19B-4ACD-8BE5-660C0F7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96A1-160F-4E44-B923-EA0F2850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400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080" y="126792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400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080" y="3909240"/>
            <a:ext cx="26233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599E-55CA-44DA-A67B-3D7A80A0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93B-859F-414A-8074-858A0B86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F47-5DFB-4BDC-BAEC-E1E1075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CAB-9FF9-4B76-8EC4-EC09313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15560"/>
            <a:ext cx="8209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8AE-A3BF-4F03-A7D4-33C0528F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AFD-DF17-4571-AAA0-7E61AC0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840" y="390924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070-D91C-4178-AF19-53624AA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840" y="1267920"/>
            <a:ext cx="39754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909240"/>
            <a:ext cx="814716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20F-98E5-4325-943E-90C36B1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3240" y="-19080"/>
            <a:ext cx="9147240" cy="1703520"/>
          </a:xfrm>
          <a:custGeom>
            <a:avLst/>
            <a:gdLst/>
            <a:ahLst/>
            <a:rect l="l" t="t" r="r" b="b"/>
            <a:pathLst>
              <a:path w="5767" h="1078">
                <a:moveTo>
                  <a:pt x="0" y="0"/>
                </a:moveTo>
                <a:lnTo>
                  <a:pt x="7" y="803"/>
                </a:lnTo>
                <a:cubicBezTo>
                  <a:pt x="617" y="653"/>
                  <a:pt x="921" y="478"/>
                  <a:pt x="2823" y="511"/>
                </a:cubicBezTo>
                <a:cubicBezTo>
                  <a:pt x="4725" y="545"/>
                  <a:pt x="5767" y="1030"/>
                  <a:pt x="5767" y="1078"/>
                </a:cubicBezTo>
                <a:lnTo>
                  <a:pt x="5767" y="0"/>
                </a:lnTo>
                <a:lnTo>
                  <a:pt x="0" y="0"/>
                </a:lnTo>
                <a:close/>
              </a:path>
            </a:pathLst>
          </a:custGeom>
          <a:solidFill>
            <a:srgbClr val="7f9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-19080"/>
            <a:ext cx="9147240" cy="1413000"/>
          </a:xfrm>
          <a:custGeom>
            <a:avLst/>
            <a:gdLst/>
            <a:ahLst/>
            <a:rect l="l" t="t" r="r" b="b"/>
            <a:pathLst>
              <a:path w="5767" h="907">
                <a:moveTo>
                  <a:pt x="0" y="0"/>
                </a:moveTo>
                <a:lnTo>
                  <a:pt x="0" y="807"/>
                </a:lnTo>
                <a:cubicBezTo>
                  <a:pt x="610" y="669"/>
                  <a:pt x="1022" y="443"/>
                  <a:pt x="2924" y="474"/>
                </a:cubicBezTo>
                <a:cubicBezTo>
                  <a:pt x="4826" y="505"/>
                  <a:pt x="5767" y="863"/>
                  <a:pt x="5767" y="907"/>
                </a:cubicBezTo>
                <a:lnTo>
                  <a:pt x="576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160" y="6093000"/>
            <a:ext cx="91328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ce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267920"/>
            <a:ext cx="81471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1e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2612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33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1B2E-14CA-477B-A7CD-1DD884BB5EA3}" type="slidenum">
              <a:rPr b="0" lang="ko-KR" sz="1200" spc="-1" strike="noStrike">
                <a:solidFill>
                  <a:srgbClr val="0033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63920"/>
            <a:ext cx="842472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166-DD95-4F68-99B4-A32F409BA11C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02a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dce02a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1400" y="2057400"/>
            <a:ext cx="54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森林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风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2c7ec8"/>
              </a:gs>
              <a:gs pos="100000">
                <a:srgbClr val="143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dce02a"/>
              </a:gs>
              <a:gs pos="100000">
                <a:srgbClr val="656713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63280" y="1796400"/>
            <a:ext cx="2482920" cy="2629800"/>
            <a:chOff x="2663280" y="1796400"/>
            <a:chExt cx="2482920" cy="2629800"/>
          </a:xfrm>
        </p:grpSpPr>
        <p:sp>
          <p:nvSpPr>
            <p:cNvPr id="254" name=""/>
            <p:cNvSpPr/>
            <p:nvPr/>
          </p:nvSpPr>
          <p:spPr>
            <a:xfrm rot="12600000">
              <a:off x="2717280" y="350316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 rot="7200000">
              <a:off x="311256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 rot="7200000">
              <a:off x="418572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dce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57" name="未知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76240" y="2684520"/>
            <a:ext cx="2172960" cy="2759400"/>
            <a:chOff x="4476240" y="2684520"/>
            <a:chExt cx="2172960" cy="2759400"/>
          </a:xfrm>
        </p:grpSpPr>
        <p:sp>
          <p:nvSpPr>
            <p:cNvPr id="259" name=""/>
            <p:cNvSpPr/>
            <p:nvPr/>
          </p:nvSpPr>
          <p:spPr>
            <a:xfrm rot="19800000">
              <a:off x="4530600" y="300312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14400000">
              <a:off x="4914000" y="3589920"/>
              <a:ext cx="150480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27280" y="4338720"/>
            <a:ext cx="2493360" cy="1395000"/>
            <a:chOff x="2627280" y="4338720"/>
            <a:chExt cx="2493360" cy="1395000"/>
          </a:xfrm>
        </p:grpSpPr>
        <p:sp>
          <p:nvSpPr>
            <p:cNvPr id="263" name="未知"/>
            <p:cNvSpPr/>
            <p:nvPr/>
          </p:nvSpPr>
          <p:spPr>
            <a:xfrm>
              <a:off x="2627280" y="4338720"/>
              <a:ext cx="583200" cy="110592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4102920" y="4716000"/>
              <a:ext cx="1393560" cy="641880"/>
            </a:xfrm>
            <a:prstGeom prst="triangle">
              <a:avLst>
                <a:gd name="adj" fmla="val 50000"/>
              </a:avLst>
            </a:pr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3152880" y="4663080"/>
              <a:ext cx="1601640" cy="7815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未知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eac29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28680" y="1730160"/>
            <a:ext cx="4062240" cy="3859200"/>
            <a:chOff x="1228680" y="1730160"/>
            <a:chExt cx="4062240" cy="3859200"/>
          </a:xfrm>
        </p:grpSpPr>
        <p:sp>
          <p:nvSpPr>
            <p:cNvPr id="272" name=""/>
            <p:cNvSpPr/>
            <p:nvPr/>
          </p:nvSpPr>
          <p:spPr>
            <a:xfrm rot="16200000">
              <a:off x="3833280" y="3002400"/>
              <a:ext cx="1562400" cy="135252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139560" y="1833480"/>
              <a:ext cx="1560600" cy="1353960"/>
            </a:xfrm>
            <a:prstGeom prst="hexagon">
              <a:avLst>
                <a:gd name="adj" fmla="val 28815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184560" y="4132800"/>
              <a:ext cx="1560960" cy="1352160"/>
            </a:xfrm>
            <a:prstGeom prst="hexagon">
              <a:avLst>
                <a:gd name="adj" fmla="val 28860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2467080" y="2995560"/>
              <a:ext cx="1560600" cy="1353960"/>
            </a:xfrm>
            <a:prstGeom prst="hexagon">
              <a:avLst>
                <a:gd name="adj" fmla="val 28815"/>
                <a:gd name="vf" fmla="val 115470"/>
              </a:avLst>
            </a:prstGeom>
            <a:gradFill rotWithShape="0">
              <a:gsLst>
                <a:gs pos="0">
                  <a:srgbClr val="3a4715"/>
                </a:gs>
                <a:gs pos="50000">
                  <a:srgbClr val="7f9c2e"/>
                </a:gs>
                <a:gs pos="100000">
                  <a:srgbClr val="3a4715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1786320" y="1834200"/>
              <a:ext cx="1560600" cy="1352520"/>
            </a:xfrm>
            <a:prstGeom prst="hexagon">
              <a:avLst>
                <a:gd name="adj" fmla="val 28846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784520" y="4132440"/>
              <a:ext cx="1560960" cy="1352520"/>
            </a:xfrm>
            <a:prstGeom prst="hexagon">
              <a:avLst>
                <a:gd name="adj" fmla="val 28853"/>
                <a:gd name="vf" fmla="val 115470"/>
              </a:avLst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162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1123560" y="3002760"/>
              <a:ext cx="1562400" cy="1352160"/>
            </a:xfrm>
            <a:prstGeom prst="hexagon">
              <a:avLst>
                <a:gd name="adj" fmla="val 28887"/>
                <a:gd name="vf" fmla="val 115470"/>
              </a:avLst>
            </a:prstGeom>
            <a:gradFill rotWithShape="0">
              <a:gsLst>
                <a:gs pos="0">
                  <a:srgbClr val="143a5c"/>
                </a:gs>
                <a:gs pos="50000">
                  <a:srgbClr val="2c7ec8"/>
                </a:gs>
                <a:gs pos="100000">
                  <a:srgbClr val="143a5c"/>
                </a:gs>
              </a:gsLst>
              <a:lin ang="189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00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eac29a"/>
              </a:gs>
              <a:gs pos="100000">
                <a:srgbClr val="cc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288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8520" y="255888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4671e"/>
              </a:gs>
              <a:gs pos="50000">
                <a:srgbClr val="7f9c2e"/>
              </a:gs>
              <a:gs pos="100000">
                <a:srgbClr val="5467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60d0d"/>
              </a:gs>
              <a:gs pos="50000">
                <a:srgbClr val="541e1e"/>
              </a:gs>
              <a:gs pos="100000">
                <a:srgbClr val="260d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d5384"/>
              </a:gs>
              <a:gs pos="50000">
                <a:srgbClr val="2c7ec8"/>
              </a:gs>
              <a:gs pos="100000">
                <a:srgbClr val="1d53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941b"/>
              </a:gs>
              <a:gs pos="50000">
                <a:srgbClr val="dce02a"/>
              </a:gs>
              <a:gs pos="100000">
                <a:srgbClr val="9294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271152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e02a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9c2e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1e1e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9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462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2c7ec8"/>
              </a:gs>
              <a:gs pos="100000">
                <a:srgbClr val="0f2b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4e4f0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81120" y="2178000"/>
          <a:ext cx="7640640" cy="3616200"/>
        </p:xfrm>
        <a:graphic>
          <a:graphicData uri="http://schemas.openxmlformats.org/drawingml/2006/table">
            <a:tbl>
              <a:tblPr/>
              <a:tblGrid>
                <a:gridCol w="1717560"/>
                <a:gridCol w="1204920"/>
                <a:gridCol w="1163880"/>
                <a:gridCol w="1185840"/>
                <a:gridCol w="1187280"/>
                <a:gridCol w="1181160"/>
              </a:tblGrid>
              <a:tr h="43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a5c"/>
                        </a:gs>
                        <a:gs pos="50000">
                          <a:srgbClr val="2c7ec8"/>
                        </a:gs>
                        <a:gs pos="100000">
                          <a:srgbClr val="143a5c"/>
                        </a:gs>
                      </a:gsLst>
                      <a:lin ang="5400000"/>
                    </a:gradFill>
                  </a:tcPr>
                </a:tc>
              </a:tr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78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6713"/>
                        </a:gs>
                        <a:gs pos="50000">
                          <a:srgbClr val="dce02a"/>
                        </a:gs>
                        <a:gs pos="100000">
                          <a:srgbClr val="6567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21013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21013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4113"/>
              </a:gs>
              <a:gs pos="100000">
                <a:srgbClr val="7f9c2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21013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5e11"/>
              </a:gs>
              <a:gs pos="100000">
                <a:srgbClr val="dce02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28494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9fa21e"/>
              </a:gs>
              <a:gs pos="100000">
                <a:srgbClr val="dce02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494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c7121"/>
              </a:gs>
              <a:gs pos="100000">
                <a:srgbClr val="7f9c2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28494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140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67000" y="1542960"/>
          <a:ext cx="606744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42960"/>
                    <a:ext cx="60674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33591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335916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08440" y="335916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335916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00960" y="1865160"/>
            <a:ext cx="6436800" cy="1387800"/>
            <a:chOff x="1200960" y="1865160"/>
            <a:chExt cx="6436800" cy="1387800"/>
          </a:xfrm>
        </p:grpSpPr>
        <p:sp>
          <p:nvSpPr>
            <p:cNvPr id="343" name=""/>
            <p:cNvSpPr/>
            <p:nvPr/>
          </p:nvSpPr>
          <p:spPr>
            <a:xfrm rot="3418800">
              <a:off x="1411560" y="2089800"/>
              <a:ext cx="924120" cy="10036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375280" y="2261880"/>
              <a:ext cx="932040" cy="131760"/>
              <a:chOff x="2375280" y="2261880"/>
              <a:chExt cx="932040" cy="131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375280" y="226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64560" y="226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66200" y="226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41440" y="230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rot="3418800">
              <a:off x="3132720" y="2023920"/>
              <a:ext cx="924120" cy="1003680"/>
            </a:xfrm>
            <a:prstGeom prst="rect">
              <a:avLst/>
            </a:prstGeom>
            <a:solidFill>
              <a:srgbClr val="dce02a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096440" y="2261880"/>
              <a:ext cx="932040" cy="131760"/>
              <a:chOff x="4096440" y="2261880"/>
              <a:chExt cx="932040" cy="131760"/>
            </a:xfrm>
          </p:grpSpPr>
          <p:sp>
            <p:nvSpPr>
              <p:cNvPr id="351" name=""/>
              <p:cNvSpPr/>
              <p:nvPr/>
            </p:nvSpPr>
            <p:spPr>
              <a:xfrm>
                <a:off x="4096440" y="226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85720" y="226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87360" y="226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62600" y="230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3418800">
              <a:off x="4781520" y="2023920"/>
              <a:ext cx="924120" cy="10040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17600" y="2261880"/>
              <a:ext cx="1218600" cy="131760"/>
              <a:chOff x="5817600" y="2261880"/>
              <a:chExt cx="1218600" cy="131760"/>
            </a:xfrm>
          </p:grpSpPr>
          <p:sp>
            <p:nvSpPr>
              <p:cNvPr id="357" name=""/>
              <p:cNvSpPr/>
              <p:nvPr/>
            </p:nvSpPr>
            <p:spPr>
              <a:xfrm>
                <a:off x="5817600" y="22618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34240" y="22629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51520" y="22640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50160" y="23050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3418800">
              <a:off x="6502680" y="2023920"/>
              <a:ext cx="924120" cy="1004040"/>
            </a:xfrm>
            <a:prstGeom prst="rect">
              <a:avLst/>
            </a:prstGeom>
            <a:solidFill>
              <a:srgbClr val="dce02a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297080" y="23479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22734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2273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2273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5514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0601600">
            <a:off x="1636560" y="243792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c0ccc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0601600">
            <a:off x="1699920" y="228456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0601600">
            <a:off x="1557000" y="22939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601600">
            <a:off x="1609560" y="22618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0b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0602200">
            <a:off x="1594080" y="2292120"/>
            <a:ext cx="57337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0601600">
            <a:off x="1630080" y="228204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143a5c"/>
              </a:gs>
              <a:gs pos="100000">
                <a:srgbClr val="2c7ec8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20602200">
            <a:off x="1599480" y="2280600"/>
            <a:ext cx="572580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17584f"/>
              </a:gs>
              <a:gs pos="100000">
                <a:srgbClr val="33c1a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0601600">
            <a:off x="4681440" y="359712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0601600">
            <a:off x="4574880" y="33444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712600">
            <a:off x="956160" y="2366640"/>
            <a:ext cx="6413400" cy="281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gradFill rotWithShape="0">
            <a:gsLst>
              <a:gs pos="0">
                <a:srgbClr val="001500"/>
              </a:gs>
              <a:gs pos="100000">
                <a:srgbClr val="00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0712600">
            <a:off x="4361040" y="356508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260d0d"/>
              </a:gs>
              <a:gs pos="100000">
                <a:srgbClr val="541e1e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78280" y="1298160"/>
            <a:ext cx="6957360" cy="4863240"/>
            <a:chOff x="1178280" y="1298160"/>
            <a:chExt cx="6957360" cy="4863240"/>
          </a:xfrm>
        </p:grpSpPr>
        <p:sp>
          <p:nvSpPr>
            <p:cNvPr id="380" name="未知"/>
            <p:cNvSpPr/>
            <p:nvPr/>
          </p:nvSpPr>
          <p:spPr>
            <a:xfrm rot="20712600">
              <a:off x="5736960" y="373320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4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 rot="20601600">
              <a:off x="6248160" y="363636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dce02a"/>
                </a:gs>
                <a:gs pos="100000">
                  <a:srgbClr val="eee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539200">
              <a:off x="1498320" y="218412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dce02a"/>
                </a:gs>
                <a:gs pos="100000">
                  <a:srgbClr val="656713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 rot="20601600">
              <a:off x="4933440" y="3547440"/>
              <a:ext cx="1359000" cy="15940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8b8d1a"/>
                </a:gs>
                <a:gs pos="100000">
                  <a:srgbClr val="dce0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rot="20601600">
            <a:off x="3154320" y="29905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541e1e"/>
              </a:gs>
              <a:gs pos="50000">
                <a:srgbClr val="d4c7c7"/>
              </a:gs>
              <a:gs pos="100000">
                <a:srgbClr val="541e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3254400" y="324324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084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22464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70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3693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43038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5324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471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1e1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7ec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On the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View]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menu, point to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Master],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and then click </a:t>
            </a:r>
            <a:r>
              <a:rPr b="1" lang="en-US" sz="2000" spc="-1" strike="noStrike">
                <a:solidFill>
                  <a:srgbClr val="7f9c2e"/>
                </a:solidFill>
                <a:latin typeface="Verdana"/>
                <a:ea typeface="Gulim"/>
              </a:rPr>
              <a:t>[Slide Master]</a:t>
            </a:r>
            <a:r>
              <a:rPr b="1" lang="en-US" sz="2000" spc="-1" strike="noStrike">
                <a:solidFill>
                  <a:srgbClr val="541e1e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[Image information in product]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541e1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Note to customers: This image has been licensed to be used within this PowerPoint template only. 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      </a:t>
            </a:r>
            <a:r>
              <a:rPr b="1" lang="en-US" sz="1000" spc="-1" strike="noStrike">
                <a:solidFill>
                  <a:srgbClr val="541e1e"/>
                </a:solidFill>
                <a:latin typeface="Verdana"/>
                <a:ea typeface="Gulim"/>
              </a:rPr>
              <a:t>You may not extract the image for any other use.</a:t>
            </a: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177640" y="4868640"/>
            <a:ext cx="47912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e02a"/>
              </a:solidFill>
              <a:latin typeface="Verdana"/>
              <a:ea typeface="Gulim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63640" y="2781360"/>
            <a:ext cx="57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c7ec8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c7ec8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2c7ec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961-F823-48C7-94A6-2D103F07C9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85840" y="22766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7ec8"/>
              </a:gs>
              <a:gs pos="100000">
                <a:srgbClr val="143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00240" y="31338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02a"/>
              </a:gs>
              <a:gs pos="100000">
                <a:srgbClr val="65671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5840" y="398448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f9c2e"/>
              </a:gs>
              <a:gs pos="100000">
                <a:srgbClr val="3a47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85840" y="48625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397240" y="22161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7760" y="30672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8400" y="392580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47973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46280" y="2076480"/>
            <a:ext cx="685800" cy="685800"/>
          </a:xfrm>
          <a:prstGeom prst="diamond">
            <a:avLst/>
          </a:prstGeom>
          <a:solidFill>
            <a:srgbClr val="2c7ec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914560"/>
            <a:ext cx="685800" cy="685800"/>
          </a:xfrm>
          <a:prstGeom prst="diamond">
            <a:avLst/>
          </a:prstGeom>
          <a:solidFill>
            <a:srgbClr val="dce0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46280" y="3828960"/>
            <a:ext cx="685800" cy="685800"/>
          </a:xfrm>
          <a:prstGeom prst="diamond">
            <a:avLst/>
          </a:prstGeom>
          <a:solidFill>
            <a:srgbClr val="7f9c2e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6280" y="4667400"/>
            <a:ext cx="685800" cy="685800"/>
          </a:xfrm>
          <a:prstGeom prst="diamond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22920" y="2997360"/>
            <a:ext cx="2665440" cy="316836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360"/>
              <a:gd name="textAreaBottom" fmla="*/ 3038400 h 3168360"/>
            </a:gdLst>
            <a:ahLst/>
            <a:rect l="textAreaLeft" t="textAreaTop" r="textAreaRight" b="textAreaBottom"/>
            <a:pathLst>
              <a:path w="21600" h="25675">
                <a:moveTo>
                  <a:pt x="3600" y="0"/>
                </a:moveTo>
                <a:arcTo wR="3600" hR="3600" stAng="16200000" swAng="-5400000"/>
                <a:lnTo>
                  <a:pt x="0" y="22075"/>
                </a:lnTo>
                <a:arcTo wR="3600" hR="3600" stAng="10800000" swAng="-5400000"/>
                <a:lnTo>
                  <a:pt x="18000" y="256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9242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1e1e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4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32000" y="1630440"/>
            <a:ext cx="3057480" cy="1487520"/>
            <a:chOff x="3132000" y="1630440"/>
            <a:chExt cx="3057480" cy="1487520"/>
          </a:xfrm>
        </p:grpSpPr>
        <p:sp>
          <p:nvSpPr>
            <p:cNvPr id="106" name=""/>
            <p:cNvSpPr/>
            <p:nvPr/>
          </p:nvSpPr>
          <p:spPr>
            <a:xfrm>
              <a:off x="3165480" y="16779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8b8d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2000" y="1630440"/>
              <a:ext cx="3024360" cy="144000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eef0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8" name="未知"/>
          <p:cNvSpPr/>
          <p:nvPr/>
        </p:nvSpPr>
        <p:spPr>
          <a:xfrm>
            <a:off x="3419640" y="31431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2f4ba"/>
              </a:gs>
              <a:gs pos="100000">
                <a:srgbClr val="dce0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未知"/>
          <p:cNvSpPr/>
          <p:nvPr/>
        </p:nvSpPr>
        <p:spPr>
          <a:xfrm flipH="1">
            <a:off x="4948200" y="31431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d5ec"/>
              </a:gs>
              <a:gs pos="100000">
                <a:srgbClr val="2c7e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76720" y="1484280"/>
            <a:ext cx="2736360" cy="1368360"/>
            <a:chOff x="3276720" y="1484280"/>
            <a:chExt cx="2736360" cy="1368360"/>
          </a:xfrm>
        </p:grpSpPr>
        <p:sp>
          <p:nvSpPr>
            <p:cNvPr id="111" name=""/>
            <p:cNvSpPr/>
            <p:nvPr/>
          </p:nvSpPr>
          <p:spPr>
            <a:xfrm>
              <a:off x="3276720" y="1484280"/>
              <a:ext cx="2736360" cy="136836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143a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11640" y="1491840"/>
              <a:ext cx="2670480" cy="1334160"/>
            </a:xfrm>
            <a:prstGeom prst="ellipse">
              <a:avLst/>
            </a:prstGeom>
            <a:gradFill rotWithShape="0">
              <a:gsLst>
                <a:gs pos="0">
                  <a:srgbClr val="b4d1ea"/>
                </a:gs>
                <a:gs pos="100000">
                  <a:srgbClr val="2c7ec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0080" y="1504800"/>
              <a:ext cx="2539800" cy="1246680"/>
            </a:xfrm>
            <a:prstGeom prst="ellipse">
              <a:avLst/>
            </a:prstGeom>
            <a:gradFill rotWithShape="0">
              <a:gsLst>
                <a:gs pos="0">
                  <a:srgbClr val="2c7ec8">
                    <a:alpha val="48235"/>
                  </a:srgbClr>
                </a:gs>
                <a:gs pos="100000">
                  <a:srgbClr val="2263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88760" y="15397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2c7ec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Verdana"/>
                  <a:ea typeface="Gulim"/>
                </a:rPr>
                <a:t>2Part Concep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16360" y="28544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c7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492360" y="2062080"/>
            <a:ext cx="2089440" cy="2087640"/>
            <a:chOff x="3492360" y="2062080"/>
            <a:chExt cx="2089440" cy="2087640"/>
          </a:xfrm>
        </p:grpSpPr>
        <p:sp>
          <p:nvSpPr>
            <p:cNvPr id="118" name=""/>
            <p:cNvSpPr/>
            <p:nvPr/>
          </p:nvSpPr>
          <p:spPr>
            <a:xfrm>
              <a:off x="349236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236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916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916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988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710520" y="2925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5640" y="2062080"/>
            <a:ext cx="2089080" cy="2087640"/>
            <a:chOff x="755640" y="2062080"/>
            <a:chExt cx="2089080" cy="2087640"/>
          </a:xfrm>
        </p:grpSpPr>
        <p:sp>
          <p:nvSpPr>
            <p:cNvPr id="125" name=""/>
            <p:cNvSpPr/>
            <p:nvPr/>
          </p:nvSpPr>
          <p:spPr>
            <a:xfrm>
              <a:off x="755640" y="2062080"/>
              <a:ext cx="208908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9c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5640" y="2062080"/>
              <a:ext cx="2089080" cy="208764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2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445418"/>
                </a:gs>
                <a:gs pos="50000">
                  <a:srgbClr val="7f9c2e"/>
                </a:gs>
                <a:gs pos="100000">
                  <a:srgbClr val="4454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2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3d4b16"/>
                </a:gs>
                <a:gs pos="100000">
                  <a:srgbClr val="7f9c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8316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45080" y="2927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227640" y="2062080"/>
            <a:ext cx="2089440" cy="2087640"/>
            <a:chOff x="6227640" y="2062080"/>
            <a:chExt cx="2089440" cy="2087640"/>
          </a:xfrm>
        </p:grpSpPr>
        <p:sp>
          <p:nvSpPr>
            <p:cNvPr id="132" name=""/>
            <p:cNvSpPr/>
            <p:nvPr/>
          </p:nvSpPr>
          <p:spPr>
            <a:xfrm>
              <a:off x="622764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e0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7640" y="2062080"/>
              <a:ext cx="2089440" cy="208764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64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767816"/>
                </a:gs>
                <a:gs pos="50000">
                  <a:srgbClr val="dce02a"/>
                </a:gs>
                <a:gs pos="100000">
                  <a:srgbClr val="7678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4440" y="2198520"/>
              <a:ext cx="1815480" cy="1814040"/>
            </a:xfrm>
            <a:prstGeom prst="ellipse">
              <a:avLst/>
            </a:prstGeom>
            <a:gradFill rotWithShape="0">
              <a:gsLst>
                <a:gs pos="0">
                  <a:srgbClr val="6a6c14"/>
                </a:gs>
                <a:gs pos="100000">
                  <a:srgbClr val="dce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55160" y="2289600"/>
              <a:ext cx="1633680" cy="1632600"/>
            </a:xfrm>
            <a:prstGeom prst="ellipse">
              <a:avLst/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45800" y="2927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285444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ce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72608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72608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472608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54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1e1e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未知"/>
          <p:cNvSpPr/>
          <p:nvPr/>
        </p:nvSpPr>
        <p:spPr>
          <a:xfrm>
            <a:off x="974880" y="168588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c7ec8"/>
              </a:gs>
              <a:gs pos="100000">
                <a:srgbClr val="dce02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03640" y="3701880"/>
            <a:ext cx="2181240" cy="2376360"/>
            <a:chOff x="3203640" y="3701880"/>
            <a:chExt cx="2181240" cy="2376360"/>
          </a:xfrm>
        </p:grpSpPr>
        <p:sp>
          <p:nvSpPr>
            <p:cNvPr id="145" name=""/>
            <p:cNvSpPr/>
            <p:nvPr/>
          </p:nvSpPr>
          <p:spPr>
            <a:xfrm>
              <a:off x="3203640" y="5155560"/>
              <a:ext cx="2181240" cy="92268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0480" y="3701880"/>
              <a:ext cx="1986840" cy="19875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26400" y="3712320"/>
              <a:ext cx="1938600" cy="19393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6560" y="3731400"/>
              <a:ext cx="1844640" cy="18122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53480" y="3782880"/>
              <a:ext cx="1640520" cy="1470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rot="16200000">
            <a:off x="3934080" y="425988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387440" y="3125880"/>
            <a:ext cx="1744560" cy="1900080"/>
            <a:chOff x="1387440" y="3125880"/>
            <a:chExt cx="1744560" cy="1900080"/>
          </a:xfrm>
        </p:grpSpPr>
        <p:sp>
          <p:nvSpPr>
            <p:cNvPr id="152" name=""/>
            <p:cNvSpPr/>
            <p:nvPr/>
          </p:nvSpPr>
          <p:spPr>
            <a:xfrm>
              <a:off x="1387440" y="428832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4840" y="312588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5720" y="313416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1920" y="3149640"/>
              <a:ext cx="1475280" cy="14486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7240" y="319068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90680" y="1685880"/>
            <a:ext cx="1309680" cy="1425240"/>
            <a:chOff x="1390680" y="1685880"/>
            <a:chExt cx="1309680" cy="1425240"/>
          </a:xfrm>
        </p:grpSpPr>
        <p:sp>
          <p:nvSpPr>
            <p:cNvPr id="158" name=""/>
            <p:cNvSpPr/>
            <p:nvPr/>
          </p:nvSpPr>
          <p:spPr>
            <a:xfrm>
              <a:off x="1390680" y="255780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9000" y="168588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4120" y="169200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70352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40800" y="173448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701800" y="1181160"/>
            <a:ext cx="871560" cy="949320"/>
            <a:chOff x="2701800" y="1181160"/>
            <a:chExt cx="871560" cy="949320"/>
          </a:xfrm>
        </p:grpSpPr>
        <p:sp>
          <p:nvSpPr>
            <p:cNvPr id="164" name=""/>
            <p:cNvSpPr/>
            <p:nvPr/>
          </p:nvSpPr>
          <p:spPr>
            <a:xfrm>
              <a:off x="2701800" y="176184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0033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0320" y="118116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0760" y="118512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9040" y="119304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1520" y="121356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1933560" y="350856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787040" y="197280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934360" y="136512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853320" y="221292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3300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83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4480" y="289692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dce02a"/>
              </a:gs>
              <a:gs pos="100000">
                <a:srgbClr val="7779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8f8f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7ec8"/>
              </a:gs>
              <a:gs pos="50000">
                <a:srgbClr val="fefefe"/>
              </a:gs>
              <a:gs pos="100000">
                <a:srgbClr val="2c7ec8"/>
              </a:gs>
            </a:gsLst>
            <a:lin ang="10800000"/>
          </a:gra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05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7e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c7ec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7436b"/>
                </a:gs>
                <a:gs pos="50000">
                  <a:srgbClr val="2c7ec8"/>
                </a:gs>
                <a:gs pos="100000">
                  <a:srgbClr val="1743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53d60"/>
                </a:gs>
                <a:gs pos="100000">
                  <a:srgbClr val="2c7e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43a5c"/>
                </a:gs>
                <a:gs pos="100000">
                  <a:srgbClr val="2c7e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11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9c2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7f9c2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45418"/>
                </a:gs>
                <a:gs pos="50000">
                  <a:srgbClr val="7f9c2e"/>
                </a:gs>
                <a:gs pos="100000">
                  <a:srgbClr val="44541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d4b16"/>
                </a:gs>
                <a:gs pos="100000">
                  <a:srgbClr val="7f9c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17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e0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ce02a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67816"/>
                </a:gs>
                <a:gs pos="50000">
                  <a:srgbClr val="dce02a"/>
                </a:gs>
                <a:gs pos="100000">
                  <a:srgbClr val="7678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a6c14"/>
                </a:gs>
                <a:gs pos="100000">
                  <a:srgbClr val="dce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56713"/>
                </a:gs>
                <a:gs pos="100000">
                  <a:srgbClr val="dce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23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2c7ec8"/>
                </a:solidFill>
                <a:uFillTx/>
                <a:latin typeface="Arial"/>
                <a:hlinkClick r:id="rId1"/>
              </a:rPr>
              <a:t>自然风景ppt模板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dce02a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37920" y="1628280"/>
            <a:ext cx="3978720" cy="3653640"/>
            <a:chOff x="2437920" y="1628280"/>
            <a:chExt cx="3978720" cy="3653640"/>
          </a:xfrm>
        </p:grpSpPr>
        <p:sp>
          <p:nvSpPr>
            <p:cNvPr id="237" name=""/>
            <p:cNvSpPr/>
            <p:nvPr/>
          </p:nvSpPr>
          <p:spPr>
            <a:xfrm>
              <a:off x="2999880" y="1929240"/>
              <a:ext cx="292464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e6eae6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 rot="5400000">
              <a:off x="4436640" y="1848600"/>
              <a:ext cx="1436400" cy="14630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7f9c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 rot="7200000">
              <a:off x="4705920" y="2307240"/>
              <a:ext cx="1436400" cy="14626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3a4715"/>
                </a:gs>
                <a:gs pos="100000">
                  <a:srgbClr val="7f9c2e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00000">
              <a:off x="4769280" y="3393720"/>
              <a:ext cx="1234440" cy="781560"/>
            </a:xfrm>
            <a:prstGeom prst="triangle">
              <a:avLst>
                <a:gd name="adj" fmla="val 50000"/>
              </a:avLst>
            </a:prstGeom>
            <a:solidFill>
              <a:srgbClr val="2c7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165840" y="3304080"/>
              <a:ext cx="2518200" cy="1977840"/>
              <a:chOff x="3165840" y="3304080"/>
              <a:chExt cx="2518200" cy="1977840"/>
            </a:xfrm>
          </p:grpSpPr>
          <p:sp>
            <p:nvSpPr>
              <p:cNvPr id="242" name="未知"/>
              <p:cNvSpPr/>
              <p:nvPr/>
            </p:nvSpPr>
            <p:spPr>
              <a:xfrm rot="12600000">
                <a:off x="3961800" y="3573360"/>
                <a:ext cx="145980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2c7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 rot="14400000">
                <a:off x="3440160" y="3560040"/>
                <a:ext cx="1436400" cy="14630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3a5c"/>
                  </a:gs>
                  <a:gs pos="100000">
                    <a:srgbClr val="2c7ec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rot="9000000">
              <a:off x="2928960" y="3573360"/>
              <a:ext cx="123444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437920" y="1866240"/>
              <a:ext cx="1988280" cy="2166480"/>
              <a:chOff x="2437920" y="1866240"/>
              <a:chExt cx="1988280" cy="2166480"/>
            </a:xfrm>
          </p:grpSpPr>
          <p:sp>
            <p:nvSpPr>
              <p:cNvPr id="246" name="未知"/>
              <p:cNvSpPr/>
              <p:nvPr/>
            </p:nvSpPr>
            <p:spPr>
              <a:xfrm rot="19800000">
                <a:off x="2700360" y="2323080"/>
                <a:ext cx="145908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2966760" y="1866240"/>
                <a:ext cx="14594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rot="16200000">
              <a:off x="3637800" y="1838160"/>
              <a:ext cx="1215720" cy="795600"/>
            </a:xfrm>
            <a:prstGeom prst="triangle">
              <a:avLst>
                <a:gd name="adj" fmla="val 50000"/>
              </a:avLst>
            </a:prstGeom>
            <a:solidFill>
              <a:srgbClr val="7f9c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00330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45:41Z</dcterms:created>
  <dc:creator>http://www.eeppt.com</dc:creator>
  <dc:description>ppt模板下载网站 http://www.eeppt.com</dc:description>
  <dc:language>en-US</dc:language>
  <cp:lastModifiedBy/>
  <dcterms:modified xsi:type="dcterms:W3CDTF">2015-06-14T08:19:3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