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357-D924-4577-B856-1AFAD7B1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6D5-DA04-43C4-8634-9CCD254E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D84-71F9-4F91-AEEA-70DECC71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37F-D4A6-4F11-92E0-5DFB027D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40A3-13E7-465C-8A3B-3E1CB293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C3E8-7224-4248-92D9-A9CA8C7E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6BD1-848E-4B3A-AE31-78868530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F610-D881-41FD-83A9-9B4E634A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231C-4D4D-4E75-B0C6-E62FBCD1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5EFB-8032-4673-95DD-538EEF5B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4355-38F0-4B8D-9F36-CA5115E8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EE07-CA1F-4B91-B103-369705AE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E2D3-0CE2-4383-8780-E430DA97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0198-7559-483C-B522-B32C74D6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1D1D-F542-4F51-808D-95869ED5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EA6B-8F5D-45AE-959A-9A7410B4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3F95-063D-45DC-A8BC-C6D4EB3B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D0E-9AEA-4082-9E2A-3515A8DB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AB2-2D72-4527-B3C3-A78C2C39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DD5-B6D2-416C-B25B-F5B3F5E3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7110-3DFF-42EB-92A0-3BEE1D06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14A-D4C1-4A10-955A-A1ED4B1A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E70-89CC-4A92-99AD-EBDE9C49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F0B-5B0D-4AF7-935F-FBE4A89A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556B-9D19-475F-9DE7-C0A1254646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49DE-A6B6-4861-8FC5-2F466CE313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C168-C438-4C76-A7A7-1B57B59A0E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0C8E-B214-4CC3-B31C-CE5BB1A1C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apidppt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上箭头 3"/>
          <p:cNvSpPr/>
          <p:nvPr/>
        </p:nvSpPr>
        <p:spPr>
          <a:xfrm>
            <a:off x="4275000" y="2406600"/>
            <a:ext cx="568440" cy="509760"/>
          </a:xfrm>
          <a:prstGeom prst="upArrow">
            <a:avLst>
              <a:gd name="adj1" fmla="val 66491"/>
              <a:gd name="adj2" fmla="val 56560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上箭头 4"/>
          <p:cNvSpPr/>
          <p:nvPr/>
        </p:nvSpPr>
        <p:spPr>
          <a:xfrm rot="16200000">
            <a:off x="3047400" y="2848680"/>
            <a:ext cx="568080" cy="509760"/>
          </a:xfrm>
          <a:prstGeom prst="upArrow">
            <a:avLst>
              <a:gd name="adj1" fmla="val 66491"/>
              <a:gd name="adj2" fmla="val 56560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上箭头 5"/>
          <p:cNvSpPr/>
          <p:nvPr/>
        </p:nvSpPr>
        <p:spPr>
          <a:xfrm rot="16200000">
            <a:off x="3050280" y="4352040"/>
            <a:ext cx="568080" cy="509400"/>
          </a:xfrm>
          <a:prstGeom prst="upArrow">
            <a:avLst>
              <a:gd name="adj1" fmla="val 66491"/>
              <a:gd name="adj2" fmla="val 56560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上箭头 6"/>
          <p:cNvSpPr/>
          <p:nvPr/>
        </p:nvSpPr>
        <p:spPr>
          <a:xfrm rot="5400000">
            <a:off x="5477760" y="2848680"/>
            <a:ext cx="568080" cy="509760"/>
          </a:xfrm>
          <a:prstGeom prst="upArrow">
            <a:avLst>
              <a:gd name="adj1" fmla="val 66491"/>
              <a:gd name="adj2" fmla="val 56560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上箭头 7"/>
          <p:cNvSpPr/>
          <p:nvPr/>
        </p:nvSpPr>
        <p:spPr>
          <a:xfrm rot="5400000">
            <a:off x="5477760" y="4352040"/>
            <a:ext cx="568080" cy="509760"/>
          </a:xfrm>
          <a:prstGeom prst="upArrow">
            <a:avLst>
              <a:gd name="adj1" fmla="val 66491"/>
              <a:gd name="adj2" fmla="val 56560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上箭头 8"/>
          <p:cNvSpPr/>
          <p:nvPr/>
        </p:nvSpPr>
        <p:spPr>
          <a:xfrm rot="10800000">
            <a:off x="4274640" y="4794120"/>
            <a:ext cx="568440" cy="509760"/>
          </a:xfrm>
          <a:prstGeom prst="upArrow">
            <a:avLst>
              <a:gd name="adj1" fmla="val 66491"/>
              <a:gd name="adj2" fmla="val 56560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 rot="5400000">
            <a:off x="4362840" y="2507400"/>
            <a:ext cx="374400" cy="119196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d9d9d9"/>
              </a:gs>
            </a:gsLst>
            <a:lin ang="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 rot="5400000">
            <a:off x="4362840" y="4010760"/>
            <a:ext cx="374400" cy="119196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d9d9d9"/>
              </a:gs>
            </a:gsLst>
            <a:lin ang="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箭头 11"/>
          <p:cNvSpPr/>
          <p:nvPr/>
        </p:nvSpPr>
        <p:spPr>
          <a:xfrm>
            <a:off x="5041800" y="2406600"/>
            <a:ext cx="568440" cy="1251000"/>
          </a:xfrm>
          <a:prstGeom prst="upArrow">
            <a:avLst>
              <a:gd name="adj1" fmla="val 66491"/>
              <a:gd name="adj2" fmla="val 49986"/>
            </a:avLst>
          </a:prstGeom>
          <a:gradFill rotWithShape="0">
            <a:gsLst>
              <a:gs pos="0">
                <a:srgbClr val="c73e01"/>
              </a:gs>
              <a:gs pos="100000">
                <a:srgbClr val="fece02"/>
              </a:gs>
            </a:gsLst>
            <a:lin ang="54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箭头 12"/>
          <p:cNvSpPr/>
          <p:nvPr/>
        </p:nvSpPr>
        <p:spPr>
          <a:xfrm rot="10800000">
            <a:off x="5041440" y="4019040"/>
            <a:ext cx="568440" cy="1251000"/>
          </a:xfrm>
          <a:prstGeom prst="upArrow">
            <a:avLst>
              <a:gd name="adj1" fmla="val 66491"/>
              <a:gd name="adj2" fmla="val 49986"/>
            </a:avLst>
          </a:prstGeom>
          <a:gradFill rotWithShape="0">
            <a:gsLst>
              <a:gs pos="0">
                <a:srgbClr val="c73e01"/>
              </a:gs>
              <a:gs pos="100000">
                <a:srgbClr val="fece02"/>
              </a:gs>
            </a:gsLst>
            <a:lin ang="162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上箭头 13"/>
          <p:cNvSpPr/>
          <p:nvPr/>
        </p:nvSpPr>
        <p:spPr>
          <a:xfrm>
            <a:off x="3487680" y="2409840"/>
            <a:ext cx="568440" cy="1251000"/>
          </a:xfrm>
          <a:prstGeom prst="upArrow">
            <a:avLst>
              <a:gd name="adj1" fmla="val 66491"/>
              <a:gd name="adj2" fmla="val 49986"/>
            </a:avLst>
          </a:prstGeom>
          <a:gradFill rotWithShape="0">
            <a:gsLst>
              <a:gs pos="0">
                <a:srgbClr val="119707"/>
              </a:gs>
              <a:gs pos="100000">
                <a:srgbClr val="bceb6f"/>
              </a:gs>
            </a:gsLst>
            <a:lin ang="5400000"/>
          </a:gradFill>
          <a:ln w="3240">
            <a:solidFill>
              <a:srgbClr val="ffffff"/>
            </a:solidFill>
            <a:miter/>
          </a:ln>
          <a:effectLst>
            <a:outerShdw dist="38160" dir="162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上箭头 14"/>
          <p:cNvSpPr/>
          <p:nvPr/>
        </p:nvSpPr>
        <p:spPr>
          <a:xfrm rot="10800000">
            <a:off x="3487320" y="4019040"/>
            <a:ext cx="568440" cy="1251000"/>
          </a:xfrm>
          <a:prstGeom prst="upArrow">
            <a:avLst>
              <a:gd name="adj1" fmla="val 66491"/>
              <a:gd name="adj2" fmla="val 49986"/>
            </a:avLst>
          </a:prstGeom>
          <a:gradFill rotWithShape="0">
            <a:gsLst>
              <a:gs pos="0">
                <a:srgbClr val="119707"/>
              </a:gs>
              <a:gs pos="100000">
                <a:srgbClr val="bceb6f"/>
              </a:gs>
            </a:gsLst>
            <a:lin ang="16200000"/>
          </a:gradFill>
          <a:ln w="3240">
            <a:solidFill>
              <a:srgbClr val="ffffff"/>
            </a:solidFill>
            <a:miter/>
          </a:ln>
          <a:effectLst>
            <a:outerShdw dist="38160" dir="162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上箭头 15"/>
          <p:cNvSpPr/>
          <p:nvPr/>
        </p:nvSpPr>
        <p:spPr>
          <a:xfrm rot="16200000">
            <a:off x="3462120" y="3212640"/>
            <a:ext cx="568440" cy="1250640"/>
          </a:xfrm>
          <a:prstGeom prst="upArrow">
            <a:avLst>
              <a:gd name="adj1" fmla="val 66491"/>
              <a:gd name="adj2" fmla="val 49961"/>
            </a:avLst>
          </a:prstGeom>
          <a:gradFill rotWithShape="0">
            <a:gsLst>
              <a:gs pos="0">
                <a:srgbClr val="be1247"/>
              </a:gs>
              <a:gs pos="100000">
                <a:srgbClr val="fa9496"/>
              </a:gs>
            </a:gsLst>
            <a:lin ang="108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上箭头 16"/>
          <p:cNvSpPr/>
          <p:nvPr/>
        </p:nvSpPr>
        <p:spPr>
          <a:xfrm rot="5400000">
            <a:off x="5087520" y="3213000"/>
            <a:ext cx="568440" cy="1251000"/>
          </a:xfrm>
          <a:prstGeom prst="upArrow">
            <a:avLst>
              <a:gd name="adj1" fmla="val 66491"/>
              <a:gd name="adj2" fmla="val 49975"/>
            </a:avLst>
          </a:prstGeom>
          <a:gradFill rotWithShape="0">
            <a:gsLst>
              <a:gs pos="0">
                <a:srgbClr val="be1247"/>
              </a:gs>
              <a:gs pos="100000">
                <a:srgbClr val="fa9496"/>
              </a:gs>
            </a:gsLst>
            <a:lin ang="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 flipH="1">
            <a:off x="3986280" y="206856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 flipH="1">
            <a:off x="3198240" y="2068560"/>
            <a:ext cx="11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 flipH="1">
            <a:off x="4753080" y="206856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 flipH="1">
            <a:off x="3986280" y="541332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 flipH="1">
            <a:off x="3198240" y="5413320"/>
            <a:ext cx="11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4753080" y="541332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 flipH="1">
            <a:off x="2052720" y="296532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>
            <a:off x="2052720" y="369900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 flipH="1">
            <a:off x="2052720" y="446868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 flipH="1">
            <a:off x="5946840" y="296532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 flipH="1">
            <a:off x="5946840" y="369900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 flipH="1">
            <a:off x="5946840" y="446868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4371840" y="3300480"/>
            <a:ext cx="374760" cy="109836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d9d9d9"/>
              </a:gs>
            </a:gsLst>
            <a:lin ang="54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5805720" y="2556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十二箭头四面交叉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1">
            <a:hlinkClick r:id="rId1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80480" y="6526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31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