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7492-33E9-49C5-9584-34ACA37A7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F129-D5B0-4D16-B824-DC8556A67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BE8B-E587-4E7E-A4F1-7844EDC7E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2D2A-1F64-4596-AFDE-B70D748B4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AFFDB-6E37-4BD6-83D0-4280442D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25546-4AC4-46C7-A14E-2F0B715F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A7AF2-144C-4685-956B-02A80276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B0341-816C-48D7-B1D6-DB70E3EF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C8AA8-6F4A-4CEE-B2D8-ACA8B000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731520"/>
            <a:ext cx="8153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FE16E-CF20-4402-98CC-1CD8A034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E98A4-EB57-462E-8EC3-09718E6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06A7-171F-4C1F-B5A8-EA6A13FC6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3E57C-1943-4FC0-8408-227C3730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E94FE-CD22-44D4-9755-0C5BE4CF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8FC13-8703-413D-9F12-5B59E5CE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39C37-D596-4361-9621-14050DB7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F4306-5973-4FD4-8046-B3C4F6C9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DF2D0-3AF1-4575-A3E1-9379B6B19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A89C-48E6-41BD-8066-557091D8D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2571-56D3-4776-BA26-9194DD6AA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731520"/>
            <a:ext cx="8153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C60A-B3F7-439C-B0C0-E861962A1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A175-2034-4DCE-B347-AADE0BFC4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08BC3-C576-401B-8F7E-5E53B2BE5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F8EF-57F6-4F28-86ED-4CA44F7F0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6477120"/>
            <a:ext cx="9142560" cy="38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915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716200" y="0"/>
            <a:ext cx="2138400" cy="838080"/>
          </a:xfrm>
          <a:prstGeom prst="rect">
            <a:avLst/>
          </a:prstGeom>
          <a:solidFill>
            <a:srgbClr val="b2424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" name="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b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b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a43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7a43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6705360" y="6508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BDDB-E498-43B2-AD65-AA0A18F93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7162920" y="903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69880" y="0"/>
            <a:ext cx="206856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924440" y="0"/>
            <a:ext cx="2090880" cy="690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23280" y="5791320"/>
            <a:ext cx="1471320" cy="85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915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4288-97AB-4DDA-A035-CA5B95243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19520" y="0"/>
            <a:ext cx="2238480" cy="3124080"/>
          </a:xfrm>
          <a:prstGeom prst="rect">
            <a:avLst/>
          </a:prstGeom>
          <a:solidFill>
            <a:srgbClr val="b2424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6920" y="0"/>
            <a:ext cx="229572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05520" y="0"/>
            <a:ext cx="2238480" cy="3124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b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b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2286000" y="3048120"/>
            <a:ext cx="6626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7a43a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chuangyi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5640" y="3009960"/>
            <a:ext cx="676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食品学毕业设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267000" y="1371600"/>
            <a:ext cx="2641680" cy="2644920"/>
          </a:xfrm>
          <a:prstGeom prst="ellipse">
            <a:avLst/>
          </a:prstGeom>
          <a:solidFill>
            <a:srgbClr val="91597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06960" y="2763720"/>
            <a:ext cx="2643120" cy="2643480"/>
          </a:xfrm>
          <a:prstGeom prst="ellipse">
            <a:avLst/>
          </a:prstGeom>
          <a:solidFill>
            <a:srgbClr val="f3900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24080" y="2728800"/>
            <a:ext cx="2644920" cy="2643480"/>
          </a:xfrm>
          <a:prstGeom prst="ellipse">
            <a:avLst/>
          </a:prstGeom>
          <a:solidFill>
            <a:srgbClr val="b2424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2812680" y="2415960"/>
            <a:ext cx="114948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18280" y="244944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519080" y="4398840"/>
            <a:ext cx="25560" cy="10432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95480" y="33447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84440"/>
            <a:ext cx="2052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597e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91597e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67400" y="168444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b24242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05240" y="538488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77a43a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81360" y="170820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8920" y="381780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62520" y="38577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2013120"/>
            <a:ext cx="712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a43a"/>
                </a:solidFill>
                <a:uFillTx/>
                <a:latin typeface="Arial"/>
                <a:hlinkClick r:id="rId1"/>
              </a:rPr>
              <a:t>毕业设计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91597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未知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b2424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77a43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283" name="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4242">
                    <a:alpha val="90196"/>
                  </a:srgbClr>
                </a:gs>
                <a:gs pos="50000">
                  <a:srgbClr val="e4bebe"/>
                </a:gs>
                <a:gs pos="100000">
                  <a:srgbClr val="b24242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287" name="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43a">
                    <a:alpha val="90196"/>
                  </a:srgbClr>
                </a:gs>
                <a:gs pos="50000">
                  <a:srgbClr val="d0dfbb"/>
                </a:gs>
                <a:gs pos="100000">
                  <a:srgbClr val="77a43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291" name="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1f2d"/>
                </a:gs>
                <a:gs pos="50000">
                  <a:srgbClr val="91597e"/>
                </a:gs>
                <a:gs pos="100000">
                  <a:srgbClr val="341f2d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1597e">
                    <a:alpha val="90196"/>
                  </a:srgbClr>
                </a:gs>
                <a:gs pos="50000">
                  <a:srgbClr val="d9c6d2"/>
                </a:gs>
                <a:gs pos="100000">
                  <a:srgbClr val="91597e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1597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2424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7a43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401200" y="2009880"/>
            <a:ext cx="4218120" cy="4161960"/>
            <a:chOff x="2401200" y="2009880"/>
            <a:chExt cx="4218120" cy="4161960"/>
          </a:xfrm>
        </p:grpSpPr>
        <p:sp>
          <p:nvSpPr>
            <p:cNvPr id="299" name=""/>
            <p:cNvSpPr/>
            <p:nvPr/>
          </p:nvSpPr>
          <p:spPr>
            <a:xfrm rot="10800000">
              <a:off x="3891240" y="511956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390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08880" y="2009880"/>
              <a:ext cx="1194120" cy="1052640"/>
            </a:xfrm>
            <a:prstGeom prst="triangle">
              <a:avLst>
                <a:gd name="adj" fmla="val 50000"/>
              </a:avLst>
            </a:prstGeom>
            <a:solidFill>
              <a:srgbClr val="b242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7186200">
              <a:off x="5268240" y="4319640"/>
              <a:ext cx="1193760" cy="1054080"/>
            </a:xfrm>
            <a:prstGeom prst="triangle">
              <a:avLst>
                <a:gd name="adj" fmla="val 50000"/>
              </a:avLst>
            </a:prstGeom>
            <a:solidFill>
              <a:srgbClr val="b242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3597000">
              <a:off x="5265000" y="278568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390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4374200">
              <a:off x="2561400" y="4327920"/>
              <a:ext cx="1191960" cy="1054440"/>
            </a:xfrm>
            <a:prstGeom prst="triangle">
              <a:avLst>
                <a:gd name="adj" fmla="val 50000"/>
              </a:avLst>
            </a:prstGeom>
            <a:solidFill>
              <a:srgbClr val="b242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7985000">
              <a:off x="2565360" y="2781000"/>
              <a:ext cx="1193760" cy="1054440"/>
            </a:xfrm>
            <a:prstGeom prst="triangle">
              <a:avLst>
                <a:gd name="adj" fmla="val 50000"/>
              </a:avLst>
            </a:prstGeom>
            <a:solidFill>
              <a:srgbClr val="f390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32800" y="5505480"/>
              <a:ext cx="118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769040" y="5362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1200" y="3211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1200" y="46324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45920" y="32097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45920" y="45813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17240" y="23572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87680" y="3157560"/>
            <a:ext cx="2094120" cy="1811160"/>
          </a:xfrm>
          <a:prstGeom prst="hexagon">
            <a:avLst>
              <a:gd name="adj" fmla="val 2890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57640" y="55339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592160" y="2527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49520" y="3895560"/>
            <a:ext cx="2113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9800" y="33624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79800" y="47815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821200" y="337968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821200" y="475128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1600200"/>
            <a:ext cx="3353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a43a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77a43a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2057400"/>
            <a:ext cx="3353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159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1597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1597e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3763800"/>
            <a:ext cx="4362480" cy="126540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2765160" y="1804680"/>
            <a:ext cx="1536480" cy="40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2901960" y="1703520"/>
            <a:ext cx="1379160" cy="390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c4d7aa"/>
              </a:gs>
              <a:gs pos="100000">
                <a:srgbClr val="77a43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2839320" y="1803960"/>
            <a:ext cx="137916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3900d"/>
              </a:gs>
              <a:gs pos="100000">
                <a:srgbClr val="f8c88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831760" y="1792800"/>
            <a:ext cx="1414080" cy="384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d1bbca"/>
              </a:gs>
              <a:gs pos="100000">
                <a:srgbClr val="91597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43480" y="381168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43520" y="350532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62560" y="3944880"/>
            <a:ext cx="0" cy="11592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48200" y="4203720"/>
            <a:ext cx="0" cy="6984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705040" y="369576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2796120" y="1422360"/>
            <a:ext cx="1844280" cy="47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5b2121"/>
              </a:gs>
              <a:gs pos="100000">
                <a:srgbClr val="b2424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未知"/>
          <p:cNvSpPr/>
          <p:nvPr/>
        </p:nvSpPr>
        <p:spPr>
          <a:xfrm>
            <a:off x="5715000" y="315432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b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2806200" y="1257840"/>
            <a:ext cx="184500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b24242"/>
              </a:gs>
              <a:gs pos="100000">
                <a:srgbClr val="df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2925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endCxn id="337" idx="3"/>
          </p:cNvCxnSpPr>
          <p:nvPr/>
        </p:nvCxnSpPr>
        <p:spPr>
          <a:xfrm flipV="1" rot="10800000">
            <a:off x="4136400" y="2239560"/>
            <a:ext cx="2416680" cy="88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endCxn id="330" idx="3"/>
          </p:cNvCxnSpPr>
          <p:nvPr/>
        </p:nvCxnSpPr>
        <p:spPr>
          <a:xfrm rot="10800000">
            <a:off x="5479200" y="3656880"/>
            <a:ext cx="1226520" cy="183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3511440" y="39258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583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553080" y="2057400"/>
            <a:ext cx="2028960" cy="482400"/>
            <a:chOff x="6553080" y="2057400"/>
            <a:chExt cx="2028960" cy="482400"/>
          </a:xfrm>
        </p:grpSpPr>
        <p:sp>
          <p:nvSpPr>
            <p:cNvPr id="343" name="未知"/>
            <p:cNvSpPr/>
            <p:nvPr/>
          </p:nvSpPr>
          <p:spPr>
            <a:xfrm>
              <a:off x="6672600" y="233532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205740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8b3333"/>
                </a:gs>
                <a:gs pos="100000">
                  <a:srgbClr val="b242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553080" y="3611520"/>
            <a:ext cx="2028960" cy="482400"/>
            <a:chOff x="6553080" y="3611520"/>
            <a:chExt cx="2028960" cy="482400"/>
          </a:xfrm>
        </p:grpSpPr>
        <p:sp>
          <p:nvSpPr>
            <p:cNvPr id="346" name="未知"/>
            <p:cNvSpPr/>
            <p:nvPr/>
          </p:nvSpPr>
          <p:spPr>
            <a:xfrm>
              <a:off x="6672600" y="38894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6115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5d802d"/>
                </a:gs>
                <a:gs pos="100000">
                  <a:srgbClr val="77a4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553080" y="4983120"/>
            <a:ext cx="2028960" cy="482400"/>
            <a:chOff x="6553080" y="4983120"/>
            <a:chExt cx="2028960" cy="482400"/>
          </a:xfrm>
        </p:grpSpPr>
        <p:sp>
          <p:nvSpPr>
            <p:cNvPr id="349" name="未知"/>
            <p:cNvSpPr/>
            <p:nvPr/>
          </p:nvSpPr>
          <p:spPr>
            <a:xfrm>
              <a:off x="6672600" y="52610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3080" y="49831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be710a"/>
                </a:gs>
                <a:gs pos="100000">
                  <a:srgbClr val="f39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371600" y="5211720"/>
            <a:ext cx="2028960" cy="482400"/>
            <a:chOff x="1371600" y="5211720"/>
            <a:chExt cx="2028960" cy="482400"/>
          </a:xfrm>
        </p:grpSpPr>
        <p:sp>
          <p:nvSpPr>
            <p:cNvPr id="352" name="未知"/>
            <p:cNvSpPr/>
            <p:nvPr/>
          </p:nvSpPr>
          <p:spPr>
            <a:xfrm>
              <a:off x="1491120" y="54896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52117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14562"/>
                </a:gs>
                <a:gs pos="100000">
                  <a:srgbClr val="91597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4" name=""/>
          <p:cNvCxnSpPr/>
          <p:nvPr/>
        </p:nvCxnSpPr>
        <p:spPr>
          <a:xfrm rot="10800000">
            <a:off x="5028480" y="399168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/>
          <p:nvPr/>
        </p:nvCxnSpPr>
        <p:spPr>
          <a:xfrm flipH="1" flipV="1" rot="5400000">
            <a:off x="2927160" y="4693680"/>
            <a:ext cx="1204200" cy="25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6856920" y="406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04440" y="2514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32880" y="54403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280240" y="2209680"/>
            <a:ext cx="996120" cy="1294560"/>
            <a:chOff x="2280240" y="2209680"/>
            <a:chExt cx="996120" cy="1294560"/>
          </a:xfrm>
        </p:grpSpPr>
        <p:grpSp>
          <p:nvGrpSpPr>
            <p:cNvPr id="360" name=""/>
            <p:cNvGrpSpPr/>
            <p:nvPr/>
          </p:nvGrpSpPr>
          <p:grpSpPr>
            <a:xfrm>
              <a:off x="2280240" y="2212200"/>
              <a:ext cx="991080" cy="1292040"/>
              <a:chOff x="2280240" y="2212200"/>
              <a:chExt cx="991080" cy="1292040"/>
            </a:xfrm>
          </p:grpSpPr>
          <p:sp>
            <p:nvSpPr>
              <p:cNvPr id="361" name="未知"/>
              <p:cNvSpPr/>
              <p:nvPr/>
            </p:nvSpPr>
            <p:spPr>
              <a:xfrm>
                <a:off x="2280240" y="2718720"/>
                <a:ext cx="991080" cy="785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548080" y="221220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未知"/>
            <p:cNvSpPr/>
            <p:nvPr/>
          </p:nvSpPr>
          <p:spPr>
            <a:xfrm>
              <a:off x="2286000" y="2714400"/>
              <a:ext cx="990360" cy="7880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2480400" y="276408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53480" y="220968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2602080" y="221868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534400" y="2215800"/>
              <a:ext cx="344880" cy="359280"/>
              <a:chOff x="2534400" y="2215800"/>
              <a:chExt cx="344880" cy="3592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2542680" y="2215800"/>
                <a:ext cx="336600" cy="273960"/>
                <a:chOff x="2542680" y="2215800"/>
                <a:chExt cx="336600" cy="273960"/>
              </a:xfrm>
            </p:grpSpPr>
            <p:sp>
              <p:nvSpPr>
                <p:cNvPr id="369" name=""/>
                <p:cNvSpPr/>
                <p:nvPr/>
              </p:nvSpPr>
              <p:spPr>
                <a:xfrm flipH="1" rot="15040200">
                  <a:off x="2695320" y="21826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rot="14224200">
                  <a:off x="2656080" y="219816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rot="13928400">
                  <a:off x="2637720" y="221508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rot="13396200">
                  <a:off x="2616120" y="223740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534400" y="2237400"/>
                <a:ext cx="271800" cy="337680"/>
                <a:chOff x="2534400" y="2237400"/>
                <a:chExt cx="271800" cy="337680"/>
              </a:xfrm>
            </p:grpSpPr>
            <p:sp>
              <p:nvSpPr>
                <p:cNvPr id="374" name=""/>
                <p:cNvSpPr/>
                <p:nvPr/>
              </p:nvSpPr>
              <p:spPr>
                <a:xfrm flipH="1" rot="13687200">
                  <a:off x="2630880" y="22309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rot="12871200">
                  <a:off x="2600640" y="22604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rot="12576000">
                  <a:off x="2590200" y="22831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rot="12043800">
                  <a:off x="2578680" y="231264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" name=""/>
            <p:cNvGrpSpPr/>
            <p:nvPr/>
          </p:nvGrpSpPr>
          <p:grpSpPr>
            <a:xfrm>
              <a:off x="2354040" y="2751480"/>
              <a:ext cx="429120" cy="517320"/>
              <a:chOff x="2354040" y="2751480"/>
              <a:chExt cx="429120" cy="51732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2354040" y="2751480"/>
                <a:ext cx="429120" cy="405000"/>
                <a:chOff x="2354040" y="2751480"/>
                <a:chExt cx="429120" cy="405000"/>
              </a:xfrm>
            </p:grpSpPr>
            <p:sp>
              <p:nvSpPr>
                <p:cNvPr id="380" name=""/>
                <p:cNvSpPr/>
                <p:nvPr/>
              </p:nvSpPr>
              <p:spPr>
                <a:xfrm flipH="1" rot="14424600">
                  <a:off x="2549880" y="270000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rot="13608600">
                  <a:off x="2497680" y="273204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rot="13313400">
                  <a:off x="2473920" y="27586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rot="12781200">
                  <a:off x="2446200" y="27907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355480" y="2779920"/>
                <a:ext cx="307800" cy="488880"/>
                <a:chOff x="2355480" y="2779920"/>
                <a:chExt cx="307800" cy="488880"/>
              </a:xfrm>
            </p:grpSpPr>
            <p:sp>
              <p:nvSpPr>
                <p:cNvPr id="385" name=""/>
                <p:cNvSpPr/>
                <p:nvPr/>
              </p:nvSpPr>
              <p:spPr>
                <a:xfrm flipH="1" rot="13071600">
                  <a:off x="2462760" y="27705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rot="12256200">
                  <a:off x="2427120" y="2819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rot="11960400">
                  <a:off x="2413800" y="28533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11428200">
                  <a:off x="2401200" y="28936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9" name=""/>
          <p:cNvSpPr/>
          <p:nvPr/>
        </p:nvSpPr>
        <p:spPr>
          <a:xfrm>
            <a:off x="1824840" y="35053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747080" y="2209680"/>
            <a:ext cx="995760" cy="1294560"/>
            <a:chOff x="1747080" y="2209680"/>
            <a:chExt cx="995760" cy="1294560"/>
          </a:xfrm>
        </p:grpSpPr>
        <p:grpSp>
          <p:nvGrpSpPr>
            <p:cNvPr id="391" name=""/>
            <p:cNvGrpSpPr/>
            <p:nvPr/>
          </p:nvGrpSpPr>
          <p:grpSpPr>
            <a:xfrm>
              <a:off x="1747080" y="2212200"/>
              <a:ext cx="990720" cy="1292040"/>
              <a:chOff x="1747080" y="2212200"/>
              <a:chExt cx="990720" cy="1292040"/>
            </a:xfrm>
          </p:grpSpPr>
          <p:sp>
            <p:nvSpPr>
              <p:cNvPr id="392" name="未知"/>
              <p:cNvSpPr/>
              <p:nvPr/>
            </p:nvSpPr>
            <p:spPr>
              <a:xfrm>
                <a:off x="1747080" y="2718720"/>
                <a:ext cx="990720" cy="785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014560" y="221220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未知"/>
            <p:cNvSpPr/>
            <p:nvPr/>
          </p:nvSpPr>
          <p:spPr>
            <a:xfrm>
              <a:off x="1752840" y="2714400"/>
              <a:ext cx="990000" cy="7880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597e"/>
                </a:gs>
                <a:gs pos="100000">
                  <a:srgbClr val="2517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1946880" y="276408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1597e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19960" y="220968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503146"/>
                </a:gs>
                <a:gs pos="50000">
                  <a:srgbClr val="91597e"/>
                </a:gs>
                <a:gs pos="100000">
                  <a:srgbClr val="5031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2068920" y="221868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1597e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000880" y="2215800"/>
              <a:ext cx="344880" cy="359280"/>
              <a:chOff x="2000880" y="2215800"/>
              <a:chExt cx="344880" cy="35928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009520" y="2215800"/>
                <a:ext cx="336240" cy="273960"/>
                <a:chOff x="2009520" y="2215800"/>
                <a:chExt cx="336240" cy="273960"/>
              </a:xfrm>
            </p:grpSpPr>
            <p:sp>
              <p:nvSpPr>
                <p:cNvPr id="400" name=""/>
                <p:cNvSpPr/>
                <p:nvPr/>
              </p:nvSpPr>
              <p:spPr>
                <a:xfrm flipH="1" rot="15040200">
                  <a:off x="2161800" y="21826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rot="14224200">
                  <a:off x="2122560" y="219816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rot="13928400">
                  <a:off x="2104200" y="221508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rot="13396200">
                  <a:off x="2082600" y="223812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000880" y="2237400"/>
                <a:ext cx="271800" cy="337680"/>
                <a:chOff x="2000880" y="2237400"/>
                <a:chExt cx="271800" cy="337680"/>
              </a:xfrm>
            </p:grpSpPr>
            <p:sp>
              <p:nvSpPr>
                <p:cNvPr id="405" name=""/>
                <p:cNvSpPr/>
                <p:nvPr/>
              </p:nvSpPr>
              <p:spPr>
                <a:xfrm flipH="1" rot="13687200">
                  <a:off x="2097360" y="22309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rot="12871200">
                  <a:off x="2067480" y="226044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12576000">
                  <a:off x="2056680" y="228348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rot="12043800">
                  <a:off x="2045520" y="231264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1820880" y="2751480"/>
              <a:ext cx="429120" cy="517320"/>
              <a:chOff x="1820880" y="2751480"/>
              <a:chExt cx="429120" cy="5173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1820880" y="2751480"/>
                <a:ext cx="429120" cy="405000"/>
                <a:chOff x="1820880" y="2751480"/>
                <a:chExt cx="429120" cy="405000"/>
              </a:xfrm>
            </p:grpSpPr>
            <p:sp>
              <p:nvSpPr>
                <p:cNvPr id="411" name=""/>
                <p:cNvSpPr/>
                <p:nvPr/>
              </p:nvSpPr>
              <p:spPr>
                <a:xfrm flipH="1" rot="14424600">
                  <a:off x="2016720" y="270000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rot="13608600">
                  <a:off x="1964520" y="273204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rot="13313400">
                  <a:off x="1940760" y="27586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rot="12781200">
                  <a:off x="1913040" y="27907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2320" y="2779920"/>
                <a:ext cx="307800" cy="488880"/>
                <a:chOff x="1822320" y="2779920"/>
                <a:chExt cx="307800" cy="488880"/>
              </a:xfrm>
            </p:grpSpPr>
            <p:sp>
              <p:nvSpPr>
                <p:cNvPr id="416" name=""/>
                <p:cNvSpPr/>
                <p:nvPr/>
              </p:nvSpPr>
              <p:spPr>
                <a:xfrm flipH="1" rot="13071600">
                  <a:off x="1929600" y="27705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 rot="12256200">
                  <a:off x="1893960" y="2819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rot="11960400">
                  <a:off x="1880640" y="28533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 rot="11428200">
                  <a:off x="1868040" y="28936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0" name=""/>
          <p:cNvSpPr/>
          <p:nvPr/>
        </p:nvSpPr>
        <p:spPr>
          <a:xfrm>
            <a:off x="1675080" y="5699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1752480" y="1519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111680" y="2430000"/>
            <a:ext cx="7348680" cy="3819600"/>
            <a:chOff x="1111680" y="2430000"/>
            <a:chExt cx="7348680" cy="3819600"/>
          </a:xfrm>
        </p:grpSpPr>
        <p:sp>
          <p:nvSpPr>
            <p:cNvPr id="424" name=""/>
            <p:cNvSpPr/>
            <p:nvPr/>
          </p:nvSpPr>
          <p:spPr>
            <a:xfrm>
              <a:off x="3328920" y="2890800"/>
              <a:ext cx="909720" cy="11829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12920" y="3608640"/>
              <a:ext cx="3808440" cy="152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4602240" y="2774880"/>
              <a:ext cx="1141200" cy="123372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01880" y="3841920"/>
              <a:ext cx="3079800" cy="131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636800" y="3973680"/>
              <a:ext cx="1314360" cy="143352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803680" y="3973320"/>
              <a:ext cx="1833480" cy="163332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730520" y="3973680"/>
              <a:ext cx="2906640" cy="10152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1182400">
              <a:off x="2838600" y="3107880"/>
              <a:ext cx="3423960" cy="16462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08080"/>
                </a:gs>
              </a:gsLst>
              <a:lin ang="13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21256800">
              <a:off x="1555560" y="2739960"/>
              <a:ext cx="6234120" cy="303372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1256800">
              <a:off x="1520640" y="2733840"/>
              <a:ext cx="6249960" cy="30049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7240" y="3435480"/>
              <a:ext cx="2139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is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Design Digital Content &amp; Contents mall develop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1111680" y="3733920"/>
              <a:ext cx="1390680" cy="768600"/>
              <a:chOff x="1111680" y="3733920"/>
              <a:chExt cx="1390680" cy="768600"/>
            </a:xfrm>
          </p:grpSpPr>
          <p:sp>
            <p:nvSpPr>
              <p:cNvPr id="436" name=""/>
              <p:cNvSpPr/>
              <p:nvPr/>
            </p:nvSpPr>
            <p:spPr>
              <a:xfrm rot="21204600">
                <a:off x="1145880" y="3855240"/>
                <a:ext cx="1328040" cy="57312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1204600">
                <a:off x="1140120" y="3808080"/>
                <a:ext cx="1328760" cy="573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715840" y="2688840"/>
              <a:ext cx="1207080" cy="542160"/>
              <a:chOff x="2715840" y="2688840"/>
              <a:chExt cx="1207080" cy="542160"/>
            </a:xfrm>
          </p:grpSpPr>
          <p:sp>
            <p:nvSpPr>
              <p:cNvPr id="439" name=""/>
              <p:cNvSpPr/>
              <p:nvPr/>
            </p:nvSpPr>
            <p:spPr>
              <a:xfrm rot="21274800">
                <a:off x="2735640" y="2775960"/>
                <a:ext cx="1171080" cy="40032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1274800">
                <a:off x="2732040" y="2742840"/>
                <a:ext cx="117144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063040" y="2461680"/>
              <a:ext cx="1365480" cy="650160"/>
              <a:chOff x="5063040" y="2461680"/>
              <a:chExt cx="1365480" cy="650160"/>
            </a:xfrm>
          </p:grpSpPr>
          <p:sp>
            <p:nvSpPr>
              <p:cNvPr id="442" name=""/>
              <p:cNvSpPr/>
              <p:nvPr/>
            </p:nvSpPr>
            <p:spPr>
              <a:xfrm rot="21345000">
                <a:off x="5083560" y="2551680"/>
                <a:ext cx="1327680" cy="51156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21345000">
                <a:off x="5079960" y="2509920"/>
                <a:ext cx="1328400" cy="511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687720" y="3357360"/>
              <a:ext cx="1772640" cy="1009800"/>
              <a:chOff x="6687720" y="3357360"/>
              <a:chExt cx="1772640" cy="1009800"/>
            </a:xfrm>
          </p:grpSpPr>
          <p:sp>
            <p:nvSpPr>
              <p:cNvPr id="445" name=""/>
              <p:cNvSpPr/>
              <p:nvPr/>
            </p:nvSpPr>
            <p:spPr>
              <a:xfrm rot="21391800">
                <a:off x="6716520" y="3477240"/>
                <a:ext cx="1720080" cy="83844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21391800">
                <a:off x="6711480" y="3408480"/>
                <a:ext cx="1720800" cy="8384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702680" y="4739400"/>
              <a:ext cx="2448360" cy="1498320"/>
              <a:chOff x="4702680" y="4739400"/>
              <a:chExt cx="2448360" cy="1498320"/>
            </a:xfrm>
          </p:grpSpPr>
          <p:sp>
            <p:nvSpPr>
              <p:cNvPr id="448" name=""/>
              <p:cNvSpPr/>
              <p:nvPr/>
            </p:nvSpPr>
            <p:spPr>
              <a:xfrm rot="21401400">
                <a:off x="4744080" y="4910760"/>
                <a:ext cx="2372400" cy="125928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1401400">
                <a:off x="4736880" y="4806720"/>
                <a:ext cx="2373480" cy="1259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828080" y="5029200"/>
              <a:ext cx="1953720" cy="1220400"/>
              <a:chOff x="1828080" y="5029200"/>
              <a:chExt cx="1953720" cy="1220400"/>
            </a:xfrm>
          </p:grpSpPr>
          <p:sp>
            <p:nvSpPr>
              <p:cNvPr id="451" name=""/>
              <p:cNvSpPr/>
              <p:nvPr/>
            </p:nvSpPr>
            <p:spPr>
              <a:xfrm rot="21307200">
                <a:off x="1874160" y="5187960"/>
                <a:ext cx="1868760" cy="98352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1307200">
                <a:off x="1866240" y="5106960"/>
                <a:ext cx="186984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2871720" y="274320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29080" y="257652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97840" y="360864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02240" y="52354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19480" y="54072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51080" y="3908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未知"/>
          <p:cNvSpPr/>
          <p:nvPr/>
        </p:nvSpPr>
        <p:spPr>
          <a:xfrm>
            <a:off x="533520" y="3505320"/>
            <a:ext cx="8076960" cy="2971800"/>
          </a:xfrm>
          <a:custGeom>
            <a:avLst/>
            <a:gdLst/>
            <a:ahLst/>
            <a:rect l="l" t="t" r="r" b="b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976560" y="15238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976560" y="1523880"/>
            <a:ext cx="1489320" cy="1487520"/>
          </a:xfrm>
          <a:prstGeom prst="ellipse">
            <a:avLst/>
          </a:prstGeom>
          <a:gradFill rotWithShape="0">
            <a:gsLst>
              <a:gs pos="0">
                <a:srgbClr val="4242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24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未知"/>
          <p:cNvSpPr/>
          <p:nvPr/>
        </p:nvSpPr>
        <p:spPr>
          <a:xfrm>
            <a:off x="4130640" y="15541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079520" y="2554920"/>
            <a:ext cx="1317960" cy="527760"/>
            <a:chOff x="4079520" y="2554920"/>
            <a:chExt cx="1317960" cy="527760"/>
          </a:xfrm>
        </p:grpSpPr>
        <p:grpSp>
          <p:nvGrpSpPr>
            <p:cNvPr id="465" name=""/>
            <p:cNvGrpSpPr/>
            <p:nvPr/>
          </p:nvGrpSpPr>
          <p:grpSpPr>
            <a:xfrm>
              <a:off x="4310280" y="2554920"/>
              <a:ext cx="1087200" cy="496800"/>
              <a:chOff x="4310280" y="2554920"/>
              <a:chExt cx="1087200" cy="496800"/>
            </a:xfrm>
          </p:grpSpPr>
          <p:sp>
            <p:nvSpPr>
              <p:cNvPr id="466" name=""/>
              <p:cNvSpPr/>
              <p:nvPr/>
            </p:nvSpPr>
            <p:spPr>
              <a:xfrm flipH="1" flipV="1" rot="3964800">
                <a:off x="4900320" y="240840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 rot="4780200">
                <a:off x="4779000" y="24562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flipV="1" rot="5076000">
                <a:off x="4702680" y="246600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 rot="5608200">
                <a:off x="4613040" y="24753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079520" y="2561760"/>
              <a:ext cx="1084680" cy="520920"/>
              <a:chOff x="4079520" y="2561760"/>
              <a:chExt cx="1084680" cy="520920"/>
            </a:xfrm>
          </p:grpSpPr>
          <p:sp>
            <p:nvSpPr>
              <p:cNvPr id="471" name=""/>
              <p:cNvSpPr/>
              <p:nvPr/>
            </p:nvSpPr>
            <p:spPr>
              <a:xfrm flipH="1" flipV="1" rot="5318400">
                <a:off x="4669560" y="247572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 rot="6133800">
                <a:off x="4538880" y="247356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 rot="6429600">
                <a:off x="4464720" y="24541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 rot="6961800">
                <a:off x="4379040" y="24274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>
            <a:off x="411480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571760" y="2133720"/>
            <a:ext cx="1498320" cy="14842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571760" y="213372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22835">
                  <a:alpha val="90196"/>
                </a:srgbClr>
              </a:gs>
              <a:gs pos="50000">
                <a:srgbClr val="ff99cc">
                  <a:alpha val="45098"/>
                </a:srgbClr>
              </a:gs>
              <a:gs pos="100000">
                <a:srgbClr val="42283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未知"/>
          <p:cNvSpPr/>
          <p:nvPr/>
        </p:nvSpPr>
        <p:spPr>
          <a:xfrm>
            <a:off x="1725480" y="2163600"/>
            <a:ext cx="1170000" cy="516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674720" y="3164760"/>
            <a:ext cx="1317960" cy="527760"/>
            <a:chOff x="1674720" y="3164760"/>
            <a:chExt cx="1317960" cy="527760"/>
          </a:xfrm>
        </p:grpSpPr>
        <p:grpSp>
          <p:nvGrpSpPr>
            <p:cNvPr id="480" name=""/>
            <p:cNvGrpSpPr/>
            <p:nvPr/>
          </p:nvGrpSpPr>
          <p:grpSpPr>
            <a:xfrm>
              <a:off x="1905480" y="3164760"/>
              <a:ext cx="1087200" cy="496800"/>
              <a:chOff x="1905480" y="3164760"/>
              <a:chExt cx="1087200" cy="496800"/>
            </a:xfrm>
          </p:grpSpPr>
          <p:sp>
            <p:nvSpPr>
              <p:cNvPr id="481" name=""/>
              <p:cNvSpPr/>
              <p:nvPr/>
            </p:nvSpPr>
            <p:spPr>
              <a:xfrm flipH="1" flipV="1" rot="3964800">
                <a:off x="2495520" y="30182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 rot="4780200">
                <a:off x="2374200" y="30661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flipV="1" rot="5076000">
                <a:off x="2297880" y="307584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 rot="5608200">
                <a:off x="2208240" y="3085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674720" y="3171600"/>
              <a:ext cx="1084680" cy="520920"/>
              <a:chOff x="1674720" y="3171600"/>
              <a:chExt cx="1084680" cy="520920"/>
            </a:xfrm>
          </p:grpSpPr>
          <p:sp>
            <p:nvSpPr>
              <p:cNvPr id="486" name=""/>
              <p:cNvSpPr/>
              <p:nvPr/>
            </p:nvSpPr>
            <p:spPr>
              <a:xfrm flipH="1" flipV="1" rot="5318400">
                <a:off x="2264760" y="308556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 rot="6133800">
                <a:off x="2134080" y="308340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 rot="6429600">
                <a:off x="2059920" y="306396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 rot="6961800">
                <a:off x="1974240" y="303732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1835280" y="2760840"/>
            <a:ext cx="100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6242040" y="22096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242040" y="220968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0d2842">
                  <a:alpha val="90196"/>
                </a:srgbClr>
              </a:gs>
              <a:gs pos="50000">
                <a:srgbClr val="3399ff">
                  <a:alpha val="45098"/>
                </a:srgbClr>
              </a:gs>
              <a:gs pos="100000">
                <a:srgbClr val="0d28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未知"/>
          <p:cNvSpPr/>
          <p:nvPr/>
        </p:nvSpPr>
        <p:spPr>
          <a:xfrm>
            <a:off x="6396120" y="22399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345000" y="3240720"/>
            <a:ext cx="1317960" cy="527760"/>
            <a:chOff x="6345000" y="3240720"/>
            <a:chExt cx="1317960" cy="527760"/>
          </a:xfrm>
        </p:grpSpPr>
        <p:grpSp>
          <p:nvGrpSpPr>
            <p:cNvPr id="495" name=""/>
            <p:cNvGrpSpPr/>
            <p:nvPr/>
          </p:nvGrpSpPr>
          <p:grpSpPr>
            <a:xfrm>
              <a:off x="6575760" y="3240720"/>
              <a:ext cx="1087200" cy="496800"/>
              <a:chOff x="6575760" y="3240720"/>
              <a:chExt cx="1087200" cy="496800"/>
            </a:xfrm>
          </p:grpSpPr>
          <p:sp>
            <p:nvSpPr>
              <p:cNvPr id="496" name=""/>
              <p:cNvSpPr/>
              <p:nvPr/>
            </p:nvSpPr>
            <p:spPr>
              <a:xfrm flipH="1" flipV="1" rot="3964800">
                <a:off x="7165800" y="309420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 rot="4780200">
                <a:off x="7044480" y="31420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 rot="5076000">
                <a:off x="6968160" y="315180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 rot="5608200">
                <a:off x="6878520" y="31611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6345000" y="3247560"/>
              <a:ext cx="1084680" cy="520920"/>
              <a:chOff x="6345000" y="3247560"/>
              <a:chExt cx="1084680" cy="520920"/>
            </a:xfrm>
          </p:grpSpPr>
          <p:sp>
            <p:nvSpPr>
              <p:cNvPr id="501" name=""/>
              <p:cNvSpPr/>
              <p:nvPr/>
            </p:nvSpPr>
            <p:spPr>
              <a:xfrm flipH="1" flipV="1" rot="5318400">
                <a:off x="6935040" y="316152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 rot="6133800">
                <a:off x="6804360" y="315936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flipV="1" rot="6429600">
                <a:off x="6730200" y="31399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 rot="6961800">
                <a:off x="6644520" y="31132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"/>
          <p:cNvSpPr/>
          <p:nvPr/>
        </p:nvSpPr>
        <p:spPr>
          <a:xfrm>
            <a:off x="634212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0" y="5591160"/>
            <a:ext cx="47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52680" y="3124080"/>
            <a:ext cx="266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4300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91320" y="3809880"/>
            <a:ext cx="2512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3105000" y="2397240"/>
            <a:ext cx="3063960" cy="3031920"/>
          </a:xfrm>
          <a:prstGeom prst="ellipse">
            <a:avLst/>
          </a:prstGeom>
          <a:noFill/>
          <a:ln cap="rnd" w="28440">
            <a:solidFill>
              <a:srgbClr val="19358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2163600" cy="386568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8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981000" y="2795760"/>
            <a:ext cx="1773360" cy="2409120"/>
            <a:chOff x="981000" y="2795760"/>
            <a:chExt cx="1773360" cy="2409120"/>
          </a:xfrm>
        </p:grpSpPr>
        <p:sp>
          <p:nvSpPr>
            <p:cNvPr id="514" name="未知"/>
            <p:cNvSpPr/>
            <p:nvPr/>
          </p:nvSpPr>
          <p:spPr>
            <a:xfrm flipV="1">
              <a:off x="981000" y="2795760"/>
              <a:ext cx="177336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68686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984960" y="4191120"/>
              <a:ext cx="176940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685800" y="3584520"/>
            <a:ext cx="2719440" cy="812880"/>
          </a:xfrm>
          <a:prstGeom prst="rightArrow">
            <a:avLst>
              <a:gd name="adj1" fmla="val 54000"/>
              <a:gd name="adj2" fmla="val 68612"/>
            </a:avLst>
          </a:prstGeom>
          <a:gradFill rotWithShape="0">
            <a:gsLst>
              <a:gs pos="0">
                <a:srgbClr val="e5c037"/>
              </a:gs>
              <a:gs pos="100000">
                <a:srgbClr val="695819"/>
              </a:gs>
            </a:gsLst>
            <a:lin ang="10800000"/>
          </a:gradFill>
          <a:ln w="936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1200" y="278928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3e3e3"/>
              </a:gs>
              <a:gs pos="100000">
                <a:srgbClr val="c0c0c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07200" y="2057400"/>
            <a:ext cx="2162160" cy="386568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8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433920" y="2800080"/>
            <a:ext cx="1819080" cy="2401920"/>
            <a:chOff x="6433920" y="2800080"/>
            <a:chExt cx="1819080" cy="2401920"/>
          </a:xfrm>
        </p:grpSpPr>
        <p:sp>
          <p:nvSpPr>
            <p:cNvPr id="520" name="未知"/>
            <p:cNvSpPr/>
            <p:nvPr/>
          </p:nvSpPr>
          <p:spPr>
            <a:xfrm flipH="1" flipV="1">
              <a:off x="6433560" y="279972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38383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 flipH="1">
              <a:off x="6434280" y="419076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38383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 flipH="1">
            <a:off x="5810400" y="3605040"/>
            <a:ext cx="2673360" cy="717840"/>
          </a:xfrm>
          <a:prstGeom prst="rightArrow">
            <a:avLst>
              <a:gd name="adj1" fmla="val 62213"/>
              <a:gd name="adj2" fmla="val 69397"/>
            </a:avLst>
          </a:prstGeom>
          <a:gradFill rotWithShape="0">
            <a:gsLst>
              <a:gs pos="0">
                <a:srgbClr val="91597e"/>
              </a:gs>
              <a:gs pos="100000">
                <a:srgbClr val="42293a"/>
              </a:gs>
            </a:gsLst>
            <a:lin ang="10800000"/>
          </a:gradFill>
          <a:ln w="936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93880" y="205740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80080" y="205740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0960" y="311940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572160" y="279864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9e9e9"/>
              </a:gs>
              <a:gs pos="100000">
                <a:srgbClr val="c0c0c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50200" y="308124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00400" y="2514600"/>
            <a:ext cx="2819160" cy="2819520"/>
            <a:chOff x="3200400" y="2514600"/>
            <a:chExt cx="2819160" cy="2819520"/>
          </a:xfrm>
        </p:grpSpPr>
        <p:grpSp>
          <p:nvGrpSpPr>
            <p:cNvPr id="529" name=""/>
            <p:cNvGrpSpPr/>
            <p:nvPr/>
          </p:nvGrpSpPr>
          <p:grpSpPr>
            <a:xfrm>
              <a:off x="4036320" y="2514600"/>
              <a:ext cx="1147320" cy="938880"/>
              <a:chOff x="4036320" y="2514600"/>
              <a:chExt cx="1147320" cy="9388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4036320" y="2514600"/>
                <a:ext cx="1147320" cy="938880"/>
                <a:chOff x="4036320" y="2514600"/>
                <a:chExt cx="1147320" cy="93888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045680" y="253044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036320" y="251460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102920" y="257004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4284000" y="27777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3200400" y="2982600"/>
              <a:ext cx="1148400" cy="938880"/>
              <a:chOff x="3200400" y="2982600"/>
              <a:chExt cx="1148400" cy="93888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3200400" y="2982600"/>
                <a:ext cx="1148400" cy="938880"/>
                <a:chOff x="3200400" y="2982600"/>
                <a:chExt cx="1148400" cy="9388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209760" y="299844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200400" y="298260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267000" y="303804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115d16"/>
                    </a:gs>
                    <a:gs pos="100000">
                      <a:srgbClr val="24b443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3455640" y="32400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4036320" y="3453480"/>
              <a:ext cx="1147320" cy="938880"/>
              <a:chOff x="4036320" y="3453480"/>
              <a:chExt cx="1147320" cy="9388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4036320" y="3453480"/>
                <a:ext cx="1147320" cy="938880"/>
                <a:chOff x="4036320" y="3453480"/>
                <a:chExt cx="1147320" cy="93888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4045680" y="346932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036320" y="345348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02920" y="350892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844820"/>
                    </a:gs>
                    <a:gs pos="100000">
                      <a:srgbClr val="cc7032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264560" y="3721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871160" y="2982600"/>
              <a:ext cx="1148400" cy="938880"/>
              <a:chOff x="4871160" y="2982600"/>
              <a:chExt cx="1148400" cy="93888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4871160" y="2982600"/>
                <a:ext cx="1148400" cy="938880"/>
                <a:chOff x="4871160" y="2982600"/>
                <a:chExt cx="1148400" cy="9388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4880520" y="299844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871160" y="298260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937760" y="303804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5126400" y="3252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4871160" y="3924360"/>
              <a:ext cx="1148400" cy="938880"/>
              <a:chOff x="4871160" y="3924360"/>
              <a:chExt cx="1148400" cy="93888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4871160" y="3924360"/>
                <a:ext cx="1148400" cy="938880"/>
                <a:chOff x="4871160" y="3924360"/>
                <a:chExt cx="1148400" cy="9388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880520" y="394020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871160" y="392436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937760" y="397980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4dc9b1"/>
                    </a:gs>
                    <a:gs pos="100000">
                      <a:srgbClr val="235c51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5141880" y="4225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3200400" y="3924360"/>
              <a:ext cx="1148400" cy="938880"/>
              <a:chOff x="3200400" y="3924360"/>
              <a:chExt cx="1148400" cy="93888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3200400" y="3924360"/>
                <a:ext cx="1148400" cy="938880"/>
                <a:chOff x="3200400" y="3924360"/>
                <a:chExt cx="1148400" cy="938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209760" y="394020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00400" y="392436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67000" y="397980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3455640" y="4179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4036320" y="4395240"/>
              <a:ext cx="1147320" cy="938880"/>
              <a:chOff x="4036320" y="4395240"/>
              <a:chExt cx="1147320" cy="93888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4036320" y="4395240"/>
                <a:ext cx="1147320" cy="938880"/>
                <a:chOff x="4036320" y="4395240"/>
                <a:chExt cx="1147320" cy="938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4045680" y="441108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036320" y="439524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102920" y="445068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bfaa4f"/>
                    </a:gs>
                    <a:gs pos="100000">
                      <a:srgbClr val="584e2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4286880" y="46652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"/>
          <p:cNvSpPr/>
          <p:nvPr/>
        </p:nvSpPr>
        <p:spPr>
          <a:xfrm>
            <a:off x="909720" y="163656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91597e"/>
              </a:gs>
              <a:gs pos="50000">
                <a:srgbClr val="b894ac">
                  <a:alpha val="90196"/>
                </a:srgbClr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51400" y="1636560"/>
            <a:ext cx="2439720" cy="2000520"/>
          </a:xfrm>
          <a:prstGeom prst="rightArrowCallout">
            <a:avLst>
              <a:gd name="adj1" fmla="val 28438"/>
              <a:gd name="adj2" fmla="val 21477"/>
              <a:gd name="adj3" fmla="val 8887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51400" y="1563840"/>
            <a:ext cx="2109600" cy="515880"/>
          </a:xfrm>
          <a:prstGeom prst="rect">
            <a:avLst/>
          </a:prstGeom>
          <a:gradFill rotWithShape="0">
            <a:gsLst>
              <a:gs pos="0">
                <a:srgbClr val="b24242"/>
              </a:gs>
              <a:gs pos="50000">
                <a:srgbClr val="c36e6e"/>
              </a:gs>
              <a:gs pos="100000">
                <a:srgbClr val="b242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6088320" y="173088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91597e"/>
              </a:gs>
              <a:gs pos="50000">
                <a:srgbClr val="c8adbf">
                  <a:alpha val="90196"/>
                </a:srgbClr>
              </a:gs>
              <a:gs pos="100000">
                <a:srgbClr val="9159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83360" y="1563840"/>
            <a:ext cx="2119320" cy="515880"/>
          </a:xfrm>
          <a:prstGeom prst="rect">
            <a:avLst/>
          </a:prstGeom>
          <a:gradFill rotWithShape="0">
            <a:gsLst>
              <a:gs pos="0">
                <a:srgbClr val="91597e"/>
              </a:gs>
              <a:gs pos="50000">
                <a:srgbClr val="764866"/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244680" y="424800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91597e"/>
              </a:gs>
              <a:gs pos="50000">
                <a:srgbClr val="b894ac">
                  <a:alpha val="90196"/>
                </a:srgbClr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71920" y="4092480"/>
            <a:ext cx="2112840" cy="515880"/>
          </a:xfrm>
          <a:prstGeom prst="rect">
            <a:avLst/>
          </a:prstGeom>
          <a:gradFill rotWithShape="0">
            <a:gsLst>
              <a:gs pos="0">
                <a:srgbClr val="91597e"/>
              </a:gs>
              <a:gs pos="50000">
                <a:srgbClr val="7e4d6e"/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856120" y="424800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186600" y="4102200"/>
            <a:ext cx="2119320" cy="515880"/>
          </a:xfrm>
          <a:prstGeom prst="rect">
            <a:avLst/>
          </a:prstGeom>
          <a:gradFill rotWithShape="0">
            <a:gsLst>
              <a:gs pos="0">
                <a:srgbClr val="b24242"/>
              </a:gs>
              <a:gs pos="50000">
                <a:srgbClr val="c36e6e"/>
              </a:gs>
              <a:gs pos="100000">
                <a:srgbClr val="b242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07920" y="1563840"/>
            <a:ext cx="2114640" cy="515880"/>
          </a:xfrm>
          <a:prstGeom prst="rect">
            <a:avLst/>
          </a:prstGeom>
          <a:gradFill rotWithShape="0">
            <a:gsLst>
              <a:gs pos="0">
                <a:srgbClr val="91597e"/>
              </a:gs>
              <a:gs pos="50000">
                <a:srgbClr val="7e4d6e"/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937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703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5181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70360" y="4195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518160" y="4195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43120" y="4390920"/>
            <a:ext cx="232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9064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4816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16752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67520" y="5008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67240" y="5008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 flipH="1" rot="17752800">
            <a:off x="5642280" y="2913120"/>
            <a:ext cx="1677600" cy="17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2" y="16773"/>
                </a:moveTo>
                <a:arcTo wR="10800" hR="10800" stAng="8785564" swAng="18754729"/>
                <a:lnTo>
                  <a:pt x="10800" y="10800"/>
                </a:lnTo>
                <a:close/>
              </a:path>
              <a:path fill="none" w="21600" h="21600">
                <a:moveTo>
                  <a:pt x="1802" y="16773"/>
                </a:moveTo>
                <a:arcTo wR="10800" hR="10800" stAng="8785564" swAng="1875472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rot="5400000">
            <a:off x="1824840" y="1499400"/>
            <a:ext cx="1380960" cy="142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14" y="20987"/>
                </a:moveTo>
                <a:arcTo wR="10800" hR="10800" stAng="6563447" swAng="19875067"/>
                <a:lnTo>
                  <a:pt x="10800" y="10800"/>
                </a:lnTo>
                <a:close/>
              </a:path>
              <a:path fill="none" w="21600" h="21600">
                <a:moveTo>
                  <a:pt x="7214" y="20987"/>
                </a:moveTo>
                <a:arcTo wR="10800" hR="10800" stAng="6563447" swAng="19875067"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5797440" y="30956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5797440" y="30956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51a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51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未知"/>
          <p:cNvSpPr/>
          <p:nvPr/>
        </p:nvSpPr>
        <p:spPr>
          <a:xfrm>
            <a:off x="5937120" y="31226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5893920" y="4037040"/>
            <a:ext cx="1201320" cy="479520"/>
            <a:chOff x="5893920" y="4037040"/>
            <a:chExt cx="1201320" cy="479520"/>
          </a:xfrm>
        </p:grpSpPr>
        <p:grpSp>
          <p:nvGrpSpPr>
            <p:cNvPr id="600" name=""/>
            <p:cNvGrpSpPr/>
            <p:nvPr/>
          </p:nvGrpSpPr>
          <p:grpSpPr>
            <a:xfrm>
              <a:off x="6104160" y="4037040"/>
              <a:ext cx="991080" cy="453240"/>
              <a:chOff x="6104160" y="4037040"/>
              <a:chExt cx="991080" cy="453240"/>
            </a:xfrm>
          </p:grpSpPr>
          <p:sp>
            <p:nvSpPr>
              <p:cNvPr id="601" name=""/>
              <p:cNvSpPr/>
              <p:nvPr/>
            </p:nvSpPr>
            <p:spPr>
              <a:xfrm flipH="1" flipV="1" rot="3964800">
                <a:off x="6641640" y="3903120"/>
                <a:ext cx="17676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 rot="4780200">
                <a:off x="6530040" y="39481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 rot="5076000">
                <a:off x="6460560" y="3957120"/>
                <a:ext cx="17676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 rot="5608200">
                <a:off x="6379200" y="39650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5893920" y="4042080"/>
              <a:ext cx="988560" cy="474480"/>
              <a:chOff x="5893920" y="4042080"/>
              <a:chExt cx="988560" cy="474480"/>
            </a:xfrm>
          </p:grpSpPr>
          <p:sp>
            <p:nvSpPr>
              <p:cNvPr id="606" name=""/>
              <p:cNvSpPr/>
              <p:nvPr/>
            </p:nvSpPr>
            <p:spPr>
              <a:xfrm flipH="1" flipV="1" rot="5317800">
                <a:off x="6431760" y="3963600"/>
                <a:ext cx="17748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 rot="6133800">
                <a:off x="6312240" y="396144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6429000">
                <a:off x="6245280" y="394344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6961200">
                <a:off x="6166440" y="391968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1928880" y="16318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928880" y="1631880"/>
            <a:ext cx="1171440" cy="1171800"/>
          </a:xfrm>
          <a:prstGeom prst="ellipse">
            <a:avLst/>
          </a:prstGeom>
          <a:gradFill rotWithShape="0">
            <a:gsLst>
              <a:gs pos="0">
                <a:srgbClr val="3615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615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未知"/>
          <p:cNvSpPr/>
          <p:nvPr/>
        </p:nvSpPr>
        <p:spPr>
          <a:xfrm>
            <a:off x="2049480" y="16556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193480" y="2016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87680" y="3591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95160" y="21258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223040" y="35528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2687400" y="2492280"/>
            <a:ext cx="1036440" cy="1049040"/>
            <a:chOff x="2687400" y="2492280"/>
            <a:chExt cx="1036440" cy="1049040"/>
          </a:xfrm>
        </p:grpSpPr>
        <p:sp>
          <p:nvSpPr>
            <p:cNvPr id="618" name=""/>
            <p:cNvSpPr/>
            <p:nvPr/>
          </p:nvSpPr>
          <p:spPr>
            <a:xfrm rot="19090200">
              <a:off x="2682360" y="25394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198c1"/>
                </a:gs>
                <a:gs pos="100000">
                  <a:srgbClr val="660066"/>
                </a:gs>
              </a:gsLst>
              <a:lin ang="133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8122200">
              <a:off x="3174480" y="23544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26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29520" y="3800880"/>
            <a:ext cx="1479240" cy="150120"/>
            <a:chOff x="4529520" y="3800880"/>
            <a:chExt cx="1479240" cy="150120"/>
          </a:xfrm>
        </p:grpSpPr>
        <p:sp>
          <p:nvSpPr>
            <p:cNvPr id="621" name=""/>
            <p:cNvSpPr/>
            <p:nvPr/>
          </p:nvSpPr>
          <p:spPr>
            <a:xfrm rot="5607000">
              <a:off x="5902560" y="384732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50000">
                  <a:srgbClr val="00ffff"/>
                </a:gs>
                <a:gs pos="100000">
                  <a:srgbClr val="003232"/>
                </a:gs>
              </a:gsLst>
              <a:lin ang="51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rot="16242000">
              <a:off x="5211000" y="3126960"/>
              <a:ext cx="100800" cy="146376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54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3360600" y="30304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360600" y="30304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424200">
                  <a:alpha val="90196"/>
                </a:srgbClr>
              </a:gs>
              <a:gs pos="100000">
                <a:srgbClr val="ffff00">
                  <a:alpha val="4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未知"/>
          <p:cNvSpPr/>
          <p:nvPr/>
        </p:nvSpPr>
        <p:spPr>
          <a:xfrm>
            <a:off x="3530520" y="30639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3475440" y="4173120"/>
            <a:ext cx="1455480" cy="579600"/>
            <a:chOff x="3475440" y="4173120"/>
            <a:chExt cx="1455480" cy="579600"/>
          </a:xfrm>
        </p:grpSpPr>
        <p:grpSp>
          <p:nvGrpSpPr>
            <p:cNvPr id="627" name=""/>
            <p:cNvGrpSpPr/>
            <p:nvPr/>
          </p:nvGrpSpPr>
          <p:grpSpPr>
            <a:xfrm>
              <a:off x="3730320" y="4173120"/>
              <a:ext cx="1200600" cy="547920"/>
              <a:chOff x="3730320" y="4173120"/>
              <a:chExt cx="1200600" cy="547920"/>
            </a:xfrm>
          </p:grpSpPr>
          <p:sp>
            <p:nvSpPr>
              <p:cNvPr id="628" name=""/>
              <p:cNvSpPr/>
              <p:nvPr/>
            </p:nvSpPr>
            <p:spPr>
              <a:xfrm flipH="1" flipV="1" rot="3964800">
                <a:off x="4382280" y="40111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 rot="4780200">
                <a:off x="4246920" y="40651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 rot="5076000">
                <a:off x="4163760" y="407484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 rot="5608200">
                <a:off x="4064400" y="40849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475440" y="4178160"/>
              <a:ext cx="1198080" cy="574560"/>
              <a:chOff x="3475440" y="4178160"/>
              <a:chExt cx="1198080" cy="574560"/>
            </a:xfrm>
          </p:grpSpPr>
          <p:sp>
            <p:nvSpPr>
              <p:cNvPr id="633" name=""/>
              <p:cNvSpPr/>
              <p:nvPr/>
            </p:nvSpPr>
            <p:spPr>
              <a:xfrm flipH="1" flipV="1" rot="5317800">
                <a:off x="4127760" y="40834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6133800">
                <a:off x="3983400" y="4081680"/>
                <a:ext cx="21420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6429000">
                <a:off x="3901680" y="406044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 rot="6961200">
                <a:off x="3807000" y="40294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"/>
          <p:cNvSpPr/>
          <p:nvPr/>
        </p:nvSpPr>
        <p:spPr>
          <a:xfrm>
            <a:off x="3856680" y="36212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508840" y="4117320"/>
            <a:ext cx="1258920" cy="1019520"/>
            <a:chOff x="2508840" y="4117320"/>
            <a:chExt cx="1258920" cy="1019520"/>
          </a:xfrm>
        </p:grpSpPr>
        <p:sp>
          <p:nvSpPr>
            <p:cNvPr id="639" name=""/>
            <p:cNvSpPr/>
            <p:nvPr/>
          </p:nvSpPr>
          <p:spPr>
            <a:xfrm rot="3460800">
              <a:off x="3593520" y="4168440"/>
              <a:ext cx="174240" cy="954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5c198"/>
                </a:gs>
                <a:gs pos="100000">
                  <a:srgbClr val="996600"/>
                </a:gs>
              </a:gsLst>
              <a:lin ang="73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3956000">
              <a:off x="3066480" y="392112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rot="5910600">
            <a:off x="1599120" y="4456800"/>
            <a:ext cx="1677600" cy="17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20943"/>
                </a:moveTo>
                <a:arcTo wR="10800" hR="10800" stAng="6605145" swAng="19472499"/>
                <a:lnTo>
                  <a:pt x="10800" y="10800"/>
                </a:lnTo>
                <a:close/>
              </a:path>
              <a:path fill="none" w="21600" h="21600">
                <a:moveTo>
                  <a:pt x="7091" y="20943"/>
                </a:moveTo>
                <a:arcTo wR="10800" hR="10800" stAng="6605145" swAng="1947249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1440" y="50497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1731960" y="4630680"/>
            <a:ext cx="1432080" cy="141912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731960" y="4630680"/>
            <a:ext cx="1422360" cy="1422360"/>
          </a:xfrm>
          <a:prstGeom prst="ellipse">
            <a:avLst/>
          </a:prstGeom>
          <a:gradFill rotWithShape="0">
            <a:gsLst>
              <a:gs pos="0">
                <a:srgbClr val="351a42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5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未知"/>
          <p:cNvSpPr/>
          <p:nvPr/>
        </p:nvSpPr>
        <p:spPr>
          <a:xfrm>
            <a:off x="1879560" y="46594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832040" y="5617800"/>
            <a:ext cx="1258560" cy="502200"/>
            <a:chOff x="1832040" y="5617800"/>
            <a:chExt cx="1258560" cy="502200"/>
          </a:xfrm>
        </p:grpSpPr>
        <p:grpSp>
          <p:nvGrpSpPr>
            <p:cNvPr id="647" name=""/>
            <p:cNvGrpSpPr/>
            <p:nvPr/>
          </p:nvGrpSpPr>
          <p:grpSpPr>
            <a:xfrm>
              <a:off x="2053080" y="5617800"/>
              <a:ext cx="1037520" cy="474840"/>
              <a:chOff x="2053080" y="5617800"/>
              <a:chExt cx="1037520" cy="474840"/>
            </a:xfrm>
          </p:grpSpPr>
          <p:sp>
            <p:nvSpPr>
              <p:cNvPr id="648" name=""/>
              <p:cNvSpPr/>
              <p:nvPr/>
            </p:nvSpPr>
            <p:spPr>
              <a:xfrm flipH="1" flipV="1" rot="3964800">
                <a:off x="2616120" y="5477400"/>
                <a:ext cx="184320" cy="75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 rot="4780200">
                <a:off x="2499480" y="552456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 rot="5076000">
                <a:off x="2427480" y="553428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 rot="5608200">
                <a:off x="2342160" y="554184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1832040" y="5623560"/>
              <a:ext cx="1036440" cy="496440"/>
              <a:chOff x="1832040" y="5623560"/>
              <a:chExt cx="1036440" cy="496440"/>
            </a:xfrm>
          </p:grpSpPr>
          <p:sp>
            <p:nvSpPr>
              <p:cNvPr id="653" name=""/>
              <p:cNvSpPr/>
              <p:nvPr/>
            </p:nvSpPr>
            <p:spPr>
              <a:xfrm flipH="1" flipV="1" rot="5317800">
                <a:off x="2396520" y="554148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 rot="6133800">
                <a:off x="2270880" y="553968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flipV="1" rot="6429000">
                <a:off x="2200680" y="552132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 rot="6961200">
                <a:off x="2118960" y="549432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7" name=""/>
          <p:cNvSpPr/>
          <p:nvPr/>
        </p:nvSpPr>
        <p:spPr>
          <a:xfrm>
            <a:off x="2115720" y="51656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11680" y="2445120"/>
            <a:ext cx="1036080" cy="414360"/>
            <a:chOff x="2011680" y="2445120"/>
            <a:chExt cx="1036080" cy="414360"/>
          </a:xfrm>
        </p:grpSpPr>
        <p:grpSp>
          <p:nvGrpSpPr>
            <p:cNvPr id="659" name=""/>
            <p:cNvGrpSpPr/>
            <p:nvPr/>
          </p:nvGrpSpPr>
          <p:grpSpPr>
            <a:xfrm>
              <a:off x="2192760" y="2445120"/>
              <a:ext cx="855000" cy="390600"/>
              <a:chOff x="2192760" y="2445120"/>
              <a:chExt cx="855000" cy="390600"/>
            </a:xfrm>
          </p:grpSpPr>
          <p:sp>
            <p:nvSpPr>
              <p:cNvPr id="660" name=""/>
              <p:cNvSpPr/>
              <p:nvPr/>
            </p:nvSpPr>
            <p:spPr>
              <a:xfrm flipH="1" flipV="1" rot="3964800">
                <a:off x="2657160" y="23295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 rot="4780200">
                <a:off x="2561040" y="23684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 rot="5076000">
                <a:off x="2502000" y="23752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 flipV="1" rot="5608200">
                <a:off x="2431080" y="23824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011680" y="2449800"/>
              <a:ext cx="853200" cy="409680"/>
              <a:chOff x="2011680" y="2449800"/>
              <a:chExt cx="853200" cy="409680"/>
            </a:xfrm>
          </p:grpSpPr>
          <p:sp>
            <p:nvSpPr>
              <p:cNvPr id="665" name=""/>
              <p:cNvSpPr/>
              <p:nvPr/>
            </p:nvSpPr>
            <p:spPr>
              <a:xfrm flipH="1" flipV="1" rot="5317800">
                <a:off x="2476440" y="23824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 rot="6133800">
                <a:off x="2373120" y="238032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 rot="6429000">
                <a:off x="2315520" y="236520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6961200">
                <a:off x="2247120" y="234396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"/>
          <p:cNvSpPr/>
          <p:nvPr/>
        </p:nvSpPr>
        <p:spPr>
          <a:xfrm>
            <a:off x="3505320" y="5381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583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未知"/>
          <p:cNvSpPr/>
          <p:nvPr/>
        </p:nvSpPr>
        <p:spPr>
          <a:xfrm>
            <a:off x="5776920" y="307656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77a43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未知"/>
          <p:cNvSpPr/>
          <p:nvPr/>
        </p:nvSpPr>
        <p:spPr>
          <a:xfrm>
            <a:off x="3672000" y="333216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91597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未知"/>
          <p:cNvSpPr/>
          <p:nvPr/>
        </p:nvSpPr>
        <p:spPr>
          <a:xfrm>
            <a:off x="1547640" y="3564000"/>
            <a:ext cx="198144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b2424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3603600" y="352260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15000" y="352260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799400" y="321624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未知"/>
          <p:cNvSpPr/>
          <p:nvPr/>
        </p:nvSpPr>
        <p:spPr>
          <a:xfrm>
            <a:off x="1523880" y="229536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862600" y="5694480"/>
            <a:ext cx="1781280" cy="314280"/>
          </a:xfrm>
          <a:prstGeom prst="bevel">
            <a:avLst>
              <a:gd name="adj" fmla="val 5949"/>
            </a:avLst>
          </a:prstGeom>
          <a:solidFill>
            <a:srgbClr val="77a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682640" y="444816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85880" y="180828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776760" y="5694480"/>
            <a:ext cx="1780920" cy="314280"/>
          </a:xfrm>
          <a:prstGeom prst="bevel">
            <a:avLst>
              <a:gd name="adj" fmla="val 5949"/>
            </a:avLst>
          </a:prstGeom>
          <a:solidFill>
            <a:srgbClr val="77a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23960" y="5694480"/>
            <a:ext cx="1781280" cy="314280"/>
          </a:xfrm>
          <a:prstGeom prst="bevel">
            <a:avLst>
              <a:gd name="adj" fmla="val 5949"/>
            </a:avLst>
          </a:prstGeom>
          <a:solidFill>
            <a:srgbClr val="77a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652920" y="447516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786280" y="446076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71500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057400"/>
            <a:ext cx="7238880" cy="396252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74320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2767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2bbca"/>
              </a:gs>
              <a:gs pos="100000">
                <a:srgbClr val="9159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809880"/>
            <a:ext cx="3962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434340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2bbca"/>
              </a:gs>
              <a:gs pos="100000">
                <a:srgbClr val="9159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8769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895480"/>
            <a:ext cx="20574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4242"/>
              </a:gs>
              <a:gs pos="50000">
                <a:srgbClr val="c67575"/>
              </a:gs>
              <a:gs pos="100000">
                <a:srgbClr val="b24242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4290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1597e"/>
              </a:gs>
              <a:gs pos="50000">
                <a:srgbClr val="ae86a0"/>
              </a:gs>
              <a:gs pos="100000">
                <a:srgbClr val="91597e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96252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4242"/>
              </a:gs>
              <a:gs pos="50000">
                <a:srgbClr val="c67575"/>
              </a:gs>
              <a:gs pos="100000">
                <a:srgbClr val="b24242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495680"/>
            <a:ext cx="20574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1597e"/>
              </a:gs>
              <a:gs pos="50000">
                <a:srgbClr val="ae86a0"/>
              </a:gs>
              <a:gs pos="100000">
                <a:srgbClr val="91597e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50292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4242"/>
              </a:gs>
              <a:gs pos="50000">
                <a:srgbClr val="c67575"/>
              </a:gs>
              <a:gs pos="100000">
                <a:srgbClr val="b24242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641600"/>
            <a:ext cx="6553080" cy="56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2590920" y="3176640"/>
            <a:ext cx="433224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7a43a"/>
                    </a:gs>
                    <a:gs pos="100000">
                      <a:srgbClr val="91597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7a43a"/>
                  </a:gs>
                  <a:gs pos="100000">
                    <a:srgbClr val="91597e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590920" y="5943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A0BE-FEDB-48C2-980F-7C00C1945E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0280" y="1519200"/>
            <a:ext cx="782316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7a43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583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952880"/>
            <a:ext cx="6324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90720" y="4648320"/>
            <a:ext cx="6319800" cy="1218600"/>
            <a:chOff x="990720" y="4648320"/>
            <a:chExt cx="6319800" cy="1218600"/>
          </a:xfrm>
        </p:grpSpPr>
        <p:sp>
          <p:nvSpPr>
            <p:cNvPr id="118" name=""/>
            <p:cNvSpPr/>
            <p:nvPr/>
          </p:nvSpPr>
          <p:spPr>
            <a:xfrm>
              <a:off x="990720" y="480024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1597e"/>
                </a:gs>
                <a:gs pos="100000">
                  <a:srgbClr val="c5a9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4648320"/>
              <a:ext cx="6319800" cy="823680"/>
            </a:xfrm>
            <a:prstGeom prst="roundRect">
              <a:avLst>
                <a:gd name="adj" fmla="val 16667"/>
              </a:avLst>
            </a:prstGeom>
            <a:solidFill>
              <a:srgbClr val="915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990720" y="5180400"/>
              <a:ext cx="631512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9159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90720" y="3146400"/>
            <a:ext cx="6319800" cy="1219320"/>
            <a:chOff x="990720" y="3146400"/>
            <a:chExt cx="6319800" cy="1219320"/>
          </a:xfrm>
        </p:grpSpPr>
        <p:sp>
          <p:nvSpPr>
            <p:cNvPr id="122" name=""/>
            <p:cNvSpPr/>
            <p:nvPr/>
          </p:nvSpPr>
          <p:spPr>
            <a:xfrm>
              <a:off x="990720" y="32986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4242"/>
                </a:gs>
                <a:gs pos="100000">
                  <a:srgbClr val="d69d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31464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b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990720" y="36795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b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990720" y="1676520"/>
            <a:ext cx="6319800" cy="1218600"/>
            <a:chOff x="990720" y="1676520"/>
            <a:chExt cx="6319800" cy="1218600"/>
          </a:xfrm>
        </p:grpSpPr>
        <p:sp>
          <p:nvSpPr>
            <p:cNvPr id="126" name=""/>
            <p:cNvSpPr/>
            <p:nvPr/>
          </p:nvSpPr>
          <p:spPr>
            <a:xfrm>
              <a:off x="990720" y="182844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900d"/>
                </a:gs>
                <a:gs pos="100000">
                  <a:srgbClr val="f7c5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1676520"/>
              <a:ext cx="6319800" cy="823680"/>
            </a:xfrm>
            <a:prstGeom prst="roundRect">
              <a:avLst>
                <a:gd name="adj" fmla="val 16667"/>
              </a:avLst>
            </a:prstGeom>
            <a:solidFill>
              <a:srgbClr val="f39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990720" y="2208600"/>
              <a:ext cx="631512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390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2640" y="1752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2640" y="32227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2640" y="47242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23623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f39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380988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b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531324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1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63376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38080" y="2362320"/>
            <a:ext cx="1838160" cy="3309840"/>
            <a:chOff x="838080" y="2362320"/>
            <a:chExt cx="1838160" cy="3309840"/>
          </a:xfrm>
        </p:grpSpPr>
        <p:sp>
          <p:nvSpPr>
            <p:cNvPr id="138" name=""/>
            <p:cNvSpPr/>
            <p:nvPr/>
          </p:nvSpPr>
          <p:spPr>
            <a:xfrm>
              <a:off x="838080" y="236232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424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4400" y="240048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630600" y="2362320"/>
            <a:ext cx="1838160" cy="3309840"/>
            <a:chOff x="3630600" y="2362320"/>
            <a:chExt cx="1838160" cy="3309840"/>
          </a:xfrm>
        </p:grpSpPr>
        <p:sp>
          <p:nvSpPr>
            <p:cNvPr id="141" name=""/>
            <p:cNvSpPr/>
            <p:nvPr/>
          </p:nvSpPr>
          <p:spPr>
            <a:xfrm>
              <a:off x="3630600" y="236232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1597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3680" y="240048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159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67400" y="2362320"/>
            <a:ext cx="1838160" cy="3309840"/>
            <a:chOff x="6467400" y="2362320"/>
            <a:chExt cx="1838160" cy="3309840"/>
          </a:xfrm>
        </p:grpSpPr>
        <p:sp>
          <p:nvSpPr>
            <p:cNvPr id="144" name=""/>
            <p:cNvSpPr/>
            <p:nvPr/>
          </p:nvSpPr>
          <p:spPr>
            <a:xfrm>
              <a:off x="6467400" y="236232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424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43720" y="2409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14400" y="301932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301932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301932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71800" y="3886200"/>
            <a:ext cx="504000" cy="495720"/>
            <a:chOff x="2971800" y="3886200"/>
            <a:chExt cx="504000" cy="495720"/>
          </a:xfrm>
        </p:grpSpPr>
        <p:grpSp>
          <p:nvGrpSpPr>
            <p:cNvPr id="150" name=""/>
            <p:cNvGrpSpPr/>
            <p:nvPr/>
          </p:nvGrpSpPr>
          <p:grpSpPr>
            <a:xfrm>
              <a:off x="3173400" y="3886200"/>
              <a:ext cx="302400" cy="495720"/>
              <a:chOff x="3173400" y="3886200"/>
              <a:chExt cx="302400" cy="495720"/>
            </a:xfrm>
          </p:grpSpPr>
          <p:sp>
            <p:nvSpPr>
              <p:cNvPr id="151" name=""/>
              <p:cNvSpPr/>
              <p:nvPr/>
            </p:nvSpPr>
            <p:spPr>
              <a:xfrm>
                <a:off x="31734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742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750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742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734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971800" y="3886200"/>
              <a:ext cx="302400" cy="495720"/>
              <a:chOff x="2971800" y="3886200"/>
              <a:chExt cx="302400" cy="495720"/>
            </a:xfrm>
          </p:grpSpPr>
          <p:sp>
            <p:nvSpPr>
              <p:cNvPr id="157" name=""/>
              <p:cNvSpPr/>
              <p:nvPr/>
            </p:nvSpPr>
            <p:spPr>
              <a:xfrm>
                <a:off x="29718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726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734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726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18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5715000" y="3886200"/>
            <a:ext cx="504000" cy="495720"/>
            <a:chOff x="5715000" y="3886200"/>
            <a:chExt cx="504000" cy="495720"/>
          </a:xfrm>
        </p:grpSpPr>
        <p:grpSp>
          <p:nvGrpSpPr>
            <p:cNvPr id="163" name=""/>
            <p:cNvGrpSpPr/>
            <p:nvPr/>
          </p:nvGrpSpPr>
          <p:grpSpPr>
            <a:xfrm>
              <a:off x="5916600" y="3886200"/>
              <a:ext cx="302400" cy="495720"/>
              <a:chOff x="5916600" y="3886200"/>
              <a:chExt cx="302400" cy="495720"/>
            </a:xfrm>
          </p:grpSpPr>
          <p:sp>
            <p:nvSpPr>
              <p:cNvPr id="164" name=""/>
              <p:cNvSpPr/>
              <p:nvPr/>
            </p:nvSpPr>
            <p:spPr>
              <a:xfrm>
                <a:off x="59166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174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182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174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166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715000" y="3886200"/>
              <a:ext cx="302400" cy="495720"/>
              <a:chOff x="5715000" y="3886200"/>
              <a:chExt cx="302400" cy="495720"/>
            </a:xfrm>
          </p:grpSpPr>
          <p:sp>
            <p:nvSpPr>
              <p:cNvPr id="170" name=""/>
              <p:cNvSpPr/>
              <p:nvPr/>
            </p:nvSpPr>
            <p:spPr>
              <a:xfrm>
                <a:off x="57150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158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166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158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150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990720" y="16765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133720" y="2495520"/>
            <a:ext cx="5257080" cy="2895120"/>
            <a:chOff x="2133720" y="2495520"/>
            <a:chExt cx="5257080" cy="2895120"/>
          </a:xfrm>
        </p:grpSpPr>
        <p:sp>
          <p:nvSpPr>
            <p:cNvPr id="178" name="未知"/>
            <p:cNvSpPr/>
            <p:nvPr/>
          </p:nvSpPr>
          <p:spPr>
            <a:xfrm>
              <a:off x="2926080" y="39852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3761640" y="2495520"/>
              <a:ext cx="361980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2133720" y="2891880"/>
              <a:ext cx="1977840" cy="201276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057400" y="2419200"/>
            <a:ext cx="5333760" cy="2819520"/>
            <a:chOff x="2057400" y="2419200"/>
            <a:chExt cx="5333760" cy="2819520"/>
          </a:xfrm>
        </p:grpSpPr>
        <p:sp>
          <p:nvSpPr>
            <p:cNvPr id="182" name="未知"/>
            <p:cNvSpPr/>
            <p:nvPr/>
          </p:nvSpPr>
          <p:spPr>
            <a:xfrm>
              <a:off x="2861280" y="38700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b24242"/>
                </a:gs>
                <a:gs pos="100000">
                  <a:srgbClr val="5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3708720" y="2419200"/>
              <a:ext cx="367236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597e"/>
                </a:gs>
                <a:gs pos="100000">
                  <a:srgbClr val="4229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2057400" y="28051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77a43a"/>
                </a:gs>
                <a:gs pos="100000">
                  <a:srgbClr val="9bb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829480" y="167652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5391000"/>
            <a:ext cx="3047760" cy="854280"/>
          </a:xfrm>
          <a:noFill/>
          <a:ln w="9360">
            <a:solidFill>
              <a:srgbClr val="b2424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33400"/>
            <a:ext cx="2192400" cy="965520"/>
          </a:xfrm>
          <a:noFill/>
          <a:ln w="9360">
            <a:solidFill>
              <a:srgbClr val="19358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b24242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1597e"/>
              </a:gs>
              <a:gs pos="100000">
                <a:srgbClr val="b18aa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3900d"/>
              </a:gs>
              <a:gs pos="100000">
                <a:srgbClr val="f5b05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7a43a"/>
              </a:gs>
              <a:gs pos="100000">
                <a:srgbClr val="9fbe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95880" y="2209680"/>
            <a:ext cx="2285640" cy="3309840"/>
            <a:chOff x="6095880" y="2209680"/>
            <a:chExt cx="2285640" cy="3309840"/>
          </a:xfrm>
        </p:grpSpPr>
        <p:sp>
          <p:nvSpPr>
            <p:cNvPr id="195" name=""/>
            <p:cNvSpPr/>
            <p:nvPr/>
          </p:nvSpPr>
          <p:spPr>
            <a:xfrm>
              <a:off x="609588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1597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9056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159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400800" y="309096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4920" y="2438280"/>
            <a:ext cx="547560" cy="513000"/>
            <a:chOff x="304920" y="2438280"/>
            <a:chExt cx="547560" cy="513000"/>
          </a:xfrm>
        </p:grpSpPr>
        <p:sp>
          <p:nvSpPr>
            <p:cNvPr id="199" name=""/>
            <p:cNvSpPr/>
            <p:nvPr/>
          </p:nvSpPr>
          <p:spPr>
            <a:xfrm>
              <a:off x="3049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01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68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9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1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68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01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568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4920" y="3581280"/>
            <a:ext cx="547560" cy="513000"/>
            <a:chOff x="304920" y="3581280"/>
            <a:chExt cx="547560" cy="513000"/>
          </a:xfrm>
        </p:grpSpPr>
        <p:sp>
          <p:nvSpPr>
            <p:cNvPr id="209" name=""/>
            <p:cNvSpPr/>
            <p:nvPr/>
          </p:nvSpPr>
          <p:spPr>
            <a:xfrm>
              <a:off x="3049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01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568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9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1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568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9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01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568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04920" y="4724280"/>
            <a:ext cx="547560" cy="513000"/>
            <a:chOff x="304920" y="4724280"/>
            <a:chExt cx="547560" cy="513000"/>
          </a:xfrm>
        </p:grpSpPr>
        <p:sp>
          <p:nvSpPr>
            <p:cNvPr id="219" name=""/>
            <p:cNvSpPr/>
            <p:nvPr/>
          </p:nvSpPr>
          <p:spPr>
            <a:xfrm>
              <a:off x="3049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1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568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9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1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568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9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1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8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216160" y="1614600"/>
            <a:ext cx="4495320" cy="4514400"/>
            <a:chOff x="2216160" y="1614600"/>
            <a:chExt cx="4495320" cy="4514400"/>
          </a:xfrm>
        </p:grpSpPr>
        <p:sp>
          <p:nvSpPr>
            <p:cNvPr id="230" name="Puzzle3"/>
            <p:cNvSpPr/>
            <p:nvPr/>
          </p:nvSpPr>
          <p:spPr>
            <a:xfrm>
              <a:off x="4404960" y="1614600"/>
              <a:ext cx="1767240" cy="2399040"/>
            </a:xfrm>
            <a:prstGeom prst="pi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e9854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Puzzle2"/>
            <p:cNvSpPr/>
            <p:nvPr/>
          </p:nvSpPr>
          <p:spPr>
            <a:xfrm>
              <a:off x="3891240" y="33624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Puzzle4"/>
            <p:cNvSpPr/>
            <p:nvPr/>
          </p:nvSpPr>
          <p:spPr>
            <a:xfrm>
              <a:off x="2799720" y="33354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Puzzle1"/>
            <p:cNvSpPr/>
            <p:nvPr/>
          </p:nvSpPr>
          <p:spPr>
            <a:xfrm>
              <a:off x="2216160" y="23403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193583"/>
                </a:gs>
                <a:gs pos="100000">
                  <a:srgbClr val="576ca4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408000" y="41292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8240" y="3519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68440" y="1614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97240" y="580536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1597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1597e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1676520"/>
            <a:ext cx="510516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581280" y="1828800"/>
            <a:ext cx="4924440" cy="1228680"/>
            <a:chOff x="3581280" y="1828800"/>
            <a:chExt cx="4924440" cy="1228680"/>
          </a:xfrm>
        </p:grpSpPr>
        <p:sp>
          <p:nvSpPr>
            <p:cNvPr id="243" name=""/>
            <p:cNvSpPr/>
            <p:nvPr/>
          </p:nvSpPr>
          <p:spPr>
            <a:xfrm>
              <a:off x="362880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dd6d6"/>
                </a:gs>
                <a:gs pos="100000">
                  <a:srgbClr val="b242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128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581280" y="3191040"/>
            <a:ext cx="4924440" cy="1228680"/>
            <a:chOff x="3581280" y="3191040"/>
            <a:chExt cx="4924440" cy="1228680"/>
          </a:xfrm>
        </p:grpSpPr>
        <p:sp>
          <p:nvSpPr>
            <p:cNvPr id="246" name=""/>
            <p:cNvSpPr/>
            <p:nvPr/>
          </p:nvSpPr>
          <p:spPr>
            <a:xfrm>
              <a:off x="362880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1ead4"/>
                </a:gs>
                <a:gs pos="100000">
                  <a:srgbClr val="77a4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8128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581280" y="4495680"/>
            <a:ext cx="4924440" cy="1228680"/>
            <a:chOff x="3581280" y="4495680"/>
            <a:chExt cx="4924440" cy="1228680"/>
          </a:xfrm>
        </p:grpSpPr>
        <p:sp>
          <p:nvSpPr>
            <p:cNvPr id="249" name=""/>
            <p:cNvSpPr/>
            <p:nvPr/>
          </p:nvSpPr>
          <p:spPr>
            <a:xfrm>
              <a:off x="362880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6dae2"/>
                </a:gs>
                <a:gs pos="100000">
                  <a:srgbClr val="9159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8:02:58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