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CF87-EB49-4E86-8BD1-65748739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CF5E-2CA9-45FE-8743-A0075BC9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E4AE-7270-46D9-9078-615CF539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33CB-0494-4194-9D89-41442938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F94B-293C-4658-A328-787A6632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32F7-C574-476D-B2C0-C0AF9505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6462-3D6F-4121-B46B-8D7ACA8E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5B7F-53D0-400D-8644-C738CC83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64C7-AD48-480A-A3A8-B5418775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185F-3A7E-4689-ADD8-748F786E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4E80-B297-4B7C-B8C1-F26EFBFF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CDF9-AE8C-4CD7-8930-5A1B21A8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F77B-B79B-4928-9331-6328A4DA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D466-B511-486B-B567-7D02BB2E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D290-F4A9-4A33-ADB7-36757254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E8F3-3B45-444F-B901-0680B32D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6771-7F2A-47D7-A008-3B5152B9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CB17-DEAE-457E-B6F2-6D6C78EB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0135-C96B-4C81-BEA8-351BFEC7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C6AA-C6FA-4EE2-974A-6A08C704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B5A5-F8EE-475D-9F5E-63F8CAAF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110E-4C3D-4D80-A52F-9C3F8E91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CF2F-81E3-4602-BA8E-AD466B72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7691-BB91-490F-9A77-75F91B59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第一课件网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1kejia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332D-FC37-41CB-BD16-8F4610AF7AF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432D-88F0-46B5-9A14-CD48254D740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oouo.com/baike/3131.htm" TargetMode="External"/><Relationship Id="rId2" Type="http://schemas.openxmlformats.org/officeDocument/2006/relationships/hyperlink" Target="http://www.soouo.com/baike/3562.htm" TargetMode="External"/><Relationship Id="rId3" Type="http://schemas.openxmlformats.org/officeDocument/2006/relationships/hyperlink" Target="http://www.soouo.com/baike/2542.htm" TargetMode="External"/><Relationship Id="rId4" Type="http://schemas.openxmlformats.org/officeDocument/2006/relationships/hyperlink" Target="http://www.soouo.com/baike/3918.htm" TargetMode="External"/><Relationship Id="rId5" Type="http://schemas.openxmlformats.org/officeDocument/2006/relationships/hyperlink" Target="http://www.soouo.com/baike/3483.htm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  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844640"/>
            <a:ext cx="8686800" cy="21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 </a:t>
            </a:r>
            <a:r>
              <a:rPr b="0" lang="zh-CN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孙悟空三打白骨精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2581-EC63-4324-A504-E23B891D22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0" t="0" r="570" b="4298"/>
          <a:stretch/>
        </p:blipFill>
        <p:spPr>
          <a:xfrm>
            <a:off x="2133720" y="457200"/>
            <a:ext cx="4454280" cy="4627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0" y="571500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孙悟空一打白骨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9308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0A10-C95C-4D71-BA5C-2E8EB502B6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11280" y="40464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白骨精为了吃唐僧肉，变成一个村姑，穿着花衣服，提着一篮馒头，笑着向唐僧走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191628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婆子拄着竹杖，口中喊着寻女儿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14842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270828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白骨精又变成一个老头儿，手持拐杖，来找唐僧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400536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老头大声呼喊：“救命啊，救命！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486900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老头冲到悟空面前说：“你打死了我的老伴和女儿，我这条老命也不要了，索性跟你拼了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D5DE-4F08-4A22-92A0-F633FE7EC9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0920" y="47628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孙悟空用鼻子一嗅，闻到一股妖气，再用火眼金睛凝视，一下子看出那村姑是一个妖怪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59280" y="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i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ā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844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胆妖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悟空一声吆喝，举起金箍棒，劈面便打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3213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悟空看得仔细，认出那婆子也是那个妖怪变的，就飞步向前，大喝一声：“妖怪，你又来了，再吃我一棒！”金箍棒当头劈去，那婆子便应声倒下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9A42-5E82-441E-9D73-79697C877E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95280" y="2060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悟空气得毛发直竖，大喝道：“不管你千变万化，妖怪总是妖怪！”说罢抡棒就打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333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悟空认出那老头又是白骨精的化身，上前喝道：“大胆妖精，你骗不了我老孙！”说着又要举棒打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335772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悟空回答说：“妖怪吃人本性不变。你今天救了它，它却不会放过你。是妖就要打，哪能讲慈悲！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30064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悟空撇开唐僧，一棒打去，把那老头儿打下深涧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9308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8DE2-5AC7-4BD6-A072-FBCBE60CC7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11280" y="90792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悟空识破妖计，正要追赶，却被唐僧一把拉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2565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悟空正要追赶，又被唐僧拦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3860640"/>
            <a:ext cx="59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悟空正要去追，又被唐僧拦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693F-85E1-4A09-AE3D-E8A25E20A7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26920" y="333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唐僧责怪悟空不该错杀好人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1268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唐僧怒喝道：“你接连打死母女两人，是何道理？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3645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唐僧上前护住老头儿，沉着脸说：“人以慈悲为本，不准杀他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2637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唐僧急忙喝住悟空，不准再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7AA1-2F51-4F7E-99C1-16368758EA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使用规范说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1038-AEBE-4F55-8E40-3AF39B7E1F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0920" y="0"/>
            <a:ext cx="8893080" cy="25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《西游记》 ，明代小说家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吴承恩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字汝忠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号射阳居士 ）著。《西游记》成书于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0" lang="zh-CN" sz="3600" spc="-1" strike="noStrike" u="sng">
                <a:solidFill>
                  <a:srgbClr val="996600"/>
                </a:solidFill>
                <a:uFillTx/>
                <a:latin typeface="宋体"/>
                <a:hlinkClick r:id="rId1"/>
              </a:rPr>
              <a:t>明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中叶，根据唐玄奘去天竺取经这一真实的历史事件，自问世以来在中国及世界各地广为流传，被</a:t>
            </a:r>
            <a:r>
              <a:rPr b="0" lang="zh-CN" sz="3600" spc="-1" strike="noStrike" u="sng">
                <a:solidFill>
                  <a:srgbClr val="996600"/>
                </a:solidFill>
                <a:uFillTx/>
                <a:latin typeface="宋体"/>
                <a:hlinkClick r:id="rId2"/>
              </a:rPr>
              <a:t>翻译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成多种</a:t>
            </a:r>
            <a:r>
              <a:rPr b="0" lang="zh-CN" sz="3600" spc="-1" strike="noStrike" u="sng">
                <a:solidFill>
                  <a:srgbClr val="996600"/>
                </a:solidFill>
                <a:uFillTx/>
                <a:latin typeface="宋体"/>
                <a:hlinkClick r:id="rId3"/>
              </a:rPr>
              <a:t>语言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在中国，乃至</a:t>
            </a:r>
            <a:r>
              <a:rPr b="0" lang="zh-CN" sz="3600" spc="-1" strike="noStrike" u="sng">
                <a:solidFill>
                  <a:srgbClr val="996600"/>
                </a:solidFill>
                <a:uFillTx/>
                <a:latin typeface="宋体"/>
                <a:hlinkClick r:id="rId4"/>
              </a:rPr>
              <a:t>亚洲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部分地区西游记家喻户晓，其中孙悟空、唐僧、猪八戒、沙僧等人物和“大闹天宫”、“三打白骨精”、“火焰山”等故事尤其为人熟悉。几百年以来，西游记被改编成了各种地方戏曲，及电影、电视剧、动画片、漫画，版本繁多。它是中国“</a:t>
            </a:r>
            <a:r>
              <a:rPr b="0" lang="zh-CN" sz="3600" spc="-1" strike="noStrike" u="sng">
                <a:solidFill>
                  <a:srgbClr val="996600"/>
                </a:solidFill>
                <a:uFillTx/>
                <a:latin typeface="宋体"/>
                <a:hlinkClick r:id="rId5"/>
              </a:rPr>
              <a:t>四大名著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”之一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1136-5924-4730-B6FE-25B4407E87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836640"/>
            <a:ext cx="8497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听准６个生字和１３个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孙悟空一打、二打、三打白骨精化身的自然段前，标上“一打、二打、三打”等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认为分别用什么词语来概括孙悟空、唐僧、白骨精的特点最恰当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6D25-AE14-40FF-928E-8EC26880E5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0920" y="476280"/>
            <a:ext cx="864216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轻声读课文，并填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白骨精为了吃唐僧肉，先变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又变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最后变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都被孙悟空识破，孙悟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怒打白骨精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细读一打、二打、三打的段落，边读边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“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划出能反映孙悟空坚定不移、机智勇敢、善于识别敌人诡计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“﹏﹏”划出能反映白骨精诡计多端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“　　”划出能反映唐僧“慈悲为本”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00000" y="5805360"/>
            <a:ext cx="649440" cy="71280"/>
            <a:chOff x="900000" y="5805360"/>
            <a:chExt cx="649440" cy="71280"/>
          </a:xfrm>
        </p:grpSpPr>
        <p:sp>
          <p:nvSpPr>
            <p:cNvPr id="93" name=""/>
            <p:cNvSpPr/>
            <p:nvPr/>
          </p:nvSpPr>
          <p:spPr>
            <a:xfrm>
              <a:off x="900000" y="580536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00000" y="587664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C1FD-E821-4F73-8643-767F8F7A11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708360" y="5084640"/>
            <a:ext cx="2808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ē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5805360"/>
            <a:ext cx="41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唐　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4435560" cy="5562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588000" y="1484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慈悲为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9308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6E0D-7A69-478F-9E35-3566C90159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356000" y="5157720"/>
            <a:ext cx="459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5300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40000" y="587700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孙悟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16720" cy="5383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732720" y="476280"/>
            <a:ext cx="2087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坚定不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32720" y="1989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机智勇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364500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善于识别敌人诡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8D24-2E2C-4C4E-B5FE-F6331217D9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9640" y="573408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白骨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2773440" cy="3744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64000" y="321300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诡计多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148428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残害百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64000" y="2565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35640" y="4437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善于变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6B35-0C74-4D7A-B337-A9CB5726C0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27280" y="6381720"/>
            <a:ext cx="33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84360" y="623736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猪八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686640" cy="6324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54080" y="4552920"/>
            <a:ext cx="6110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A4BF-6D73-463F-817E-16B86F3DF7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5708520" cy="5877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32000" y="587700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沙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52AB-0859-41B3-9AF6-A3BB565F8C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01:36:54Z</dcterms:created>
  <dc:creator>http://www.eeppt.com</dc:creator>
  <dc:description>ppt模板下载网站 http://www.eeppt.com</dc:description>
  <dc:language>en-US</dc:language>
  <cp:lastModifiedBy/>
  <dcterms:modified xsi:type="dcterms:W3CDTF">2015-06-15T00:41:17Z</dcterms:modified>
  <cp:revision>20</cp:revision>
  <dc:subject/>
  <dc:title>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