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373-5F80-44DA-BF15-7F596BF7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52D-F1C3-4177-86AB-C1A89EB0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F844-16A2-4582-97C7-96E80D83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8892-3E3F-4810-9871-0EE5B879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F152-602F-4BDC-ACC6-B78FD83D0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9A92-030B-427A-A96F-48A991DC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82AD-ACBC-46CA-9870-0DF42F28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B412-20A6-4EFB-A002-34931ED5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D74E-07BB-47E5-9CB7-A847066F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965F-C4B2-49BE-B2F5-EF3A62CE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7C4E-6895-4EC3-A6E1-40350D4C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D54F-85CA-4060-9B55-D8148C3D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98C4-5177-484B-B5EF-CB4F92FC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646E-2F77-4F01-BA8D-8DCB01E0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C9D2-153F-4AF7-BF57-872BB3C3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2322-6052-4C6B-B345-78A0B2D0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9C2C-B488-4D17-9838-B4231596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115-FECB-4F50-BA12-E7ADB241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EB61-5D40-48BA-A7DE-1FB717C2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654-A9E4-435F-8194-4E0058D6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EE0-54EA-4F96-9047-157DE565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7F4-9412-4BB5-B750-25EB0425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193-0EB6-414F-A0CD-C226522A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276C-5C54-4C43-B683-06E59393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235B-FB00-4DDA-A76B-5AABD518028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DC7C-92CF-41A2-8E7C-8602781B87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A327-B30C-4373-B566-FCE03179D7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D019-F2B8-4BD2-989B-3113F3932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椭圆 75"/>
          <p:cNvSpPr/>
          <p:nvPr/>
        </p:nvSpPr>
        <p:spPr>
          <a:xfrm>
            <a:off x="2050920" y="4519440"/>
            <a:ext cx="5884920" cy="1346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顶部logo"/>
          <p:cNvGrpSpPr/>
          <p:nvPr/>
        </p:nvGrpSpPr>
        <p:grpSpPr>
          <a:xfrm>
            <a:off x="0" y="181080"/>
            <a:ext cx="9144000" cy="637920"/>
            <a:chOff x="0" y="181080"/>
            <a:chExt cx="9144000" cy="637920"/>
          </a:xfrm>
        </p:grpSpPr>
        <p:sp>
          <p:nvSpPr>
            <p:cNvPr id="84" name="矩形 98"/>
            <p:cNvSpPr/>
            <p:nvPr/>
          </p:nvSpPr>
          <p:spPr>
            <a:xfrm>
              <a:off x="0" y="711360"/>
              <a:ext cx="9144000" cy="1076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99"/>
            <p:cNvSpPr/>
            <p:nvPr/>
          </p:nvSpPr>
          <p:spPr>
            <a:xfrm>
              <a:off x="5883480" y="299160"/>
              <a:ext cx="179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粗倩简体"/>
                  <a:ea typeface="方正粗倩简体"/>
                </a:rPr>
                <a:t>三项循环关系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粗倩简体"/>
                  <a:ea typeface="方正粗倩简体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方正粗倩简体"/>
                  <a:ea typeface="方正粗倩简体"/>
                </a:rPr>
                <a:t>图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3" descr="I:\盘古老人.png"/>
            <p:cNvPicPr/>
            <p:nvPr/>
          </p:nvPicPr>
          <p:blipFill>
            <a:blip r:embed="rId1"/>
            <a:stretch/>
          </p:blipFill>
          <p:spPr>
            <a:xfrm>
              <a:off x="1247040" y="320040"/>
              <a:ext cx="80460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4" descr="I:\盘古老人印.png"/>
            <p:cNvPicPr/>
            <p:nvPr/>
          </p:nvPicPr>
          <p:blipFill>
            <a:blip r:embed="rId2"/>
            <a:stretch/>
          </p:blipFill>
          <p:spPr>
            <a:xfrm>
              <a:off x="830880" y="181080"/>
              <a:ext cx="36000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组合 1"/>
          <p:cNvGrpSpPr/>
          <p:nvPr/>
        </p:nvGrpSpPr>
        <p:grpSpPr>
          <a:xfrm>
            <a:off x="2853720" y="2531880"/>
            <a:ext cx="3612960" cy="3655800"/>
            <a:chOff x="2853720" y="2531880"/>
            <a:chExt cx="3612960" cy="3655800"/>
          </a:xfrm>
        </p:grpSpPr>
        <p:sp>
          <p:nvSpPr>
            <p:cNvPr id="89" name="Freeform 19"/>
            <p:cNvSpPr/>
            <p:nvPr/>
          </p:nvSpPr>
          <p:spPr>
            <a:xfrm rot="270600">
              <a:off x="4623840" y="2720160"/>
              <a:ext cx="1746720" cy="2509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13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7"/>
            <p:cNvSpPr/>
            <p:nvPr/>
          </p:nvSpPr>
          <p:spPr>
            <a:xfrm rot="270600">
              <a:off x="2952360" y="2598840"/>
              <a:ext cx="1805760" cy="2586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53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8"/>
            <p:cNvSpPr/>
            <p:nvPr/>
          </p:nvSpPr>
          <p:spPr>
            <a:xfrm rot="270600">
              <a:off x="3138480" y="4927680"/>
              <a:ext cx="2900160" cy="1147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33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54"/>
          <p:cNvGrpSpPr/>
          <p:nvPr/>
        </p:nvGrpSpPr>
        <p:grpSpPr>
          <a:xfrm>
            <a:off x="3457440" y="2619360"/>
            <a:ext cx="2260800" cy="2251080"/>
            <a:chOff x="3457440" y="2619360"/>
            <a:chExt cx="2260800" cy="2251080"/>
          </a:xfrm>
        </p:grpSpPr>
        <p:sp>
          <p:nvSpPr>
            <p:cNvPr id="93" name="椭圆 55"/>
            <p:cNvSpPr/>
            <p:nvPr/>
          </p:nvSpPr>
          <p:spPr>
            <a:xfrm>
              <a:off x="3476160" y="2619360"/>
              <a:ext cx="2242080" cy="2242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56"/>
            <p:cNvSpPr/>
            <p:nvPr/>
          </p:nvSpPr>
          <p:spPr>
            <a:xfrm>
              <a:off x="3457440" y="2628000"/>
              <a:ext cx="2242080" cy="22424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57"/>
            <p:cNvSpPr/>
            <p:nvPr/>
          </p:nvSpPr>
          <p:spPr>
            <a:xfrm>
              <a:off x="4130280" y="2701080"/>
              <a:ext cx="934200" cy="462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Box 11"/>
          <p:cNvSpPr/>
          <p:nvPr/>
        </p:nvSpPr>
        <p:spPr>
          <a:xfrm flipH="1">
            <a:off x="3699720" y="331164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 flipH="1">
            <a:off x="3969720" y="375768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 flipH="1">
            <a:off x="3967200" y="39942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61"/>
          <p:cNvSpPr/>
          <p:nvPr/>
        </p:nvSpPr>
        <p:spPr>
          <a:xfrm>
            <a:off x="6883560" y="3892680"/>
            <a:ext cx="200016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62"/>
          <p:cNvSpPr/>
          <p:nvPr/>
        </p:nvSpPr>
        <p:spPr>
          <a:xfrm>
            <a:off x="649440" y="3600360"/>
            <a:ext cx="200016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 flipH="1">
            <a:off x="1069920" y="35528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 flipH="1">
            <a:off x="1065240" y="319104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 flipH="1">
            <a:off x="7407360" y="39164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 flipH="1">
            <a:off x="7154280" y="355284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67"/>
          <p:cNvSpPr/>
          <p:nvPr/>
        </p:nvSpPr>
        <p:spPr>
          <a:xfrm>
            <a:off x="4149720" y="5130720"/>
            <a:ext cx="314280" cy="79524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 flipH="1">
            <a:off x="4743360" y="58910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 flipH="1">
            <a:off x="4657680" y="552780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72"/>
          <p:cNvSpPr/>
          <p:nvPr/>
        </p:nvSpPr>
        <p:spPr>
          <a:xfrm>
            <a:off x="4464000" y="5924520"/>
            <a:ext cx="2000160" cy="144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73"/>
          <p:cNvSpPr/>
          <p:nvPr/>
        </p:nvSpPr>
        <p:spPr>
          <a:xfrm flipH="1" flipV="1">
            <a:off x="2680920" y="3600360"/>
            <a:ext cx="731880" cy="29520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74"/>
          <p:cNvSpPr/>
          <p:nvPr/>
        </p:nvSpPr>
        <p:spPr>
          <a:xfrm flipV="1">
            <a:off x="6080040" y="3892320"/>
            <a:ext cx="831960" cy="40932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30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