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07B-65E8-494C-94A9-4B9AC111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70F-A211-45A8-89B4-B735BD6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ADA-0EC9-4A7F-950C-9BBF9C38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78B-9A63-46C9-BB0B-8B5EFDB2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547-B066-4F1A-8883-04E32603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A393-3D4D-405A-8F71-FDBD5C1B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918-7DB1-454C-8E88-BB5E45F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93F-0DEF-4E0A-A7FF-02FDF79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014-7813-4003-BC44-0AFB5C88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220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249D-2818-4B45-8464-11A25AB4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F84-62C9-4B9D-9203-754AEC2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BC3-D8AD-4298-88E2-438390E9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AA5-CDB2-4254-BD08-72D37D0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F5F6-B402-455E-A5A0-6A177DC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F644-0D96-4DD8-9EEE-468962E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409-248C-4038-8B5D-F1A4CCC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964E-071D-4543-BB94-BBD9C3D4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FF0-405D-4105-8646-396DDD7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E18-3B15-4F2A-BFBB-57287A8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33F-345F-47C0-A427-66857EF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220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40A-1762-467E-A85A-7881DC4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499-F77D-4B6D-B500-870764E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4CB-10EC-4E79-975B-23F7B83C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3E3-0428-43DB-8083-6983A19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346B-6FBA-4611-A747-9701ECE73787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105-74E8-4ED5-8B47-CFAA28069FDE}" type="slidenum">
              <a:rPr b="0" lang="en-US" sz="1400" spc="-1" strike="noStrike">
                <a:solidFill>
                  <a:srgbClr val="0c0c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E:\PPT动画\345\背景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:\PPT动画\345\条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-260280" y="0"/>
            <a:ext cx="9404280" cy="705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:\PPT动画\345\光.png"/>
          <p:cNvPicPr/>
          <p:nvPr/>
        </p:nvPicPr>
        <p:blipFill>
          <a:blip r:embed="rId4"/>
          <a:stretch/>
        </p:blipFill>
        <p:spPr>
          <a:xfrm>
            <a:off x="-28440" y="189000"/>
            <a:ext cx="9172440" cy="688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E:\PPT动画\345\楼.png"/>
          <p:cNvPicPr/>
          <p:nvPr/>
        </p:nvPicPr>
        <p:blipFill>
          <a:blip r:embed="rId5"/>
          <a:stretch/>
        </p:blipFill>
        <p:spPr>
          <a:xfrm>
            <a:off x="-58680" y="4071960"/>
            <a:ext cx="9202680" cy="29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PPT动画\345\门.png"/>
          <p:cNvPicPr/>
          <p:nvPr/>
        </p:nvPicPr>
        <p:blipFill>
          <a:blip r:embed="rId6"/>
          <a:stretch/>
        </p:blipFill>
        <p:spPr>
          <a:xfrm>
            <a:off x="7763040" y="-122400"/>
            <a:ext cx="2354040" cy="700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:\PPT动画\345\门.png"/>
          <p:cNvPicPr/>
          <p:nvPr/>
        </p:nvPicPr>
        <p:blipFill>
          <a:blip r:embed="rId7"/>
          <a:stretch/>
        </p:blipFill>
        <p:spPr>
          <a:xfrm>
            <a:off x="-798480" y="-112680"/>
            <a:ext cx="2346120" cy="699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52560" y="3645000"/>
            <a:ext cx="3657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260000" y="2277720"/>
            <a:ext cx="66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60360" y="3108240"/>
            <a:ext cx="669636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天安门</a:t>
            </a:r>
            <a:r>
              <a:rPr b="1" lang="en-US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模板免费下载</a:t>
            </a:r>
            <a:endParaRPr b="1" lang="en-US" sz="1800" spc="1" strike="noStrike">
              <a:ln w="6480">
                <a:solidFill>
                  <a:srgbClr val="0c0c0c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7512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7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a954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c06464"/>
                </a:gs>
                <a:gs pos="100000">
                  <a:srgbClr val="99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8d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E:\PPT动画\345\背景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8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:\PPT动画\345\条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260280" y="0"/>
            <a:ext cx="9404280" cy="7059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:\PPT动画\345\光.png"/>
          <p:cNvPicPr/>
          <p:nvPr/>
        </p:nvPicPr>
        <p:blipFill>
          <a:blip r:embed="rId3"/>
          <a:stretch/>
        </p:blipFill>
        <p:spPr>
          <a:xfrm>
            <a:off x="-28440" y="-19080"/>
            <a:ext cx="9172440" cy="687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PPT动画\345\楼.png"/>
          <p:cNvPicPr/>
          <p:nvPr/>
        </p:nvPicPr>
        <p:blipFill>
          <a:blip r:embed="rId4"/>
          <a:stretch/>
        </p:blipFill>
        <p:spPr>
          <a:xfrm>
            <a:off x="-58680" y="4071960"/>
            <a:ext cx="920268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PPT动画\345\门.png"/>
          <p:cNvPicPr/>
          <p:nvPr/>
        </p:nvPicPr>
        <p:blipFill>
          <a:blip r:embed="rId5"/>
          <a:stretch/>
        </p:blipFill>
        <p:spPr>
          <a:xfrm>
            <a:off x="7186680" y="-122400"/>
            <a:ext cx="2354040" cy="700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PPT动画\345\门.png"/>
          <p:cNvPicPr/>
          <p:nvPr/>
        </p:nvPicPr>
        <p:blipFill>
          <a:blip r:embed="rId6"/>
          <a:stretch/>
        </p:blipFill>
        <p:spPr>
          <a:xfrm>
            <a:off x="-388800" y="-135000"/>
            <a:ext cx="2346120" cy="69994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3268800" y="227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746520" y="30686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-0.0044 L -3.88889E-006 -1.48148E-006 E">
                                      <p:cBhvr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0255 L -0.02361 -0.00255 E">
                                      <p:cBhvr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E48-628F-4B40-8F40-AEF81E52E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http://www.eeppt.com</dc:creator>
  <dc:description>ppt模板下载网站 http://www.eeppt.com</dc:description>
  <dc:language>en-US</dc:language>
  <cp:lastModifiedBy/>
  <dcterms:modified xsi:type="dcterms:W3CDTF">2015-06-14T08:38:49Z</dcterms:modified>
  <cp:revision>1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