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224-F044-432A-9AD8-FF57A63F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42B-AE4B-4AFD-BCC9-2FEB1BFC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764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64D-DE99-4F5E-A201-EB652868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4744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732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4744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732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60B-B69D-4AF0-8FA8-EC6B5875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7B3D-E965-422C-812C-0BB2D0F1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80D3-44D2-4FE4-A70E-09EE7C7C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0EBA-0442-442F-A1F0-968954A3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1EF9-E7F6-47C3-86DA-E7508AD8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B677-53EE-4EDB-A8D6-FE6B3602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28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D4C8-06F1-4BF8-85E2-1DB750CD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4452-7323-46C9-9F95-35099817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D13-2788-4598-BE25-DE597D44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764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640A-C652-4490-A4D1-8FD109E6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24C5-0ED6-4272-B681-9BBE51DC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DB35-7E69-4A02-8EA0-DDF97731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7764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100A-60F7-4C5E-88EC-C011E964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4744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732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4744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732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ED25-105E-40F2-B815-10A76C1C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8573-0D0E-4BD7-965E-F526EB64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515BA-A438-4FA8-97E1-B2367D20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5BD7-5AA5-4630-9312-B0AB578D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C00F9-247E-4740-906B-ADC10AA3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05D2-4D8B-4FA6-8D42-C39B71F3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9C7-1683-4430-9BED-64B1DE89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28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83EA-70DD-4C6A-87FB-24C63CF3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2B41-FB82-4086-908A-C3E6B742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7764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4D6EF-69B6-44CB-AD54-0A43FBDB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BAA20-FFD2-4C96-8C0B-DD48FF0B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A5EA8-E986-4264-AE9C-D52291BD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7764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1CBD2-1461-4372-B503-1B68968F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4744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83732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64744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83732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65C26-292A-445F-8B57-C77D3AD0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270C5-6861-46F0-A527-825D1D62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45DA9-3730-473B-95AF-E0AC095D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37BBF-FBB8-4620-9150-B3D265ED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3B9-C30B-402E-BC3C-8A730BE0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05116-2407-4E30-A3F2-868F103C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4D5C5-5A0C-4672-9570-6FC7B018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28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5DB1A-4F85-4316-B264-349CEBED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975B0-2467-4C02-B72D-B2191258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7764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935F3-5350-4E6B-886E-D72371C1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3529E-667F-4518-B2F4-C3EB07CB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35B6A-464E-4093-80B2-6161644D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7764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10956-8275-4AB3-9F60-6D431269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64744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37320" y="83808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64744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4837320" y="3783600"/>
            <a:ext cx="2085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FB68-EEC5-4ACD-8645-EE1ECBBB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317-D17B-4E8A-8C48-7D696A8F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28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EC7-A82E-4CD7-8292-4525F43C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A02-B479-4B9C-A4E7-1730A733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76400" y="378360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EE9-21DB-4B9F-9AC3-F24ADF8A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76400" y="838080"/>
            <a:ext cx="316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64771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B07-943D-42AF-A33F-AA3DE867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63264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C743-62F9-42CF-B282-361EEE7635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-36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40C7-D1F0-4804-B3E2-02A12A6FBC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-360" y="663264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5CC2-7FA6-4F5B-9020-37108212A6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14264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-360" y="663264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C201-48A9-4D5A-A0E5-5C160273B6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同一世界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演示模板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0" y="213192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486400" y="3733920"/>
            <a:ext cx="358128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4960" y="4856040"/>
            <a:ext cx="190332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192A1-298F-4CC6-AD5F-65C89CF6BF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14:16:57Z</dcterms:created>
  <dc:creator>http://www.eeppt.com</dc:creator>
  <dc:description>ppt模板下载网站 http://www.eeppt.com</dc:description>
  <dc:language>en-US</dc:language>
  <cp:lastModifiedBy/>
  <dcterms:modified xsi:type="dcterms:W3CDTF">2015-06-14T08:39:37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