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3A7-E6EA-4468-8117-804B4A14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621-1824-47B2-B0D8-6737A3A3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E8F-FA30-4D33-83E6-6BEAE589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A01-CDD9-48CC-82C7-AC58EB01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257-D430-4296-949A-F058AD7B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E8E-2C19-40EB-BB27-EDC1E486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20D-4DD1-435B-A805-FCF868DA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666-8545-4981-9672-0EE2F7C1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8D2-45C8-4BC6-90FA-806981DC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6D8-9535-47F8-9AAD-F9395F0E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E94-9477-4D4C-81DB-BCB1F04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948-CB7F-4112-A3C5-C6B83262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http://images.7083.com/20090308/bizhi-1239521564989.jpg"/>
          <p:cNvPicPr/>
          <p:nvPr/>
        </p:nvPicPr>
        <p:blipFill>
          <a:blip r:embed="rId2"/>
          <a:stretch/>
        </p:blipFill>
        <p:spPr>
          <a:xfrm>
            <a:off x="-225360" y="-168120"/>
            <a:ext cx="9369360" cy="7026120"/>
          </a:xfrm>
          <a:prstGeom prst="rect">
            <a:avLst/>
          </a:prstGeom>
          <a:ln w="0">
            <a:noFill/>
          </a:ln>
        </p:spPr>
      </p:pic>
      <p:pic>
        <p:nvPicPr>
          <p:cNvPr id="1" name="图片 35" descr="4.png"/>
          <p:cNvPicPr/>
          <p:nvPr/>
        </p:nvPicPr>
        <p:blipFill>
          <a:blip r:embed="rId3"/>
          <a:srcRect l="23437" t="63386" r="32177" b="5207"/>
          <a:stretch/>
        </p:blipFill>
        <p:spPr>
          <a:xfrm>
            <a:off x="-1211400" y="4524480"/>
            <a:ext cx="5477040" cy="29052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-235080" y="-3240"/>
            <a:ext cx="5026320" cy="5581800"/>
            <a:chOff x="-235080" y="-3240"/>
            <a:chExt cx="5026320" cy="5581800"/>
          </a:xfrm>
        </p:grpSpPr>
        <p:pic>
          <p:nvPicPr>
            <p:cNvPr id="3" name="椭圆 36" descr=""/>
            <p:cNvPicPr/>
            <p:nvPr/>
          </p:nvPicPr>
          <p:blipFill>
            <a:blip r:embed="rId4"/>
            <a:stretch/>
          </p:blipFill>
          <p:spPr>
            <a:xfrm>
              <a:off x="-235080" y="-3240"/>
              <a:ext cx="5026320" cy="55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508680" y="818280"/>
              <a:ext cx="3542760" cy="39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-1216080" y="5565600"/>
            <a:ext cx="5489640" cy="1871640"/>
            <a:chOff x="-1216080" y="5565600"/>
            <a:chExt cx="5489640" cy="1871640"/>
          </a:xfrm>
        </p:grpSpPr>
        <p:pic>
          <p:nvPicPr>
            <p:cNvPr id="6" name="椭圆 37" descr=""/>
            <p:cNvPicPr/>
            <p:nvPr/>
          </p:nvPicPr>
          <p:blipFill>
            <a:blip r:embed="rId5"/>
            <a:stretch/>
          </p:blipFill>
          <p:spPr>
            <a:xfrm>
              <a:off x="-1216080" y="5565600"/>
              <a:ext cx="54896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-408240" y="5843520"/>
              <a:ext cx="38707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5020-0A90-47D0-B8A2-9372C31010C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720" y="12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唯美水墨荷花动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0E1-9B69-489E-BF01-CEF76300BA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5:26:35Z</dcterms:created>
  <dc:creator>http://www.eeppt.com</dc:creator>
  <dc:description>ppt模板下载网站 http://www.eeppt.com</dc:description>
  <dc:language>en-US</dc:language>
  <cp:lastModifiedBy/>
  <dcterms:modified xsi:type="dcterms:W3CDTF">2015-06-14T08:40:4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