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4840" y="394164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36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5828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136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484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5828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136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4840" y="1262160"/>
            <a:ext cx="873432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87343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37600" y="0"/>
            <a:ext cx="890604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4840" y="1262160"/>
            <a:ext cx="873432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36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4840" y="394164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36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5828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1360" y="126216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484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5828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1360" y="3941640"/>
            <a:ext cx="2812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87343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7600" y="0"/>
            <a:ext cx="890604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360" y="394164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484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360" y="1262160"/>
            <a:ext cx="42620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4840" y="3941640"/>
            <a:ext cx="873432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mailto:jean.luc.niezette@gmail.com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4840" y="1262160"/>
            <a:ext cx="87343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225360" indent="-106200">
              <a:spcBef>
                <a:spcPts val="499"/>
              </a:spcBef>
              <a:buClr>
                <a:srgbClr val="cc6666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2" marL="500040" indent="-106200">
              <a:spcBef>
                <a:spcPts val="499"/>
              </a:spcBef>
              <a:buClr>
                <a:srgbClr val="cc6666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3" marL="681120" indent="-66600">
              <a:spcBef>
                <a:spcPts val="499"/>
              </a:spcBef>
              <a:buClr>
                <a:srgbClr val="cc6666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4" marL="914400" indent="-119160">
              <a:spcBef>
                <a:spcPts val="499"/>
              </a:spcBef>
              <a:buClr>
                <a:srgbClr val="cc6666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5" marL="914400" indent="-119160"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6" marL="914400" indent="-119160">
              <a:spcBef>
                <a:spcPts val="499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3865680" cy="48020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849840" y="0"/>
            <a:ext cx="5294160" cy="523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fr-BE" sz="6600" spc="-1" strike="noStrike">
                <a:solidFill>
                  <a:srgbClr val="ff9900"/>
                </a:solidFill>
                <a:latin typeface="Calibri"/>
              </a:rPr>
              <a:t> </a:t>
            </a:r>
            <a:r>
              <a:rPr b="1" lang="fr-BE" sz="6600" spc="-1" strike="noStrike">
                <a:solidFill>
                  <a:srgbClr val="ff9900"/>
                </a:solidFill>
                <a:latin typeface="Calibri"/>
              </a:rPr>
              <a:t>PowerPoint</a:t>
            </a:r>
            <a:br>
              <a:rPr sz="6600"/>
            </a:br>
            <a:r>
              <a:rPr b="1" lang="fr-BE" sz="6600" spc="-1" strike="noStrike">
                <a:solidFill>
                  <a:srgbClr val="ff9900"/>
                </a:solidFill>
                <a:latin typeface="Calibri"/>
              </a:rPr>
              <a:t> </a:t>
            </a:r>
            <a:r>
              <a:rPr b="1" lang="fr-BE" sz="6600" spc="-1" strike="noStrike">
                <a:solidFill>
                  <a:srgbClr val="ffffff"/>
                </a:solidFill>
                <a:latin typeface="Calibri"/>
              </a:rPr>
              <a:t>50 templ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802040"/>
            <a:ext cx="9144000" cy="209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fr-BE" sz="2000" spc="-1" strike="noStrike" u="sng">
                <a:solidFill>
                  <a:srgbClr val="ff9900"/>
                </a:solidFill>
                <a:uFillTx/>
                <a:latin typeface="Calibri"/>
                <a:hlinkClick r:id="rId3"/>
              </a:rPr>
              <a:t>jean.luc.niezette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fr-BE" sz="2000" spc="-1" strike="noStrike">
                <a:solidFill>
                  <a:srgbClr val="ffffff"/>
                </a:solidFill>
                <a:latin typeface="Calibri"/>
              </a:rPr>
              <a:t>Augustus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454720" y="1627200"/>
            <a:ext cx="3600360" cy="216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10360" y="3935520"/>
            <a:ext cx="360036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1200" y="5307120"/>
            <a:ext cx="3600360" cy="1084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440" y="4295880"/>
            <a:ext cx="3251160" cy="1299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2924280"/>
            <a:ext cx="325116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1960" y="1550880"/>
            <a:ext cx="4189320" cy="1227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3611520"/>
            <a:ext cx="198360" cy="1144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03880" y="3381480"/>
            <a:ext cx="39816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03880" y="3154320"/>
            <a:ext cx="593640" cy="3412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03880" y="2924280"/>
            <a:ext cx="793440" cy="4572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2240" y="3726000"/>
            <a:ext cx="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2040" y="3610080"/>
            <a:ext cx="0" cy="460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97520" y="3495600"/>
            <a:ext cx="0" cy="6890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97320" y="3381480"/>
            <a:ext cx="0" cy="917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03520" y="3954600"/>
            <a:ext cx="198360" cy="11412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03880" y="4070520"/>
            <a:ext cx="39816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03520" y="4184640"/>
            <a:ext cx="593640" cy="3430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03880" y="4299120"/>
            <a:ext cx="793440" cy="458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205160" y="3954240"/>
            <a:ext cx="198720" cy="11412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006440" y="4070160"/>
            <a:ext cx="39708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9880" y="4184280"/>
            <a:ext cx="594000" cy="3430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609720" y="4299120"/>
            <a:ext cx="793800" cy="458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05160" y="3725640"/>
            <a:ext cx="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06800" y="3609720"/>
            <a:ext cx="0" cy="460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09880" y="3495600"/>
            <a:ext cx="0" cy="6890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10080" y="3381120"/>
            <a:ext cx="0" cy="917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03880" y="3840120"/>
            <a:ext cx="0" cy="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05160" y="3611520"/>
            <a:ext cx="198720" cy="1144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06800" y="3381120"/>
            <a:ext cx="397080" cy="2286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3154320"/>
            <a:ext cx="594000" cy="34128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10080" y="2924280"/>
            <a:ext cx="793800" cy="4572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3768840" y="3198960"/>
            <a:ext cx="1190520" cy="1190520"/>
          </a:xfrm>
          <a:custGeom>
            <a:avLst/>
            <a:gdLst/>
            <a:ahLst/>
            <a:rect l="l" t="t" r="r" b="b"/>
            <a:pathLst>
              <a:path w="1501" h="1500">
                <a:moveTo>
                  <a:pt x="800" y="0"/>
                </a:moveTo>
                <a:lnTo>
                  <a:pt x="1501" y="403"/>
                </a:lnTo>
                <a:lnTo>
                  <a:pt x="1301" y="1097"/>
                </a:lnTo>
                <a:lnTo>
                  <a:pt x="800" y="1500"/>
                </a:lnTo>
                <a:lnTo>
                  <a:pt x="0" y="1270"/>
                </a:lnTo>
                <a:lnTo>
                  <a:pt x="100" y="403"/>
                </a:lnTo>
                <a:lnTo>
                  <a:pt x="800" y="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4006800" y="3473280"/>
            <a:ext cx="716040" cy="642960"/>
          </a:xfrm>
          <a:custGeom>
            <a:avLst/>
            <a:gdLst/>
            <a:ahLst/>
            <a:rect l="l" t="t" r="r" b="b"/>
            <a:pathLst>
              <a:path w="902" h="810">
                <a:moveTo>
                  <a:pt x="501" y="0"/>
                </a:moveTo>
                <a:lnTo>
                  <a:pt x="902" y="230"/>
                </a:lnTo>
                <a:lnTo>
                  <a:pt x="701" y="577"/>
                </a:lnTo>
                <a:lnTo>
                  <a:pt x="501" y="810"/>
                </a:lnTo>
                <a:lnTo>
                  <a:pt x="0" y="752"/>
                </a:lnTo>
                <a:lnTo>
                  <a:pt x="100" y="230"/>
                </a:lnTo>
                <a:lnTo>
                  <a:pt x="501" y="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03880" y="2924280"/>
            <a:ext cx="0" cy="9158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03880" y="3381480"/>
            <a:ext cx="793440" cy="458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03880" y="3840120"/>
            <a:ext cx="793440" cy="4590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03880" y="3840120"/>
            <a:ext cx="0" cy="917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09720" y="3840120"/>
            <a:ext cx="793800" cy="4590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609720" y="3381480"/>
            <a:ext cx="793800" cy="4586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63880" y="4875120"/>
            <a:ext cx="109800" cy="10980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07160" y="48369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th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3880" y="5070600"/>
            <a:ext cx="109800" cy="109440"/>
          </a:xfrm>
          <a:prstGeom prst="rect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7880" y="503244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thout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7040520" y="368460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40520" y="516888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516888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368460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86240" y="1413000"/>
            <a:ext cx="1819080" cy="664920"/>
          </a:xfrm>
          <a:custGeom>
            <a:avLst/>
            <a:gdLst>
              <a:gd name="textAreaLeft" fmla="*/ 0 w 1819080"/>
              <a:gd name="textAreaRight" fmla="*/ 1819440 w 181908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45200" y="1413000"/>
            <a:ext cx="1815840" cy="66492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08840" y="1413000"/>
            <a:ext cx="1812960" cy="66492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1413000"/>
            <a:ext cx="1817640" cy="66492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219708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97400" y="219708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68960" y="219708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40520" y="2197080"/>
            <a:ext cx="16797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2680" y="2195640"/>
            <a:ext cx="1152360" cy="13572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97400" y="368460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68960" y="368460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2680" y="3683160"/>
            <a:ext cx="1152360" cy="13572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1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7400" y="516888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68960" y="5168880"/>
            <a:ext cx="16779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2680" y="5167440"/>
            <a:ext cx="1152360" cy="135720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07880" y="3618000"/>
            <a:ext cx="8413560" cy="1485720"/>
            <a:chOff x="407880" y="3618000"/>
            <a:chExt cx="8413560" cy="1485720"/>
          </a:xfrm>
        </p:grpSpPr>
        <p:sp>
          <p:nvSpPr>
            <p:cNvPr id="333" name=""/>
            <p:cNvSpPr/>
            <p:nvPr/>
          </p:nvSpPr>
          <p:spPr>
            <a:xfrm>
              <a:off x="407880" y="3618000"/>
              <a:ext cx="8380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000" y="5103720"/>
              <a:ext cx="8380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25360" y="1262160"/>
            <a:ext cx="8785440" cy="5418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87200" y="63183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339" name=""/>
          <p:cNvSpPr/>
          <p:nvPr/>
        </p:nvSpPr>
        <p:spPr>
          <a:xfrm>
            <a:off x="2090880" y="3573360"/>
            <a:ext cx="1619280" cy="72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or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90880" y="4729320"/>
            <a:ext cx="16192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or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11560" y="2417760"/>
            <a:ext cx="231300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90880" y="2417760"/>
            <a:ext cx="16192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or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000" y="1411200"/>
            <a:ext cx="1298520" cy="5763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95560" y="2205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42000" y="2205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3080" y="2205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760" y="2200320"/>
            <a:ext cx="881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1560" y="3573360"/>
            <a:ext cx="2313000" cy="72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1560" y="4729320"/>
            <a:ext cx="231300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730520" y="1550880"/>
            <a:ext cx="28872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760" y="2417760"/>
            <a:ext cx="14446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2760" y="3573360"/>
            <a:ext cx="1444680" cy="72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760" y="4729320"/>
            <a:ext cx="14446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760" y="1333440"/>
            <a:ext cx="1444680" cy="72252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90880" y="1333440"/>
            <a:ext cx="1619280" cy="722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espon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3749760" y="1550880"/>
            <a:ext cx="28872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13360" y="1333440"/>
            <a:ext cx="2313000" cy="7225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Main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0" y="1333440"/>
            <a:ext cx="2166840" cy="7225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ction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6499440" y="1550880"/>
            <a:ext cx="28872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2417760"/>
            <a:ext cx="2166840" cy="4189320"/>
          </a:xfrm>
          <a:custGeom>
            <a:avLst/>
            <a:gdLst>
              <a:gd name="textAreaLeft" fmla="*/ 58680 w 2166840"/>
              <a:gd name="textAreaRight" fmla="*/ 2108160 w 2166840"/>
              <a:gd name="textAreaTop" fmla="*/ 58680 h 4189320"/>
              <a:gd name="textAreaBottom" fmla="*/ 4130640 h 4189320"/>
            </a:gdLst>
            <a:ahLst/>
            <a:rect l="textAreaLeft" t="textAreaTop" r="textAreaRight" b="textAreaBottom"/>
            <a:pathLst>
              <a:path w="21600" h="41758">
                <a:moveTo>
                  <a:pt x="2005" y="0"/>
                </a:moveTo>
                <a:arcTo wR="2005" hR="2005" stAng="16200000" swAng="-5400000"/>
                <a:lnTo>
                  <a:pt x="0" y="39753"/>
                </a:lnTo>
                <a:arcTo wR="2005" hR="2005" stAng="10800000" swAng="-5400000"/>
                <a:lnTo>
                  <a:pt x="19595" y="41758"/>
                </a:lnTo>
                <a:arcTo wR="2005" hR="2005" stAng="5400000" swAng="-5400000"/>
                <a:lnTo>
                  <a:pt x="21600" y="2005"/>
                </a:lnTo>
                <a:arcTo wR="2005" hR="2005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7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0560" y="3216240"/>
            <a:ext cx="28908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0560" y="4371840"/>
            <a:ext cx="28908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0560" y="5524560"/>
            <a:ext cx="289080" cy="285840"/>
          </a:xfrm>
          <a:prstGeom prst="downArrow">
            <a:avLst>
              <a:gd name="adj1" fmla="val 43963"/>
              <a:gd name="adj2" fmla="val 51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5884920"/>
            <a:ext cx="16192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or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1560" y="5884920"/>
            <a:ext cx="231300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2760" y="5884920"/>
            <a:ext cx="1444680" cy="72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Action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>
            <a:off x="5240160" y="418608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40160" y="331776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40160" y="505296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95800" y="2308320"/>
            <a:ext cx="3527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087520" y="2452680"/>
            <a:ext cx="71640" cy="3454920"/>
            <a:chOff x="5087520" y="2452680"/>
            <a:chExt cx="71640" cy="3454920"/>
          </a:xfrm>
        </p:grpSpPr>
        <p:sp>
          <p:nvSpPr>
            <p:cNvPr id="374" name=""/>
            <p:cNvSpPr/>
            <p:nvPr/>
          </p:nvSpPr>
          <p:spPr>
            <a:xfrm>
              <a:off x="5087880" y="2452680"/>
              <a:ext cx="0" cy="345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087520" y="5907600"/>
              <a:ext cx="7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087520" y="2452680"/>
              <a:ext cx="7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8551800" y="2457360"/>
            <a:ext cx="71640" cy="3454920"/>
            <a:chOff x="8551800" y="2457360"/>
            <a:chExt cx="71640" cy="3454920"/>
          </a:xfrm>
        </p:grpSpPr>
        <p:sp>
          <p:nvSpPr>
            <p:cNvPr id="378" name=""/>
            <p:cNvSpPr/>
            <p:nvPr/>
          </p:nvSpPr>
          <p:spPr>
            <a:xfrm>
              <a:off x="8623080" y="2457360"/>
              <a:ext cx="0" cy="345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551800" y="5912280"/>
              <a:ext cx="7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51800" y="2457360"/>
              <a:ext cx="7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226120" y="245268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27560" y="331956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27560" y="4186080"/>
            <a:ext cx="3251160" cy="70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26120" y="505476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92560" y="2019240"/>
            <a:ext cx="352764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9900"/>
                </a:solidFill>
                <a:latin typeface="Calibri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6800" y="419400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5560" y="2019240"/>
            <a:ext cx="3454560" cy="2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9900"/>
                </a:solidFill>
                <a:latin typeface="Calibri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6800" y="332568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6800" y="506088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2440" y="2316240"/>
            <a:ext cx="352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14520" y="2460600"/>
            <a:ext cx="71280" cy="3454920"/>
            <a:chOff x="614520" y="2460600"/>
            <a:chExt cx="71280" cy="3454920"/>
          </a:xfrm>
        </p:grpSpPr>
        <p:sp>
          <p:nvSpPr>
            <p:cNvPr id="392" name=""/>
            <p:cNvSpPr/>
            <p:nvPr/>
          </p:nvSpPr>
          <p:spPr>
            <a:xfrm>
              <a:off x="614520" y="2460600"/>
              <a:ext cx="0" cy="345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14520" y="5915520"/>
              <a:ext cx="7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14520" y="2460600"/>
              <a:ext cx="7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078440" y="2465280"/>
            <a:ext cx="71280" cy="3454920"/>
            <a:chOff x="4078440" y="2465280"/>
            <a:chExt cx="71280" cy="3454920"/>
          </a:xfrm>
        </p:grpSpPr>
        <p:sp>
          <p:nvSpPr>
            <p:cNvPr id="396" name=""/>
            <p:cNvSpPr/>
            <p:nvPr/>
          </p:nvSpPr>
          <p:spPr>
            <a:xfrm>
              <a:off x="4149720" y="2465280"/>
              <a:ext cx="0" cy="345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78440" y="5920200"/>
              <a:ext cx="7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78440" y="2465280"/>
              <a:ext cx="7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52400" y="246060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4200" y="332748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4200" y="4194000"/>
            <a:ext cx="3251160" cy="70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00" y="506268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921040" y="3971160"/>
            <a:ext cx="346860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5607000" y="425772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07000" y="338940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07000" y="5124600"/>
            <a:ext cx="324000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92600" y="2523960"/>
            <a:ext cx="3251520" cy="70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94400" y="339084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94400" y="425772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92600" y="5126040"/>
            <a:ext cx="325152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59400" y="1946160"/>
            <a:ext cx="3527280" cy="433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88960" y="426564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8080" y="1946160"/>
            <a:ext cx="3454200" cy="433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88960" y="339732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88960" y="5132520"/>
            <a:ext cx="3240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253224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76360" y="339876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426564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74920" y="5133960"/>
            <a:ext cx="3251160" cy="70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763880" y="2706480"/>
            <a:ext cx="79524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4762440" y="3620880"/>
            <a:ext cx="79524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762440" y="4535280"/>
            <a:ext cx="79524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4762440" y="5451480"/>
            <a:ext cx="7956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6120" y="2595600"/>
            <a:ext cx="1155960" cy="72216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722160"/>
              <a:gd name="textAreaBottom" fmla="*/ 722160 h 7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9120" y="3463920"/>
            <a:ext cx="1155960" cy="72216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722160"/>
              <a:gd name="textAreaBottom" fmla="*/ 722160 h 7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9120" y="4330800"/>
            <a:ext cx="1155960" cy="72216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722160"/>
              <a:gd name="textAreaBottom" fmla="*/ 722160 h 72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9120" y="5197320"/>
            <a:ext cx="1155960" cy="72252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3075120" y="1989000"/>
            <a:ext cx="5618160" cy="3603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5480" y="1990800"/>
            <a:ext cx="1943280" cy="360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2606400" y="2097000"/>
            <a:ext cx="358920" cy="149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5480" y="5157720"/>
            <a:ext cx="813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宋体"/>
              </a:rPr>
              <a:t>Key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71880" y="2490840"/>
            <a:ext cx="5618160" cy="3603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71880" y="2995560"/>
            <a:ext cx="5618160" cy="3603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71880" y="3502080"/>
            <a:ext cx="5618160" cy="3603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71880" y="4008600"/>
            <a:ext cx="5618160" cy="3603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2490840"/>
            <a:ext cx="1943280" cy="360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2593800" y="2597040"/>
            <a:ext cx="358920" cy="149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2880" y="2995560"/>
            <a:ext cx="1943280" cy="360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2594160" y="3102120"/>
            <a:ext cx="358560" cy="149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880" y="3502080"/>
            <a:ext cx="1943280" cy="360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5400000">
            <a:off x="2593800" y="3608280"/>
            <a:ext cx="358920" cy="149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2880" y="4008600"/>
            <a:ext cx="1943280" cy="360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2593800" y="4114800"/>
            <a:ext cx="358920" cy="149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50" name=""/>
          <p:cNvSpPr/>
          <p:nvPr/>
        </p:nvSpPr>
        <p:spPr>
          <a:xfrm>
            <a:off x="5810400" y="2633760"/>
            <a:ext cx="2528640" cy="10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45240" y="2271600"/>
            <a:ext cx="273672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Finding &amp;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8480" y="2273400"/>
            <a:ext cx="431964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4200" y="2560680"/>
            <a:ext cx="4406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45240" y="2567160"/>
            <a:ext cx="2736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404200" y="2711520"/>
            <a:ext cx="66600" cy="1150560"/>
            <a:chOff x="8404200" y="2711520"/>
            <a:chExt cx="66600" cy="1150560"/>
          </a:xfrm>
        </p:grpSpPr>
        <p:sp>
          <p:nvSpPr>
            <p:cNvPr id="456" name=""/>
            <p:cNvSpPr/>
            <p:nvPr/>
          </p:nvSpPr>
          <p:spPr>
            <a:xfrm>
              <a:off x="8470440" y="2711520"/>
              <a:ext cx="0" cy="115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04200" y="386208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04200" y="2711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744880" y="2711520"/>
            <a:ext cx="66600" cy="1150560"/>
            <a:chOff x="5744880" y="2711520"/>
            <a:chExt cx="66600" cy="1150560"/>
          </a:xfrm>
        </p:grpSpPr>
        <p:sp>
          <p:nvSpPr>
            <p:cNvPr id="460" name=""/>
            <p:cNvSpPr/>
            <p:nvPr/>
          </p:nvSpPr>
          <p:spPr>
            <a:xfrm>
              <a:off x="5745240" y="2711520"/>
              <a:ext cx="0" cy="115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744880" y="386208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744880" y="2711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393040" y="4511520"/>
            <a:ext cx="73080" cy="1150560"/>
            <a:chOff x="8393040" y="4511520"/>
            <a:chExt cx="73080" cy="1150560"/>
          </a:xfrm>
        </p:grpSpPr>
        <p:sp>
          <p:nvSpPr>
            <p:cNvPr id="464" name=""/>
            <p:cNvSpPr/>
            <p:nvPr/>
          </p:nvSpPr>
          <p:spPr>
            <a:xfrm>
              <a:off x="8465760" y="4511520"/>
              <a:ext cx="0" cy="115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93040" y="566208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93040" y="451152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733720" y="4511520"/>
            <a:ext cx="73080" cy="1150560"/>
            <a:chOff x="5733720" y="4511520"/>
            <a:chExt cx="73080" cy="1150560"/>
          </a:xfrm>
        </p:grpSpPr>
        <p:sp>
          <p:nvSpPr>
            <p:cNvPr id="468" name=""/>
            <p:cNvSpPr/>
            <p:nvPr/>
          </p:nvSpPr>
          <p:spPr>
            <a:xfrm>
              <a:off x="5734080" y="4511520"/>
              <a:ext cx="0" cy="115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733720" y="566208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733720" y="4511520"/>
              <a:ext cx="7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446800" y="2711520"/>
            <a:ext cx="0" cy="295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10400" y="4440240"/>
            <a:ext cx="2528640" cy="107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4200" y="2705040"/>
            <a:ext cx="4406760" cy="296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宋体"/>
              </a:rPr>
              <a:t>Picture, graph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0800000">
            <a:off x="5757840" y="4005000"/>
            <a:ext cx="27259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075080" y="3462480"/>
            <a:ext cx="1800" cy="238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075440" y="433080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075440" y="483552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075440" y="534204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075440" y="584676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06800" y="3462480"/>
            <a:ext cx="0" cy="238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06440" y="4330800"/>
            <a:ext cx="217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06440" y="4835520"/>
            <a:ext cx="217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906440" y="5342040"/>
            <a:ext cx="217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906440" y="5846760"/>
            <a:ext cx="217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38520" y="3462480"/>
            <a:ext cx="0" cy="238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738520" y="433080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738520" y="483552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738520" y="534204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38520" y="584676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69520" y="3462480"/>
            <a:ext cx="1800" cy="238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9880" y="433080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69880" y="483552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69880" y="534204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69880" y="584676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7320" y="360828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7320" y="4113360"/>
            <a:ext cx="159084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85880" y="461952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7320" y="5124600"/>
            <a:ext cx="159084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87320" y="563076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55960" y="360828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-compon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5960" y="4113360"/>
            <a:ext cx="159048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-compon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54160" y="461952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-compone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55960" y="5124600"/>
            <a:ext cx="159048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-compon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55960" y="563076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22800" y="360828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22800" y="4113360"/>
            <a:ext cx="159084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21360" y="461952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22800" y="5124600"/>
            <a:ext cx="159084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22800" y="563076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91440" y="360828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91440" y="4113360"/>
            <a:ext cx="159048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89640" y="4619520"/>
            <a:ext cx="15908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291440" y="5124600"/>
            <a:ext cx="1590480" cy="433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sub-compon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91440" y="5630760"/>
            <a:ext cx="159048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074000" y="382428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905360" y="382428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738520" y="382428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69880" y="3824280"/>
            <a:ext cx="217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33760" y="266868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66920" y="266868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00600" y="266868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69240" y="266868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16280" y="245268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66920" y="2668680"/>
            <a:ext cx="650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606840" y="1874880"/>
            <a:ext cx="20239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3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deff"/>
                </a:solidFill>
                <a:latin typeface="Calibri"/>
              </a:rPr>
              <a:t>Main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3880" y="2884320"/>
            <a:ext cx="202428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Compon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22520" y="2884320"/>
            <a:ext cx="20239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Compon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9360" y="2884320"/>
            <a:ext cx="202428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Compone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2884320"/>
            <a:ext cx="20239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Compon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534" name=""/>
          <p:cNvSpPr/>
          <p:nvPr/>
        </p:nvSpPr>
        <p:spPr>
          <a:xfrm>
            <a:off x="1384200" y="1730520"/>
            <a:ext cx="978120" cy="577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volume 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11400" y="1730520"/>
            <a:ext cx="978120" cy="577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Re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9900"/>
                </a:solidFill>
                <a:latin typeface="Calibri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1730520"/>
            <a:ext cx="977760" cy="577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9900"/>
                </a:solidFill>
                <a:latin typeface="Calibri"/>
              </a:rPr>
              <a:t>re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9880" y="1730520"/>
            <a:ext cx="978120" cy="577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9900"/>
                </a:solidFill>
                <a:latin typeface="Calibri"/>
              </a:rPr>
              <a:t>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11400" y="2313000"/>
            <a:ext cx="978120" cy="43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 1.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11400" y="2746440"/>
            <a:ext cx="978120" cy="717480"/>
          </a:xfrm>
          <a:prstGeom prst="rect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84200" y="4473720"/>
            <a:ext cx="978120" cy="215640"/>
          </a:xfrm>
          <a:prstGeom prst="rect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. 3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84200" y="4186080"/>
            <a:ext cx="978120" cy="28908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.2 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11400" y="3463920"/>
            <a:ext cx="978120" cy="1728720"/>
          </a:xfrm>
          <a:prstGeom prst="rect">
            <a:avLst/>
          </a:prstGeom>
          <a:solidFill>
            <a:srgbClr val="8cacc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84200" y="4689360"/>
            <a:ext cx="978120" cy="505080"/>
          </a:xfrm>
          <a:prstGeom prst="rect">
            <a:avLst/>
          </a:prstGeom>
          <a:solidFill>
            <a:srgbClr val="8cacc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384200" y="2313000"/>
            <a:ext cx="978120" cy="1873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cat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362320" y="2741760"/>
            <a:ext cx="649080" cy="1444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362320" y="3463560"/>
            <a:ext cx="649080" cy="1228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2400" y="5194440"/>
            <a:ext cx="38545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9880" y="2313000"/>
            <a:ext cx="978120" cy="287964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95720" y="2308320"/>
            <a:ext cx="977760" cy="28796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9840" y="5425920"/>
            <a:ext cx="202248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13200" y="5415120"/>
            <a:ext cx="202248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24400" y="3462480"/>
            <a:ext cx="3611520" cy="2746080"/>
          </a:xfrm>
          <a:prstGeom prst="roundRect">
            <a:avLst>
              <a:gd name="adj" fmla="val 7542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Calibri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24400" y="2306520"/>
            <a:ext cx="3611520" cy="101124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556" name=""/>
          <p:cNvSpPr/>
          <p:nvPr/>
        </p:nvSpPr>
        <p:spPr>
          <a:xfrm>
            <a:off x="1386000" y="2813040"/>
            <a:ext cx="977760" cy="28908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49200" y="4764240"/>
            <a:ext cx="67183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0520" y="3102120"/>
            <a:ext cx="977760" cy="1657080"/>
          </a:xfrm>
          <a:prstGeom prst="rect">
            <a:avLst/>
          </a:prstGeom>
          <a:solidFill>
            <a:srgbClr val="33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82920" y="2523960"/>
            <a:ext cx="977760" cy="28908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2813040"/>
            <a:ext cx="97776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76760" y="3390840"/>
            <a:ext cx="977760" cy="289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73680" y="2668680"/>
            <a:ext cx="978120" cy="72216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0600" y="1946160"/>
            <a:ext cx="978120" cy="7225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967520" y="1946160"/>
            <a:ext cx="978120" cy="2818080"/>
          </a:xfrm>
          <a:prstGeom prst="rect">
            <a:avLst/>
          </a:prstGeom>
          <a:solidFill>
            <a:srgbClr val="8cacc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9600" y="5197320"/>
            <a:ext cx="8596440" cy="79560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568" name=""/>
          <p:cNvSpPr/>
          <p:nvPr/>
        </p:nvSpPr>
        <p:spPr>
          <a:xfrm>
            <a:off x="2090880" y="1711440"/>
            <a:ext cx="2311200" cy="50472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15400" y="1711440"/>
            <a:ext cx="866520" cy="50472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75160" y="1711440"/>
            <a:ext cx="866880" cy="50472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w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1480" y="1711440"/>
            <a:ext cx="1517760" cy="50472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9560" y="3070080"/>
            <a:ext cx="160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92400" y="28605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ssu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78400" y="3013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68760" y="3013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881840" y="3051000"/>
            <a:ext cx="114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M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9560" y="4270320"/>
            <a:ext cx="160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92400" y="40608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ssu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478400" y="4213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468760" y="4213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881840" y="4251240"/>
            <a:ext cx="114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M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560" y="3660840"/>
            <a:ext cx="1600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92400" y="34513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ssu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78400" y="3603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68760" y="3603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81840" y="3641760"/>
            <a:ext cx="114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M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9560" y="4898880"/>
            <a:ext cx="160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73320" y="46893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ssu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78400" y="4842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68760" y="484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881840" y="4879800"/>
            <a:ext cx="114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M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9560" y="2536920"/>
            <a:ext cx="160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92400" y="23274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ssu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78400" y="247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68760" y="2479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881840" y="2517840"/>
            <a:ext cx="114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M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0960" y="255600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0960" y="3089160"/>
            <a:ext cx="2286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5360" y="5653440"/>
            <a:ext cx="8674200" cy="5886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0960" y="366696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0960" y="4254480"/>
            <a:ext cx="228600" cy="228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0960" y="4917960"/>
            <a:ext cx="228600" cy="228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5120" y="1711440"/>
            <a:ext cx="2527200" cy="50472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78120" y="3084480"/>
            <a:ext cx="1878120" cy="1733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Key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05080" y="2525760"/>
            <a:ext cx="2823840" cy="2852280"/>
            <a:chOff x="3205080" y="2525760"/>
            <a:chExt cx="2823840" cy="2852280"/>
          </a:xfrm>
        </p:grpSpPr>
        <p:sp>
          <p:nvSpPr>
            <p:cNvPr id="130" name="未知"/>
            <p:cNvSpPr/>
            <p:nvPr/>
          </p:nvSpPr>
          <p:spPr>
            <a:xfrm>
              <a:off x="3440520" y="2587680"/>
              <a:ext cx="1023480" cy="1027800"/>
            </a:xfrm>
            <a:custGeom>
              <a:avLst/>
              <a:gdLst/>
              <a:ahLst/>
              <a:rect l="l" t="t" r="r" b="b"/>
              <a:pathLst>
                <a:path w="1257" h="1253">
                  <a:moveTo>
                    <a:pt x="0" y="993"/>
                  </a:moveTo>
                  <a:lnTo>
                    <a:pt x="13" y="967"/>
                  </a:lnTo>
                  <a:lnTo>
                    <a:pt x="24" y="946"/>
                  </a:lnTo>
                  <a:lnTo>
                    <a:pt x="35" y="923"/>
                  </a:lnTo>
                  <a:lnTo>
                    <a:pt x="47" y="902"/>
                  </a:lnTo>
                  <a:lnTo>
                    <a:pt x="60" y="879"/>
                  </a:lnTo>
                  <a:lnTo>
                    <a:pt x="74" y="857"/>
                  </a:lnTo>
                  <a:lnTo>
                    <a:pt x="87" y="836"/>
                  </a:lnTo>
                  <a:lnTo>
                    <a:pt x="100" y="813"/>
                  </a:lnTo>
                  <a:lnTo>
                    <a:pt x="118" y="787"/>
                  </a:lnTo>
                  <a:lnTo>
                    <a:pt x="137" y="761"/>
                  </a:lnTo>
                  <a:lnTo>
                    <a:pt x="152" y="740"/>
                  </a:lnTo>
                  <a:lnTo>
                    <a:pt x="170" y="719"/>
                  </a:lnTo>
                  <a:lnTo>
                    <a:pt x="187" y="695"/>
                  </a:lnTo>
                  <a:lnTo>
                    <a:pt x="207" y="669"/>
                  </a:lnTo>
                  <a:lnTo>
                    <a:pt x="226" y="646"/>
                  </a:lnTo>
                  <a:lnTo>
                    <a:pt x="247" y="622"/>
                  </a:lnTo>
                  <a:lnTo>
                    <a:pt x="267" y="603"/>
                  </a:lnTo>
                  <a:lnTo>
                    <a:pt x="291" y="575"/>
                  </a:lnTo>
                  <a:lnTo>
                    <a:pt x="312" y="553"/>
                  </a:lnTo>
                  <a:lnTo>
                    <a:pt x="333" y="533"/>
                  </a:lnTo>
                  <a:lnTo>
                    <a:pt x="357" y="511"/>
                  </a:lnTo>
                  <a:lnTo>
                    <a:pt x="375" y="494"/>
                  </a:lnTo>
                  <a:lnTo>
                    <a:pt x="398" y="475"/>
                  </a:lnTo>
                  <a:lnTo>
                    <a:pt x="420" y="456"/>
                  </a:lnTo>
                  <a:lnTo>
                    <a:pt x="448" y="435"/>
                  </a:lnTo>
                  <a:lnTo>
                    <a:pt x="470" y="417"/>
                  </a:lnTo>
                  <a:lnTo>
                    <a:pt x="496" y="396"/>
                  </a:lnTo>
                  <a:lnTo>
                    <a:pt x="527" y="375"/>
                  </a:lnTo>
                  <a:lnTo>
                    <a:pt x="555" y="354"/>
                  </a:lnTo>
                  <a:lnTo>
                    <a:pt x="585" y="333"/>
                  </a:lnTo>
                  <a:lnTo>
                    <a:pt x="616" y="313"/>
                  </a:lnTo>
                  <a:lnTo>
                    <a:pt x="648" y="296"/>
                  </a:lnTo>
                  <a:lnTo>
                    <a:pt x="682" y="276"/>
                  </a:lnTo>
                  <a:lnTo>
                    <a:pt x="711" y="263"/>
                  </a:lnTo>
                  <a:lnTo>
                    <a:pt x="739" y="247"/>
                  </a:lnTo>
                  <a:lnTo>
                    <a:pt x="771" y="234"/>
                  </a:lnTo>
                  <a:lnTo>
                    <a:pt x="794" y="224"/>
                  </a:lnTo>
                  <a:lnTo>
                    <a:pt x="697" y="0"/>
                  </a:lnTo>
                  <a:lnTo>
                    <a:pt x="1257" y="320"/>
                  </a:lnTo>
                  <a:lnTo>
                    <a:pt x="1111" y="984"/>
                  </a:lnTo>
                  <a:lnTo>
                    <a:pt x="1020" y="787"/>
                  </a:lnTo>
                  <a:lnTo>
                    <a:pt x="983" y="805"/>
                  </a:lnTo>
                  <a:lnTo>
                    <a:pt x="948" y="824"/>
                  </a:lnTo>
                  <a:lnTo>
                    <a:pt x="909" y="849"/>
                  </a:lnTo>
                  <a:lnTo>
                    <a:pt x="867" y="876"/>
                  </a:lnTo>
                  <a:lnTo>
                    <a:pt x="834" y="900"/>
                  </a:lnTo>
                  <a:lnTo>
                    <a:pt x="802" y="928"/>
                  </a:lnTo>
                  <a:lnTo>
                    <a:pt x="770" y="954"/>
                  </a:lnTo>
                  <a:lnTo>
                    <a:pt x="742" y="981"/>
                  </a:lnTo>
                  <a:lnTo>
                    <a:pt x="716" y="1010"/>
                  </a:lnTo>
                  <a:lnTo>
                    <a:pt x="687" y="1041"/>
                  </a:lnTo>
                  <a:lnTo>
                    <a:pt x="663" y="1072"/>
                  </a:lnTo>
                  <a:lnTo>
                    <a:pt x="639" y="1103"/>
                  </a:lnTo>
                  <a:lnTo>
                    <a:pt x="618" y="1130"/>
                  </a:lnTo>
                  <a:lnTo>
                    <a:pt x="595" y="1167"/>
                  </a:lnTo>
                  <a:lnTo>
                    <a:pt x="574" y="1201"/>
                  </a:lnTo>
                  <a:lnTo>
                    <a:pt x="563" y="1227"/>
                  </a:lnTo>
                  <a:lnTo>
                    <a:pt x="548" y="1253"/>
                  </a:lnTo>
                  <a:lnTo>
                    <a:pt x="0" y="993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205080" y="3311640"/>
              <a:ext cx="899640" cy="1145520"/>
            </a:xfrm>
            <a:custGeom>
              <a:avLst/>
              <a:gdLst/>
              <a:ahLst/>
              <a:rect l="l" t="t" r="r" b="b"/>
              <a:pathLst>
                <a:path w="1107" h="1395">
                  <a:moveTo>
                    <a:pt x="1107" y="577"/>
                  </a:moveTo>
                  <a:lnTo>
                    <a:pt x="825" y="462"/>
                  </a:lnTo>
                  <a:lnTo>
                    <a:pt x="814" y="488"/>
                  </a:lnTo>
                  <a:lnTo>
                    <a:pt x="807" y="514"/>
                  </a:lnTo>
                  <a:lnTo>
                    <a:pt x="799" y="541"/>
                  </a:lnTo>
                  <a:lnTo>
                    <a:pt x="793" y="570"/>
                  </a:lnTo>
                  <a:lnTo>
                    <a:pt x="785" y="608"/>
                  </a:lnTo>
                  <a:lnTo>
                    <a:pt x="780" y="638"/>
                  </a:lnTo>
                  <a:lnTo>
                    <a:pt x="775" y="672"/>
                  </a:lnTo>
                  <a:lnTo>
                    <a:pt x="772" y="710"/>
                  </a:lnTo>
                  <a:lnTo>
                    <a:pt x="768" y="748"/>
                  </a:lnTo>
                  <a:lnTo>
                    <a:pt x="768" y="818"/>
                  </a:lnTo>
                  <a:lnTo>
                    <a:pt x="770" y="853"/>
                  </a:lnTo>
                  <a:lnTo>
                    <a:pt x="772" y="887"/>
                  </a:lnTo>
                  <a:lnTo>
                    <a:pt x="777" y="921"/>
                  </a:lnTo>
                  <a:lnTo>
                    <a:pt x="783" y="955"/>
                  </a:lnTo>
                  <a:lnTo>
                    <a:pt x="790" y="988"/>
                  </a:lnTo>
                  <a:lnTo>
                    <a:pt x="798" y="1027"/>
                  </a:lnTo>
                  <a:lnTo>
                    <a:pt x="809" y="1062"/>
                  </a:lnTo>
                  <a:lnTo>
                    <a:pt x="280" y="1395"/>
                  </a:lnTo>
                  <a:lnTo>
                    <a:pt x="269" y="1361"/>
                  </a:lnTo>
                  <a:lnTo>
                    <a:pt x="257" y="1332"/>
                  </a:lnTo>
                  <a:lnTo>
                    <a:pt x="248" y="1305"/>
                  </a:lnTo>
                  <a:lnTo>
                    <a:pt x="238" y="1274"/>
                  </a:lnTo>
                  <a:lnTo>
                    <a:pt x="230" y="1248"/>
                  </a:lnTo>
                  <a:lnTo>
                    <a:pt x="220" y="1219"/>
                  </a:lnTo>
                  <a:lnTo>
                    <a:pt x="214" y="1192"/>
                  </a:lnTo>
                  <a:lnTo>
                    <a:pt x="207" y="1166"/>
                  </a:lnTo>
                  <a:lnTo>
                    <a:pt x="201" y="1138"/>
                  </a:lnTo>
                  <a:lnTo>
                    <a:pt x="193" y="1106"/>
                  </a:lnTo>
                  <a:lnTo>
                    <a:pt x="188" y="1072"/>
                  </a:lnTo>
                  <a:lnTo>
                    <a:pt x="181" y="1041"/>
                  </a:lnTo>
                  <a:lnTo>
                    <a:pt x="175" y="1010"/>
                  </a:lnTo>
                  <a:lnTo>
                    <a:pt x="172" y="975"/>
                  </a:lnTo>
                  <a:lnTo>
                    <a:pt x="168" y="941"/>
                  </a:lnTo>
                  <a:lnTo>
                    <a:pt x="165" y="902"/>
                  </a:lnTo>
                  <a:lnTo>
                    <a:pt x="162" y="865"/>
                  </a:lnTo>
                  <a:lnTo>
                    <a:pt x="162" y="828"/>
                  </a:lnTo>
                  <a:lnTo>
                    <a:pt x="162" y="789"/>
                  </a:lnTo>
                  <a:lnTo>
                    <a:pt x="162" y="740"/>
                  </a:lnTo>
                  <a:lnTo>
                    <a:pt x="164" y="697"/>
                  </a:lnTo>
                  <a:lnTo>
                    <a:pt x="165" y="668"/>
                  </a:lnTo>
                  <a:lnTo>
                    <a:pt x="168" y="632"/>
                  </a:lnTo>
                  <a:lnTo>
                    <a:pt x="172" y="598"/>
                  </a:lnTo>
                  <a:lnTo>
                    <a:pt x="176" y="558"/>
                  </a:lnTo>
                  <a:lnTo>
                    <a:pt x="183" y="522"/>
                  </a:lnTo>
                  <a:lnTo>
                    <a:pt x="189" y="490"/>
                  </a:lnTo>
                  <a:lnTo>
                    <a:pt x="198" y="449"/>
                  </a:lnTo>
                  <a:lnTo>
                    <a:pt x="206" y="417"/>
                  </a:lnTo>
                  <a:lnTo>
                    <a:pt x="214" y="378"/>
                  </a:lnTo>
                  <a:lnTo>
                    <a:pt x="223" y="346"/>
                  </a:lnTo>
                  <a:lnTo>
                    <a:pt x="235" y="310"/>
                  </a:lnTo>
                  <a:lnTo>
                    <a:pt x="246" y="275"/>
                  </a:lnTo>
                  <a:lnTo>
                    <a:pt x="262" y="231"/>
                  </a:lnTo>
                  <a:lnTo>
                    <a:pt x="0" y="121"/>
                  </a:lnTo>
                  <a:lnTo>
                    <a:pt x="689" y="0"/>
                  </a:lnTo>
                  <a:lnTo>
                    <a:pt x="1107" y="577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245400" y="4139280"/>
              <a:ext cx="1022040" cy="981360"/>
            </a:xfrm>
            <a:custGeom>
              <a:avLst/>
              <a:gdLst/>
              <a:ahLst/>
              <a:rect l="l" t="t" r="r" b="b"/>
              <a:pathLst>
                <a:path w="1257" h="1195">
                  <a:moveTo>
                    <a:pt x="998" y="1195"/>
                  </a:moveTo>
                  <a:lnTo>
                    <a:pt x="972" y="1182"/>
                  </a:lnTo>
                  <a:lnTo>
                    <a:pt x="951" y="1171"/>
                  </a:lnTo>
                  <a:lnTo>
                    <a:pt x="929" y="1159"/>
                  </a:lnTo>
                  <a:lnTo>
                    <a:pt x="908" y="1148"/>
                  </a:lnTo>
                  <a:lnTo>
                    <a:pt x="885" y="1135"/>
                  </a:lnTo>
                  <a:lnTo>
                    <a:pt x="862" y="1122"/>
                  </a:lnTo>
                  <a:lnTo>
                    <a:pt x="841" y="1108"/>
                  </a:lnTo>
                  <a:lnTo>
                    <a:pt x="819" y="1095"/>
                  </a:lnTo>
                  <a:lnTo>
                    <a:pt x="794" y="1077"/>
                  </a:lnTo>
                  <a:lnTo>
                    <a:pt x="767" y="1059"/>
                  </a:lnTo>
                  <a:lnTo>
                    <a:pt x="746" y="1043"/>
                  </a:lnTo>
                  <a:lnTo>
                    <a:pt x="725" y="1025"/>
                  </a:lnTo>
                  <a:lnTo>
                    <a:pt x="701" y="1007"/>
                  </a:lnTo>
                  <a:lnTo>
                    <a:pt x="675" y="988"/>
                  </a:lnTo>
                  <a:lnTo>
                    <a:pt x="652" y="968"/>
                  </a:lnTo>
                  <a:lnTo>
                    <a:pt x="628" y="947"/>
                  </a:lnTo>
                  <a:lnTo>
                    <a:pt x="608" y="930"/>
                  </a:lnTo>
                  <a:lnTo>
                    <a:pt x="581" y="904"/>
                  </a:lnTo>
                  <a:lnTo>
                    <a:pt x="558" y="883"/>
                  </a:lnTo>
                  <a:lnTo>
                    <a:pt x="539" y="862"/>
                  </a:lnTo>
                  <a:lnTo>
                    <a:pt x="516" y="837"/>
                  </a:lnTo>
                  <a:lnTo>
                    <a:pt x="500" y="820"/>
                  </a:lnTo>
                  <a:lnTo>
                    <a:pt x="481" y="797"/>
                  </a:lnTo>
                  <a:lnTo>
                    <a:pt x="461" y="774"/>
                  </a:lnTo>
                  <a:lnTo>
                    <a:pt x="440" y="747"/>
                  </a:lnTo>
                  <a:lnTo>
                    <a:pt x="421" y="724"/>
                  </a:lnTo>
                  <a:lnTo>
                    <a:pt x="401" y="698"/>
                  </a:lnTo>
                  <a:lnTo>
                    <a:pt x="379" y="668"/>
                  </a:lnTo>
                  <a:lnTo>
                    <a:pt x="359" y="640"/>
                  </a:lnTo>
                  <a:lnTo>
                    <a:pt x="338" y="609"/>
                  </a:lnTo>
                  <a:lnTo>
                    <a:pt x="319" y="579"/>
                  </a:lnTo>
                  <a:lnTo>
                    <a:pt x="301" y="546"/>
                  </a:lnTo>
                  <a:lnTo>
                    <a:pt x="282" y="512"/>
                  </a:lnTo>
                  <a:lnTo>
                    <a:pt x="269" y="483"/>
                  </a:lnTo>
                  <a:lnTo>
                    <a:pt x="253" y="456"/>
                  </a:lnTo>
                  <a:lnTo>
                    <a:pt x="240" y="425"/>
                  </a:lnTo>
                  <a:lnTo>
                    <a:pt x="0" y="538"/>
                  </a:lnTo>
                  <a:lnTo>
                    <a:pt x="395" y="0"/>
                  </a:lnTo>
                  <a:lnTo>
                    <a:pt x="1063" y="58"/>
                  </a:lnTo>
                  <a:lnTo>
                    <a:pt x="794" y="178"/>
                  </a:lnTo>
                  <a:lnTo>
                    <a:pt x="811" y="212"/>
                  </a:lnTo>
                  <a:lnTo>
                    <a:pt x="830" y="247"/>
                  </a:lnTo>
                  <a:lnTo>
                    <a:pt x="854" y="286"/>
                  </a:lnTo>
                  <a:lnTo>
                    <a:pt x="882" y="328"/>
                  </a:lnTo>
                  <a:lnTo>
                    <a:pt x="906" y="360"/>
                  </a:lnTo>
                  <a:lnTo>
                    <a:pt x="934" y="393"/>
                  </a:lnTo>
                  <a:lnTo>
                    <a:pt x="959" y="425"/>
                  </a:lnTo>
                  <a:lnTo>
                    <a:pt x="987" y="453"/>
                  </a:lnTo>
                  <a:lnTo>
                    <a:pt x="1016" y="478"/>
                  </a:lnTo>
                  <a:lnTo>
                    <a:pt x="1047" y="508"/>
                  </a:lnTo>
                  <a:lnTo>
                    <a:pt x="1078" y="532"/>
                  </a:lnTo>
                  <a:lnTo>
                    <a:pt x="1107" y="556"/>
                  </a:lnTo>
                  <a:lnTo>
                    <a:pt x="1136" y="577"/>
                  </a:lnTo>
                  <a:lnTo>
                    <a:pt x="1171" y="600"/>
                  </a:lnTo>
                  <a:lnTo>
                    <a:pt x="1207" y="621"/>
                  </a:lnTo>
                  <a:lnTo>
                    <a:pt x="1233" y="632"/>
                  </a:lnTo>
                  <a:lnTo>
                    <a:pt x="1257" y="645"/>
                  </a:lnTo>
                  <a:lnTo>
                    <a:pt x="998" y="1195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4016160" y="4480920"/>
              <a:ext cx="1109160" cy="897120"/>
            </a:xfrm>
            <a:custGeom>
              <a:avLst/>
              <a:gdLst/>
              <a:ahLst/>
              <a:rect l="l" t="t" r="r" b="b"/>
              <a:pathLst>
                <a:path w="1365" h="1092">
                  <a:moveTo>
                    <a:pt x="546" y="0"/>
                  </a:moveTo>
                  <a:lnTo>
                    <a:pt x="433" y="281"/>
                  </a:lnTo>
                  <a:lnTo>
                    <a:pt x="459" y="293"/>
                  </a:lnTo>
                  <a:lnTo>
                    <a:pt x="483" y="299"/>
                  </a:lnTo>
                  <a:lnTo>
                    <a:pt x="511" y="307"/>
                  </a:lnTo>
                  <a:lnTo>
                    <a:pt x="541" y="315"/>
                  </a:lnTo>
                  <a:lnTo>
                    <a:pt x="577" y="322"/>
                  </a:lnTo>
                  <a:lnTo>
                    <a:pt x="609" y="327"/>
                  </a:lnTo>
                  <a:lnTo>
                    <a:pt x="642" y="332"/>
                  </a:lnTo>
                  <a:lnTo>
                    <a:pt x="679" y="336"/>
                  </a:lnTo>
                  <a:lnTo>
                    <a:pt x="718" y="340"/>
                  </a:lnTo>
                  <a:lnTo>
                    <a:pt x="787" y="340"/>
                  </a:lnTo>
                  <a:lnTo>
                    <a:pt x="824" y="338"/>
                  </a:lnTo>
                  <a:lnTo>
                    <a:pt x="857" y="335"/>
                  </a:lnTo>
                  <a:lnTo>
                    <a:pt x="891" y="330"/>
                  </a:lnTo>
                  <a:lnTo>
                    <a:pt x="926" y="323"/>
                  </a:lnTo>
                  <a:lnTo>
                    <a:pt x="957" y="319"/>
                  </a:lnTo>
                  <a:lnTo>
                    <a:pt x="996" y="309"/>
                  </a:lnTo>
                  <a:lnTo>
                    <a:pt x="1031" y="298"/>
                  </a:lnTo>
                  <a:lnTo>
                    <a:pt x="1365" y="825"/>
                  </a:lnTo>
                  <a:lnTo>
                    <a:pt x="1332" y="838"/>
                  </a:lnTo>
                  <a:lnTo>
                    <a:pt x="1302" y="849"/>
                  </a:lnTo>
                  <a:lnTo>
                    <a:pt x="1274" y="859"/>
                  </a:lnTo>
                  <a:lnTo>
                    <a:pt x="1245" y="868"/>
                  </a:lnTo>
                  <a:lnTo>
                    <a:pt x="1217" y="877"/>
                  </a:lnTo>
                  <a:lnTo>
                    <a:pt x="1188" y="886"/>
                  </a:lnTo>
                  <a:lnTo>
                    <a:pt x="1162" y="893"/>
                  </a:lnTo>
                  <a:lnTo>
                    <a:pt x="1135" y="899"/>
                  </a:lnTo>
                  <a:lnTo>
                    <a:pt x="1108" y="906"/>
                  </a:lnTo>
                  <a:lnTo>
                    <a:pt x="1077" y="914"/>
                  </a:lnTo>
                  <a:lnTo>
                    <a:pt x="1041" y="919"/>
                  </a:lnTo>
                  <a:lnTo>
                    <a:pt x="1012" y="925"/>
                  </a:lnTo>
                  <a:lnTo>
                    <a:pt x="980" y="932"/>
                  </a:lnTo>
                  <a:lnTo>
                    <a:pt x="946" y="936"/>
                  </a:lnTo>
                  <a:lnTo>
                    <a:pt x="910" y="940"/>
                  </a:lnTo>
                  <a:lnTo>
                    <a:pt x="871" y="941"/>
                  </a:lnTo>
                  <a:lnTo>
                    <a:pt x="834" y="944"/>
                  </a:lnTo>
                  <a:lnTo>
                    <a:pt x="799" y="944"/>
                  </a:lnTo>
                  <a:lnTo>
                    <a:pt x="760" y="944"/>
                  </a:lnTo>
                  <a:lnTo>
                    <a:pt x="711" y="944"/>
                  </a:lnTo>
                  <a:lnTo>
                    <a:pt x="668" y="943"/>
                  </a:lnTo>
                  <a:lnTo>
                    <a:pt x="637" y="941"/>
                  </a:lnTo>
                  <a:lnTo>
                    <a:pt x="603" y="940"/>
                  </a:lnTo>
                  <a:lnTo>
                    <a:pt x="567" y="936"/>
                  </a:lnTo>
                  <a:lnTo>
                    <a:pt x="527" y="930"/>
                  </a:lnTo>
                  <a:lnTo>
                    <a:pt x="493" y="923"/>
                  </a:lnTo>
                  <a:lnTo>
                    <a:pt x="459" y="919"/>
                  </a:lnTo>
                  <a:lnTo>
                    <a:pt x="418" y="909"/>
                  </a:lnTo>
                  <a:lnTo>
                    <a:pt x="388" y="901"/>
                  </a:lnTo>
                  <a:lnTo>
                    <a:pt x="349" y="893"/>
                  </a:lnTo>
                  <a:lnTo>
                    <a:pt x="315" y="883"/>
                  </a:lnTo>
                  <a:lnTo>
                    <a:pt x="281" y="873"/>
                  </a:lnTo>
                  <a:lnTo>
                    <a:pt x="245" y="860"/>
                  </a:lnTo>
                  <a:lnTo>
                    <a:pt x="202" y="844"/>
                  </a:lnTo>
                  <a:lnTo>
                    <a:pt x="98" y="1092"/>
                  </a:lnTo>
                  <a:lnTo>
                    <a:pt x="0" y="391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816800" y="4307760"/>
              <a:ext cx="964440" cy="972360"/>
            </a:xfrm>
            <a:custGeom>
              <a:avLst/>
              <a:gdLst/>
              <a:ahLst/>
              <a:rect l="l" t="t" r="r" b="b"/>
              <a:pathLst>
                <a:path w="1185" h="1185">
                  <a:moveTo>
                    <a:pt x="1185" y="260"/>
                  </a:moveTo>
                  <a:lnTo>
                    <a:pt x="1171" y="286"/>
                  </a:lnTo>
                  <a:lnTo>
                    <a:pt x="1161" y="307"/>
                  </a:lnTo>
                  <a:lnTo>
                    <a:pt x="1148" y="329"/>
                  </a:lnTo>
                  <a:lnTo>
                    <a:pt x="1138" y="350"/>
                  </a:lnTo>
                  <a:lnTo>
                    <a:pt x="1125" y="373"/>
                  </a:lnTo>
                  <a:lnTo>
                    <a:pt x="1111" y="396"/>
                  </a:lnTo>
                  <a:lnTo>
                    <a:pt x="1098" y="417"/>
                  </a:lnTo>
                  <a:lnTo>
                    <a:pt x="1083" y="439"/>
                  </a:lnTo>
                  <a:lnTo>
                    <a:pt x="1065" y="464"/>
                  </a:lnTo>
                  <a:lnTo>
                    <a:pt x="1048" y="490"/>
                  </a:lnTo>
                  <a:lnTo>
                    <a:pt x="1033" y="511"/>
                  </a:lnTo>
                  <a:lnTo>
                    <a:pt x="1015" y="532"/>
                  </a:lnTo>
                  <a:lnTo>
                    <a:pt x="996" y="557"/>
                  </a:lnTo>
                  <a:lnTo>
                    <a:pt x="977" y="583"/>
                  </a:lnTo>
                  <a:lnTo>
                    <a:pt x="957" y="606"/>
                  </a:lnTo>
                  <a:lnTo>
                    <a:pt x="936" y="630"/>
                  </a:lnTo>
                  <a:lnTo>
                    <a:pt x="918" y="650"/>
                  </a:lnTo>
                  <a:lnTo>
                    <a:pt x="892" y="677"/>
                  </a:lnTo>
                  <a:lnTo>
                    <a:pt x="871" y="700"/>
                  </a:lnTo>
                  <a:lnTo>
                    <a:pt x="850" y="719"/>
                  </a:lnTo>
                  <a:lnTo>
                    <a:pt x="826" y="742"/>
                  </a:lnTo>
                  <a:lnTo>
                    <a:pt x="808" y="758"/>
                  </a:lnTo>
                  <a:lnTo>
                    <a:pt x="786" y="777"/>
                  </a:lnTo>
                  <a:lnTo>
                    <a:pt x="763" y="797"/>
                  </a:lnTo>
                  <a:lnTo>
                    <a:pt x="737" y="818"/>
                  </a:lnTo>
                  <a:lnTo>
                    <a:pt x="714" y="836"/>
                  </a:lnTo>
                  <a:lnTo>
                    <a:pt x="689" y="855"/>
                  </a:lnTo>
                  <a:lnTo>
                    <a:pt x="656" y="878"/>
                  </a:lnTo>
                  <a:lnTo>
                    <a:pt x="629" y="897"/>
                  </a:lnTo>
                  <a:lnTo>
                    <a:pt x="600" y="918"/>
                  </a:lnTo>
                  <a:lnTo>
                    <a:pt x="569" y="939"/>
                  </a:lnTo>
                  <a:lnTo>
                    <a:pt x="537" y="957"/>
                  </a:lnTo>
                  <a:lnTo>
                    <a:pt x="700" y="1185"/>
                  </a:lnTo>
                  <a:lnTo>
                    <a:pt x="48" y="892"/>
                  </a:lnTo>
                  <a:lnTo>
                    <a:pt x="0" y="313"/>
                  </a:lnTo>
                  <a:lnTo>
                    <a:pt x="135" y="477"/>
                  </a:lnTo>
                  <a:lnTo>
                    <a:pt x="166" y="462"/>
                  </a:lnTo>
                  <a:lnTo>
                    <a:pt x="197" y="446"/>
                  </a:lnTo>
                  <a:lnTo>
                    <a:pt x="237" y="426"/>
                  </a:lnTo>
                  <a:lnTo>
                    <a:pt x="276" y="404"/>
                  </a:lnTo>
                  <a:lnTo>
                    <a:pt x="317" y="376"/>
                  </a:lnTo>
                  <a:lnTo>
                    <a:pt x="351" y="352"/>
                  </a:lnTo>
                  <a:lnTo>
                    <a:pt x="383" y="325"/>
                  </a:lnTo>
                  <a:lnTo>
                    <a:pt x="415" y="297"/>
                  </a:lnTo>
                  <a:lnTo>
                    <a:pt x="441" y="271"/>
                  </a:lnTo>
                  <a:lnTo>
                    <a:pt x="469" y="242"/>
                  </a:lnTo>
                  <a:lnTo>
                    <a:pt x="498" y="210"/>
                  </a:lnTo>
                  <a:lnTo>
                    <a:pt x="522" y="181"/>
                  </a:lnTo>
                  <a:lnTo>
                    <a:pt x="546" y="150"/>
                  </a:lnTo>
                  <a:lnTo>
                    <a:pt x="567" y="122"/>
                  </a:lnTo>
                  <a:lnTo>
                    <a:pt x="590" y="85"/>
                  </a:lnTo>
                  <a:lnTo>
                    <a:pt x="611" y="51"/>
                  </a:lnTo>
                  <a:lnTo>
                    <a:pt x="622" y="25"/>
                  </a:lnTo>
                  <a:lnTo>
                    <a:pt x="634" y="0"/>
                  </a:lnTo>
                  <a:lnTo>
                    <a:pt x="1185" y="26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140440" y="3437280"/>
              <a:ext cx="888480" cy="1131120"/>
            </a:xfrm>
            <a:custGeom>
              <a:avLst/>
              <a:gdLst/>
              <a:ahLst/>
              <a:rect l="l" t="t" r="r" b="b"/>
              <a:pathLst>
                <a:path w="1093" h="1380">
                  <a:moveTo>
                    <a:pt x="0" y="877"/>
                  </a:moveTo>
                  <a:lnTo>
                    <a:pt x="272" y="979"/>
                  </a:lnTo>
                  <a:lnTo>
                    <a:pt x="286" y="945"/>
                  </a:lnTo>
                  <a:lnTo>
                    <a:pt x="297" y="912"/>
                  </a:lnTo>
                  <a:lnTo>
                    <a:pt x="306" y="882"/>
                  </a:lnTo>
                  <a:lnTo>
                    <a:pt x="314" y="854"/>
                  </a:lnTo>
                  <a:lnTo>
                    <a:pt x="322" y="823"/>
                  </a:lnTo>
                  <a:lnTo>
                    <a:pt x="328" y="788"/>
                  </a:lnTo>
                  <a:lnTo>
                    <a:pt x="333" y="755"/>
                  </a:lnTo>
                  <a:lnTo>
                    <a:pt x="338" y="723"/>
                  </a:lnTo>
                  <a:lnTo>
                    <a:pt x="343" y="686"/>
                  </a:lnTo>
                  <a:lnTo>
                    <a:pt x="344" y="647"/>
                  </a:lnTo>
                  <a:lnTo>
                    <a:pt x="344" y="578"/>
                  </a:lnTo>
                  <a:lnTo>
                    <a:pt x="343" y="540"/>
                  </a:lnTo>
                  <a:lnTo>
                    <a:pt x="341" y="508"/>
                  </a:lnTo>
                  <a:lnTo>
                    <a:pt x="336" y="474"/>
                  </a:lnTo>
                  <a:lnTo>
                    <a:pt x="330" y="439"/>
                  </a:lnTo>
                  <a:lnTo>
                    <a:pt x="323" y="408"/>
                  </a:lnTo>
                  <a:lnTo>
                    <a:pt x="315" y="369"/>
                  </a:lnTo>
                  <a:lnTo>
                    <a:pt x="304" y="332"/>
                  </a:lnTo>
                  <a:lnTo>
                    <a:pt x="831" y="0"/>
                  </a:lnTo>
                  <a:lnTo>
                    <a:pt x="844" y="33"/>
                  </a:lnTo>
                  <a:lnTo>
                    <a:pt x="855" y="63"/>
                  </a:lnTo>
                  <a:lnTo>
                    <a:pt x="865" y="91"/>
                  </a:lnTo>
                  <a:lnTo>
                    <a:pt x="875" y="120"/>
                  </a:lnTo>
                  <a:lnTo>
                    <a:pt x="883" y="147"/>
                  </a:lnTo>
                  <a:lnTo>
                    <a:pt x="893" y="177"/>
                  </a:lnTo>
                  <a:lnTo>
                    <a:pt x="899" y="202"/>
                  </a:lnTo>
                  <a:lnTo>
                    <a:pt x="906" y="230"/>
                  </a:lnTo>
                  <a:lnTo>
                    <a:pt x="912" y="257"/>
                  </a:lnTo>
                  <a:lnTo>
                    <a:pt x="920" y="288"/>
                  </a:lnTo>
                  <a:lnTo>
                    <a:pt x="925" y="324"/>
                  </a:lnTo>
                  <a:lnTo>
                    <a:pt x="932" y="353"/>
                  </a:lnTo>
                  <a:lnTo>
                    <a:pt x="938" y="385"/>
                  </a:lnTo>
                  <a:lnTo>
                    <a:pt x="943" y="419"/>
                  </a:lnTo>
                  <a:lnTo>
                    <a:pt x="944" y="455"/>
                  </a:lnTo>
                  <a:lnTo>
                    <a:pt x="948" y="493"/>
                  </a:lnTo>
                  <a:lnTo>
                    <a:pt x="951" y="531"/>
                  </a:lnTo>
                  <a:lnTo>
                    <a:pt x="951" y="566"/>
                  </a:lnTo>
                  <a:lnTo>
                    <a:pt x="951" y="605"/>
                  </a:lnTo>
                  <a:lnTo>
                    <a:pt x="951" y="654"/>
                  </a:lnTo>
                  <a:lnTo>
                    <a:pt x="949" y="697"/>
                  </a:lnTo>
                  <a:lnTo>
                    <a:pt x="948" y="728"/>
                  </a:lnTo>
                  <a:lnTo>
                    <a:pt x="944" y="762"/>
                  </a:lnTo>
                  <a:lnTo>
                    <a:pt x="943" y="798"/>
                  </a:lnTo>
                  <a:lnTo>
                    <a:pt x="936" y="838"/>
                  </a:lnTo>
                  <a:lnTo>
                    <a:pt x="930" y="872"/>
                  </a:lnTo>
                  <a:lnTo>
                    <a:pt x="923" y="906"/>
                  </a:lnTo>
                  <a:lnTo>
                    <a:pt x="915" y="946"/>
                  </a:lnTo>
                  <a:lnTo>
                    <a:pt x="907" y="977"/>
                  </a:lnTo>
                  <a:lnTo>
                    <a:pt x="899" y="1016"/>
                  </a:lnTo>
                  <a:lnTo>
                    <a:pt x="889" y="1050"/>
                  </a:lnTo>
                  <a:lnTo>
                    <a:pt x="878" y="1084"/>
                  </a:lnTo>
                  <a:lnTo>
                    <a:pt x="867" y="1119"/>
                  </a:lnTo>
                  <a:lnTo>
                    <a:pt x="852" y="1163"/>
                  </a:lnTo>
                  <a:lnTo>
                    <a:pt x="836" y="1207"/>
                  </a:lnTo>
                  <a:lnTo>
                    <a:pt x="1093" y="1312"/>
                  </a:lnTo>
                  <a:lnTo>
                    <a:pt x="448" y="1380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976280" y="2780280"/>
              <a:ext cx="1040400" cy="999360"/>
            </a:xfrm>
            <a:custGeom>
              <a:avLst/>
              <a:gdLst/>
              <a:ahLst/>
              <a:rect l="l" t="t" r="r" b="b"/>
              <a:pathLst>
                <a:path w="1280" h="1217">
                  <a:moveTo>
                    <a:pt x="261" y="0"/>
                  </a:moveTo>
                  <a:lnTo>
                    <a:pt x="287" y="13"/>
                  </a:lnTo>
                  <a:lnTo>
                    <a:pt x="308" y="24"/>
                  </a:lnTo>
                  <a:lnTo>
                    <a:pt x="330" y="35"/>
                  </a:lnTo>
                  <a:lnTo>
                    <a:pt x="351" y="47"/>
                  </a:lnTo>
                  <a:lnTo>
                    <a:pt x="374" y="60"/>
                  </a:lnTo>
                  <a:lnTo>
                    <a:pt x="395" y="74"/>
                  </a:lnTo>
                  <a:lnTo>
                    <a:pt x="416" y="87"/>
                  </a:lnTo>
                  <a:lnTo>
                    <a:pt x="437" y="100"/>
                  </a:lnTo>
                  <a:lnTo>
                    <a:pt x="463" y="118"/>
                  </a:lnTo>
                  <a:lnTo>
                    <a:pt x="490" y="137"/>
                  </a:lnTo>
                  <a:lnTo>
                    <a:pt x="511" y="152"/>
                  </a:lnTo>
                  <a:lnTo>
                    <a:pt x="532" y="169"/>
                  </a:lnTo>
                  <a:lnTo>
                    <a:pt x="558" y="187"/>
                  </a:lnTo>
                  <a:lnTo>
                    <a:pt x="584" y="207"/>
                  </a:lnTo>
                  <a:lnTo>
                    <a:pt x="607" y="226"/>
                  </a:lnTo>
                  <a:lnTo>
                    <a:pt x="629" y="247"/>
                  </a:lnTo>
                  <a:lnTo>
                    <a:pt x="651" y="267"/>
                  </a:lnTo>
                  <a:lnTo>
                    <a:pt x="676" y="291"/>
                  </a:lnTo>
                  <a:lnTo>
                    <a:pt x="699" y="312"/>
                  </a:lnTo>
                  <a:lnTo>
                    <a:pt x="718" y="333"/>
                  </a:lnTo>
                  <a:lnTo>
                    <a:pt x="741" y="357"/>
                  </a:lnTo>
                  <a:lnTo>
                    <a:pt x="759" y="375"/>
                  </a:lnTo>
                  <a:lnTo>
                    <a:pt x="778" y="398"/>
                  </a:lnTo>
                  <a:lnTo>
                    <a:pt x="798" y="420"/>
                  </a:lnTo>
                  <a:lnTo>
                    <a:pt x="819" y="448"/>
                  </a:lnTo>
                  <a:lnTo>
                    <a:pt x="837" y="470"/>
                  </a:lnTo>
                  <a:lnTo>
                    <a:pt x="856" y="496"/>
                  </a:lnTo>
                  <a:lnTo>
                    <a:pt x="879" y="527"/>
                  </a:lnTo>
                  <a:lnTo>
                    <a:pt x="898" y="554"/>
                  </a:lnTo>
                  <a:lnTo>
                    <a:pt x="919" y="585"/>
                  </a:lnTo>
                  <a:lnTo>
                    <a:pt x="938" y="616"/>
                  </a:lnTo>
                  <a:lnTo>
                    <a:pt x="956" y="648"/>
                  </a:lnTo>
                  <a:lnTo>
                    <a:pt x="976" y="682"/>
                  </a:lnTo>
                  <a:lnTo>
                    <a:pt x="990" y="711"/>
                  </a:lnTo>
                  <a:lnTo>
                    <a:pt x="1005" y="739"/>
                  </a:lnTo>
                  <a:lnTo>
                    <a:pt x="1018" y="771"/>
                  </a:lnTo>
                  <a:lnTo>
                    <a:pt x="1026" y="794"/>
                  </a:lnTo>
                  <a:lnTo>
                    <a:pt x="1280" y="693"/>
                  </a:lnTo>
                  <a:lnTo>
                    <a:pt x="885" y="1217"/>
                  </a:lnTo>
                  <a:lnTo>
                    <a:pt x="186" y="1132"/>
                  </a:lnTo>
                  <a:lnTo>
                    <a:pt x="463" y="1020"/>
                  </a:lnTo>
                  <a:lnTo>
                    <a:pt x="445" y="983"/>
                  </a:lnTo>
                  <a:lnTo>
                    <a:pt x="427" y="947"/>
                  </a:lnTo>
                  <a:lnTo>
                    <a:pt x="403" y="909"/>
                  </a:lnTo>
                  <a:lnTo>
                    <a:pt x="376" y="868"/>
                  </a:lnTo>
                  <a:lnTo>
                    <a:pt x="351" y="834"/>
                  </a:lnTo>
                  <a:lnTo>
                    <a:pt x="325" y="802"/>
                  </a:lnTo>
                  <a:lnTo>
                    <a:pt x="298" y="769"/>
                  </a:lnTo>
                  <a:lnTo>
                    <a:pt x="270" y="742"/>
                  </a:lnTo>
                  <a:lnTo>
                    <a:pt x="243" y="716"/>
                  </a:lnTo>
                  <a:lnTo>
                    <a:pt x="211" y="687"/>
                  </a:lnTo>
                  <a:lnTo>
                    <a:pt x="180" y="663"/>
                  </a:lnTo>
                  <a:lnTo>
                    <a:pt x="151" y="639"/>
                  </a:lnTo>
                  <a:lnTo>
                    <a:pt x="122" y="617"/>
                  </a:lnTo>
                  <a:lnTo>
                    <a:pt x="86" y="595"/>
                  </a:lnTo>
                  <a:lnTo>
                    <a:pt x="50" y="574"/>
                  </a:lnTo>
                  <a:lnTo>
                    <a:pt x="26" y="562"/>
                  </a:lnTo>
                  <a:lnTo>
                    <a:pt x="0" y="548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246920" y="2525760"/>
              <a:ext cx="1006560" cy="818280"/>
            </a:xfrm>
            <a:custGeom>
              <a:avLst/>
              <a:gdLst/>
              <a:ahLst/>
              <a:rect l="l" t="t" r="r" b="b"/>
              <a:pathLst>
                <a:path w="1238" h="998">
                  <a:moveTo>
                    <a:pt x="660" y="998"/>
                  </a:moveTo>
                  <a:lnTo>
                    <a:pt x="741" y="804"/>
                  </a:lnTo>
                  <a:lnTo>
                    <a:pt x="715" y="796"/>
                  </a:lnTo>
                  <a:lnTo>
                    <a:pt x="686" y="789"/>
                  </a:lnTo>
                  <a:lnTo>
                    <a:pt x="649" y="781"/>
                  </a:lnTo>
                  <a:lnTo>
                    <a:pt x="618" y="776"/>
                  </a:lnTo>
                  <a:lnTo>
                    <a:pt x="584" y="772"/>
                  </a:lnTo>
                  <a:lnTo>
                    <a:pt x="547" y="768"/>
                  </a:lnTo>
                  <a:lnTo>
                    <a:pt x="508" y="765"/>
                  </a:lnTo>
                  <a:lnTo>
                    <a:pt x="439" y="765"/>
                  </a:lnTo>
                  <a:lnTo>
                    <a:pt x="403" y="767"/>
                  </a:lnTo>
                  <a:lnTo>
                    <a:pt x="369" y="770"/>
                  </a:lnTo>
                  <a:lnTo>
                    <a:pt x="335" y="773"/>
                  </a:lnTo>
                  <a:lnTo>
                    <a:pt x="301" y="780"/>
                  </a:lnTo>
                  <a:lnTo>
                    <a:pt x="269" y="786"/>
                  </a:lnTo>
                  <a:lnTo>
                    <a:pt x="230" y="794"/>
                  </a:lnTo>
                  <a:lnTo>
                    <a:pt x="196" y="806"/>
                  </a:lnTo>
                  <a:lnTo>
                    <a:pt x="285" y="395"/>
                  </a:lnTo>
                  <a:lnTo>
                    <a:pt x="0" y="231"/>
                  </a:lnTo>
                  <a:lnTo>
                    <a:pt x="15" y="227"/>
                  </a:lnTo>
                  <a:lnTo>
                    <a:pt x="44" y="217"/>
                  </a:lnTo>
                  <a:lnTo>
                    <a:pt x="67" y="210"/>
                  </a:lnTo>
                  <a:lnTo>
                    <a:pt x="92" y="202"/>
                  </a:lnTo>
                  <a:lnTo>
                    <a:pt x="123" y="196"/>
                  </a:lnTo>
                  <a:lnTo>
                    <a:pt x="149" y="189"/>
                  </a:lnTo>
                  <a:lnTo>
                    <a:pt x="183" y="181"/>
                  </a:lnTo>
                  <a:lnTo>
                    <a:pt x="212" y="176"/>
                  </a:lnTo>
                  <a:lnTo>
                    <a:pt x="246" y="172"/>
                  </a:lnTo>
                  <a:lnTo>
                    <a:pt x="282" y="167"/>
                  </a:lnTo>
                  <a:lnTo>
                    <a:pt x="316" y="164"/>
                  </a:lnTo>
                  <a:lnTo>
                    <a:pt x="354" y="162"/>
                  </a:lnTo>
                  <a:lnTo>
                    <a:pt x="392" y="159"/>
                  </a:lnTo>
                  <a:lnTo>
                    <a:pt x="429" y="159"/>
                  </a:lnTo>
                  <a:lnTo>
                    <a:pt x="468" y="159"/>
                  </a:lnTo>
                  <a:lnTo>
                    <a:pt x="516" y="159"/>
                  </a:lnTo>
                  <a:lnTo>
                    <a:pt x="560" y="160"/>
                  </a:lnTo>
                  <a:lnTo>
                    <a:pt x="589" y="162"/>
                  </a:lnTo>
                  <a:lnTo>
                    <a:pt x="625" y="165"/>
                  </a:lnTo>
                  <a:lnTo>
                    <a:pt x="659" y="168"/>
                  </a:lnTo>
                  <a:lnTo>
                    <a:pt x="699" y="173"/>
                  </a:lnTo>
                  <a:lnTo>
                    <a:pt x="733" y="180"/>
                  </a:lnTo>
                  <a:lnTo>
                    <a:pt x="765" y="186"/>
                  </a:lnTo>
                  <a:lnTo>
                    <a:pt x="807" y="194"/>
                  </a:lnTo>
                  <a:lnTo>
                    <a:pt x="840" y="202"/>
                  </a:lnTo>
                  <a:lnTo>
                    <a:pt x="878" y="212"/>
                  </a:lnTo>
                  <a:lnTo>
                    <a:pt x="911" y="220"/>
                  </a:lnTo>
                  <a:lnTo>
                    <a:pt x="946" y="231"/>
                  </a:lnTo>
                  <a:lnTo>
                    <a:pt x="982" y="243"/>
                  </a:lnTo>
                  <a:lnTo>
                    <a:pt x="1087" y="0"/>
                  </a:lnTo>
                  <a:lnTo>
                    <a:pt x="1238" y="676"/>
                  </a:lnTo>
                  <a:lnTo>
                    <a:pt x="660" y="998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594400" y="1658880"/>
            <a:ext cx="2744640" cy="1227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1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9120" y="3249720"/>
            <a:ext cx="274500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2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4400" y="5054760"/>
            <a:ext cx="274464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3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8560" y="5054760"/>
            <a:ext cx="274464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4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1658880"/>
            <a:ext cx="2744640" cy="1227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6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040" y="3249720"/>
            <a:ext cx="2745000" cy="1226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5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225360" y="1666800"/>
            <a:ext cx="8785440" cy="17272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46360" y="215424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00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Indicat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5360" y="3681360"/>
            <a:ext cx="8785440" cy="25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44680" y="4549680"/>
            <a:ext cx="563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990760" y="590832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24560" y="5746680"/>
            <a:ext cx="2455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74720" y="500976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74720" y="531000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48280" y="5351400"/>
            <a:ext cx="191880" cy="1922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378080" y="2195640"/>
            <a:ext cx="71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7000" y="1738440"/>
            <a:ext cx="901440" cy="284040"/>
          </a:xfrm>
          <a:custGeom>
            <a:avLst/>
            <a:gdLst>
              <a:gd name="textAreaLeft" fmla="*/ 0 w 901440"/>
              <a:gd name="textAreaRight" fmla="*/ 901800 w 90144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KPI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074080" y="1739880"/>
            <a:ext cx="792000" cy="2872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78080" y="1739880"/>
            <a:ext cx="718920" cy="287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4870080" y="-1033200"/>
            <a:ext cx="432000" cy="5832360"/>
          </a:xfrm>
          <a:prstGeom prst="downArrow">
            <a:avLst>
              <a:gd name="adj1" fmla="val 58093"/>
              <a:gd name="adj2" fmla="val 700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CTION PLAN 20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074080" y="2195640"/>
            <a:ext cx="79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46360" y="259416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dicato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074080" y="2637000"/>
            <a:ext cx="79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7000" y="2103480"/>
            <a:ext cx="901440" cy="428760"/>
          </a:xfrm>
          <a:custGeom>
            <a:avLst/>
            <a:gdLst>
              <a:gd name="textAreaLeft" fmla="*/ 0 w 901440"/>
              <a:gd name="textAreaRight" fmla="*/ 901800 w 9014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MAIN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7000" y="2606760"/>
            <a:ext cx="901440" cy="714240"/>
          </a:xfrm>
          <a:custGeom>
            <a:avLst/>
            <a:gdLst>
              <a:gd name="textAreaLeft" fmla="*/ 0 w 901440"/>
              <a:gd name="textAreaRight" fmla="*/ 901800 w 9014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SUB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95800" y="2595600"/>
            <a:ext cx="4820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97000" y="3753000"/>
            <a:ext cx="2160360" cy="2887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97000" y="4113360"/>
            <a:ext cx="2160360" cy="792000"/>
          </a:xfrm>
          <a:prstGeom prst="roundRect">
            <a:avLst>
              <a:gd name="adj" fmla="val 70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02080" y="4452840"/>
            <a:ext cx="191880" cy="1922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8800" y="441144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530440" y="3754440"/>
            <a:ext cx="6408360" cy="289080"/>
            <a:chOff x="2530440" y="3754440"/>
            <a:chExt cx="6408360" cy="289080"/>
          </a:xfrm>
        </p:grpSpPr>
        <p:sp>
          <p:nvSpPr>
            <p:cNvPr id="631" name=""/>
            <p:cNvSpPr/>
            <p:nvPr/>
          </p:nvSpPr>
          <p:spPr>
            <a:xfrm>
              <a:off x="5737320" y="3754440"/>
              <a:ext cx="1533240" cy="2890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39680" y="3754440"/>
              <a:ext cx="1599120" cy="2890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0440" y="3754440"/>
              <a:ext cx="1533600" cy="2890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34600" y="3754440"/>
              <a:ext cx="1533600" cy="2890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Q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4365000" y="471132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48280" y="4753080"/>
            <a:ext cx="191880" cy="19188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35520" y="4849920"/>
            <a:ext cx="4044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73680" y="5951520"/>
            <a:ext cx="192240" cy="1922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48280" y="5052960"/>
            <a:ext cx="191880" cy="1922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44680" y="4251240"/>
            <a:ext cx="563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02080" y="4154400"/>
            <a:ext cx="191880" cy="1922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18800" y="411300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90760" y="5608440"/>
            <a:ext cx="352080" cy="27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73680" y="5651640"/>
            <a:ext cx="192240" cy="19188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7000" y="4978440"/>
            <a:ext cx="2160360" cy="577800"/>
          </a:xfrm>
          <a:prstGeom prst="roundRect">
            <a:avLst>
              <a:gd name="adj" fmla="val 70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7000" y="5626080"/>
            <a:ext cx="2160360" cy="576360"/>
          </a:xfrm>
          <a:prstGeom prst="roundRect">
            <a:avLst>
              <a:gd name="adj" fmla="val 70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089080" y="234000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46360" y="295272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dicato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074080" y="2995560"/>
            <a:ext cx="79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95800" y="2952720"/>
            <a:ext cx="4820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906800" y="313992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089080" y="3176640"/>
            <a:ext cx="144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35520" y="5148360"/>
            <a:ext cx="4044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35520" y="5448240"/>
            <a:ext cx="4044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424560" y="6046920"/>
            <a:ext cx="2455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89080" y="2816280"/>
            <a:ext cx="144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06800" y="234000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906800" y="281628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661" name=""/>
          <p:cNvSpPr/>
          <p:nvPr/>
        </p:nvSpPr>
        <p:spPr>
          <a:xfrm>
            <a:off x="225360" y="1400040"/>
            <a:ext cx="8785440" cy="17272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46360" y="188748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00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Indicat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78080" y="1928880"/>
            <a:ext cx="71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7000" y="1471680"/>
            <a:ext cx="901440" cy="1573200"/>
          </a:xfrm>
          <a:custGeom>
            <a:avLst/>
            <a:gdLst>
              <a:gd name="textAreaLeft" fmla="*/ 0 w 901440"/>
              <a:gd name="textAreaRight" fmla="*/ 901800 w 9014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05" y="0"/>
                </a:lnTo>
                <a:lnTo>
                  <a:pt x="21600" y="10800"/>
                </a:lnTo>
                <a:lnTo>
                  <a:pt x="18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KPI‘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74080" y="1473120"/>
            <a:ext cx="792000" cy="2872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78080" y="1473120"/>
            <a:ext cx="718920" cy="287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4870080" y="-1299960"/>
            <a:ext cx="432000" cy="5832360"/>
          </a:xfrm>
          <a:prstGeom prst="downArrow">
            <a:avLst>
              <a:gd name="adj1" fmla="val 58093"/>
              <a:gd name="adj2" fmla="val 700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CTION PLAN 20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074080" y="1928880"/>
            <a:ext cx="79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46360" y="232740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dicato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074080" y="2370240"/>
            <a:ext cx="79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95800" y="2328840"/>
            <a:ext cx="4820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89080" y="207324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546360" y="2685960"/>
            <a:ext cx="122220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dicato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74080" y="2728800"/>
            <a:ext cx="79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95800" y="2685960"/>
            <a:ext cx="4820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06800" y="287352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89080" y="2909880"/>
            <a:ext cx="144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089080" y="2549520"/>
            <a:ext cx="144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06800" y="207324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06800" y="2549520"/>
            <a:ext cx="3322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5360" y="3335400"/>
            <a:ext cx="8785440" cy="320364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892760" y="4613400"/>
            <a:ext cx="517320" cy="485640"/>
          </a:xfrm>
          <a:prstGeom prst="rightArrow">
            <a:avLst>
              <a:gd name="adj1" fmla="val 49676"/>
              <a:gd name="adj2" fmla="val 4737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1920" y="3406680"/>
            <a:ext cx="936360" cy="2962440"/>
          </a:xfrm>
          <a:custGeom>
            <a:avLst/>
            <a:gdLst>
              <a:gd name="textAreaLeft" fmla="*/ 0 w 936360"/>
              <a:gd name="textAreaRight" fmla="*/ 936720 w 936360"/>
              <a:gd name="textAreaTop" fmla="*/ 0 h 2962440"/>
              <a:gd name="textAreaBottom" fmla="*/ 2962800 h 296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29" y="0"/>
                </a:lnTo>
                <a:lnTo>
                  <a:pt x="21600" y="10800"/>
                </a:lnTo>
                <a:lnTo>
                  <a:pt x="178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378080" y="3984480"/>
            <a:ext cx="3456000" cy="241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0080" y="3987720"/>
            <a:ext cx="3456000" cy="23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3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25360" y="326232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8080" y="3406680"/>
            <a:ext cx="345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  <a:ea typeface="MS PGothic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10080" y="3406680"/>
            <a:ext cx="3456000" cy="433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  <a:ea typeface="MS PGothic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996840" y="2351160"/>
            <a:ext cx="2558880" cy="2557440"/>
            <a:chOff x="996840" y="2351160"/>
            <a:chExt cx="2558880" cy="2557440"/>
          </a:xfrm>
        </p:grpSpPr>
        <p:sp>
          <p:nvSpPr>
            <p:cNvPr id="692" name=""/>
            <p:cNvSpPr/>
            <p:nvPr/>
          </p:nvSpPr>
          <p:spPr>
            <a:xfrm flipV="1">
              <a:off x="2198520" y="2490840"/>
              <a:ext cx="0" cy="1278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2276280" y="2351160"/>
              <a:ext cx="1279440" cy="2440080"/>
            </a:xfrm>
            <a:custGeom>
              <a:avLst/>
              <a:gdLst/>
              <a:ahLst/>
              <a:rect l="l" t="t" r="r" b="b"/>
              <a:pathLst>
                <a:path w="609" h="1161">
                  <a:moveTo>
                    <a:pt x="257" y="1161"/>
                  </a:moveTo>
                  <a:cubicBezTo>
                    <a:pt x="471" y="1061"/>
                    <a:pt x="609" y="846"/>
                    <a:pt x="609" y="609"/>
                  </a:cubicBezTo>
                  <a:cubicBezTo>
                    <a:pt x="609" y="273"/>
                    <a:pt x="336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609"/>
                  </a:lnTo>
                  <a:lnTo>
                    <a:pt x="257" y="116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1008000" y="3632400"/>
              <a:ext cx="1808280" cy="1276200"/>
            </a:xfrm>
            <a:custGeom>
              <a:avLst/>
              <a:gdLst/>
              <a:ahLst/>
              <a:rect l="l" t="t" r="r" b="b"/>
              <a:pathLst>
                <a:path w="861" h="608">
                  <a:moveTo>
                    <a:pt x="0" y="74"/>
                  </a:moveTo>
                  <a:cubicBezTo>
                    <a:pt x="37" y="379"/>
                    <a:pt x="296" y="608"/>
                    <a:pt x="604" y="608"/>
                  </a:cubicBezTo>
                  <a:cubicBezTo>
                    <a:pt x="693" y="608"/>
                    <a:pt x="781" y="589"/>
                    <a:pt x="861" y="552"/>
                  </a:cubicBezTo>
                  <a:lnTo>
                    <a:pt x="604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996840" y="2352600"/>
              <a:ext cx="1279440" cy="1435320"/>
            </a:xfrm>
            <a:custGeom>
              <a:avLst/>
              <a:gdLst/>
              <a:ahLst/>
              <a:rect l="l" t="t" r="r" b="b"/>
              <a:pathLst>
                <a:path w="609" h="682">
                  <a:moveTo>
                    <a:pt x="609" y="0"/>
                  </a:moveTo>
                  <a:cubicBezTo>
                    <a:pt x="273" y="0"/>
                    <a:pt x="1" y="272"/>
                    <a:pt x="1" y="608"/>
                  </a:cubicBezTo>
                  <a:cubicBezTo>
                    <a:pt x="0" y="633"/>
                    <a:pt x="2" y="657"/>
                    <a:pt x="5" y="682"/>
                  </a:cubicBezTo>
                  <a:lnTo>
                    <a:pt x="609" y="608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678640" y="2349360"/>
            <a:ext cx="2559960" cy="2558880"/>
            <a:chOff x="5678640" y="2349360"/>
            <a:chExt cx="2559960" cy="2558880"/>
          </a:xfrm>
        </p:grpSpPr>
        <p:grpSp>
          <p:nvGrpSpPr>
            <p:cNvPr id="697" name=""/>
            <p:cNvGrpSpPr/>
            <p:nvPr/>
          </p:nvGrpSpPr>
          <p:grpSpPr>
            <a:xfrm>
              <a:off x="5678640" y="2350800"/>
              <a:ext cx="2558520" cy="2555640"/>
              <a:chOff x="5678640" y="2350800"/>
              <a:chExt cx="2558520" cy="255564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6879600" y="2489400"/>
                <a:ext cx="0" cy="127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>
                <a:off x="6958440" y="2350800"/>
                <a:ext cx="1278720" cy="2437920"/>
              </a:xfrm>
              <a:custGeom>
                <a:avLst/>
                <a:gdLst/>
                <a:ahLst/>
                <a:rect l="l" t="t" r="r" b="b"/>
                <a:pathLst>
                  <a:path w="609" h="1161">
                    <a:moveTo>
                      <a:pt x="257" y="1161"/>
                    </a:moveTo>
                    <a:cubicBezTo>
                      <a:pt x="471" y="1061"/>
                      <a:pt x="609" y="846"/>
                      <a:pt x="609" y="609"/>
                    </a:cubicBezTo>
                    <a:cubicBezTo>
                      <a:pt x="609" y="273"/>
                      <a:pt x="336" y="1"/>
                      <a:pt x="0" y="1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0" y="609"/>
                    </a:lnTo>
                    <a:lnTo>
                      <a:pt x="257" y="116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>
                <a:off x="5689440" y="3630240"/>
                <a:ext cx="1807560" cy="1276200"/>
              </a:xfrm>
              <a:custGeom>
                <a:avLst/>
                <a:gdLst/>
                <a:ahLst/>
                <a:rect l="l" t="t" r="r" b="b"/>
                <a:pathLst>
                  <a:path w="861" h="608">
                    <a:moveTo>
                      <a:pt x="0" y="74"/>
                    </a:moveTo>
                    <a:cubicBezTo>
                      <a:pt x="37" y="379"/>
                      <a:pt x="296" y="608"/>
                      <a:pt x="604" y="608"/>
                    </a:cubicBezTo>
                    <a:cubicBezTo>
                      <a:pt x="693" y="608"/>
                      <a:pt x="781" y="589"/>
                      <a:pt x="861" y="552"/>
                    </a:cubicBezTo>
                    <a:lnTo>
                      <a:pt x="604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>
                <a:off x="5678640" y="2352960"/>
                <a:ext cx="1279800" cy="1432800"/>
              </a:xfrm>
              <a:custGeom>
                <a:avLst/>
                <a:gdLst/>
                <a:ahLst/>
                <a:rect l="l" t="t" r="r" b="b"/>
                <a:pathLst>
                  <a:path w="609" h="682">
                    <a:moveTo>
                      <a:pt x="609" y="0"/>
                    </a:moveTo>
                    <a:cubicBezTo>
                      <a:pt x="273" y="0"/>
                      <a:pt x="1" y="272"/>
                      <a:pt x="1" y="608"/>
                    </a:cubicBezTo>
                    <a:cubicBezTo>
                      <a:pt x="0" y="633"/>
                      <a:pt x="2" y="657"/>
                      <a:pt x="5" y="682"/>
                    </a:cubicBezTo>
                    <a:lnTo>
                      <a:pt x="609" y="608"/>
                    </a:lnTo>
                    <a:lnTo>
                      <a:pt x="6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未知"/>
            <p:cNvSpPr/>
            <p:nvPr/>
          </p:nvSpPr>
          <p:spPr>
            <a:xfrm>
              <a:off x="5679720" y="3232080"/>
              <a:ext cx="1279440" cy="1611360"/>
            </a:xfrm>
            <a:custGeom>
              <a:avLst/>
              <a:gdLst/>
              <a:ahLst/>
              <a:rect l="l" t="t" r="r" b="b"/>
              <a:pathLst>
                <a:path w="609" h="767">
                  <a:moveTo>
                    <a:pt x="30" y="0"/>
                  </a:moveTo>
                  <a:cubicBezTo>
                    <a:pt x="11" y="61"/>
                    <a:pt x="1" y="125"/>
                    <a:pt x="1" y="189"/>
                  </a:cubicBezTo>
                  <a:cubicBezTo>
                    <a:pt x="0" y="452"/>
                    <a:pt x="170" y="686"/>
                    <a:pt x="420" y="767"/>
                  </a:cubicBezTo>
                  <a:lnTo>
                    <a:pt x="609" y="18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6562440" y="2349360"/>
              <a:ext cx="1676160" cy="2558880"/>
            </a:xfrm>
            <a:custGeom>
              <a:avLst/>
              <a:gdLst/>
              <a:ahLst/>
              <a:rect l="l" t="t" r="r" b="b"/>
              <a:pathLst>
                <a:path w="798" h="1218">
                  <a:moveTo>
                    <a:pt x="0" y="1187"/>
                  </a:moveTo>
                  <a:cubicBezTo>
                    <a:pt x="61" y="1207"/>
                    <a:pt x="125" y="1217"/>
                    <a:pt x="189" y="1217"/>
                  </a:cubicBezTo>
                  <a:cubicBezTo>
                    <a:pt x="525" y="1218"/>
                    <a:pt x="798" y="945"/>
                    <a:pt x="798" y="609"/>
                  </a:cubicBezTo>
                  <a:cubicBezTo>
                    <a:pt x="798" y="273"/>
                    <a:pt x="525" y="1"/>
                    <a:pt x="189" y="1"/>
                  </a:cubicBezTo>
                  <a:cubicBezTo>
                    <a:pt x="189" y="0"/>
                    <a:pt x="189" y="1"/>
                    <a:pt x="189" y="1"/>
                  </a:cubicBezTo>
                  <a:lnTo>
                    <a:pt x="189" y="609"/>
                  </a:lnTo>
                  <a:lnTo>
                    <a:pt x="0" y="118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69800" y="1592280"/>
            <a:ext cx="3613320" cy="498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53040" y="1592280"/>
            <a:ext cx="3612960" cy="49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2262240" y="3753720"/>
            <a:ext cx="476748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53040" y="5270400"/>
            <a:ext cx="3611520" cy="1082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9800" y="5270400"/>
            <a:ext cx="3611520" cy="1082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552760" y="3246480"/>
            <a:ext cx="793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41520" y="3968640"/>
            <a:ext cx="793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24080" y="2884320"/>
            <a:ext cx="793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175520" y="3535200"/>
            <a:ext cx="793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877000" y="3679920"/>
            <a:ext cx="7938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2739960"/>
            <a:ext cx="793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xx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31920" y="64627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718" name=""/>
          <p:cNvSpPr/>
          <p:nvPr/>
        </p:nvSpPr>
        <p:spPr>
          <a:xfrm>
            <a:off x="6465960" y="3933720"/>
            <a:ext cx="24480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83680" y="3935520"/>
            <a:ext cx="8667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5360" y="1341360"/>
            <a:ext cx="8785440" cy="525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7000" y="4005360"/>
            <a:ext cx="1296720" cy="1655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Sub-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05360"/>
            <a:ext cx="1296720" cy="71928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KPI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97000" y="1844640"/>
            <a:ext cx="1214280" cy="64764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5" y="0"/>
                </a:lnTo>
                <a:lnTo>
                  <a:pt x="21600" y="10800"/>
                </a:lnTo>
                <a:lnTo>
                  <a:pt x="185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65360" y="1413000"/>
            <a:ext cx="2376360" cy="3603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00400" y="1413000"/>
            <a:ext cx="2376720" cy="3603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537240" y="1413000"/>
            <a:ext cx="2376720" cy="3603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20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93720" y="2565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97000" y="2638440"/>
            <a:ext cx="1296720" cy="122220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Main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83680" y="5740560"/>
            <a:ext cx="8667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00400" y="1852560"/>
            <a:ext cx="237672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100400" y="2212920"/>
            <a:ext cx="237672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37240" y="1852560"/>
            <a:ext cx="237672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37240" y="2212920"/>
            <a:ext cx="237672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96640" y="2565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93720" y="3933720"/>
            <a:ext cx="24480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93720" y="57340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29120" y="2565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29120" y="3933720"/>
            <a:ext cx="24480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29120" y="57340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465960" y="2565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65960" y="57340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65360" y="2212920"/>
            <a:ext cx="237636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97000" y="1413000"/>
            <a:ext cx="1296720" cy="3603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65360" y="1844640"/>
            <a:ext cx="2376360" cy="287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379600" y="1476360"/>
            <a:ext cx="0" cy="491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619520" y="1476360"/>
            <a:ext cx="0" cy="491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59440" y="1476360"/>
            <a:ext cx="0" cy="491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931080" y="1476360"/>
            <a:ext cx="2093760" cy="43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91160" y="1476360"/>
            <a:ext cx="2093760" cy="43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451240" y="1476360"/>
            <a:ext cx="2093760" cy="43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2760" y="1476360"/>
            <a:ext cx="2093760" cy="43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74560" y="2127240"/>
            <a:ext cx="5202360" cy="360360"/>
          </a:xfrm>
          <a:custGeom>
            <a:avLst/>
            <a:gdLst>
              <a:gd name="textAreaLeft" fmla="*/ 0 w 5202360"/>
              <a:gd name="textAreaRight" fmla="*/ 5202720 w 520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9" y="0"/>
                </a:lnTo>
                <a:lnTo>
                  <a:pt x="21600" y="10800"/>
                </a:lnTo>
                <a:lnTo>
                  <a:pt x="208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90840" y="2631960"/>
            <a:ext cx="2384640" cy="360360"/>
          </a:xfrm>
          <a:custGeom>
            <a:avLst/>
            <a:gdLst>
              <a:gd name="textAreaLeft" fmla="*/ 0 w 2384640"/>
              <a:gd name="textAreaRight" fmla="*/ 2385000 w 2384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0" y="0"/>
                </a:lnTo>
                <a:lnTo>
                  <a:pt x="21600" y="10800"/>
                </a:lnTo>
                <a:lnTo>
                  <a:pt x="19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126040" y="3138480"/>
            <a:ext cx="1155600" cy="36036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4" y="0"/>
                </a:lnTo>
                <a:lnTo>
                  <a:pt x="21600" y="10800"/>
                </a:lnTo>
                <a:lnTo>
                  <a:pt x="185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041720" y="3645000"/>
            <a:ext cx="2384640" cy="360360"/>
          </a:xfrm>
          <a:custGeom>
            <a:avLst/>
            <a:gdLst>
              <a:gd name="textAreaLeft" fmla="*/ 0 w 2384640"/>
              <a:gd name="textAreaRight" fmla="*/ 2385000 w 2384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A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0400" y="4149720"/>
            <a:ext cx="3395880" cy="360360"/>
          </a:xfrm>
          <a:custGeom>
            <a:avLst/>
            <a:gdLst>
              <a:gd name="textAreaLeft" fmla="*/ 0 w 3395880"/>
              <a:gd name="textAreaRight" fmla="*/ 3396240 w 33958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1" y="0"/>
                </a:lnTo>
                <a:lnTo>
                  <a:pt x="21600" y="10800"/>
                </a:lnTo>
                <a:lnTo>
                  <a:pt x="20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836960" y="4656240"/>
            <a:ext cx="4116600" cy="36036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0" y="0"/>
                </a:lnTo>
                <a:lnTo>
                  <a:pt x="21600" y="10800"/>
                </a:lnTo>
                <a:lnTo>
                  <a:pt x="20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281640" y="5160960"/>
            <a:ext cx="1155960" cy="36036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1" y="0"/>
                </a:lnTo>
                <a:lnTo>
                  <a:pt x="21600" y="10800"/>
                </a:lnTo>
                <a:lnTo>
                  <a:pt x="187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568920" y="5667480"/>
            <a:ext cx="2384640" cy="360360"/>
          </a:xfrm>
          <a:custGeom>
            <a:avLst/>
            <a:gdLst>
              <a:gd name="textAreaLeft" fmla="*/ 0 w 2384640"/>
              <a:gd name="textAreaRight" fmla="*/ 2385000 w 2384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tion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9160" y="1405080"/>
            <a:ext cx="8999280" cy="51289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765" name=""/>
          <p:cNvSpPr/>
          <p:nvPr/>
        </p:nvSpPr>
        <p:spPr>
          <a:xfrm>
            <a:off x="209700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7336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4972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2572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0208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97844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5300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2936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8172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43444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858080" y="148608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55680" y="1844640"/>
            <a:ext cx="1512720" cy="144144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19" y="0"/>
                </a:lnTo>
                <a:lnTo>
                  <a:pt x="21600" y="10800"/>
                </a:lnTo>
                <a:lnTo>
                  <a:pt x="180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55680" y="343044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19" y="0"/>
                </a:lnTo>
                <a:lnTo>
                  <a:pt x="21600" y="10800"/>
                </a:lnTo>
                <a:lnTo>
                  <a:pt x="180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55680" y="501480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19" y="0"/>
                </a:lnTo>
                <a:lnTo>
                  <a:pt x="21600" y="10800"/>
                </a:lnTo>
                <a:lnTo>
                  <a:pt x="180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5360" y="335772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5360" y="494172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97000" y="191772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14440" y="191772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02080" y="220680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22068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7920" y="249408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65360" y="249408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650440" y="278136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8136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648640" y="249408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408640" y="249408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650440" y="191772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0080" y="191772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650440" y="220680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10080" y="220680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650440" y="307008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410080" y="307008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97000" y="350208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14440" y="350208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02080" y="379080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379080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47920" y="407844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65360" y="407844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650440" y="436572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410080" y="436572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48640" y="407844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408640" y="407844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650440" y="350208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10080" y="350208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650440" y="379080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10080" y="379080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650440" y="465444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410080" y="465444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97000" y="508644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14440" y="508644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02080" y="537516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819520" y="537516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47920" y="566244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465360" y="566244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650440" y="595008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410080" y="595008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648640" y="566244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08640" y="566244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650440" y="5086440"/>
            <a:ext cx="217440" cy="21564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508644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650440" y="537516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10080" y="537516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650440" y="6238800"/>
            <a:ext cx="217440" cy="216000"/>
          </a:xfrm>
          <a:prstGeom prst="diamond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410080" y="623880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DD/MM : action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5360" y="1341360"/>
            <a:ext cx="8785440" cy="525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833" name=""/>
          <p:cNvSpPr/>
          <p:nvPr/>
        </p:nvSpPr>
        <p:spPr>
          <a:xfrm>
            <a:off x="1687680" y="4838760"/>
            <a:ext cx="7128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00320" y="5118120"/>
            <a:ext cx="1752480" cy="457200"/>
          </a:xfrm>
          <a:prstGeom prst="roundRect">
            <a:avLst>
              <a:gd name="adj" fmla="val 36111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862520" y="2738520"/>
            <a:ext cx="504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 rot="10800000">
            <a:off x="5334120" y="271764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 rot="10800000">
            <a:off x="5330880" y="270504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414400" y="2790720"/>
            <a:ext cx="16812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rot="13638000">
            <a:off x="5388840" y="2793600"/>
            <a:ext cx="66600" cy="190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rot="13638000">
            <a:off x="5379120" y="2783520"/>
            <a:ext cx="66600" cy="20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367240" y="2743200"/>
            <a:ext cx="76320" cy="3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83080" y="2768760"/>
            <a:ext cx="57240" cy="25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rot="5400000">
            <a:off x="5140080" y="2895480"/>
            <a:ext cx="456840" cy="13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rot="16200000">
            <a:off x="5394960" y="3072600"/>
            <a:ext cx="456840" cy="13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solidFill>
            <a:srgbClr val="65679a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5848200" y="4008600"/>
            <a:ext cx="5270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5656320" y="3422520"/>
            <a:ext cx="171360" cy="54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799240" y="3952080"/>
            <a:ext cx="5688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300760" y="2676600"/>
            <a:ext cx="61560" cy="553680"/>
            <a:chOff x="2300760" y="2676600"/>
            <a:chExt cx="61560" cy="553680"/>
          </a:xfrm>
        </p:grpSpPr>
        <p:sp>
          <p:nvSpPr>
            <p:cNvPr id="849" name=""/>
            <p:cNvSpPr/>
            <p:nvPr/>
          </p:nvSpPr>
          <p:spPr>
            <a:xfrm>
              <a:off x="2331360" y="2676600"/>
              <a:ext cx="0" cy="545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5400000">
              <a:off x="2316240" y="3184200"/>
              <a:ext cx="42120" cy="500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5400000">
              <a:off x="2304720" y="3180600"/>
              <a:ext cx="42120" cy="500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352600" y="3241080"/>
            <a:ext cx="539280" cy="232560"/>
            <a:chOff x="2352600" y="3241080"/>
            <a:chExt cx="539280" cy="232560"/>
          </a:xfrm>
        </p:grpSpPr>
        <p:sp>
          <p:nvSpPr>
            <p:cNvPr id="853" name=""/>
            <p:cNvSpPr/>
            <p:nvPr/>
          </p:nvSpPr>
          <p:spPr>
            <a:xfrm>
              <a:off x="2379960" y="3270960"/>
              <a:ext cx="494280" cy="18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2562000">
              <a:off x="2360520" y="3267720"/>
              <a:ext cx="61560" cy="212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562000">
              <a:off x="2351520" y="3259080"/>
              <a:ext cx="61560" cy="212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562000">
              <a:off x="2831040" y="3434400"/>
              <a:ext cx="61560" cy="212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2919240" y="3498840"/>
            <a:ext cx="0" cy="787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2902320" y="3493440"/>
            <a:ext cx="42840" cy="507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19240" y="4108320"/>
            <a:ext cx="0" cy="5637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944800" y="4692600"/>
            <a:ext cx="515880" cy="1936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510000" y="4911840"/>
            <a:ext cx="0" cy="412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rot="16200000">
            <a:off x="5639400" y="3712320"/>
            <a:ext cx="456840" cy="13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 rot="5400000">
            <a:off x="5384520" y="3535200"/>
            <a:ext cx="456840" cy="13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solidFill>
            <a:srgbClr val="65679a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rot="2838000">
            <a:off x="5629320" y="3424680"/>
            <a:ext cx="66600" cy="20520"/>
          </a:xfrm>
          <a:prstGeom prst="rect">
            <a:avLst/>
          </a:prstGeom>
          <a:solidFill>
            <a:srgbClr val="65679a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573880" y="3341520"/>
            <a:ext cx="39600" cy="54000"/>
          </a:xfrm>
          <a:prstGeom prst="rect">
            <a:avLst/>
          </a:prstGeom>
          <a:solidFill>
            <a:srgbClr val="65679a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08080" y="2808360"/>
            <a:ext cx="422280" cy="14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232160" y="3254040"/>
            <a:ext cx="0" cy="787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4205160" y="3993840"/>
            <a:ext cx="42840" cy="48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4227120" y="2868120"/>
            <a:ext cx="3240" cy="560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3687480" y="2654280"/>
            <a:ext cx="515880" cy="18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161960" y="4062240"/>
            <a:ext cx="393840" cy="632880"/>
            <a:chOff x="4161960" y="4062240"/>
            <a:chExt cx="393840" cy="632880"/>
          </a:xfrm>
        </p:grpSpPr>
        <p:sp>
          <p:nvSpPr>
            <p:cNvPr id="872" name=""/>
            <p:cNvSpPr/>
            <p:nvPr/>
          </p:nvSpPr>
          <p:spPr>
            <a:xfrm flipH="1" rot="16200000">
              <a:off x="4257720" y="4397400"/>
              <a:ext cx="456840" cy="13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1" y="4152"/>
                  </a:moveTo>
                  <a:arcTo wR="10800" hR="10800" stAng="-2279688" swAng="227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1" y="4152"/>
                  </a:moveTo>
                  <a:arcTo wR="10800" hR="10800" stAng="-2279688" swAng="2279688"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rot="5400000">
              <a:off x="4002480" y="4221360"/>
              <a:ext cx="456840" cy="13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1" y="4152"/>
                  </a:moveTo>
                  <a:arcTo wR="10800" hR="10800" stAng="-2279688" swAng="227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1" y="4152"/>
                  </a:moveTo>
                  <a:arcTo wR="10800" hR="10800" stAng="-2279688" swAng="2279688"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827600" y="4697280"/>
            <a:ext cx="728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rot="2838000">
            <a:off x="4246560" y="4110480"/>
            <a:ext cx="66600" cy="2052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516640" y="466416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487760" y="469440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478400" y="466092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481640" y="467352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4273200" y="4108320"/>
            <a:ext cx="16668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 rot="2838000">
            <a:off x="4398840" y="4619160"/>
            <a:ext cx="66600" cy="190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 rot="2838000">
            <a:off x="4408560" y="4628160"/>
            <a:ext cx="66600" cy="2052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191120" y="4027320"/>
            <a:ext cx="39600" cy="540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332440" y="3147120"/>
            <a:ext cx="1173600" cy="1860480"/>
            <a:chOff x="2332440" y="3147120"/>
            <a:chExt cx="1173600" cy="1860480"/>
          </a:xfrm>
        </p:grpSpPr>
        <p:sp>
          <p:nvSpPr>
            <p:cNvPr id="885" name=""/>
            <p:cNvSpPr/>
            <p:nvPr/>
          </p:nvSpPr>
          <p:spPr>
            <a:xfrm rot="10800000">
              <a:off x="2332440" y="3147120"/>
              <a:ext cx="423000" cy="1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1" y="4152"/>
                  </a:moveTo>
                  <a:arcTo wR="10800" hR="10800" stAng="-2279688" swAng="227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1" y="4152"/>
                  </a:moveTo>
                  <a:arcTo wR="10800" hR="10800" stAng="-2279688" swAng="2279688"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95160" y="3423960"/>
              <a:ext cx="423000" cy="1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1" y="4152"/>
                  </a:moveTo>
                  <a:arcTo wR="10800" hR="10800" stAng="-2279688" swAng="227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1" y="4152"/>
                  </a:moveTo>
                  <a:arcTo wR="10800" hR="10800" stAng="-2279688" swAng="2279688"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2920680" y="4579920"/>
              <a:ext cx="585360" cy="427680"/>
              <a:chOff x="2920680" y="4579920"/>
              <a:chExt cx="585360" cy="427680"/>
            </a:xfrm>
          </p:grpSpPr>
          <p:sp>
            <p:nvSpPr>
              <p:cNvPr id="888" name=""/>
              <p:cNvSpPr/>
              <p:nvPr/>
            </p:nvSpPr>
            <p:spPr>
              <a:xfrm rot="10800000">
                <a:off x="2920680" y="4579920"/>
                <a:ext cx="423000" cy="15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11" y="4152"/>
                    </a:moveTo>
                    <a:arcTo wR="10800" hR="10800" stAng="-2279688" swAng="22796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11" y="4152"/>
                    </a:moveTo>
                    <a:arcTo wR="10800" hR="10800" stAng="-2279688" swAng="2279688"/>
                  </a:path>
                </a:pathLst>
              </a:cu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083040" y="4857120"/>
                <a:ext cx="423000" cy="15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11" y="4152"/>
                    </a:moveTo>
                    <a:arcTo wR="10800" hR="10800" stAng="-2279688" swAng="22796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11" y="4152"/>
                    </a:moveTo>
                    <a:arcTo wR="10800" hR="10800" stAng="-2279688" swAng="2279688"/>
                  </a:path>
                </a:pathLst>
              </a:cu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0" name=""/>
          <p:cNvSpPr/>
          <p:nvPr/>
        </p:nvSpPr>
        <p:spPr>
          <a:xfrm flipV="1">
            <a:off x="3311640" y="386676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5400000">
            <a:off x="2019240" y="4290480"/>
            <a:ext cx="456840" cy="26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6200000">
            <a:off x="2513160" y="4113360"/>
            <a:ext cx="456840" cy="2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5400000">
            <a:off x="4575240" y="3655440"/>
            <a:ext cx="456840" cy="26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5068800" y="3479400"/>
            <a:ext cx="456840" cy="26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1" y="4152"/>
                </a:moveTo>
                <a:arcTo wR="10800" hR="10800" stAng="-2279688" swAng="2279688"/>
                <a:lnTo>
                  <a:pt x="10800" y="10800"/>
                </a:lnTo>
                <a:close/>
              </a:path>
              <a:path fill="none" w="21600" h="21600">
                <a:moveTo>
                  <a:pt x="19311" y="4152"/>
                </a:moveTo>
                <a:arcTo wR="10800" hR="10800" stAng="-2279688" swAng="2279688"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71520" y="46530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320920" y="4051080"/>
            <a:ext cx="345960" cy="564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41760" y="4019400"/>
            <a:ext cx="1404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38520" y="3986280"/>
            <a:ext cx="74520" cy="54000"/>
          </a:xfrm>
          <a:prstGeom prst="rect">
            <a:avLst/>
          </a:prstGeom>
          <a:solidFill>
            <a:srgbClr val="6567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28960" y="4017960"/>
            <a:ext cx="9860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876920" y="3412800"/>
            <a:ext cx="353880" cy="571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273640" y="3381120"/>
            <a:ext cx="723960" cy="6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881520" y="400644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5011560" y="3466440"/>
            <a:ext cx="115560" cy="81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4968720" y="3857040"/>
            <a:ext cx="115560" cy="81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2322720" y="4318200"/>
            <a:ext cx="113760" cy="80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88080" y="3382920"/>
            <a:ext cx="70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351160" y="4587480"/>
            <a:ext cx="252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2343240" y="4587480"/>
            <a:ext cx="252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612880" y="4043160"/>
            <a:ext cx="2556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911840" y="3949200"/>
            <a:ext cx="2376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469880" y="445608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040280" y="381312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4640" y="381312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32400" y="320364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838760" y="3949200"/>
            <a:ext cx="2376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4905360" y="3949200"/>
            <a:ext cx="2376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rot="2562000">
            <a:off x="3417840" y="4867200"/>
            <a:ext cx="61920" cy="2232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2959200"/>
            <a:ext cx="698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503600" y="2489040"/>
            <a:ext cx="1752840" cy="457200"/>
          </a:xfrm>
          <a:prstGeom prst="roundRect">
            <a:avLst>
              <a:gd name="adj" fmla="val 36111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86160" y="4191120"/>
            <a:ext cx="698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090960" y="4394160"/>
            <a:ext cx="2625480" cy="457200"/>
          </a:xfrm>
          <a:prstGeom prst="roundRect">
            <a:avLst>
              <a:gd name="adj" fmla="val 36111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529320" y="2365200"/>
            <a:ext cx="1981440" cy="1984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95760" y="3460680"/>
            <a:ext cx="90360" cy="33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8640" y="3067200"/>
            <a:ext cx="3124080" cy="457200"/>
          </a:xfrm>
          <a:prstGeom prst="roundRect">
            <a:avLst>
              <a:gd name="adj" fmla="val 36111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843440" y="2634840"/>
            <a:ext cx="0" cy="3429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360" y="2635200"/>
            <a:ext cx="299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2978280"/>
            <a:ext cx="299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7360" y="3321000"/>
            <a:ext cx="299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87360" y="3664080"/>
            <a:ext cx="299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7360" y="4005360"/>
            <a:ext cx="299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7360" y="4348080"/>
            <a:ext cx="299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7360" y="4691160"/>
            <a:ext cx="299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7360" y="5033880"/>
            <a:ext cx="299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7360" y="5375160"/>
            <a:ext cx="299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7360" y="5718240"/>
            <a:ext cx="299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MS PGothi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9440" y="297828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9440" y="263700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9440" y="332280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9440" y="3664080"/>
            <a:ext cx="2228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49440" y="4006800"/>
            <a:ext cx="2228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49440" y="434988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49440" y="4692600"/>
            <a:ext cx="2228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9440" y="5033880"/>
            <a:ext cx="2228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9440" y="53769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49440" y="5719680"/>
            <a:ext cx="2228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3965400" y="2806560"/>
            <a:ext cx="2163240" cy="3084120"/>
            <a:chOff x="3965400" y="2806560"/>
            <a:chExt cx="2163240" cy="3084120"/>
          </a:xfrm>
        </p:grpSpPr>
        <p:sp>
          <p:nvSpPr>
            <p:cNvPr id="949" name=""/>
            <p:cNvSpPr/>
            <p:nvPr/>
          </p:nvSpPr>
          <p:spPr>
            <a:xfrm flipH="1">
              <a:off x="4566960" y="2806560"/>
              <a:ext cx="1442880" cy="34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4566600" y="3148200"/>
              <a:ext cx="1202040" cy="34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3965400" y="3491280"/>
              <a:ext cx="180360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3965400" y="3835080"/>
              <a:ext cx="1743840" cy="34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106960" y="4177440"/>
              <a:ext cx="601560" cy="34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5107320" y="4519800"/>
              <a:ext cx="120240" cy="34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5227560" y="4861800"/>
              <a:ext cx="901080" cy="34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687200" y="5547240"/>
              <a:ext cx="138204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069240" y="5204880"/>
              <a:ext cx="59400" cy="34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6010200" y="5089680"/>
            <a:ext cx="241200" cy="2300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50080" y="5432400"/>
            <a:ext cx="241200" cy="2286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08400" y="4748040"/>
            <a:ext cx="24156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67320" y="5775480"/>
            <a:ext cx="2412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989600" y="4405320"/>
            <a:ext cx="23976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846600" y="3719520"/>
            <a:ext cx="2412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46720" y="3035160"/>
            <a:ext cx="2412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889600" y="2692440"/>
            <a:ext cx="241200" cy="2286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648400" y="3376440"/>
            <a:ext cx="241200" cy="2304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89720" y="4062240"/>
            <a:ext cx="241200" cy="2304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60800" y="1830240"/>
            <a:ext cx="1673280" cy="4273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olutio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071880" y="1830240"/>
            <a:ext cx="1673280" cy="4273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olutio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04840" y="1657440"/>
            <a:ext cx="6646680" cy="46242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996240" y="1658880"/>
            <a:ext cx="2036520" cy="14353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996240" y="3252960"/>
            <a:ext cx="2036520" cy="1434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996240" y="4846680"/>
            <a:ext cx="2036520" cy="1434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285840" y="28749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8584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584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85840" y="504180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85840" y="576432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01800" y="28749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0180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80180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53280" y="28749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35328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35328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353280" y="504180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86924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86924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869240" y="576432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869240" y="50403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869240" y="287352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5840" y="1816200"/>
            <a:ext cx="1084320" cy="577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801800" y="1816200"/>
            <a:ext cx="1084320" cy="577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319560" y="1816200"/>
            <a:ext cx="1084320" cy="577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34080" y="1816200"/>
            <a:ext cx="1083960" cy="577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omai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351480" y="1816200"/>
            <a:ext cx="1084320" cy="577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omai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68360" y="1790640"/>
            <a:ext cx="43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886120" y="1790640"/>
            <a:ext cx="43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403880" y="179064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918040" y="1790640"/>
            <a:ext cx="43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435800" y="1790640"/>
            <a:ext cx="4334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85840" y="2657520"/>
            <a:ext cx="8667720" cy="1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319560" y="28749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1956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1956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319560" y="504180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319560" y="576432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835520" y="287496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35520" y="359568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835520" y="4317840"/>
            <a:ext cx="10843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835520" y="504180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35520" y="5764320"/>
            <a:ext cx="1084320" cy="577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015400" y="1598760"/>
            <a:ext cx="9144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017" name=""/>
          <p:cNvSpPr/>
          <p:nvPr/>
        </p:nvSpPr>
        <p:spPr>
          <a:xfrm>
            <a:off x="1036800" y="2751120"/>
            <a:ext cx="60958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036800" y="3436920"/>
            <a:ext cx="60958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036800" y="4122720"/>
            <a:ext cx="289692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6800" y="4808520"/>
            <a:ext cx="289692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036800" y="5494320"/>
            <a:ext cx="289692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235400" y="4808520"/>
            <a:ext cx="28972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235400" y="5494320"/>
            <a:ext cx="28972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235400" y="4122720"/>
            <a:ext cx="28972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284240" y="2751120"/>
            <a:ext cx="1600200" cy="121932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7284240" y="4122720"/>
            <a:ext cx="1600200" cy="190512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 rot="5400000">
            <a:off x="2141640" y="807120"/>
            <a:ext cx="685800" cy="289548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2895480"/>
              <a:gd name="textAreaBottom" fmla="*/ 28954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9" y="0"/>
                </a:lnTo>
                <a:lnTo>
                  <a:pt x="21600" y="10800"/>
                </a:lnTo>
                <a:lnTo>
                  <a:pt x="189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Doma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 rot="5400000">
            <a:off x="5342040" y="807120"/>
            <a:ext cx="685800" cy="289548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2895480"/>
              <a:gd name="textAreaBottom" fmla="*/ 28954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9" y="0"/>
                </a:lnTo>
                <a:lnTo>
                  <a:pt x="21600" y="10800"/>
                </a:lnTo>
                <a:lnTo>
                  <a:pt x="189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Domai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51000" y="2752560"/>
            <a:ext cx="529920" cy="530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51000" y="3438360"/>
            <a:ext cx="529920" cy="530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1000" y="4124160"/>
            <a:ext cx="529920" cy="530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51000" y="4809960"/>
            <a:ext cx="529920" cy="530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51000" y="5495760"/>
            <a:ext cx="529920" cy="530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160360" y="3754080"/>
            <a:ext cx="427356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1720" y="1979640"/>
            <a:ext cx="122580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1720" y="4594320"/>
            <a:ext cx="122580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0040" y="3997440"/>
            <a:ext cx="122580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3520" y="270036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43520" y="3995640"/>
            <a:ext cx="1225440" cy="12258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51840" y="270036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7680" y="3276720"/>
            <a:ext cx="1225440" cy="1225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key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480" y="185904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8880" y="272268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3586320"/>
            <a:ext cx="2952720" cy="79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880" y="444960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8880" y="531324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4729320" y="1413000"/>
            <a:ext cx="4259160" cy="4269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7680" y="1413000"/>
            <a:ext cx="4259160" cy="4269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62080" y="4656240"/>
            <a:ext cx="4259160" cy="122220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26080" y="4656240"/>
            <a:ext cx="4259160" cy="122220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62080" y="6022800"/>
            <a:ext cx="8713800" cy="503280"/>
          </a:xfrm>
          <a:prstGeom prst="roundRect">
            <a:avLst>
              <a:gd name="adj" fmla="val 7065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47680" y="1984320"/>
            <a:ext cx="4259160" cy="245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icture, graph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726080" y="1984320"/>
            <a:ext cx="4259160" cy="245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icture, graph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045" name=""/>
          <p:cNvSpPr/>
          <p:nvPr/>
        </p:nvSpPr>
        <p:spPr>
          <a:xfrm>
            <a:off x="351000" y="1495440"/>
            <a:ext cx="529920" cy="530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51000" y="2333520"/>
            <a:ext cx="529920" cy="530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51000" y="3171960"/>
            <a:ext cx="529920" cy="529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1000" y="4010040"/>
            <a:ext cx="529920" cy="530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1000" y="4848120"/>
            <a:ext cx="529920" cy="530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036800" y="141768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51000" y="5686560"/>
            <a:ext cx="529920" cy="529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36800" y="225576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36800" y="309420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036800" y="393228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036800" y="477036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036800" y="5608800"/>
            <a:ext cx="548640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6827760" y="1417680"/>
            <a:ext cx="2057040" cy="5105160"/>
            <a:chOff x="6827760" y="1417680"/>
            <a:chExt cx="2057040" cy="5105160"/>
          </a:xfrm>
        </p:grpSpPr>
        <p:sp>
          <p:nvSpPr>
            <p:cNvPr id="1058" name=""/>
            <p:cNvSpPr/>
            <p:nvPr/>
          </p:nvSpPr>
          <p:spPr>
            <a:xfrm rot="5400000">
              <a:off x="7410960" y="842400"/>
              <a:ext cx="878760" cy="2028600"/>
            </a:xfrm>
            <a:custGeom>
              <a:avLst/>
              <a:gdLst>
                <a:gd name="textAreaLeft" fmla="*/ 0 w 878760"/>
                <a:gd name="textAreaRight" fmla="*/ 879120 w 878760"/>
                <a:gd name="textAreaTop" fmla="*/ 0 h 2028600"/>
                <a:gd name="textAreaBottom" fmla="*/ 2028960 h 20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9" y="0"/>
                  </a:lnTo>
                  <a:lnTo>
                    <a:pt x="21600" y="10800"/>
                  </a:lnTo>
                  <a:lnTo>
                    <a:pt x="166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5400000">
              <a:off x="6969960" y="2056320"/>
              <a:ext cx="1781280" cy="2048400"/>
            </a:xfrm>
            <a:custGeom>
              <a:avLst/>
              <a:gdLst>
                <a:gd name="textAreaLeft" fmla="*/ 0 w 1781280"/>
                <a:gd name="textAreaRight" fmla="*/ 1781640 w 1781280"/>
                <a:gd name="textAreaTop" fmla="*/ 0 h 2048400"/>
                <a:gd name="textAreaBottom" fmla="*/ 2048760 h 20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16" y="0"/>
                  </a:lnTo>
                  <a:lnTo>
                    <a:pt x="21600" y="10800"/>
                  </a:lnTo>
                  <a:lnTo>
                    <a:pt x="19016" y="21600"/>
                  </a:lnTo>
                  <a:lnTo>
                    <a:pt x="0" y="21600"/>
                  </a:lnTo>
                  <a:lnTo>
                    <a:pt x="2584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5400000">
              <a:off x="7383240" y="5029920"/>
              <a:ext cx="937080" cy="2048400"/>
            </a:xfrm>
            <a:custGeom>
              <a:avLst/>
              <a:gdLst>
                <a:gd name="textAreaLeft" fmla="*/ 0 w 937080"/>
                <a:gd name="textAreaRight" fmla="*/ 937440 w 937080"/>
                <a:gd name="textAreaTop" fmla="*/ 0 h 2048400"/>
                <a:gd name="textAreaBottom" fmla="*/ 2048760 h 20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507" y="0"/>
                  </a:lnTo>
                  <a:lnTo>
                    <a:pt x="21600" y="10800"/>
                  </a:lnTo>
                  <a:lnTo>
                    <a:pt x="16507" y="21600"/>
                  </a:lnTo>
                  <a:lnTo>
                    <a:pt x="0" y="21600"/>
                  </a:lnTo>
                  <a:lnTo>
                    <a:pt x="5093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5400000">
              <a:off x="6941520" y="3758760"/>
              <a:ext cx="1837800" cy="204840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048400"/>
                <a:gd name="textAreaBottom" fmla="*/ 2048760 h 20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34" y="0"/>
                  </a:lnTo>
                  <a:lnTo>
                    <a:pt x="21600" y="10800"/>
                  </a:lnTo>
                  <a:lnTo>
                    <a:pt x="19134" y="21600"/>
                  </a:lnTo>
                  <a:lnTo>
                    <a:pt x="0" y="21600"/>
                  </a:lnTo>
                  <a:lnTo>
                    <a:pt x="2466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064" name=""/>
          <p:cNvSpPr/>
          <p:nvPr/>
        </p:nvSpPr>
        <p:spPr>
          <a:xfrm>
            <a:off x="6834240" y="3505320"/>
            <a:ext cx="187164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519280" y="3505320"/>
            <a:ext cx="187164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82680" y="3505320"/>
            <a:ext cx="187164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835600" y="1346040"/>
            <a:ext cx="158436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672000" y="1274760"/>
            <a:ext cx="187164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3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deff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3deff"/>
                </a:solidFill>
                <a:latin typeface="Calibri"/>
                <a:ea typeface="MS PGothic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"/>
          <p:cNvCxnSpPr>
            <a:stCxn id="1068" idx="3"/>
            <a:endCxn id="1067" idx="1"/>
          </p:cNvCxnSpPr>
          <p:nvPr/>
        </p:nvCxnSpPr>
        <p:spPr>
          <a:xfrm>
            <a:off x="5557680" y="1634760"/>
            <a:ext cx="264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70" name=""/>
          <p:cNvCxnSpPr>
            <a:stCxn id="1068" idx="2"/>
            <a:endCxn id="1071" idx="0"/>
          </p:cNvCxnSpPr>
          <p:nvPr/>
        </p:nvCxnSpPr>
        <p:spPr>
          <a:xfrm rot="5400000">
            <a:off x="3688920" y="1851120"/>
            <a:ext cx="761040" cy="1078200"/>
          </a:xfrm>
          <a:prstGeom prst="bentConnector3">
            <a:avLst>
              <a:gd name="adj1" fmla="val 49881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72" name=""/>
          <p:cNvCxnSpPr>
            <a:stCxn id="1068" idx="2"/>
            <a:endCxn id="1073" idx="0"/>
          </p:cNvCxnSpPr>
          <p:nvPr/>
        </p:nvCxnSpPr>
        <p:spPr>
          <a:xfrm flipH="1" rot="16200000">
            <a:off x="4767840" y="1849320"/>
            <a:ext cx="761040" cy="1081800"/>
          </a:xfrm>
          <a:prstGeom prst="bentConnector3">
            <a:avLst>
              <a:gd name="adj1" fmla="val 49881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74" name=""/>
          <p:cNvCxnSpPr>
            <a:stCxn id="1068" idx="2"/>
            <a:endCxn id="1075" idx="0"/>
          </p:cNvCxnSpPr>
          <p:nvPr/>
        </p:nvCxnSpPr>
        <p:spPr>
          <a:xfrm flipH="1" rot="16200000">
            <a:off x="5846760" y="771120"/>
            <a:ext cx="761040" cy="3237840"/>
          </a:xfrm>
          <a:prstGeom prst="bentConnector3">
            <a:avLst>
              <a:gd name="adj1" fmla="val 49881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076" name=""/>
          <p:cNvCxnSpPr>
            <a:stCxn id="1068" idx="2"/>
            <a:endCxn id="1077" idx="0"/>
          </p:cNvCxnSpPr>
          <p:nvPr/>
        </p:nvCxnSpPr>
        <p:spPr>
          <a:xfrm rot="5400000">
            <a:off x="2620080" y="782640"/>
            <a:ext cx="761040" cy="3215160"/>
          </a:xfrm>
          <a:prstGeom prst="bentConnector3">
            <a:avLst>
              <a:gd name="adj1" fmla="val 49881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077" name=""/>
          <p:cNvSpPr/>
          <p:nvPr/>
        </p:nvSpPr>
        <p:spPr>
          <a:xfrm>
            <a:off x="382680" y="2784600"/>
            <a:ext cx="202068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519280" y="2784600"/>
            <a:ext cx="202104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78200" y="2784600"/>
            <a:ext cx="202104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834240" y="2784600"/>
            <a:ext cx="202068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xx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Calibri"/>
                <a:ea typeface="MS PGothic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78200" y="3505320"/>
            <a:ext cx="187200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081" name=""/>
          <p:cNvSpPr/>
          <p:nvPr/>
        </p:nvSpPr>
        <p:spPr>
          <a:xfrm>
            <a:off x="225360" y="1341360"/>
            <a:ext cx="8785440" cy="52563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25360" y="1341360"/>
            <a:ext cx="8785440" cy="7192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Key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22520" y="2344680"/>
            <a:ext cx="0" cy="3902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399680" y="4368960"/>
            <a:ext cx="6775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79520" y="6283440"/>
            <a:ext cx="4309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380960" y="2193840"/>
            <a:ext cx="0" cy="4089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96600" y="62928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Importance for 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294840" y="418356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Importance for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755720" y="25495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Georgia"/>
                <a:ea typeface="MS P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079080" y="45957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246720" y="2778120"/>
            <a:ext cx="1871640" cy="144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246720" y="2417760"/>
            <a:ext cx="1871640" cy="379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Main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rot="5400000">
            <a:off x="4957200" y="3127320"/>
            <a:ext cx="1770120" cy="360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5400000">
            <a:off x="5014440" y="5157720"/>
            <a:ext cx="1655640" cy="36036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246720" y="4869000"/>
            <a:ext cx="1871640" cy="144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3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3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3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3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46720" y="4508640"/>
            <a:ext cx="187164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Other 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66160" y="49417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400040" y="2344680"/>
            <a:ext cx="4118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518080" y="2344680"/>
            <a:ext cx="0" cy="3902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355920" y="2349360"/>
            <a:ext cx="2160720" cy="20876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696560" y="2722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033080" y="38606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69400" y="32846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06" name=""/>
          <p:cNvSpPr/>
          <p:nvPr/>
        </p:nvSpPr>
        <p:spPr>
          <a:xfrm>
            <a:off x="225360" y="1341360"/>
            <a:ext cx="8785440" cy="525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540840" y="219780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未知"/>
          <p:cNvSpPr/>
          <p:nvPr/>
        </p:nvSpPr>
        <p:spPr>
          <a:xfrm>
            <a:off x="6264360" y="2527200"/>
            <a:ext cx="1484280" cy="1717920"/>
          </a:xfrm>
          <a:custGeom>
            <a:avLst/>
            <a:gdLst/>
            <a:ahLst/>
            <a:rect l="l" t="t" r="r" b="b"/>
            <a:pathLst>
              <a:path w="935" h="1082">
                <a:moveTo>
                  <a:pt x="471" y="0"/>
                </a:moveTo>
                <a:lnTo>
                  <a:pt x="935" y="267"/>
                </a:lnTo>
                <a:lnTo>
                  <a:pt x="935" y="809"/>
                </a:lnTo>
                <a:lnTo>
                  <a:pt x="471" y="1082"/>
                </a:lnTo>
                <a:lnTo>
                  <a:pt x="0" y="809"/>
                </a:lnTo>
                <a:lnTo>
                  <a:pt x="0" y="267"/>
                </a:lnTo>
                <a:lnTo>
                  <a:pt x="47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53400" y="279468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866360" y="380772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540840" y="42458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204160" y="38426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208840" y="27788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未知"/>
          <p:cNvSpPr/>
          <p:nvPr/>
        </p:nvSpPr>
        <p:spPr>
          <a:xfrm>
            <a:off x="1581120" y="2511360"/>
            <a:ext cx="1484280" cy="1717920"/>
          </a:xfrm>
          <a:custGeom>
            <a:avLst/>
            <a:gdLst/>
            <a:ahLst/>
            <a:rect l="l" t="t" r="r" b="b"/>
            <a:pathLst>
              <a:path w="935" h="1082">
                <a:moveTo>
                  <a:pt x="471" y="0"/>
                </a:moveTo>
                <a:lnTo>
                  <a:pt x="935" y="267"/>
                </a:lnTo>
                <a:lnTo>
                  <a:pt x="935" y="809"/>
                </a:lnTo>
                <a:lnTo>
                  <a:pt x="471" y="1082"/>
                </a:lnTo>
                <a:lnTo>
                  <a:pt x="0" y="809"/>
                </a:lnTo>
                <a:lnTo>
                  <a:pt x="0" y="267"/>
                </a:lnTo>
                <a:lnTo>
                  <a:pt x="47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2640" y="4592520"/>
            <a:ext cx="3610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195880" y="4597560"/>
            <a:ext cx="3610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12640" y="1492200"/>
            <a:ext cx="3613320" cy="498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95880" y="1492200"/>
            <a:ext cx="3613320" cy="49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未知"/>
          <p:cNvSpPr/>
          <p:nvPr/>
        </p:nvSpPr>
        <p:spPr>
          <a:xfrm>
            <a:off x="6418440" y="2952720"/>
            <a:ext cx="1037880" cy="1031760"/>
          </a:xfrm>
          <a:custGeom>
            <a:avLst/>
            <a:gdLst/>
            <a:ahLst/>
            <a:rect l="l" t="t" r="r" b="b"/>
            <a:pathLst>
              <a:path w="654" h="650">
                <a:moveTo>
                  <a:pt x="362" y="0"/>
                </a:moveTo>
                <a:lnTo>
                  <a:pt x="654" y="108"/>
                </a:lnTo>
                <a:lnTo>
                  <a:pt x="607" y="406"/>
                </a:lnTo>
                <a:lnTo>
                  <a:pt x="375" y="650"/>
                </a:lnTo>
                <a:lnTo>
                  <a:pt x="0" y="489"/>
                </a:lnTo>
                <a:lnTo>
                  <a:pt x="0" y="55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未知"/>
          <p:cNvSpPr/>
          <p:nvPr/>
        </p:nvSpPr>
        <p:spPr>
          <a:xfrm>
            <a:off x="1855800" y="3044880"/>
            <a:ext cx="770040" cy="774720"/>
          </a:xfrm>
          <a:custGeom>
            <a:avLst/>
            <a:gdLst/>
            <a:ahLst/>
            <a:rect l="l" t="t" r="r" b="b"/>
            <a:pathLst>
              <a:path w="485" h="488">
                <a:moveTo>
                  <a:pt x="301" y="0"/>
                </a:moveTo>
                <a:lnTo>
                  <a:pt x="485" y="107"/>
                </a:lnTo>
                <a:lnTo>
                  <a:pt x="485" y="327"/>
                </a:lnTo>
                <a:lnTo>
                  <a:pt x="301" y="488"/>
                </a:lnTo>
                <a:lnTo>
                  <a:pt x="24" y="361"/>
                </a:lnTo>
                <a:lnTo>
                  <a:pt x="0" y="49"/>
                </a:lnTo>
                <a:lnTo>
                  <a:pt x="301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46440" y="220896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159360" y="28058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171960" y="381852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846440" y="42566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09760" y="385344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14440" y="2790000"/>
            <a:ext cx="95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2702160" y="3328200"/>
            <a:ext cx="4044600" cy="360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5680" y="5675400"/>
            <a:ext cx="8596080" cy="79524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314120" y="61023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32" name=""/>
          <p:cNvSpPr/>
          <p:nvPr/>
        </p:nvSpPr>
        <p:spPr>
          <a:xfrm rot="10800000">
            <a:off x="2948040" y="3429000"/>
            <a:ext cx="2890800" cy="24098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Mai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43360" y="1019160"/>
            <a:ext cx="2898720" cy="240984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494000" y="3429000"/>
            <a:ext cx="2898720" cy="24098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392720" y="3429000"/>
            <a:ext cx="2898720" cy="24098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850080" y="3743280"/>
            <a:ext cx="173052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408640" y="1287360"/>
            <a:ext cx="173052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65200" y="3021120"/>
            <a:ext cx="1730160" cy="122220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41" name=""/>
          <p:cNvSpPr/>
          <p:nvPr/>
        </p:nvSpPr>
        <p:spPr>
          <a:xfrm>
            <a:off x="671400" y="1549440"/>
            <a:ext cx="3756240" cy="2239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1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861080" y="1549440"/>
            <a:ext cx="3755880" cy="2239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2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61080" y="4149720"/>
            <a:ext cx="3755880" cy="2239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3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71400" y="4149720"/>
            <a:ext cx="3756240" cy="2239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4.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6699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487680" y="3209760"/>
            <a:ext cx="2239920" cy="1446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48" name=""/>
          <p:cNvSpPr/>
          <p:nvPr/>
        </p:nvSpPr>
        <p:spPr>
          <a:xfrm rot="5400000">
            <a:off x="973800" y="1148400"/>
            <a:ext cx="787320" cy="2023920"/>
          </a:xfrm>
          <a:custGeom>
            <a:avLst/>
            <a:gdLst>
              <a:gd name="textAreaLeft" fmla="*/ 0 w 787320"/>
              <a:gd name="textAreaRight" fmla="*/ 787680 w 78732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5400000">
            <a:off x="3142080" y="1155960"/>
            <a:ext cx="787320" cy="2024280"/>
          </a:xfrm>
          <a:custGeom>
            <a:avLst/>
            <a:gdLst>
              <a:gd name="textAreaLeft" fmla="*/ 0 w 787320"/>
              <a:gd name="textAreaRight" fmla="*/ 787680 w 787320"/>
              <a:gd name="textAreaTop" fmla="*/ 0 h 2024280"/>
              <a:gd name="textAreaBottom" fmla="*/ 2024640 h 20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5400000">
            <a:off x="5309280" y="1156320"/>
            <a:ext cx="787320" cy="2023920"/>
          </a:xfrm>
          <a:custGeom>
            <a:avLst/>
            <a:gdLst>
              <a:gd name="textAreaLeft" fmla="*/ 0 w 787320"/>
              <a:gd name="textAreaRight" fmla="*/ 787680 w 78732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5400000">
            <a:off x="7476120" y="1156320"/>
            <a:ext cx="787320" cy="2023920"/>
          </a:xfrm>
          <a:custGeom>
            <a:avLst/>
            <a:gdLst>
              <a:gd name="textAreaLeft" fmla="*/ 0 w 787320"/>
              <a:gd name="textAreaRight" fmla="*/ 787680 w 78732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3deff"/>
          </a:solidFill>
          <a:ln w="9360">
            <a:solidFill>
              <a:srgbClr val="53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57120" y="2849400"/>
            <a:ext cx="2022480" cy="2240280"/>
          </a:xfrm>
          <a:custGeom>
            <a:avLst/>
            <a:gdLst>
              <a:gd name="textAreaLeft" fmla="*/ 98640 w 2022480"/>
              <a:gd name="textAreaRight" fmla="*/ 1923840 w 2022480"/>
              <a:gd name="textAreaTop" fmla="*/ 98640 h 2240280"/>
              <a:gd name="textAreaBottom" fmla="*/ 2141640 h 2240280"/>
            </a:gdLst>
            <a:ahLst/>
            <a:rect l="textAreaLeft" t="textAreaTop" r="textAreaRight" b="textAreaBottom"/>
            <a:pathLst>
              <a:path w="21600" h="23926">
                <a:moveTo>
                  <a:pt x="3600" y="0"/>
                </a:moveTo>
                <a:arcTo wR="3600" hR="3600" stAng="16200000" swAng="-5400000"/>
                <a:lnTo>
                  <a:pt x="0" y="20326"/>
                </a:lnTo>
                <a:arcTo wR="3600" hR="3600" stAng="10800000" swAng="-5400000"/>
                <a:lnTo>
                  <a:pt x="18000" y="23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23960" y="2849400"/>
            <a:ext cx="2022480" cy="2240280"/>
          </a:xfrm>
          <a:custGeom>
            <a:avLst/>
            <a:gdLst>
              <a:gd name="textAreaLeft" fmla="*/ 98640 w 2022480"/>
              <a:gd name="textAreaRight" fmla="*/ 1923840 w 2022480"/>
              <a:gd name="textAreaTop" fmla="*/ 98640 h 2240280"/>
              <a:gd name="textAreaBottom" fmla="*/ 2141640 h 2240280"/>
            </a:gdLst>
            <a:ahLst/>
            <a:rect l="textAreaLeft" t="textAreaTop" r="textAreaRight" b="textAreaBottom"/>
            <a:pathLst>
              <a:path w="21600" h="23926">
                <a:moveTo>
                  <a:pt x="3600" y="0"/>
                </a:moveTo>
                <a:arcTo wR="3600" hR="3600" stAng="16200000" swAng="-5400000"/>
                <a:lnTo>
                  <a:pt x="0" y="20326"/>
                </a:lnTo>
                <a:arcTo wR="3600" hR="3600" stAng="10800000" swAng="-5400000"/>
                <a:lnTo>
                  <a:pt x="18000" y="23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91160" y="2849400"/>
            <a:ext cx="2022480" cy="2240280"/>
          </a:xfrm>
          <a:custGeom>
            <a:avLst/>
            <a:gdLst>
              <a:gd name="textAreaLeft" fmla="*/ 98640 w 2022480"/>
              <a:gd name="textAreaRight" fmla="*/ 1923840 w 2022480"/>
              <a:gd name="textAreaTop" fmla="*/ 98640 h 2240280"/>
              <a:gd name="textAreaBottom" fmla="*/ 2141640 h 2240280"/>
            </a:gdLst>
            <a:ahLst/>
            <a:rect l="textAreaLeft" t="textAreaTop" r="textAreaRight" b="textAreaBottom"/>
            <a:pathLst>
              <a:path w="21600" h="23926">
                <a:moveTo>
                  <a:pt x="3600" y="0"/>
                </a:moveTo>
                <a:arcTo wR="3600" hR="3600" stAng="16200000" swAng="-5400000"/>
                <a:lnTo>
                  <a:pt x="0" y="20326"/>
                </a:lnTo>
                <a:arcTo wR="3600" hR="3600" stAng="10800000" swAng="-5400000"/>
                <a:lnTo>
                  <a:pt x="18000" y="23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8cacc2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8cacc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8cacc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8cacc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8cacc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58000" y="2849400"/>
            <a:ext cx="2022480" cy="2240280"/>
          </a:xfrm>
          <a:custGeom>
            <a:avLst/>
            <a:gdLst>
              <a:gd name="textAreaLeft" fmla="*/ 98640 w 2022480"/>
              <a:gd name="textAreaRight" fmla="*/ 1923840 w 2022480"/>
              <a:gd name="textAreaTop" fmla="*/ 98640 h 2240280"/>
              <a:gd name="textAreaBottom" fmla="*/ 2141640 h 2240280"/>
            </a:gdLst>
            <a:ahLst/>
            <a:rect l="textAreaLeft" t="textAreaTop" r="textAreaRight" b="textAreaBottom"/>
            <a:pathLst>
              <a:path w="21600" h="23926">
                <a:moveTo>
                  <a:pt x="3600" y="0"/>
                </a:moveTo>
                <a:arcTo wR="3600" hR="3600" stAng="16200000" swAng="-5400000"/>
                <a:lnTo>
                  <a:pt x="0" y="20326"/>
                </a:lnTo>
                <a:arcTo wR="3600" hR="3600" stAng="10800000" swAng="-5400000"/>
                <a:lnTo>
                  <a:pt x="18000" y="23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53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53de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53deff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action :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55680" y="5378400"/>
            <a:ext cx="8524800" cy="795240"/>
          </a:xfrm>
          <a:prstGeom prst="roundRect">
            <a:avLst>
              <a:gd name="adj" fmla="val 17583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55760" y="6318360"/>
            <a:ext cx="509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60" name=""/>
          <p:cNvSpPr/>
          <p:nvPr/>
        </p:nvSpPr>
        <p:spPr>
          <a:xfrm>
            <a:off x="284040" y="1405080"/>
            <a:ext cx="4189680" cy="1733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762440" y="1405080"/>
            <a:ext cx="4189320" cy="1733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84040" y="3282840"/>
            <a:ext cx="4189680" cy="1733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762440" y="3282840"/>
            <a:ext cx="4189320" cy="1733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rot="10800000">
            <a:off x="355680" y="5235120"/>
            <a:ext cx="85248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84040" y="5738760"/>
            <a:ext cx="8667720" cy="79524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68" name=""/>
          <p:cNvSpPr/>
          <p:nvPr/>
        </p:nvSpPr>
        <p:spPr>
          <a:xfrm>
            <a:off x="1258920" y="2890800"/>
            <a:ext cx="2022480" cy="187344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852480" y="495288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852480" y="175248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06920" y="4964040"/>
            <a:ext cx="5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  <a:ea typeface="MS PGothic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704600" y="496404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S PGothic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881280" y="1728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rot="4201200">
            <a:off x="4157280" y="2380680"/>
            <a:ext cx="790560" cy="1609920"/>
          </a:xfrm>
          <a:prstGeom prst="upArrow">
            <a:avLst>
              <a:gd name="adj1" fmla="val 50000"/>
              <a:gd name="adj2" fmla="val 509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65680" y="1512720"/>
            <a:ext cx="2022480" cy="187344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81120" y="5630760"/>
            <a:ext cx="7873920" cy="79560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632560" y="245124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2560" y="426096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52680" y="426096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245124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1720" y="1587600"/>
            <a:ext cx="1225440" cy="12254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40280" y="5127480"/>
            <a:ext cx="1225440" cy="12258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40280" y="3354480"/>
            <a:ext cx="1225440" cy="1225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key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3720" y="4657680"/>
            <a:ext cx="360360" cy="430200"/>
          </a:xfrm>
          <a:prstGeom prst="downArrow">
            <a:avLst>
              <a:gd name="adj1" fmla="val 43963"/>
              <a:gd name="adj2" fmla="val 610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4473360" y="2847600"/>
            <a:ext cx="360360" cy="430200"/>
          </a:xfrm>
          <a:prstGeom prst="downArrow">
            <a:avLst>
              <a:gd name="adj1" fmla="val 43963"/>
              <a:gd name="adj2" fmla="val 610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7441800">
            <a:off x="3722400" y="3244320"/>
            <a:ext cx="360360" cy="430200"/>
          </a:xfrm>
          <a:prstGeom prst="downArrow">
            <a:avLst>
              <a:gd name="adj1" fmla="val 43963"/>
              <a:gd name="adj2" fmla="val 610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241800">
            <a:off x="5222520" y="4258800"/>
            <a:ext cx="360360" cy="430200"/>
          </a:xfrm>
          <a:prstGeom prst="downArrow">
            <a:avLst>
              <a:gd name="adj1" fmla="val 43963"/>
              <a:gd name="adj2" fmla="val 610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rot="14158200">
            <a:off x="5221440" y="3244320"/>
            <a:ext cx="360360" cy="430560"/>
          </a:xfrm>
          <a:prstGeom prst="downArrow">
            <a:avLst>
              <a:gd name="adj1" fmla="val 43963"/>
              <a:gd name="adj2" fmla="val 610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3358200">
            <a:off x="3722040" y="4258440"/>
            <a:ext cx="360360" cy="430560"/>
          </a:xfrm>
          <a:prstGeom prst="downArrow">
            <a:avLst>
              <a:gd name="adj1" fmla="val 43963"/>
              <a:gd name="adj2" fmla="val 610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849400"/>
            <a:ext cx="6218280" cy="99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666880" y="1611360"/>
            <a:ext cx="6218280" cy="99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66880" y="5327640"/>
            <a:ext cx="6218280" cy="99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666880" y="4087800"/>
            <a:ext cx="6218280" cy="99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escrip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51000" y="1611360"/>
            <a:ext cx="2133360" cy="99864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6" y="0"/>
                </a:lnTo>
                <a:lnTo>
                  <a:pt x="21600" y="10800"/>
                </a:lnTo>
                <a:lnTo>
                  <a:pt x="185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oma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51000" y="2849400"/>
            <a:ext cx="2133360" cy="99864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6" y="0"/>
                </a:lnTo>
                <a:lnTo>
                  <a:pt x="21600" y="10800"/>
                </a:lnTo>
                <a:lnTo>
                  <a:pt x="185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oma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51000" y="4089240"/>
            <a:ext cx="2133360" cy="99864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6" y="0"/>
                </a:lnTo>
                <a:lnTo>
                  <a:pt x="21600" y="10800"/>
                </a:lnTo>
                <a:lnTo>
                  <a:pt x="185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omai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51000" y="5329080"/>
            <a:ext cx="2133360" cy="99864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6" y="0"/>
                </a:lnTo>
                <a:lnTo>
                  <a:pt x="21600" y="10800"/>
                </a:lnTo>
                <a:lnTo>
                  <a:pt x="185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acc2"/>
          </a:solidFill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Domai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189" name=""/>
          <p:cNvSpPr/>
          <p:nvPr/>
        </p:nvSpPr>
        <p:spPr>
          <a:xfrm>
            <a:off x="8226360" y="2379600"/>
            <a:ext cx="0" cy="4011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8303760" y="2281320"/>
            <a:ext cx="46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8303760" y="2948040"/>
            <a:ext cx="46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8307000" y="3606840"/>
            <a:ext cx="3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8311680" y="427500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8305560" y="49449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+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8302320" y="56134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+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8301600" y="62866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+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 rot="16200000">
            <a:off x="2107080" y="3459240"/>
            <a:ext cx="108756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 rot="16200000">
            <a:off x="3634560" y="4544280"/>
            <a:ext cx="1069920" cy="76032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 rot="16200000">
            <a:off x="5405040" y="3720240"/>
            <a:ext cx="567000" cy="760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 rot="16200000">
            <a:off x="6454440" y="4766400"/>
            <a:ext cx="1514520" cy="75888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576600" y="1379520"/>
            <a:ext cx="1541520" cy="91440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059440" y="1379520"/>
            <a:ext cx="1539720" cy="9144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541920" y="1379520"/>
            <a:ext cx="1540080" cy="914400"/>
          </a:xfrm>
          <a:custGeom>
            <a:avLst/>
            <a:gdLst>
              <a:gd name="textAreaLeft" fmla="*/ 0 w 1540080"/>
              <a:gd name="textAreaRight" fmla="*/ 1540440 w 1540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090880" y="1379520"/>
            <a:ext cx="1541160" cy="914400"/>
          </a:xfrm>
          <a:custGeom>
            <a:avLst/>
            <a:gdLst>
              <a:gd name="textAreaLeft" fmla="*/ 0 w 1541160"/>
              <a:gd name="textAreaRight" fmla="*/ 1541520 w 1541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0" y="0"/>
                </a:lnTo>
                <a:lnTo>
                  <a:pt x="21600" y="10800"/>
                </a:lnTo>
                <a:lnTo>
                  <a:pt x="18790" y="21600"/>
                </a:lnTo>
                <a:lnTo>
                  <a:pt x="0" y="21600"/>
                </a:lnTo>
                <a:lnTo>
                  <a:pt x="281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1796760" y="4389480"/>
            <a:ext cx="644364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25520" y="2443320"/>
            <a:ext cx="1193760" cy="187956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posa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25520" y="4537080"/>
            <a:ext cx="1193760" cy="187956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posa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210" name=""/>
          <p:cNvSpPr/>
          <p:nvPr/>
        </p:nvSpPr>
        <p:spPr>
          <a:xfrm>
            <a:off x="3344760" y="2652840"/>
            <a:ext cx="252108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.1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344760" y="337176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.3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344760" y="3013200"/>
            <a:ext cx="252108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.2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344760" y="3733920"/>
            <a:ext cx="252108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.4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344760" y="409248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.5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344760" y="466560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2.1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344760" y="502596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2.2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344760" y="538632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2.3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65120" y="2652840"/>
            <a:ext cx="237636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1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65120" y="4665600"/>
            <a:ext cx="237636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2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"/>
          <p:cNvCxnSpPr>
            <a:stCxn id="1218" idx="3"/>
            <a:endCxn id="1210" idx="1"/>
          </p:cNvCxnSpPr>
          <p:nvPr/>
        </p:nvCxnSpPr>
        <p:spPr>
          <a:xfrm>
            <a:off x="2855520" y="2796840"/>
            <a:ext cx="47556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218" idx="3"/>
            <a:endCxn id="1212" idx="1"/>
          </p:cNvCxnSpPr>
          <p:nvPr/>
        </p:nvCxnSpPr>
        <p:spPr>
          <a:xfrm>
            <a:off x="2855520" y="2796840"/>
            <a:ext cx="475560" cy="36108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8" idx="3"/>
            <a:endCxn id="1211" idx="1"/>
          </p:cNvCxnSpPr>
          <p:nvPr/>
        </p:nvCxnSpPr>
        <p:spPr>
          <a:xfrm>
            <a:off x="2855520" y="2797200"/>
            <a:ext cx="475560" cy="72000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18" idx="3"/>
            <a:endCxn id="1213" idx="1"/>
          </p:cNvCxnSpPr>
          <p:nvPr/>
        </p:nvCxnSpPr>
        <p:spPr>
          <a:xfrm>
            <a:off x="2855520" y="2796840"/>
            <a:ext cx="475560" cy="108180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18" idx="3"/>
            <a:endCxn id="1214" idx="1"/>
          </p:cNvCxnSpPr>
          <p:nvPr/>
        </p:nvCxnSpPr>
        <p:spPr>
          <a:xfrm>
            <a:off x="2855520" y="2797200"/>
            <a:ext cx="475560" cy="144036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19" idx="3"/>
            <a:endCxn id="1215" idx="1"/>
          </p:cNvCxnSpPr>
          <p:nvPr/>
        </p:nvCxnSpPr>
        <p:spPr>
          <a:xfrm>
            <a:off x="2855520" y="4809600"/>
            <a:ext cx="47556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9" idx="3"/>
            <a:endCxn id="1216" idx="1"/>
          </p:cNvCxnSpPr>
          <p:nvPr/>
        </p:nvCxnSpPr>
        <p:spPr>
          <a:xfrm>
            <a:off x="2855520" y="4809600"/>
            <a:ext cx="475560" cy="36108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19" idx="3"/>
            <a:endCxn id="1217" idx="1"/>
          </p:cNvCxnSpPr>
          <p:nvPr/>
        </p:nvCxnSpPr>
        <p:spPr>
          <a:xfrm>
            <a:off x="2855520" y="4809960"/>
            <a:ext cx="475560" cy="721440"/>
          </a:xfrm>
          <a:prstGeom prst="bentConnector3">
            <a:avLst>
              <a:gd name="adj1" fmla="val 497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28" name=""/>
          <p:cNvSpPr/>
          <p:nvPr/>
        </p:nvSpPr>
        <p:spPr>
          <a:xfrm>
            <a:off x="465120" y="1897200"/>
            <a:ext cx="2376360" cy="4665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346560" y="1897200"/>
            <a:ext cx="2519280" cy="4665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ub-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346560" y="5746680"/>
            <a:ext cx="252072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Georgia"/>
                <a:ea typeface="MS PGothic"/>
              </a:rPr>
              <a:t>2.4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1" name=""/>
          <p:cNvCxnSpPr>
            <a:stCxn id="1219" idx="3"/>
            <a:endCxn id="1230" idx="1"/>
          </p:cNvCxnSpPr>
          <p:nvPr/>
        </p:nvCxnSpPr>
        <p:spPr>
          <a:xfrm>
            <a:off x="2855520" y="4809600"/>
            <a:ext cx="477000" cy="1081800"/>
          </a:xfrm>
          <a:prstGeom prst="bentConnector3">
            <a:avLst>
              <a:gd name="adj1" fmla="val 4962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2" name=""/>
          <p:cNvSpPr/>
          <p:nvPr/>
        </p:nvSpPr>
        <p:spPr>
          <a:xfrm>
            <a:off x="6249960" y="264780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249960" y="300816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249960" y="3370320"/>
            <a:ext cx="252108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249960" y="3730680"/>
            <a:ext cx="252108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249960" y="4092480"/>
            <a:ext cx="252108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245280" y="4670280"/>
            <a:ext cx="252072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45280" y="5030640"/>
            <a:ext cx="2520720" cy="289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45280" y="5392800"/>
            <a:ext cx="252072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245280" y="5753160"/>
            <a:ext cx="2520720" cy="28872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45280" y="1925640"/>
            <a:ext cx="2519280" cy="46656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426960" y="2179800"/>
            <a:ext cx="50292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3"/>
          <p:cNvSpPr/>
          <p:nvPr/>
        </p:nvSpPr>
        <p:spPr>
          <a:xfrm>
            <a:off x="426960" y="2865600"/>
            <a:ext cx="50292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4"/>
          <p:cNvSpPr/>
          <p:nvPr/>
        </p:nvSpPr>
        <p:spPr>
          <a:xfrm>
            <a:off x="426960" y="3551400"/>
            <a:ext cx="50292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0"/>
          <p:cNvSpPr/>
          <p:nvPr/>
        </p:nvSpPr>
        <p:spPr>
          <a:xfrm>
            <a:off x="426960" y="1494000"/>
            <a:ext cx="50292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5"/>
          <p:cNvSpPr/>
          <p:nvPr/>
        </p:nvSpPr>
        <p:spPr>
          <a:xfrm rot="5400000">
            <a:off x="1531440" y="2522520"/>
            <a:ext cx="2819520" cy="45720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6"/>
          <p:cNvSpPr/>
          <p:nvPr/>
        </p:nvSpPr>
        <p:spPr>
          <a:xfrm rot="5400000">
            <a:off x="2115720" y="2548080"/>
            <a:ext cx="2819520" cy="40608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7"/>
          <p:cNvSpPr/>
          <p:nvPr/>
        </p:nvSpPr>
        <p:spPr>
          <a:xfrm rot="5400000">
            <a:off x="2648880" y="2547720"/>
            <a:ext cx="2819520" cy="40644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8"/>
          <p:cNvSpPr/>
          <p:nvPr/>
        </p:nvSpPr>
        <p:spPr>
          <a:xfrm rot="5400000">
            <a:off x="3182400" y="2547720"/>
            <a:ext cx="2819520" cy="40644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9"/>
          <p:cNvSpPr/>
          <p:nvPr/>
        </p:nvSpPr>
        <p:spPr>
          <a:xfrm rot="5400000">
            <a:off x="4032000" y="2232000"/>
            <a:ext cx="2187720" cy="406080"/>
          </a:xfrm>
          <a:prstGeom prst="rect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9920" indent="-169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697360" y="1341360"/>
            <a:ext cx="3111840" cy="52578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</a:rPr>
              <a:t>Outpu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</a:rPr>
              <a:t>Outpu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</a:rPr>
              <a:t>Outpu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alibri"/>
              </a:rPr>
              <a:t>Outpu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6960" y="4313160"/>
            <a:ext cx="5029200" cy="2286000"/>
          </a:xfrm>
          <a:prstGeom prst="rect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Calibri"/>
                <a:ea typeface="宋体"/>
              </a:rPr>
              <a:t>Key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cxnSp>
        <p:nvCxnSpPr>
          <p:cNvPr id="1257" name=""/>
          <p:cNvCxnSpPr>
            <a:stCxn id="1258" idx="6"/>
            <a:endCxn id="1259" idx="2"/>
          </p:cNvCxnSpPr>
          <p:nvPr/>
        </p:nvCxnSpPr>
        <p:spPr>
          <a:xfrm flipV="1">
            <a:off x="4346640" y="1839600"/>
            <a:ext cx="993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0" name=""/>
          <p:cNvSpPr/>
          <p:nvPr/>
        </p:nvSpPr>
        <p:spPr>
          <a:xfrm>
            <a:off x="284040" y="1517760"/>
            <a:ext cx="720720" cy="647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703520" y="1517760"/>
            <a:ext cx="720720" cy="647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25920" y="1517760"/>
            <a:ext cx="720720" cy="6476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015400" y="1517760"/>
            <a:ext cx="720720" cy="6476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tep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"/>
          <p:cNvCxnSpPr>
            <a:stCxn id="1260" idx="6"/>
            <a:endCxn id="1261" idx="2"/>
          </p:cNvCxnSpPr>
          <p:nvPr/>
        </p:nvCxnSpPr>
        <p:spPr>
          <a:xfrm>
            <a:off x="1004400" y="1841040"/>
            <a:ext cx="699480" cy="1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endCxn id="1258" idx="2"/>
          </p:cNvCxnSpPr>
          <p:nvPr/>
        </p:nvCxnSpPr>
        <p:spPr>
          <a:xfrm>
            <a:off x="2424240" y="1841040"/>
            <a:ext cx="1202040" cy="1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65" name=""/>
          <p:cNvCxnSpPr>
            <a:stCxn id="1259" idx="6"/>
            <a:endCxn id="1262" idx="2"/>
          </p:cNvCxnSpPr>
          <p:nvPr/>
        </p:nvCxnSpPr>
        <p:spPr>
          <a:xfrm>
            <a:off x="6060600" y="1839960"/>
            <a:ext cx="19551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5340240" y="1515960"/>
            <a:ext cx="720720" cy="64764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98440" y="2457360"/>
            <a:ext cx="258588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317760" y="2457360"/>
            <a:ext cx="260028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800360" y="3895560"/>
            <a:ext cx="260028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835520" y="3895560"/>
            <a:ext cx="2600280" cy="122256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8cac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8cac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351480" y="2455920"/>
            <a:ext cx="2600280" cy="1222200"/>
          </a:xfrm>
          <a:prstGeom prst="roundRect">
            <a:avLst>
              <a:gd name="adj" fmla="val 7065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1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84040" y="5629320"/>
            <a:ext cx="8667720" cy="795240"/>
          </a:xfrm>
          <a:prstGeom prst="roundRect">
            <a:avLst>
              <a:gd name="adj" fmla="val 17583"/>
            </a:avLst>
          </a:prstGeom>
          <a:solidFill>
            <a:srgbClr val="53deff"/>
          </a:solidFill>
          <a:ln w="28440">
            <a:solidFill>
              <a:srgbClr val="53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14120" y="60292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275" name=""/>
          <p:cNvSpPr/>
          <p:nvPr/>
        </p:nvSpPr>
        <p:spPr>
          <a:xfrm>
            <a:off x="434664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346640" y="4172040"/>
            <a:ext cx="318960" cy="10620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4005360"/>
            <a:ext cx="1206360" cy="1220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5" y="0"/>
                </a:lnTo>
                <a:lnTo>
                  <a:pt x="21600" y="10800"/>
                </a:lnTo>
                <a:lnTo>
                  <a:pt x="185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cac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KPI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71520" y="2343240"/>
            <a:ext cx="1206360" cy="1220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5" y="0"/>
                </a:lnTo>
                <a:lnTo>
                  <a:pt x="21600" y="10800"/>
                </a:lnTo>
                <a:lnTo>
                  <a:pt x="185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KPI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386080" y="2951280"/>
            <a:ext cx="318960" cy="530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90188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6560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34800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33640" y="2647800"/>
            <a:ext cx="319320" cy="8337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060640" y="2494080"/>
            <a:ext cx="4824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544840" y="2646360"/>
            <a:ext cx="48240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3027240" y="2494080"/>
            <a:ext cx="4827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510000" y="2494080"/>
            <a:ext cx="480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90960" y="2487240"/>
            <a:ext cx="482760" cy="15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81080" y="2419200"/>
            <a:ext cx="14616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463840" y="257184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944800" y="264636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27560" y="2419200"/>
            <a:ext cx="14580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909960" y="257184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819440" y="3481560"/>
            <a:ext cx="24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1739880" y="3479760"/>
            <a:ext cx="4900680" cy="742680"/>
            <a:chOff x="1739880" y="3479760"/>
            <a:chExt cx="4900680" cy="742680"/>
          </a:xfrm>
        </p:grpSpPr>
        <p:sp>
          <p:nvSpPr>
            <p:cNvPr id="1296" name=""/>
            <p:cNvSpPr/>
            <p:nvPr/>
          </p:nvSpPr>
          <p:spPr>
            <a:xfrm flipH="1">
              <a:off x="1739880" y="3479760"/>
              <a:ext cx="642960" cy="588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05040" y="3479760"/>
              <a:ext cx="3935520" cy="7426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2386080" y="4629240"/>
            <a:ext cx="318960" cy="60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901880" y="4172040"/>
            <a:ext cx="318960" cy="10620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865600" y="4322880"/>
            <a:ext cx="318960" cy="9111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348000" y="4776840"/>
            <a:ext cx="3189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33640" y="4324320"/>
            <a:ext cx="319320" cy="90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060640" y="4322880"/>
            <a:ext cx="48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44840" y="4322880"/>
            <a:ext cx="482400" cy="30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3027240" y="4398480"/>
            <a:ext cx="482760" cy="22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510000" y="4322520"/>
            <a:ext cx="480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3990960" y="4317840"/>
            <a:ext cx="409680" cy="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4246560"/>
            <a:ext cx="14616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463840" y="4246560"/>
            <a:ext cx="14616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44800" y="4548240"/>
            <a:ext cx="14616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427560" y="4321080"/>
            <a:ext cx="14580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909960" y="4246560"/>
            <a:ext cx="14616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84040" y="1549440"/>
            <a:ext cx="6573960" cy="52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819440" y="5234040"/>
            <a:ext cx="24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830840" y="2230560"/>
            <a:ext cx="318960" cy="12510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31036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792760" y="2494080"/>
            <a:ext cx="318960" cy="9874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278400" y="2647800"/>
            <a:ext cx="319320" cy="8337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505400" y="2463840"/>
            <a:ext cx="4824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89600" y="2616120"/>
            <a:ext cx="482400" cy="7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472000" y="2463840"/>
            <a:ext cx="4827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954760" y="2463840"/>
            <a:ext cx="480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6435720" y="2463480"/>
            <a:ext cx="320760" cy="152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425840" y="238932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908600" y="254160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389560" y="2616120"/>
            <a:ext cx="14616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872320" y="2389320"/>
            <a:ext cx="14580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354720" y="2541600"/>
            <a:ext cx="14616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264200" y="3481560"/>
            <a:ext cx="24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30840" y="4629240"/>
            <a:ext cx="318960" cy="60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310360" y="4322880"/>
            <a:ext cx="318960" cy="9111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792760" y="4776840"/>
            <a:ext cx="3189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278400" y="4324320"/>
            <a:ext cx="319320" cy="90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505400" y="4292640"/>
            <a:ext cx="48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989600" y="4292640"/>
            <a:ext cx="482400" cy="30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472000" y="4368960"/>
            <a:ext cx="4827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54760" y="4292640"/>
            <a:ext cx="480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435720" y="4292640"/>
            <a:ext cx="24120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425840" y="4216320"/>
            <a:ext cx="14616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908600" y="4216320"/>
            <a:ext cx="14616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389560" y="4518000"/>
            <a:ext cx="146160" cy="152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872320" y="4290840"/>
            <a:ext cx="14580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354720" y="4216320"/>
            <a:ext cx="146160" cy="152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64200" y="5234040"/>
            <a:ext cx="24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84040" y="1549440"/>
            <a:ext cx="6570720" cy="38289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84040" y="5594400"/>
            <a:ext cx="8667720" cy="79524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002360" y="1549440"/>
            <a:ext cx="1949400" cy="3828960"/>
          </a:xfrm>
          <a:custGeom>
            <a:avLst/>
            <a:gdLst>
              <a:gd name="textAreaLeft" fmla="*/ 100080 w 1949400"/>
              <a:gd name="textAreaRight" fmla="*/ 1849320 w 1949400"/>
              <a:gd name="textAreaTop" fmla="*/ 100080 h 3828960"/>
              <a:gd name="textAreaBottom" fmla="*/ 3728880 h 3828960"/>
            </a:gdLst>
            <a:ahLst/>
            <a:rect l="textAreaLeft" t="textAreaTop" r="textAreaRight" b="textAreaBottom"/>
            <a:pathLst>
              <a:path w="21600" h="42422">
                <a:moveTo>
                  <a:pt x="3798" y="0"/>
                </a:moveTo>
                <a:arcTo wR="3798" hR="3798" stAng="16200000" swAng="-5400000"/>
                <a:lnTo>
                  <a:pt x="0" y="38624"/>
                </a:lnTo>
                <a:arcTo wR="3798" hR="3798" stAng="10800000" swAng="-5400000"/>
                <a:lnTo>
                  <a:pt x="17802" y="42422"/>
                </a:lnTo>
                <a:arcTo wR="3798" hR="3798" stAng="5400000" swAng="-5400000"/>
                <a:lnTo>
                  <a:pt x="21600" y="3798"/>
                </a:lnTo>
                <a:arcTo wR="3798" hR="3798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alibri"/>
                <a:ea typeface="宋体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350" name=""/>
          <p:cNvSpPr/>
          <p:nvPr/>
        </p:nvSpPr>
        <p:spPr>
          <a:xfrm>
            <a:off x="210960" y="1477800"/>
            <a:ext cx="914400" cy="9144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10960" y="2494080"/>
            <a:ext cx="914400" cy="9144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10960" y="3511440"/>
            <a:ext cx="914400" cy="9144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0960" y="4529160"/>
            <a:ext cx="914400" cy="9144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10960" y="5546880"/>
            <a:ext cx="914400" cy="9144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93840" y="1477800"/>
            <a:ext cx="773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alibri"/>
                <a:ea typeface="宋体"/>
              </a:rPr>
              <a:t>Chapter 1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buClr>
                <a:srgbClr val="eaea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Description of chapt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293840" y="2494080"/>
            <a:ext cx="7731000" cy="9144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宋体"/>
              </a:rPr>
              <a:t>Chapter 2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chapt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93840" y="3511440"/>
            <a:ext cx="773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alibri"/>
                <a:ea typeface="宋体"/>
              </a:rPr>
              <a:t>Chapter 3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buClr>
                <a:srgbClr val="eaea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Description of chapt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93840" y="4529160"/>
            <a:ext cx="773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alibri"/>
                <a:ea typeface="宋体"/>
              </a:rPr>
              <a:t>Chapter 4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buClr>
                <a:srgbClr val="eaea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Description of chapt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93840" y="5546880"/>
            <a:ext cx="773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alibri"/>
                <a:ea typeface="宋体"/>
              </a:rPr>
              <a:t>Chapter 5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buClr>
                <a:srgbClr val="eaeaea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Calibri"/>
                <a:ea typeface="宋体"/>
              </a:rPr>
              <a:t>Description of chapter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362" name=""/>
          <p:cNvSpPr/>
          <p:nvPr/>
        </p:nvSpPr>
        <p:spPr>
          <a:xfrm>
            <a:off x="1185840" y="2135160"/>
            <a:ext cx="7585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Chapter 1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185840" y="2879640"/>
            <a:ext cx="758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alibri"/>
                <a:ea typeface="宋体"/>
              </a:rPr>
              <a:t>Chapter 2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85840" y="3625920"/>
            <a:ext cx="7585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Chapter 3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185840" y="4371840"/>
            <a:ext cx="758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Chapter 4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185840" y="5118120"/>
            <a:ext cx="7585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Chapter 5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95000" y="1994040"/>
            <a:ext cx="64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93200" y="2735280"/>
            <a:ext cx="6501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98600" y="3475080"/>
            <a:ext cx="6393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98600" y="4214880"/>
            <a:ext cx="6393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98600" y="4954680"/>
            <a:ext cx="6393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5360" y="1341360"/>
            <a:ext cx="8785440" cy="525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375" name=""/>
          <p:cNvSpPr/>
          <p:nvPr/>
        </p:nvSpPr>
        <p:spPr>
          <a:xfrm>
            <a:off x="2128680" y="5197320"/>
            <a:ext cx="3068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376960" y="5197320"/>
            <a:ext cx="30668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128680" y="5629320"/>
            <a:ext cx="3068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376960" y="5629320"/>
            <a:ext cx="30668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130480" y="3032280"/>
            <a:ext cx="6346440" cy="792000"/>
            <a:chOff x="2130480" y="3032280"/>
            <a:chExt cx="6346440" cy="792000"/>
          </a:xfrm>
        </p:grpSpPr>
        <p:sp>
          <p:nvSpPr>
            <p:cNvPr id="1380" name=""/>
            <p:cNvSpPr/>
            <p:nvPr/>
          </p:nvSpPr>
          <p:spPr>
            <a:xfrm>
              <a:off x="3704040" y="3032280"/>
              <a:ext cx="1634040" cy="792000"/>
            </a:xfrm>
            <a:custGeom>
              <a:avLst/>
              <a:gdLst>
                <a:gd name="textAreaLeft" fmla="*/ 0 w 1634040"/>
                <a:gd name="textAreaRight" fmla="*/ 1634400 w 163404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90" y="0"/>
                  </a:lnTo>
                  <a:lnTo>
                    <a:pt x="21600" y="10800"/>
                  </a:lnTo>
                  <a:lnTo>
                    <a:pt x="18790" y="21600"/>
                  </a:lnTo>
                  <a:lnTo>
                    <a:pt x="0" y="21600"/>
                  </a:lnTo>
                  <a:lnTo>
                    <a:pt x="2810" y="108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273280" y="3032280"/>
              <a:ext cx="1630440" cy="792000"/>
            </a:xfrm>
            <a:custGeom>
              <a:avLst/>
              <a:gdLst>
                <a:gd name="textAreaLeft" fmla="*/ 0 w 1630440"/>
                <a:gd name="textAreaRight" fmla="*/ 1630800 w 163044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90" y="0"/>
                  </a:lnTo>
                  <a:lnTo>
                    <a:pt x="21600" y="10800"/>
                  </a:lnTo>
                  <a:lnTo>
                    <a:pt x="18790" y="21600"/>
                  </a:lnTo>
                  <a:lnTo>
                    <a:pt x="0" y="21600"/>
                  </a:lnTo>
                  <a:lnTo>
                    <a:pt x="2810" y="108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46840" y="3032280"/>
              <a:ext cx="1630080" cy="792000"/>
            </a:xfrm>
            <a:custGeom>
              <a:avLst/>
              <a:gdLst>
                <a:gd name="textAreaLeft" fmla="*/ 0 w 1630080"/>
                <a:gd name="textAreaRight" fmla="*/ 1630440 w 16300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90" y="0"/>
                  </a:lnTo>
                  <a:lnTo>
                    <a:pt x="21600" y="10800"/>
                  </a:lnTo>
                  <a:lnTo>
                    <a:pt x="18790" y="21600"/>
                  </a:lnTo>
                  <a:lnTo>
                    <a:pt x="0" y="21600"/>
                  </a:lnTo>
                  <a:lnTo>
                    <a:pt x="2810" y="108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30480" y="3032280"/>
              <a:ext cx="1632240" cy="792000"/>
            </a:xfrm>
            <a:custGeom>
              <a:avLst/>
              <a:gdLst>
                <a:gd name="textAreaLeft" fmla="*/ 0 w 1632240"/>
                <a:gd name="textAreaRight" fmla="*/ 1632600 w 163224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90" y="0"/>
                  </a:lnTo>
                  <a:lnTo>
                    <a:pt x="21600" y="10800"/>
                  </a:lnTo>
                  <a:lnTo>
                    <a:pt x="18790" y="21600"/>
                  </a:lnTo>
                  <a:lnTo>
                    <a:pt x="0" y="21600"/>
                  </a:lnTo>
                  <a:lnTo>
                    <a:pt x="2810" y="108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Georgia"/>
                  <a:ea typeface="MS PGothic"/>
                </a:rPr>
                <a:t>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2130480" y="1949400"/>
            <a:ext cx="631656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60320" y="5195880"/>
            <a:ext cx="1193760" cy="7938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omai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60320" y="3032280"/>
            <a:ext cx="1193760" cy="7934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omai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60320" y="1949400"/>
            <a:ext cx="1193760" cy="7938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omai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760320" y="2886120"/>
            <a:ext cx="7704360" cy="1079280"/>
            <a:chOff x="760320" y="2886120"/>
            <a:chExt cx="7704360" cy="1079280"/>
          </a:xfrm>
        </p:grpSpPr>
        <p:sp>
          <p:nvSpPr>
            <p:cNvPr id="1389" name=""/>
            <p:cNvSpPr/>
            <p:nvPr/>
          </p:nvSpPr>
          <p:spPr>
            <a:xfrm>
              <a:off x="760320" y="2886120"/>
              <a:ext cx="7704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0320" y="3965400"/>
              <a:ext cx="7704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760320" y="504504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60320" y="4111560"/>
            <a:ext cx="1193760" cy="7938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88" y="0"/>
                </a:lnTo>
                <a:lnTo>
                  <a:pt x="21600" y="10800"/>
                </a:lnTo>
                <a:lnTo>
                  <a:pt x="18088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MS PGothic"/>
              </a:rPr>
              <a:t>Domai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8680" y="4113360"/>
            <a:ext cx="1440000" cy="792000"/>
          </a:xfrm>
          <a:prstGeom prst="rect">
            <a:avLst/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753000" y="4111560"/>
            <a:ext cx="1439640" cy="792360"/>
          </a:xfrm>
          <a:prstGeom prst="rect">
            <a:avLst/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78400" y="4111560"/>
            <a:ext cx="1440000" cy="792360"/>
          </a:xfrm>
          <a:prstGeom prst="rect">
            <a:avLst/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004160" y="4111560"/>
            <a:ext cx="1439640" cy="792360"/>
          </a:xfrm>
          <a:prstGeom prst="rect">
            <a:avLst/>
          </a:pr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MS PGothic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399" name=""/>
          <p:cNvSpPr/>
          <p:nvPr/>
        </p:nvSpPr>
        <p:spPr>
          <a:xfrm>
            <a:off x="533520" y="1812960"/>
            <a:ext cx="5532480" cy="2595600"/>
          </a:xfrm>
          <a:prstGeom prst="roundRect">
            <a:avLst>
              <a:gd name="adj" fmla="val 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rot="10800000">
            <a:off x="1053720" y="4502160"/>
            <a:ext cx="3476520" cy="449280"/>
          </a:xfrm>
          <a:custGeom>
            <a:avLst/>
            <a:gdLst>
              <a:gd name="textAreaLeft" fmla="*/ 452160 w 3476520"/>
              <a:gd name="textAreaRight" fmla="*/ 3024360 w 3476520"/>
              <a:gd name="textAreaTop" fmla="*/ 58320 h 449280"/>
              <a:gd name="textAreaBottom" fmla="*/ 3909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93" y="21600"/>
                </a:lnTo>
                <a:lnTo>
                  <a:pt x="1907" y="21600"/>
                </a:lnTo>
                <a:close/>
              </a:path>
            </a:pathLst>
          </a:custGeom>
          <a:noFill/>
          <a:ln w="2844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yr1"/>
          <p:cNvSpPr/>
          <p:nvPr/>
        </p:nvSpPr>
        <p:spPr>
          <a:xfrm>
            <a:off x="1405080" y="1990800"/>
            <a:ext cx="2773080" cy="2332080"/>
          </a:xfrm>
          <a:prstGeom prst="pi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rot="10800000">
            <a:off x="285840" y="5057640"/>
            <a:ext cx="5014800" cy="1074960"/>
          </a:xfrm>
          <a:custGeom>
            <a:avLst/>
            <a:gdLst>
              <a:gd name="textAreaLeft" fmla="*/ 805320 w 5014800"/>
              <a:gd name="textAreaRight" fmla="*/ 4209480 w 5014800"/>
              <a:gd name="textAreaTop" fmla="*/ 172440 h 1074960"/>
              <a:gd name="textAreaBottom" fmla="*/ 902520 h 10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05" y="21600"/>
                </a:lnTo>
                <a:lnTo>
                  <a:pt x="3095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doma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740040" y="2095560"/>
            <a:ext cx="2238480" cy="1299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rot="5400000">
            <a:off x="5124600" y="2891520"/>
            <a:ext cx="260208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788160" y="1806480"/>
            <a:ext cx="2165400" cy="260208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602080"/>
              <a:gd name="textAreaBottom" fmla="*/ 2496600 h 2602080"/>
            </a:gdLst>
            <a:ahLst/>
            <a:rect l="textAreaLeft" t="textAreaTop" r="textAreaRight" b="textAreaBottom"/>
            <a:pathLst>
              <a:path w="21600" h="25955">
                <a:moveTo>
                  <a:pt x="3600" y="0"/>
                </a:moveTo>
                <a:arcTo wR="3600" hR="3600" stAng="16200000" swAng="-5400000"/>
                <a:lnTo>
                  <a:pt x="0" y="22355"/>
                </a:lnTo>
                <a:arcTo wR="3600" hR="3600" stAng="10800000" swAng="-5400000"/>
                <a:lnTo>
                  <a:pt x="18000" y="25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alibri"/>
                <a:ea typeface="宋体"/>
              </a:rPr>
              <a:t>Key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691160" y="2128680"/>
            <a:ext cx="1152360" cy="108612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2128680"/>
            <a:ext cx="1152720" cy="108612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4570560"/>
            <a:ext cx="1152720" cy="10857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91160" y="4570560"/>
            <a:ext cx="1152360" cy="10857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99520" y="4570560"/>
            <a:ext cx="1152360" cy="10857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08880" y="2122560"/>
            <a:ext cx="1152360" cy="1085760"/>
          </a:xfrm>
          <a:prstGeom prst="roundRect">
            <a:avLst>
              <a:gd name="adj" fmla="val 16667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4520" y="3289320"/>
            <a:ext cx="485640" cy="121428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29240" y="3290760"/>
            <a:ext cx="486000" cy="1214640"/>
          </a:xfrm>
          <a:prstGeom prst="upDownArrow">
            <a:avLst>
              <a:gd name="adj1" fmla="val 50000"/>
              <a:gd name="adj2" fmla="val 4998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32880" y="3290760"/>
            <a:ext cx="485640" cy="1214640"/>
          </a:xfrm>
          <a:prstGeom prst="upDownArrow">
            <a:avLst>
              <a:gd name="adj1" fmla="val 50000"/>
              <a:gd name="adj2" fmla="val 500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91160" y="361476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key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017080" y="3717720"/>
            <a:ext cx="419112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85256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4560" y="271620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4560" y="357984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444348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4560" y="5307120"/>
            <a:ext cx="2952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Inpu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408" name=""/>
          <p:cNvSpPr/>
          <p:nvPr/>
        </p:nvSpPr>
        <p:spPr>
          <a:xfrm>
            <a:off x="952560" y="1405080"/>
            <a:ext cx="45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 rot="5400000">
            <a:off x="1100880" y="4700160"/>
            <a:ext cx="152280" cy="1627200"/>
          </a:xfrm>
          <a:custGeom>
            <a:avLst/>
            <a:gdLst>
              <a:gd name="textAreaLeft" fmla="*/ 0 w 152280"/>
              <a:gd name="textAreaRight" fmla="*/ 106920 w 152280"/>
              <a:gd name="textAreaTop" fmla="*/ 360 h 1627200"/>
              <a:gd name="textAreaBottom" fmla="*/ 1627920 h 16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H="1" rot="5400000">
            <a:off x="1130400" y="972720"/>
            <a:ext cx="93600" cy="1627200"/>
          </a:xfrm>
          <a:custGeom>
            <a:avLst/>
            <a:gdLst>
              <a:gd name="textAreaLeft" fmla="*/ 360 w 93600"/>
              <a:gd name="textAreaRight" fmla="*/ 66240 w 93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20560" y="2141640"/>
            <a:ext cx="12700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20560" y="3770280"/>
            <a:ext cx="12700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014560" y="2511360"/>
            <a:ext cx="328680" cy="22608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179880" y="1405080"/>
            <a:ext cx="89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 rot="5400000">
            <a:off x="3632760" y="4134960"/>
            <a:ext cx="152280" cy="2757600"/>
          </a:xfrm>
          <a:custGeom>
            <a:avLst/>
            <a:gdLst>
              <a:gd name="textAreaLeft" fmla="*/ 0 w 152280"/>
              <a:gd name="textAreaRight" fmla="*/ 106920 w 152280"/>
              <a:gd name="textAreaTop" fmla="*/ 360 h 2757600"/>
              <a:gd name="textAreaBottom" fmla="*/ 2758320 h 27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H="1" rot="5400000">
            <a:off x="3662280" y="407520"/>
            <a:ext cx="93600" cy="2757600"/>
          </a:xfrm>
          <a:custGeom>
            <a:avLst/>
            <a:gdLst>
              <a:gd name="textAreaLeft" fmla="*/ 360 w 93600"/>
              <a:gd name="textAreaRight" fmla="*/ 66240 w 93600"/>
              <a:gd name="textAreaTop" fmla="*/ 0 h 2757600"/>
              <a:gd name="textAreaBottom" fmla="*/ 2757960 h 27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111640" y="2511360"/>
            <a:ext cx="330480" cy="22608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856120" y="1405080"/>
            <a:ext cx="7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 rot="5400000">
            <a:off x="6152400" y="4716360"/>
            <a:ext cx="152280" cy="1595160"/>
          </a:xfrm>
          <a:custGeom>
            <a:avLst/>
            <a:gdLst>
              <a:gd name="textAreaLeft" fmla="*/ 0 w 152280"/>
              <a:gd name="textAreaRight" fmla="*/ 106920 w 152280"/>
              <a:gd name="textAreaTop" fmla="*/ -360 h 1595160"/>
              <a:gd name="textAreaBottom" fmla="*/ 1595160 h 159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H="1" rot="5400000">
            <a:off x="6180840" y="988920"/>
            <a:ext cx="93600" cy="1595160"/>
          </a:xfrm>
          <a:custGeom>
            <a:avLst/>
            <a:gdLst>
              <a:gd name="textAreaLeft" fmla="*/ 360 w 93600"/>
              <a:gd name="textAreaRight" fmla="*/ 66240 w 93600"/>
              <a:gd name="textAreaTop" fmla="*/ 0 h 1595160"/>
              <a:gd name="textAreaBottom" fmla="*/ 1595520 h 159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557680" y="1836720"/>
            <a:ext cx="1339920" cy="790560"/>
          </a:xfrm>
          <a:prstGeom prst="rect">
            <a:avLst/>
          </a:prstGeom>
          <a:solidFill>
            <a:srgbClr val="5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57680" y="2776680"/>
            <a:ext cx="1339920" cy="792000"/>
          </a:xfrm>
          <a:prstGeom prst="rect">
            <a:avLst/>
          </a:prstGeom>
          <a:solidFill>
            <a:srgbClr val="5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57680" y="3719520"/>
            <a:ext cx="1339920" cy="790560"/>
          </a:xfrm>
          <a:prstGeom prst="rect">
            <a:avLst/>
          </a:prstGeom>
          <a:solidFill>
            <a:srgbClr val="5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557680" y="4662360"/>
            <a:ext cx="1339920" cy="790560"/>
          </a:xfrm>
          <a:prstGeom prst="rect">
            <a:avLst/>
          </a:prstGeom>
          <a:solidFill>
            <a:srgbClr val="5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829640" y="1405080"/>
            <a:ext cx="60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 rot="5400000">
            <a:off x="8037720" y="4721760"/>
            <a:ext cx="152280" cy="1584360"/>
          </a:xfrm>
          <a:custGeom>
            <a:avLst/>
            <a:gdLst>
              <a:gd name="textAreaLeft" fmla="*/ 0 w 152280"/>
              <a:gd name="textAreaRight" fmla="*/ 106920 w 152280"/>
              <a:gd name="textAreaTop" fmla="*/ -360 h 1584360"/>
              <a:gd name="textAreaBottom" fmla="*/ 1584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H="1" rot="5400000">
            <a:off x="8070840" y="989280"/>
            <a:ext cx="95400" cy="1595160"/>
          </a:xfrm>
          <a:custGeom>
            <a:avLst/>
            <a:gdLst>
              <a:gd name="textAreaLeft" fmla="*/ -360 w 95400"/>
              <a:gd name="textAreaRight" fmla="*/ 66600 w 95400"/>
              <a:gd name="textAreaTop" fmla="*/ 0 h 1595160"/>
              <a:gd name="textAreaBottom" fmla="*/ 1595520 h 159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9560" y="1836720"/>
            <a:ext cx="1341720" cy="3605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051680" y="2511360"/>
            <a:ext cx="276120" cy="22608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435400" y="2340000"/>
            <a:ext cx="2377800" cy="2529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606760" y="2340000"/>
            <a:ext cx="2036520" cy="2166840"/>
          </a:xfrm>
          <a:prstGeom prst="triangle">
            <a:avLst>
              <a:gd name="adj" fmla="val 50000"/>
            </a:avLst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114720" y="2340000"/>
            <a:ext cx="1017720" cy="10843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11040" y="5595840"/>
            <a:ext cx="8596440" cy="795600"/>
          </a:xfrm>
          <a:prstGeom prst="roundRect">
            <a:avLst>
              <a:gd name="adj" fmla="val 17583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Key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272120"/>
            <a:ext cx="158904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81680" y="4272120"/>
            <a:ext cx="166032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6720" y="4272120"/>
            <a:ext cx="194940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48200" y="5210280"/>
            <a:ext cx="223848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65360" y="239544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15160" y="1946160"/>
            <a:ext cx="273672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宋体"/>
              </a:rPr>
              <a:t>Categ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51160" y="1946160"/>
            <a:ext cx="259092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宋体"/>
              </a:rPr>
              <a:t>Categor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54800" y="239544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30800" y="238428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3160" y="239544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27160" y="239544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9360" y="239544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9" idx="4"/>
            <a:endCxn id="208" idx="2"/>
          </p:cNvCxnSpPr>
          <p:nvPr/>
        </p:nvCxnSpPr>
        <p:spPr>
          <a:xfrm flipH="1" rot="16200000">
            <a:off x="3674880" y="3556440"/>
            <a:ext cx="635760" cy="1422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4"/>
            <a:endCxn id="208" idx="6"/>
          </p:cNvCxnSpPr>
          <p:nvPr/>
        </p:nvCxnSpPr>
        <p:spPr>
          <a:xfrm rot="5400000">
            <a:off x="4744080" y="3543120"/>
            <a:ext cx="635760" cy="1688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5" idx="4"/>
            <a:endCxn id="208" idx="2"/>
          </p:cNvCxnSpPr>
          <p:nvPr/>
        </p:nvCxnSpPr>
        <p:spPr>
          <a:xfrm flipH="1" rot="16200000">
            <a:off x="2956680" y="2837160"/>
            <a:ext cx="635760" cy="1580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4" idx="4"/>
            <a:endCxn id="208" idx="2"/>
          </p:cNvCxnSpPr>
          <p:nvPr/>
        </p:nvCxnSpPr>
        <p:spPr>
          <a:xfrm flipH="1" rot="16200000">
            <a:off x="2344680" y="2225160"/>
            <a:ext cx="635760" cy="2804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3" idx="4"/>
          </p:cNvCxnSpPr>
          <p:nvPr/>
        </p:nvCxnSpPr>
        <p:spPr>
          <a:xfrm rot="5400000">
            <a:off x="5377680" y="2733480"/>
            <a:ext cx="645480" cy="1775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2" idx="4"/>
            <a:endCxn id="208" idx="6"/>
          </p:cNvCxnSpPr>
          <p:nvPr/>
        </p:nvCxnSpPr>
        <p:spPr>
          <a:xfrm rot="5400000">
            <a:off x="6076800" y="2210400"/>
            <a:ext cx="635760" cy="2834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587520" y="1946160"/>
            <a:ext cx="273528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  <a:ea typeface="宋体"/>
              </a:rPr>
              <a:t>Categor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86440" y="2241720"/>
            <a:ext cx="2448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4040" y="3487680"/>
            <a:ext cx="9144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58800" y="2381400"/>
            <a:ext cx="63360" cy="941040"/>
            <a:chOff x="658800" y="2381400"/>
            <a:chExt cx="63360" cy="941040"/>
          </a:xfrm>
        </p:grpSpPr>
        <p:sp>
          <p:nvSpPr>
            <p:cNvPr id="217" name=""/>
            <p:cNvSpPr/>
            <p:nvPr/>
          </p:nvSpPr>
          <p:spPr>
            <a:xfrm>
              <a:off x="658800" y="238140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58800" y="332244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8800" y="238140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997600" y="2381400"/>
            <a:ext cx="63360" cy="941040"/>
            <a:chOff x="5997600" y="2381400"/>
            <a:chExt cx="63360" cy="941040"/>
          </a:xfrm>
        </p:grpSpPr>
        <p:sp>
          <p:nvSpPr>
            <p:cNvPr id="221" name=""/>
            <p:cNvSpPr/>
            <p:nvPr/>
          </p:nvSpPr>
          <p:spPr>
            <a:xfrm>
              <a:off x="5997600" y="238140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997600" y="332244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97600" y="238140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370720" y="2381400"/>
            <a:ext cx="63720" cy="941040"/>
            <a:chOff x="8370720" y="2381400"/>
            <a:chExt cx="63720" cy="941040"/>
          </a:xfrm>
        </p:grpSpPr>
        <p:sp>
          <p:nvSpPr>
            <p:cNvPr id="225" name=""/>
            <p:cNvSpPr/>
            <p:nvPr/>
          </p:nvSpPr>
          <p:spPr>
            <a:xfrm>
              <a:off x="8434080" y="238140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70720" y="332244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70720" y="238140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32160" y="2382840"/>
            <a:ext cx="63360" cy="941040"/>
            <a:chOff x="3332160" y="2382840"/>
            <a:chExt cx="63360" cy="941040"/>
          </a:xfrm>
        </p:grpSpPr>
        <p:sp>
          <p:nvSpPr>
            <p:cNvPr id="229" name=""/>
            <p:cNvSpPr/>
            <p:nvPr/>
          </p:nvSpPr>
          <p:spPr>
            <a:xfrm>
              <a:off x="3332160" y="23828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32160" y="33238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332160" y="238284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322800" y="2241720"/>
            <a:ext cx="244764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707080" y="2381400"/>
            <a:ext cx="63360" cy="941040"/>
            <a:chOff x="5707080" y="2381400"/>
            <a:chExt cx="63360" cy="941040"/>
          </a:xfrm>
        </p:grpSpPr>
        <p:sp>
          <p:nvSpPr>
            <p:cNvPr id="234" name=""/>
            <p:cNvSpPr/>
            <p:nvPr/>
          </p:nvSpPr>
          <p:spPr>
            <a:xfrm>
              <a:off x="5770440" y="238140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7080" y="332244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7080" y="238140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58800" y="2241720"/>
            <a:ext cx="2448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3080" y="2379600"/>
            <a:ext cx="63720" cy="941040"/>
            <a:chOff x="3043080" y="2379600"/>
            <a:chExt cx="63720" cy="941040"/>
          </a:xfrm>
        </p:grpSpPr>
        <p:sp>
          <p:nvSpPr>
            <p:cNvPr id="239" name=""/>
            <p:cNvSpPr/>
            <p:nvPr/>
          </p:nvSpPr>
          <p:spPr>
            <a:xfrm>
              <a:off x="3106440" y="237960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3080" y="332064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3080" y="237960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01480" y="4272120"/>
            <a:ext cx="180504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68360" y="5210280"/>
            <a:ext cx="2238480" cy="78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63360">
              <a:lnSpc>
                <a:spcPct val="100000"/>
              </a:lnSpc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3005280" y="3070080"/>
            <a:ext cx="11556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78040" y="2346480"/>
            <a:ext cx="2529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1120" y="2855880"/>
            <a:ext cx="2232000" cy="1079640"/>
          </a:xfrm>
          <a:prstGeom prst="roundRect">
            <a:avLst>
              <a:gd name="adj" fmla="val 6736"/>
            </a:avLst>
          </a:prstGeom>
          <a:noFill/>
          <a:ln w="0">
            <a:solidFill>
              <a:srgbClr val="fffff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3040" y="2855880"/>
            <a:ext cx="2232000" cy="1079640"/>
          </a:xfrm>
          <a:prstGeom prst="roundRect">
            <a:avLst>
              <a:gd name="adj" fmla="val 6736"/>
            </a:avLst>
          </a:prstGeom>
          <a:noFill/>
          <a:ln w="0">
            <a:solidFill>
              <a:srgbClr val="fffff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293832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47040" y="293832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55800" y="293832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200" y="293832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5" idx="6"/>
            <a:endCxn id="250" idx="2"/>
          </p:cNvCxnSpPr>
          <p:nvPr/>
        </p:nvCxnSpPr>
        <p:spPr>
          <a:xfrm>
            <a:off x="5086080" y="3395160"/>
            <a:ext cx="139284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5" idx="7"/>
            <a:endCxn id="251" idx="0"/>
          </p:cNvCxnSpPr>
          <p:nvPr/>
        </p:nvCxnSpPr>
        <p:spPr>
          <a:xfrm flipH="1" flipV="1" rot="5400000">
            <a:off x="6411600" y="1478880"/>
            <a:ext cx="134280" cy="3052080"/>
          </a:xfrm>
          <a:prstGeom prst="curvedConnector5">
            <a:avLst>
              <a:gd name="adj1" fmla="val 271236"/>
              <a:gd name="adj2" fmla="val 49994"/>
              <a:gd name="adj3" fmla="val 27123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2" idx="6"/>
            <a:endCxn id="255" idx="2"/>
          </p:cNvCxnSpPr>
          <p:nvPr/>
        </p:nvCxnSpPr>
        <p:spPr>
          <a:xfrm>
            <a:off x="2770200" y="3395160"/>
            <a:ext cx="140256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258" name=""/>
          <p:cNvCxnSpPr>
            <a:stCxn id="253" idx="7"/>
            <a:endCxn id="255" idx="1"/>
          </p:cNvCxnSpPr>
          <p:nvPr/>
        </p:nvCxnSpPr>
        <p:spPr>
          <a:xfrm flipH="1" rot="16200000">
            <a:off x="2919240" y="1687320"/>
            <a:ext cx="2160" cy="2770920"/>
          </a:xfrm>
          <a:prstGeom prst="curvedConnector5">
            <a:avLst>
              <a:gd name="adj1" fmla="val -22800000"/>
              <a:gd name="adj2" fmla="val 50000"/>
              <a:gd name="adj3" fmla="val -22800000"/>
            </a:avLst>
          </a:prstGeom>
          <a:ln w="93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259" name=""/>
          <p:cNvSpPr/>
          <p:nvPr/>
        </p:nvSpPr>
        <p:spPr>
          <a:xfrm flipH="1" flipV="1" rot="5400000">
            <a:off x="3801600" y="3863520"/>
            <a:ext cx="201528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 rot="16200000">
            <a:off x="3512880" y="3863880"/>
            <a:ext cx="201528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37240" y="460548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56160" y="4584600"/>
            <a:ext cx="914400" cy="914400"/>
          </a:xfrm>
          <a:prstGeom prst="ellipse">
            <a:avLst/>
          </a:prstGeom>
          <a:solidFill>
            <a:srgbClr val="8cacc2"/>
          </a:solidFill>
          <a:ln w="9360">
            <a:solidFill>
              <a:srgbClr val="8ca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13240" y="4513320"/>
            <a:ext cx="2232000" cy="1079280"/>
          </a:xfrm>
          <a:prstGeom prst="roundRect">
            <a:avLst>
              <a:gd name="adj" fmla="val 6736"/>
            </a:avLst>
          </a:prstGeom>
          <a:noFill/>
          <a:ln w="0">
            <a:solidFill>
              <a:srgbClr val="fffff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72040" y="293832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00480" y="3070080"/>
            <a:ext cx="11559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4008600"/>
            <a:ext cx="11559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89560" y="2347920"/>
            <a:ext cx="2529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18280" y="4008600"/>
            <a:ext cx="11556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action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3800880" y="336240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3680" y="281160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09200" y="454032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8840" y="518796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67160" y="381960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80120" y="23036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alibri"/>
                <a:ea typeface="宋体"/>
              </a:rPr>
              <a:t>descrip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97520" y="337032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43560" y="337032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16880" y="3370320"/>
            <a:ext cx="914400" cy="914400"/>
          </a:xfrm>
          <a:prstGeom prst="ellipse">
            <a:avLst/>
          </a:prstGeom>
          <a:solidFill>
            <a:srgbClr val="8c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out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722840"/>
            <a:ext cx="914400" cy="9144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7960" y="2325600"/>
            <a:ext cx="914400" cy="9144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4880" y="3370320"/>
            <a:ext cx="914400" cy="9144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in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67040" y="3370320"/>
            <a:ext cx="9144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2" idx="6"/>
            <a:endCxn id="276" idx="2"/>
          </p:cNvCxnSpPr>
          <p:nvPr/>
        </p:nvCxnSpPr>
        <p:spPr>
          <a:xfrm>
            <a:off x="3781440" y="3827160"/>
            <a:ext cx="121680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82" idx="7"/>
            <a:endCxn id="277" idx="1"/>
          </p:cNvCxnSpPr>
          <p:nvPr/>
        </p:nvCxnSpPr>
        <p:spPr>
          <a:xfrm flipH="1" rot="16200000">
            <a:off x="5061600" y="2088720"/>
            <a:ext cx="2520" cy="2829600"/>
          </a:xfrm>
          <a:prstGeom prst="curvedConnector5">
            <a:avLst>
              <a:gd name="adj1" fmla="val -22800000"/>
              <a:gd name="adj2" fmla="val 49993"/>
              <a:gd name="adj3" fmla="val -228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2" idx="5"/>
            <a:endCxn id="278" idx="3"/>
          </p:cNvCxnSpPr>
          <p:nvPr/>
        </p:nvCxnSpPr>
        <p:spPr>
          <a:xfrm flipH="1" rot="16200000">
            <a:off x="5698080" y="2100600"/>
            <a:ext cx="2520" cy="4102560"/>
          </a:xfrm>
          <a:prstGeom prst="curvedConnector5">
            <a:avLst>
              <a:gd name="adj1" fmla="val 22800000"/>
              <a:gd name="adj2" fmla="val 49995"/>
              <a:gd name="adj3" fmla="val 228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9" idx="6"/>
            <a:endCxn id="282" idx="4"/>
          </p:cNvCxnSpPr>
          <p:nvPr/>
        </p:nvCxnSpPr>
        <p:spPr>
          <a:xfrm flipV="1">
            <a:off x="2590560" y="4284000"/>
            <a:ext cx="734040" cy="8960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1" idx="6"/>
            <a:endCxn id="282" idx="2"/>
          </p:cNvCxnSpPr>
          <p:nvPr/>
        </p:nvCxnSpPr>
        <p:spPr>
          <a:xfrm>
            <a:off x="1619280" y="3827160"/>
            <a:ext cx="124848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0" idx="6"/>
            <a:endCxn id="282" idx="0"/>
          </p:cNvCxnSpPr>
          <p:nvPr/>
        </p:nvCxnSpPr>
        <p:spPr>
          <a:xfrm>
            <a:off x="2592000" y="2782800"/>
            <a:ext cx="732600" cy="5882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10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alibri"/>
                <a:ea typeface="宋体"/>
              </a:rPr>
              <a:t>Title</a:t>
            </a:r>
            <a:endParaRPr b="0" lang="en-US" sz="3600" spc="-1" strike="noStrike">
              <a:solidFill>
                <a:srgbClr val="ff99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149000" y="5756400"/>
            <a:ext cx="11667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3480" y="5746680"/>
            <a:ext cx="268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84000" y="5261040"/>
            <a:ext cx="1544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7920" y="5224320"/>
            <a:ext cx="1831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alibri"/>
                <a:ea typeface="宋体"/>
              </a:rPr>
              <a:t>Current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58920" y="1782720"/>
            <a:ext cx="1662120" cy="10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urrent statu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5480" y="3011400"/>
            <a:ext cx="1733400" cy="10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urrent status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040" y="4240080"/>
            <a:ext cx="1733760" cy="10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urrent statu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1280" y="2471760"/>
            <a:ext cx="2166840" cy="10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New statu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50000" y="3557520"/>
            <a:ext cx="2000160" cy="10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New status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10360" y="4713120"/>
            <a:ext cx="1733760" cy="10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New statu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353760" y="2214720"/>
            <a:ext cx="2600280" cy="2601720"/>
          </a:xfrm>
          <a:prstGeom prst="flowChartManualInput">
            <a:avLst/>
          </a:prstGeom>
          <a:solidFill>
            <a:srgbClr val="ff9900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54440" y="52498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3571920" y="2720880"/>
            <a:ext cx="1949400" cy="2430720"/>
          </a:xfrm>
          <a:custGeom>
            <a:avLst/>
            <a:gdLst/>
            <a:ahLst/>
            <a:rect l="l" t="t" r="r" b="b"/>
            <a:pathLst>
              <a:path w="1228" h="1531">
                <a:moveTo>
                  <a:pt x="1063" y="1531"/>
                </a:moveTo>
                <a:lnTo>
                  <a:pt x="139" y="719"/>
                </a:lnTo>
                <a:lnTo>
                  <a:pt x="0" y="0"/>
                </a:lnTo>
                <a:lnTo>
                  <a:pt x="1228" y="682"/>
                </a:lnTo>
                <a:lnTo>
                  <a:pt x="1063" y="1531"/>
                </a:lnTo>
                <a:close/>
              </a:path>
            </a:pathLst>
          </a:custGeom>
          <a:solidFill>
            <a:srgbClr val="8cacc2"/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05360" y="3732120"/>
            <a:ext cx="1419120" cy="151776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43520" y="2720880"/>
            <a:ext cx="2023920" cy="2529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89680" y="2720880"/>
            <a:ext cx="1733400" cy="2167200"/>
          </a:xfrm>
          <a:prstGeom prst="triangle">
            <a:avLst>
              <a:gd name="adj" fmla="val 50000"/>
            </a:avLst>
          </a:prstGeom>
          <a:solidFill>
            <a:srgbClr val="8cac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21320" y="2720880"/>
            <a:ext cx="866880" cy="10843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4160" y="2214720"/>
            <a:ext cx="2600280" cy="3033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05040" y="2214720"/>
            <a:ext cx="1300320" cy="1515960"/>
          </a:xfrm>
          <a:prstGeom prst="triangle">
            <a:avLst>
              <a:gd name="adj" fmla="val 50000"/>
            </a:avLst>
          </a:prstGeom>
          <a:solidFill>
            <a:srgbClr val="8cac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9920" y="2214720"/>
            <a:ext cx="432000" cy="504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Category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400960" y="177840"/>
            <a:ext cx="577800" cy="433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50:22Z</dcterms:created>
  <dc:creator>http://www.eeppt.com</dc:creator>
  <dc:description>ppt模板下载网站 http://www.eeppt.com</dc:description>
  <dc:language>en-US</dc:language>
  <cp:lastModifiedBy/>
  <dcterms:modified xsi:type="dcterms:W3CDTF">2015-06-14T02:55:47Z</dcterms:modified>
  <cp:revision>11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