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748836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2560" y="3579120"/>
            <a:ext cx="748836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2560" y="35791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79800" y="35791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4440" y="9079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6320" y="9079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2560" y="35791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4440" y="35791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6320" y="35791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42560" y="90792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74898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42560" y="35791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2560" y="90792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79800" y="35791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3579120"/>
            <a:ext cx="748836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748836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42560" y="3579120"/>
            <a:ext cx="748836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35791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79800" y="35791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74440" y="9079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06320" y="9079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42560" y="35791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74440" y="35791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06320" y="3579120"/>
            <a:ext cx="24109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74898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2560" y="35791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79800" y="35791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09440"/>
            <a:ext cx="7489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9800" y="907920"/>
            <a:ext cx="3654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2560" y="3579120"/>
            <a:ext cx="748836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4898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90792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5543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5480" y="692280"/>
            <a:ext cx="7085160" cy="144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小木屋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演示模板下载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2478600" y="2997360"/>
            <a:ext cx="4851720" cy="3302640"/>
            <a:chOff x="2478600" y="2997360"/>
            <a:chExt cx="4851720" cy="3302640"/>
          </a:xfrm>
        </p:grpSpPr>
        <p:sp>
          <p:nvSpPr>
            <p:cNvPr id="301" name=""/>
            <p:cNvSpPr/>
            <p:nvPr/>
          </p:nvSpPr>
          <p:spPr>
            <a:xfrm rot="10582200">
              <a:off x="2493720" y="4930200"/>
              <a:ext cx="576360" cy="504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100000">
                  <a:srgbClr val="eaeaea"/>
                </a:gs>
              </a:gsLst>
              <a:lin ang="29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4888800" y="3032640"/>
              <a:ext cx="576000" cy="50508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038040" y="3467160"/>
              <a:ext cx="4292280" cy="2832840"/>
              <a:chOff x="3038040" y="3467160"/>
              <a:chExt cx="4292280" cy="2832840"/>
            </a:xfrm>
          </p:grpSpPr>
          <p:sp>
            <p:nvSpPr>
              <p:cNvPr id="304" name=""/>
              <p:cNvSpPr/>
              <p:nvPr/>
            </p:nvSpPr>
            <p:spPr>
              <a:xfrm rot="13792200">
                <a:off x="3128400" y="3597480"/>
                <a:ext cx="576000" cy="504720"/>
              </a:xfrm>
              <a:custGeom>
                <a:avLst/>
                <a:gdLst>
                  <a:gd name="textAreaLeft" fmla="*/ 0 w 576000"/>
                  <a:gd name="textAreaRight" fmla="*/ 576000 w 57600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5a5"/>
                  </a:gs>
                  <a:gs pos="100000">
                    <a:srgbClr val="eaeaea"/>
                  </a:gs>
                </a:gsLst>
                <a:lin ang="2130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8989400">
                <a:off x="6659280" y="3643920"/>
                <a:ext cx="576360" cy="50472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5a5"/>
                  </a:gs>
                  <a:gs pos="100000">
                    <a:srgbClr val="eaeaea"/>
                  </a:gs>
                </a:gsLst>
                <a:lin ang="1611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194280" y="3654000"/>
                <a:ext cx="3816360" cy="26460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49720" y="3657240"/>
                <a:ext cx="3719520" cy="25776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8181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467160" y="3715920"/>
                <a:ext cx="3278160" cy="18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292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23160" y="4141440"/>
                <a:ext cx="1797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baseline="-25000">
                    <a:solidFill>
                      <a:srgbClr val="4d4d4d"/>
                    </a:solidFill>
                    <a:latin typeface="Arial"/>
                    <a:ea typeface="Gulim"/>
                  </a:rPr>
                  <a:t>AgentPromote</a:t>
                </a:r>
                <a:endParaRPr b="0" lang="en-US" sz="32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611280" y="4444920"/>
            <a:ext cx="1800000" cy="1576440"/>
            <a:chOff x="611280" y="4444920"/>
            <a:chExt cx="1800000" cy="1576440"/>
          </a:xfrm>
        </p:grpSpPr>
        <p:grpSp>
          <p:nvGrpSpPr>
            <p:cNvPr id="311" name=""/>
            <p:cNvGrpSpPr/>
            <p:nvPr/>
          </p:nvGrpSpPr>
          <p:grpSpPr>
            <a:xfrm>
              <a:off x="611280" y="4444920"/>
              <a:ext cx="1800000" cy="1576440"/>
              <a:chOff x="611280" y="4444920"/>
              <a:chExt cx="1800000" cy="157644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611280" y="4444920"/>
                <a:ext cx="1800000" cy="1576440"/>
                <a:chOff x="611280" y="4444920"/>
                <a:chExt cx="1800000" cy="157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11280" y="4444920"/>
                  <a:ext cx="180000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37200" y="4447080"/>
                  <a:ext cx="175428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 flipH="1">
                <a:off x="755280" y="4587840"/>
                <a:ext cx="151272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896040" y="4622760"/>
                <a:ext cx="122364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98200" y="494820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Newsletter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948360" y="2284560"/>
            <a:ext cx="1800360" cy="1576080"/>
            <a:chOff x="6948360" y="2284560"/>
            <a:chExt cx="1800360" cy="1576080"/>
          </a:xfrm>
        </p:grpSpPr>
        <p:grpSp>
          <p:nvGrpSpPr>
            <p:cNvPr id="319" name=""/>
            <p:cNvGrpSpPr/>
            <p:nvPr/>
          </p:nvGrpSpPr>
          <p:grpSpPr>
            <a:xfrm>
              <a:off x="6948360" y="2284560"/>
              <a:ext cx="1800360" cy="1576080"/>
              <a:chOff x="6948360" y="2284560"/>
              <a:chExt cx="1800360" cy="157608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948360" y="2284560"/>
                <a:ext cx="1800360" cy="1576080"/>
                <a:chOff x="6948360" y="2284560"/>
                <a:chExt cx="1800360" cy="15760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48360" y="2284560"/>
                  <a:ext cx="1800360" cy="15760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974280" y="2286720"/>
                  <a:ext cx="1754640" cy="153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 flipH="1">
                <a:off x="7091280" y="2428560"/>
                <a:ext cx="1512720" cy="12553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234200" y="2466720"/>
                <a:ext cx="1224000" cy="828360"/>
              </a:xfrm>
              <a:prstGeom prst="ellipse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808080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7237440" y="2787480"/>
              <a:ext cx="1223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Virtual Assistan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619280" y="2205000"/>
            <a:ext cx="1800360" cy="1576440"/>
            <a:chOff x="1619280" y="2205000"/>
            <a:chExt cx="1800360" cy="1576440"/>
          </a:xfrm>
        </p:grpSpPr>
        <p:grpSp>
          <p:nvGrpSpPr>
            <p:cNvPr id="327" name=""/>
            <p:cNvGrpSpPr/>
            <p:nvPr/>
          </p:nvGrpSpPr>
          <p:grpSpPr>
            <a:xfrm>
              <a:off x="1619280" y="2205000"/>
              <a:ext cx="1800360" cy="1576440"/>
              <a:chOff x="1619280" y="2205000"/>
              <a:chExt cx="1800360" cy="157644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619280" y="2205000"/>
                <a:ext cx="1800360" cy="1576440"/>
                <a:chOff x="1619280" y="2205000"/>
                <a:chExt cx="1800360" cy="15764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619280" y="2205000"/>
                  <a:ext cx="180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645200" y="2207160"/>
                  <a:ext cx="1754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 flipH="1">
                <a:off x="1762920" y="2349360"/>
                <a:ext cx="1513080" cy="12621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903320" y="2382840"/>
                <a:ext cx="1224000" cy="828720"/>
              </a:xfrm>
              <a:prstGeom prst="ellipse">
                <a:avLst/>
              </a:prstGeom>
              <a:gradFill rotWithShape="0">
                <a:gsLst>
                  <a:gs pos="0">
                    <a:srgbClr val="92d2e8"/>
                  </a:gs>
                  <a:gs pos="100000">
                    <a:srgbClr val="0099cc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1906560" y="2700360"/>
              <a:ext cx="12240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Banner Manager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284720" y="1341360"/>
            <a:ext cx="1800000" cy="1576440"/>
            <a:chOff x="4284720" y="1341360"/>
            <a:chExt cx="1800000" cy="1576440"/>
          </a:xfrm>
        </p:grpSpPr>
        <p:grpSp>
          <p:nvGrpSpPr>
            <p:cNvPr id="335" name=""/>
            <p:cNvGrpSpPr/>
            <p:nvPr/>
          </p:nvGrpSpPr>
          <p:grpSpPr>
            <a:xfrm>
              <a:off x="4284720" y="1341360"/>
              <a:ext cx="1800000" cy="1576440"/>
              <a:chOff x="4284720" y="1341360"/>
              <a:chExt cx="1800000" cy="157644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4284720" y="1341360"/>
                <a:ext cx="1800000" cy="1576440"/>
                <a:chOff x="4284720" y="1341360"/>
                <a:chExt cx="1800000" cy="1576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284720" y="1341360"/>
                  <a:ext cx="180000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310640" y="1343520"/>
                  <a:ext cx="175428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 flipH="1">
                <a:off x="4426560" y="1485720"/>
                <a:ext cx="1512360" cy="1255680"/>
              </a:xfrm>
              <a:prstGeom prst="ellipse">
                <a:avLst/>
              </a:prstGeom>
              <a:solidFill>
                <a:srgbClr val="6c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4569480" y="1523880"/>
                <a:ext cx="1223640" cy="828720"/>
              </a:xfrm>
              <a:prstGeom prst="ellipse">
                <a:avLst/>
              </a:prstGeom>
              <a:gradFill rotWithShape="0">
                <a:gsLst>
                  <a:gs pos="0">
                    <a:srgbClr val="c9dcea"/>
                  </a:gs>
                  <a:gs pos="100000">
                    <a:srgbClr val="6ca2c7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573440" y="1844640"/>
              <a:ext cx="12232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Special Offers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7238880" y="4191120"/>
            <a:ext cx="1524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 Support to assist visito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62720" y="914400"/>
            <a:ext cx="3047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your offers to attract customers: offer holiday packages and promo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91440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 efficiency of your own banne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advertisement for partners (car hires, flight booking) and earn additional revenue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62520"/>
            <a:ext cx="3048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tenant loyalty by staying in tou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 flipV="1">
            <a:off x="395280" y="1773360"/>
            <a:ext cx="1944720" cy="22003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200320"/>
              <a:gd name="textAreaBottom" fmla="*/ 2105640 h 2200320"/>
            </a:gdLst>
            <a:ahLst/>
            <a:rect l="textAreaLeft" t="textAreaTop" r="textAreaRight" b="textAreaBottom"/>
            <a:pathLst>
              <a:path w="21600" h="24438">
                <a:moveTo>
                  <a:pt x="3600" y="0"/>
                </a:moveTo>
                <a:arcTo wR="3600" hR="3600" stAng="16200000" swAng="-5400000"/>
                <a:lnTo>
                  <a:pt x="0" y="20838"/>
                </a:lnTo>
                <a:arcTo wR="3600" hR="3600" stAng="10800000" swAng="-5400000"/>
                <a:lnTo>
                  <a:pt x="18000" y="24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1803240"/>
            <a:ext cx="1944720" cy="2114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114640"/>
              <a:gd name="textAreaBottom" fmla="*/ 2019960 h 2114640"/>
            </a:gdLst>
            <a:ahLst/>
            <a:rect l="textAreaLeft" t="textAreaTop" r="textAreaRight" b="textAreaBottom"/>
            <a:pathLst>
              <a:path w="21600" h="23487">
                <a:moveTo>
                  <a:pt x="3600" y="0"/>
                </a:moveTo>
                <a:arcTo wR="3600" hR="3600" stAng="16200000" swAng="-5400000"/>
                <a:lnTo>
                  <a:pt x="0" y="19887"/>
                </a:lnTo>
                <a:arcTo wR="3600" hR="3600" stAng="10800000" swAng="-5400000"/>
                <a:lnTo>
                  <a:pt x="18000" y="23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2028960"/>
            <a:ext cx="1674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Powerfu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User friendl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Sophisticat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Offers included in resul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95280" y="4253040"/>
            <a:ext cx="1944720" cy="22003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200320"/>
              <a:gd name="textAreaBottom" fmla="*/ 2105640 h 2200320"/>
            </a:gdLst>
            <a:ahLst/>
            <a:rect l="textAreaLeft" t="textAreaTop" r="textAreaRight" b="textAreaBottom"/>
            <a:pathLst>
              <a:path w="21600" h="24438">
                <a:moveTo>
                  <a:pt x="3600" y="0"/>
                </a:moveTo>
                <a:arcTo wR="3600" hR="3600" stAng="16200000" swAng="-5400000"/>
                <a:lnTo>
                  <a:pt x="0" y="20838"/>
                </a:lnTo>
                <a:arcTo wR="3600" hR="3600" stAng="10800000" swAng="-5400000"/>
                <a:lnTo>
                  <a:pt x="18000" y="24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4282920"/>
            <a:ext cx="1944720" cy="2114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114640"/>
              <a:gd name="textAreaBottom" fmla="*/ 2019960 h 2114640"/>
            </a:gdLst>
            <a:ahLst/>
            <a:rect l="textAreaLeft" t="textAreaTop" r="textAreaRight" b="textAreaBottom"/>
            <a:pathLst>
              <a:path w="21600" h="23487">
                <a:moveTo>
                  <a:pt x="3600" y="0"/>
                </a:moveTo>
                <a:arcTo wR="3600" hR="3600" stAng="16200000" swAng="-5400000"/>
                <a:lnTo>
                  <a:pt x="0" y="19887"/>
                </a:lnTo>
                <a:arcTo wR="3600" hR="3600" stAng="10800000" swAng="-5400000"/>
                <a:lnTo>
                  <a:pt x="18000" y="23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4419720"/>
            <a:ext cx="1674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Compel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Supports pictures and video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Offer online walkthrough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730920" y="1773360"/>
            <a:ext cx="1944720" cy="22003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200320"/>
              <a:gd name="textAreaBottom" fmla="*/ 2105640 h 2200320"/>
            </a:gdLst>
            <a:ahLst/>
            <a:rect l="textAreaLeft" t="textAreaTop" r="textAreaRight" b="textAreaBottom"/>
            <a:pathLst>
              <a:path w="21600" h="24438">
                <a:moveTo>
                  <a:pt x="3600" y="0"/>
                </a:moveTo>
                <a:arcTo wR="3600" hR="3600" stAng="16200000" swAng="-5400000"/>
                <a:lnTo>
                  <a:pt x="0" y="20838"/>
                </a:lnTo>
                <a:arcTo wR="3600" hR="3600" stAng="10800000" swAng="-5400000"/>
                <a:lnTo>
                  <a:pt x="18000" y="24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730920" y="1803240"/>
            <a:ext cx="1944720" cy="2114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114640"/>
              <a:gd name="textAreaBottom" fmla="*/ 2019960 h 2114640"/>
            </a:gdLst>
            <a:ahLst/>
            <a:rect l="textAreaLeft" t="textAreaTop" r="textAreaRight" b="textAreaBottom"/>
            <a:pathLst>
              <a:path w="21600" h="23487">
                <a:moveTo>
                  <a:pt x="3600" y="0"/>
                </a:moveTo>
                <a:arcTo wR="3600" hR="3600" stAng="16200000" swAng="-5400000"/>
                <a:lnTo>
                  <a:pt x="0" y="19887"/>
                </a:lnTo>
                <a:arcTo wR="3600" hR="3600" stAng="10800000" swAng="-5400000"/>
                <a:lnTo>
                  <a:pt x="18000" y="23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1600200"/>
            <a:ext cx="1824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One-vie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Full yea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s much info in a glanc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Details by hovering over the dat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Seasonality Factored I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732720" y="4253040"/>
            <a:ext cx="1944720" cy="22003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200320"/>
              <a:gd name="textAreaBottom" fmla="*/ 2105640 h 2200320"/>
            </a:gdLst>
            <a:ahLst/>
            <a:rect l="textAreaLeft" t="textAreaTop" r="textAreaRight" b="textAreaBottom"/>
            <a:pathLst>
              <a:path w="21600" h="24438">
                <a:moveTo>
                  <a:pt x="3600" y="0"/>
                </a:moveTo>
                <a:arcTo wR="3600" hR="3600" stAng="16200000" swAng="-5400000"/>
                <a:lnTo>
                  <a:pt x="0" y="20838"/>
                </a:lnTo>
                <a:arcTo wR="3600" hR="3600" stAng="10800000" swAng="-5400000"/>
                <a:lnTo>
                  <a:pt x="18000" y="24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4282920"/>
            <a:ext cx="1944720" cy="2114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114640"/>
              <a:gd name="textAreaBottom" fmla="*/ 2019960 h 2114640"/>
            </a:gdLst>
            <a:ahLst/>
            <a:rect l="textAreaLeft" t="textAreaTop" r="textAreaRight" b="textAreaBottom"/>
            <a:pathLst>
              <a:path w="21600" h="23487">
                <a:moveTo>
                  <a:pt x="3600" y="0"/>
                </a:moveTo>
                <a:arcTo wR="3600" hR="3600" stAng="16200000" swAng="-5400000"/>
                <a:lnTo>
                  <a:pt x="0" y="19887"/>
                </a:lnTo>
                <a:arcTo wR="3600" hR="3600" stAng="10800000" swAng="-5400000"/>
                <a:lnTo>
                  <a:pt x="18000" y="23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4495680"/>
            <a:ext cx="1670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Integrated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Link to car hi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Link to flight booking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itional Ad-On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189960" y="2860200"/>
            <a:ext cx="2531520" cy="2439000"/>
            <a:chOff x="3189960" y="2860200"/>
            <a:chExt cx="2531520" cy="2439000"/>
          </a:xfrm>
        </p:grpSpPr>
        <p:sp>
          <p:nvSpPr>
            <p:cNvPr id="359" name="未知"/>
            <p:cNvSpPr/>
            <p:nvPr/>
          </p:nvSpPr>
          <p:spPr>
            <a:xfrm rot="2296200">
              <a:off x="3960360" y="3045240"/>
              <a:ext cx="926640" cy="94788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 rot="4096200">
              <a:off x="4299480" y="3092040"/>
              <a:ext cx="928800" cy="9457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0296200">
              <a:off x="4687200" y="3575520"/>
              <a:ext cx="797400" cy="5036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 rot="9496200">
              <a:off x="4638600" y="3972960"/>
              <a:ext cx="943920" cy="93060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 rot="11296200">
              <a:off x="4422960" y="4238640"/>
              <a:ext cx="928800" cy="9457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80808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896200">
              <a:off x="4065480" y="4645800"/>
              <a:ext cx="797400" cy="45252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 rot="16696800">
              <a:off x="3501000" y="4113720"/>
              <a:ext cx="943920" cy="93060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 rot="18496200">
              <a:off x="3375360" y="3796560"/>
              <a:ext cx="943560" cy="93060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3096800">
              <a:off x="3495600" y="3586680"/>
              <a:ext cx="784800" cy="515520"/>
            </a:xfrm>
            <a:prstGeom prst="triangle">
              <a:avLst>
                <a:gd name="adj" fmla="val 50000"/>
              </a:avLst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124000" y="2060640"/>
            <a:ext cx="1800360" cy="1576440"/>
            <a:chOff x="2124000" y="2060640"/>
            <a:chExt cx="1800360" cy="1576440"/>
          </a:xfrm>
        </p:grpSpPr>
        <p:grpSp>
          <p:nvGrpSpPr>
            <p:cNvPr id="369" name=""/>
            <p:cNvGrpSpPr/>
            <p:nvPr/>
          </p:nvGrpSpPr>
          <p:grpSpPr>
            <a:xfrm>
              <a:off x="2124000" y="2060640"/>
              <a:ext cx="1800360" cy="1576440"/>
              <a:chOff x="2124000" y="2060640"/>
              <a:chExt cx="1800360" cy="15764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2124000" y="2060640"/>
                <a:ext cx="1800360" cy="1576440"/>
                <a:chOff x="2124000" y="2060640"/>
                <a:chExt cx="1800360" cy="15764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2124000" y="2060640"/>
                  <a:ext cx="180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149920" y="2062800"/>
                  <a:ext cx="1754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 flipH="1">
                <a:off x="2267640" y="2203560"/>
                <a:ext cx="151308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2409840" y="2238480"/>
                <a:ext cx="122400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411280" y="256392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Search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29200" y="4653000"/>
            <a:ext cx="1918440" cy="1576440"/>
            <a:chOff x="5029200" y="4653000"/>
            <a:chExt cx="1918440" cy="1576440"/>
          </a:xfrm>
        </p:grpSpPr>
        <p:grpSp>
          <p:nvGrpSpPr>
            <p:cNvPr id="377" name=""/>
            <p:cNvGrpSpPr/>
            <p:nvPr/>
          </p:nvGrpSpPr>
          <p:grpSpPr>
            <a:xfrm>
              <a:off x="5029200" y="4653000"/>
              <a:ext cx="1918440" cy="1576440"/>
              <a:chOff x="5029200" y="4653000"/>
              <a:chExt cx="1918440" cy="157644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5029200" y="4653000"/>
                <a:ext cx="1918440" cy="1576440"/>
                <a:chOff x="5029200" y="4653000"/>
                <a:chExt cx="1918440" cy="15764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5029200" y="4653000"/>
                  <a:ext cx="191844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056920" y="4655160"/>
                  <a:ext cx="18698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 flipH="1">
                <a:off x="5181480" y="4797360"/>
                <a:ext cx="1612080" cy="1255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5333040" y="4835520"/>
                <a:ext cx="1304280" cy="828720"/>
              </a:xfrm>
              <a:prstGeom prst="ellipse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808080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337000" y="5156280"/>
              <a:ext cx="130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124000" y="4653000"/>
            <a:ext cx="1800360" cy="1576440"/>
            <a:chOff x="2124000" y="4653000"/>
            <a:chExt cx="1800360" cy="1576440"/>
          </a:xfrm>
        </p:grpSpPr>
        <p:grpSp>
          <p:nvGrpSpPr>
            <p:cNvPr id="385" name=""/>
            <p:cNvGrpSpPr/>
            <p:nvPr/>
          </p:nvGrpSpPr>
          <p:grpSpPr>
            <a:xfrm>
              <a:off x="2124000" y="4653000"/>
              <a:ext cx="1800360" cy="1576440"/>
              <a:chOff x="2124000" y="4653000"/>
              <a:chExt cx="1800360" cy="157644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2124000" y="4653000"/>
                <a:ext cx="1800360" cy="1576440"/>
                <a:chOff x="2124000" y="4653000"/>
                <a:chExt cx="1800360" cy="15764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124000" y="4653000"/>
                  <a:ext cx="180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149920" y="4655160"/>
                  <a:ext cx="1754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 flipH="1">
                <a:off x="2267640" y="4797360"/>
                <a:ext cx="1513080" cy="12621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408040" y="4830840"/>
                <a:ext cx="1224000" cy="828720"/>
              </a:xfrm>
              <a:prstGeom prst="ellipse">
                <a:avLst/>
              </a:prstGeom>
              <a:gradFill rotWithShape="0">
                <a:gsLst>
                  <a:gs pos="0">
                    <a:srgbClr val="92d2e8"/>
                  </a:gs>
                  <a:gs pos="100000">
                    <a:srgbClr val="0099cc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411280" y="514836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Gallery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48360" y="2060640"/>
            <a:ext cx="1800000" cy="1576440"/>
            <a:chOff x="5148360" y="2060640"/>
            <a:chExt cx="1800000" cy="1576440"/>
          </a:xfrm>
        </p:grpSpPr>
        <p:grpSp>
          <p:nvGrpSpPr>
            <p:cNvPr id="393" name=""/>
            <p:cNvGrpSpPr/>
            <p:nvPr/>
          </p:nvGrpSpPr>
          <p:grpSpPr>
            <a:xfrm>
              <a:off x="5148360" y="2060640"/>
              <a:ext cx="1800000" cy="1576440"/>
              <a:chOff x="5148360" y="2060640"/>
              <a:chExt cx="1800000" cy="157644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5148360" y="2060640"/>
                <a:ext cx="1800000" cy="1576440"/>
                <a:chOff x="5148360" y="2060640"/>
                <a:chExt cx="1800000" cy="1576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148360" y="2060640"/>
                  <a:ext cx="180000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174280" y="2062800"/>
                  <a:ext cx="175428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>
                <a:off x="5290200" y="2205000"/>
                <a:ext cx="1512360" cy="1255680"/>
              </a:xfrm>
              <a:prstGeom prst="ellipse">
                <a:avLst/>
              </a:prstGeom>
              <a:solidFill>
                <a:srgbClr val="6c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5433120" y="2243160"/>
                <a:ext cx="1223640" cy="828720"/>
              </a:xfrm>
              <a:prstGeom prst="ellipse">
                <a:avLst/>
              </a:prstGeom>
              <a:gradFill rotWithShape="0">
                <a:gsLst>
                  <a:gs pos="0">
                    <a:srgbClr val="c9dcea"/>
                  </a:gs>
                  <a:gs pos="100000">
                    <a:srgbClr val="6ca2c7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437080" y="2563920"/>
              <a:ext cx="122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alendar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735720" y="38862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gentRigh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 flipV="1">
            <a:off x="395280" y="1773360"/>
            <a:ext cx="1944720" cy="22003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200320"/>
              <a:gd name="textAreaBottom" fmla="*/ 2105640 h 2200320"/>
            </a:gdLst>
            <a:ahLst/>
            <a:rect l="textAreaLeft" t="textAreaTop" r="textAreaRight" b="textAreaBottom"/>
            <a:pathLst>
              <a:path w="21600" h="24438">
                <a:moveTo>
                  <a:pt x="3600" y="0"/>
                </a:moveTo>
                <a:arcTo wR="3600" hR="3600" stAng="16200000" swAng="-5400000"/>
                <a:lnTo>
                  <a:pt x="0" y="20838"/>
                </a:lnTo>
                <a:arcTo wR="3600" hR="3600" stAng="10800000" swAng="-5400000"/>
                <a:lnTo>
                  <a:pt x="18000" y="24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1803240"/>
            <a:ext cx="1944720" cy="2114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114640"/>
              <a:gd name="textAreaBottom" fmla="*/ 2019960 h 2114640"/>
            </a:gdLst>
            <a:ahLst/>
            <a:rect l="textAreaLeft" t="textAreaTop" r="textAreaRight" b="textAreaBottom"/>
            <a:pathLst>
              <a:path w="21600" h="23487">
                <a:moveTo>
                  <a:pt x="3600" y="0"/>
                </a:moveTo>
                <a:arcTo wR="3600" hR="3600" stAng="16200000" swAng="-5400000"/>
                <a:lnTo>
                  <a:pt x="0" y="19887"/>
                </a:lnTo>
                <a:arcTo wR="3600" hR="3600" stAng="10800000" swAng="-5400000"/>
                <a:lnTo>
                  <a:pt x="18000" y="23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2028960"/>
            <a:ext cx="1674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Verify paym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pprove and manage booking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95280" y="4253040"/>
            <a:ext cx="1944720" cy="22003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200320"/>
              <a:gd name="textAreaBottom" fmla="*/ 2105640 h 2200320"/>
            </a:gdLst>
            <a:ahLst/>
            <a:rect l="textAreaLeft" t="textAreaTop" r="textAreaRight" b="textAreaBottom"/>
            <a:pathLst>
              <a:path w="21600" h="24438">
                <a:moveTo>
                  <a:pt x="3600" y="0"/>
                </a:moveTo>
                <a:arcTo wR="3600" hR="3600" stAng="16200000" swAng="-5400000"/>
                <a:lnTo>
                  <a:pt x="0" y="20838"/>
                </a:lnTo>
                <a:arcTo wR="3600" hR="3600" stAng="10800000" swAng="-5400000"/>
                <a:lnTo>
                  <a:pt x="18000" y="24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4282920"/>
            <a:ext cx="1944720" cy="2114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114640"/>
              <a:gd name="textAreaBottom" fmla="*/ 2019960 h 2114640"/>
            </a:gdLst>
            <a:ahLst/>
            <a:rect l="textAreaLeft" t="textAreaTop" r="textAreaRight" b="textAreaBottom"/>
            <a:pathLst>
              <a:path w="21600" h="23487">
                <a:moveTo>
                  <a:pt x="3600" y="0"/>
                </a:moveTo>
                <a:arcTo wR="3600" hR="3600" stAng="16200000" swAng="-5400000"/>
                <a:lnTo>
                  <a:pt x="0" y="19887"/>
                </a:lnTo>
                <a:arcTo wR="3600" hR="3600" stAng="10800000" swAng="-5400000"/>
                <a:lnTo>
                  <a:pt x="18000" y="23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419720"/>
            <a:ext cx="1674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Can be interfac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Or simply link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30920" y="1773360"/>
            <a:ext cx="1944720" cy="22003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200320"/>
              <a:gd name="textAreaBottom" fmla="*/ 2105640 h 2200320"/>
            </a:gdLst>
            <a:ahLst/>
            <a:rect l="textAreaLeft" t="textAreaTop" r="textAreaRight" b="textAreaBottom"/>
            <a:pathLst>
              <a:path w="21600" h="24438">
                <a:moveTo>
                  <a:pt x="3600" y="0"/>
                </a:moveTo>
                <a:arcTo wR="3600" hR="3600" stAng="16200000" swAng="-5400000"/>
                <a:lnTo>
                  <a:pt x="0" y="20838"/>
                </a:lnTo>
                <a:arcTo wR="3600" hR="3600" stAng="10800000" swAng="-5400000"/>
                <a:lnTo>
                  <a:pt x="18000" y="24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730920" y="1803240"/>
            <a:ext cx="1944720" cy="2114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114640"/>
              <a:gd name="textAreaBottom" fmla="*/ 2019960 h 2114640"/>
            </a:gdLst>
            <a:ahLst/>
            <a:rect l="textAreaLeft" t="textAreaTop" r="textAreaRight" b="textAreaBottom"/>
            <a:pathLst>
              <a:path w="21600" h="23487">
                <a:moveTo>
                  <a:pt x="3600" y="0"/>
                </a:moveTo>
                <a:arcTo wR="3600" hR="3600" stAng="16200000" swAng="-5400000"/>
                <a:lnTo>
                  <a:pt x="0" y="19887"/>
                </a:lnTo>
                <a:arcTo wR="3600" hR="3600" stAng="10800000" swAng="-5400000"/>
                <a:lnTo>
                  <a:pt x="18000" y="23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0" y="1600200"/>
            <a:ext cx="1824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Can integrate to external provid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Bulk process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732720" y="4253040"/>
            <a:ext cx="1944720" cy="22003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200320"/>
              <a:gd name="textAreaBottom" fmla="*/ 2105640 h 2200320"/>
            </a:gdLst>
            <a:ahLst/>
            <a:rect l="textAreaLeft" t="textAreaTop" r="textAreaRight" b="textAreaBottom"/>
            <a:pathLst>
              <a:path w="21600" h="24438">
                <a:moveTo>
                  <a:pt x="3600" y="0"/>
                </a:moveTo>
                <a:arcTo wR="3600" hR="3600" stAng="16200000" swAng="-5400000"/>
                <a:lnTo>
                  <a:pt x="0" y="20838"/>
                </a:lnTo>
                <a:arcTo wR="3600" hR="3600" stAng="10800000" swAng="-5400000"/>
                <a:lnTo>
                  <a:pt x="18000" y="24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32720" y="4282920"/>
            <a:ext cx="1944720" cy="2114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114640"/>
              <a:gd name="textAreaBottom" fmla="*/ 2019960 h 2114640"/>
            </a:gdLst>
            <a:ahLst/>
            <a:rect l="textAreaLeft" t="textAreaTop" r="textAreaRight" b="textAreaBottom"/>
            <a:pathLst>
              <a:path w="21600" h="23487">
                <a:moveTo>
                  <a:pt x="3600" y="0"/>
                </a:moveTo>
                <a:arcTo wR="3600" hR="3600" stAng="16200000" swAng="-5400000"/>
                <a:lnTo>
                  <a:pt x="0" y="19887"/>
                </a:lnTo>
                <a:arcTo wR="3600" hR="3600" stAng="10800000" swAng="-5400000"/>
                <a:lnTo>
                  <a:pt x="18000" y="23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495680"/>
            <a:ext cx="16700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Open architecture to extend and interface with ERP and business application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189960" y="2860200"/>
            <a:ext cx="2531520" cy="2439000"/>
            <a:chOff x="3189960" y="2860200"/>
            <a:chExt cx="2531520" cy="2439000"/>
          </a:xfrm>
        </p:grpSpPr>
        <p:sp>
          <p:nvSpPr>
            <p:cNvPr id="414" name="未知"/>
            <p:cNvSpPr/>
            <p:nvPr/>
          </p:nvSpPr>
          <p:spPr>
            <a:xfrm rot="2296200">
              <a:off x="3960360" y="3045240"/>
              <a:ext cx="926640" cy="94788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 rot="4096200">
              <a:off x="4299480" y="3092040"/>
              <a:ext cx="928800" cy="9457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20296200">
              <a:off x="4687200" y="3575520"/>
              <a:ext cx="797400" cy="5036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 rot="9496200">
              <a:off x="4638600" y="3972960"/>
              <a:ext cx="943920" cy="93060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 rot="11296200">
              <a:off x="4422960" y="4238640"/>
              <a:ext cx="928800" cy="9457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80808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5896200">
              <a:off x="4065480" y="4645800"/>
              <a:ext cx="797400" cy="45252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 rot="16696800">
              <a:off x="3501000" y="4113720"/>
              <a:ext cx="943920" cy="93060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 rot="18496200">
              <a:off x="3375360" y="3796560"/>
              <a:ext cx="943560" cy="93060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3096800">
              <a:off x="3495600" y="3586680"/>
              <a:ext cx="784800" cy="515520"/>
            </a:xfrm>
            <a:prstGeom prst="triangle">
              <a:avLst>
                <a:gd name="adj" fmla="val 50000"/>
              </a:avLst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124000" y="2060640"/>
            <a:ext cx="1800360" cy="1576440"/>
            <a:chOff x="2124000" y="2060640"/>
            <a:chExt cx="1800360" cy="1576440"/>
          </a:xfrm>
        </p:grpSpPr>
        <p:grpSp>
          <p:nvGrpSpPr>
            <p:cNvPr id="424" name=""/>
            <p:cNvGrpSpPr/>
            <p:nvPr/>
          </p:nvGrpSpPr>
          <p:grpSpPr>
            <a:xfrm>
              <a:off x="2124000" y="2060640"/>
              <a:ext cx="1800360" cy="1576440"/>
              <a:chOff x="2124000" y="2060640"/>
              <a:chExt cx="1800360" cy="157644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124000" y="2060640"/>
                <a:ext cx="1800360" cy="1576440"/>
                <a:chOff x="2124000" y="2060640"/>
                <a:chExt cx="1800360" cy="15764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124000" y="2060640"/>
                  <a:ext cx="180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149920" y="2062800"/>
                  <a:ext cx="1754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 flipH="1">
                <a:off x="2267640" y="2203560"/>
                <a:ext cx="151308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2409840" y="2238480"/>
                <a:ext cx="122400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2411280" y="256392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Booking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029200" y="4653000"/>
            <a:ext cx="1918440" cy="1576440"/>
            <a:chOff x="5029200" y="4653000"/>
            <a:chExt cx="1918440" cy="1576440"/>
          </a:xfrm>
        </p:grpSpPr>
        <p:grpSp>
          <p:nvGrpSpPr>
            <p:cNvPr id="432" name=""/>
            <p:cNvGrpSpPr/>
            <p:nvPr/>
          </p:nvGrpSpPr>
          <p:grpSpPr>
            <a:xfrm>
              <a:off x="5029200" y="4653000"/>
              <a:ext cx="1918440" cy="1576440"/>
              <a:chOff x="5029200" y="4653000"/>
              <a:chExt cx="1918440" cy="157644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029200" y="4653000"/>
                <a:ext cx="1918440" cy="1576440"/>
                <a:chOff x="5029200" y="4653000"/>
                <a:chExt cx="1918440" cy="15764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029200" y="4653000"/>
                  <a:ext cx="191844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056920" y="4655160"/>
                  <a:ext cx="18698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 flipH="1">
                <a:off x="5181480" y="4797360"/>
                <a:ext cx="1612080" cy="1255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5333040" y="4835520"/>
                <a:ext cx="1304280" cy="828720"/>
              </a:xfrm>
              <a:prstGeom prst="ellipse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808080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5337000" y="5156280"/>
              <a:ext cx="130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Ad-Ons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124000" y="4653000"/>
            <a:ext cx="1800360" cy="1576440"/>
            <a:chOff x="2124000" y="4653000"/>
            <a:chExt cx="1800360" cy="1576440"/>
          </a:xfrm>
        </p:grpSpPr>
        <p:grpSp>
          <p:nvGrpSpPr>
            <p:cNvPr id="440" name=""/>
            <p:cNvGrpSpPr/>
            <p:nvPr/>
          </p:nvGrpSpPr>
          <p:grpSpPr>
            <a:xfrm>
              <a:off x="2124000" y="4653000"/>
              <a:ext cx="1800360" cy="1576440"/>
              <a:chOff x="2124000" y="4653000"/>
              <a:chExt cx="1800360" cy="157644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2124000" y="4653000"/>
                <a:ext cx="1800360" cy="1576440"/>
                <a:chOff x="2124000" y="4653000"/>
                <a:chExt cx="1800360" cy="1576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2124000" y="4653000"/>
                  <a:ext cx="180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149920" y="4655160"/>
                  <a:ext cx="1754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 flipH="1">
                <a:off x="2267640" y="4797360"/>
                <a:ext cx="1513080" cy="12621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2408040" y="4830840"/>
                <a:ext cx="1224000" cy="828720"/>
              </a:xfrm>
              <a:prstGeom prst="ellipse">
                <a:avLst/>
              </a:prstGeom>
              <a:gradFill rotWithShape="0">
                <a:gsLst>
                  <a:gs pos="0">
                    <a:srgbClr val="92d2e8"/>
                  </a:gs>
                  <a:gs pos="100000">
                    <a:srgbClr val="0099cc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411280" y="514836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ar Hir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148360" y="2060640"/>
            <a:ext cx="1800000" cy="1576440"/>
            <a:chOff x="5148360" y="2060640"/>
            <a:chExt cx="1800000" cy="1576440"/>
          </a:xfrm>
        </p:grpSpPr>
        <p:grpSp>
          <p:nvGrpSpPr>
            <p:cNvPr id="448" name=""/>
            <p:cNvGrpSpPr/>
            <p:nvPr/>
          </p:nvGrpSpPr>
          <p:grpSpPr>
            <a:xfrm>
              <a:off x="5148360" y="2060640"/>
              <a:ext cx="1800000" cy="1576440"/>
              <a:chOff x="5148360" y="2060640"/>
              <a:chExt cx="1800000" cy="157644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5148360" y="2060640"/>
                <a:ext cx="1800000" cy="1576440"/>
                <a:chOff x="5148360" y="2060640"/>
                <a:chExt cx="1800000" cy="15764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148360" y="2060640"/>
                  <a:ext cx="180000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174280" y="2062800"/>
                  <a:ext cx="175428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 flipH="1">
                <a:off x="5290200" y="2205000"/>
                <a:ext cx="1512360" cy="1255680"/>
              </a:xfrm>
              <a:prstGeom prst="ellipse">
                <a:avLst/>
              </a:prstGeom>
              <a:solidFill>
                <a:srgbClr val="6c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5433120" y="2243160"/>
                <a:ext cx="1223640" cy="828720"/>
              </a:xfrm>
              <a:prstGeom prst="ellipse">
                <a:avLst/>
              </a:prstGeom>
              <a:gradFill rotWithShape="0">
                <a:gsLst>
                  <a:gs pos="0">
                    <a:srgbClr val="c9dcea"/>
                  </a:gs>
                  <a:gs pos="100000">
                    <a:srgbClr val="6ca2c7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5437080" y="2563920"/>
              <a:ext cx="12232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Insurance</a:t>
              </a:r>
              <a:endParaRPr b="0" lang="en-US" sz="2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735720" y="38862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gentRigh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BackOffi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700360" y="1268280"/>
            <a:ext cx="3948120" cy="3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843280" y="620640"/>
            <a:ext cx="34081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ca2c7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ca2c7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ru-RU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ru-RU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ca2c7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266920" y="4940280"/>
            <a:ext cx="6121440" cy="718200"/>
            <a:chOff x="2266920" y="4940280"/>
            <a:chExt cx="6121440" cy="718200"/>
          </a:xfrm>
        </p:grpSpPr>
        <p:sp>
          <p:nvSpPr>
            <p:cNvPr id="79" name=""/>
            <p:cNvSpPr/>
            <p:nvPr/>
          </p:nvSpPr>
          <p:spPr>
            <a:xfrm>
              <a:off x="2266920" y="5114880"/>
              <a:ext cx="6121440" cy="365040"/>
            </a:xfrm>
            <a:prstGeom prst="roundRect">
              <a:avLst>
                <a:gd name="adj" fmla="val 36088"/>
              </a:avLst>
            </a:prstGeom>
            <a:solidFill>
              <a:srgbClr val="6c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800000">
              <a:off x="2290320" y="5128560"/>
              <a:ext cx="6069240" cy="19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ca2c7">
                    <a:alpha val="37254"/>
                  </a:srgbClr>
                </a:gs>
                <a:gs pos="100000">
                  <a:srgbClr val="bdd4e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627280" y="4970520"/>
              <a:ext cx="647640" cy="647640"/>
              <a:chOff x="2627280" y="4970520"/>
              <a:chExt cx="647640" cy="647640"/>
            </a:xfrm>
          </p:grpSpPr>
          <p:sp>
            <p:nvSpPr>
              <p:cNvPr id="82" name=""/>
              <p:cNvSpPr/>
              <p:nvPr/>
            </p:nvSpPr>
            <p:spPr>
              <a:xfrm>
                <a:off x="2627280" y="497052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3500000"/>
              </a:gradFill>
              <a:ln w="50760">
                <a:solidFill>
                  <a:srgbClr val="6c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703600" y="5046840"/>
                <a:ext cx="495360" cy="495360"/>
              </a:xfrm>
              <a:prstGeom prst="ellipse">
                <a:avLst/>
              </a:prstGeom>
              <a:solidFill>
                <a:srgbClr val="6c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768400" y="5065920"/>
                <a:ext cx="370080" cy="291960"/>
              </a:xfrm>
              <a:prstGeom prst="ellipse">
                <a:avLst/>
              </a:prstGeom>
              <a:gradFill rotWithShape="0">
                <a:gsLst>
                  <a:gs pos="0">
                    <a:srgbClr val="bfd6e6"/>
                  </a:gs>
                  <a:gs pos="100000">
                    <a:srgbClr val="6ca2c7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771640" y="4940280"/>
              <a:ext cx="354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266920" y="3979800"/>
            <a:ext cx="6121440" cy="718200"/>
            <a:chOff x="2266920" y="3979800"/>
            <a:chExt cx="6121440" cy="718200"/>
          </a:xfrm>
        </p:grpSpPr>
        <p:grpSp>
          <p:nvGrpSpPr>
            <p:cNvPr id="87" name=""/>
            <p:cNvGrpSpPr/>
            <p:nvPr/>
          </p:nvGrpSpPr>
          <p:grpSpPr>
            <a:xfrm>
              <a:off x="2266920" y="4172040"/>
              <a:ext cx="6121440" cy="365040"/>
              <a:chOff x="2266920" y="4172040"/>
              <a:chExt cx="6121440" cy="365040"/>
            </a:xfrm>
          </p:grpSpPr>
          <p:sp>
            <p:nvSpPr>
              <p:cNvPr id="88" name=""/>
              <p:cNvSpPr/>
              <p:nvPr/>
            </p:nvSpPr>
            <p:spPr>
              <a:xfrm>
                <a:off x="2266920" y="4172040"/>
                <a:ext cx="6121440" cy="365040"/>
              </a:xfrm>
              <a:prstGeom prst="roundRect">
                <a:avLst>
                  <a:gd name="adj" fmla="val 36088"/>
                </a:avLst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0800000">
                <a:off x="2290320" y="4186080"/>
                <a:ext cx="6069240" cy="19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ff33">
                      <a:alpha val="37254"/>
                    </a:srgbClr>
                  </a:gs>
                  <a:gs pos="100000">
                    <a:srgbClr val="c1fea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627280" y="4008240"/>
              <a:ext cx="647640" cy="647640"/>
              <a:chOff x="2627280" y="4008240"/>
              <a:chExt cx="647640" cy="647640"/>
            </a:xfrm>
          </p:grpSpPr>
          <p:sp>
            <p:nvSpPr>
              <p:cNvPr id="91" name=""/>
              <p:cNvSpPr/>
              <p:nvPr/>
            </p:nvSpPr>
            <p:spPr>
              <a:xfrm>
                <a:off x="2627280" y="400824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3500000"/>
              </a:gradFill>
              <a:ln w="507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3600" y="4084560"/>
                <a:ext cx="495360" cy="49536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768400" y="4105080"/>
                <a:ext cx="370080" cy="291960"/>
              </a:xfrm>
              <a:prstGeom prst="ellipse">
                <a:avLst/>
              </a:prstGeom>
              <a:gradFill rotWithShape="0">
                <a:gsLst>
                  <a:gs pos="0">
                    <a:srgbClr val="bdfea7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2784240" y="397980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266920" y="3043080"/>
            <a:ext cx="6121440" cy="718200"/>
            <a:chOff x="2266920" y="3043080"/>
            <a:chExt cx="6121440" cy="718200"/>
          </a:xfrm>
        </p:grpSpPr>
        <p:grpSp>
          <p:nvGrpSpPr>
            <p:cNvPr id="96" name=""/>
            <p:cNvGrpSpPr/>
            <p:nvPr/>
          </p:nvGrpSpPr>
          <p:grpSpPr>
            <a:xfrm>
              <a:off x="2266920" y="3206520"/>
              <a:ext cx="6121440" cy="365040"/>
              <a:chOff x="2266920" y="3206520"/>
              <a:chExt cx="6121440" cy="365040"/>
            </a:xfrm>
          </p:grpSpPr>
          <p:sp>
            <p:nvSpPr>
              <p:cNvPr id="97" name=""/>
              <p:cNvSpPr/>
              <p:nvPr/>
            </p:nvSpPr>
            <p:spPr>
              <a:xfrm>
                <a:off x="2266920" y="3206520"/>
                <a:ext cx="6121440" cy="365040"/>
              </a:xfrm>
              <a:prstGeom prst="roundRect">
                <a:avLst>
                  <a:gd name="adj" fmla="val 36088"/>
                </a:avLst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0800000">
                <a:off x="2290320" y="3220560"/>
                <a:ext cx="6069240" cy="19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98d5e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624040" y="3046320"/>
              <a:ext cx="647640" cy="647640"/>
              <a:chOff x="2624040" y="3046320"/>
              <a:chExt cx="647640" cy="647640"/>
            </a:xfrm>
          </p:grpSpPr>
          <p:sp>
            <p:nvSpPr>
              <p:cNvPr id="100" name=""/>
              <p:cNvSpPr/>
              <p:nvPr/>
            </p:nvSpPr>
            <p:spPr>
              <a:xfrm>
                <a:off x="2624040" y="304632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3500000"/>
              </a:gradFill>
              <a:ln w="507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00360" y="3122640"/>
                <a:ext cx="495360" cy="4953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65160" y="3151080"/>
                <a:ext cx="370080" cy="291960"/>
              </a:xfrm>
              <a:prstGeom prst="ellipse">
                <a:avLst/>
              </a:prstGeom>
              <a:gradFill rotWithShape="0">
                <a:gsLst>
                  <a:gs pos="0">
                    <a:srgbClr val="8dd0e7"/>
                  </a:gs>
                  <a:gs pos="100000">
                    <a:srgbClr val="0099cc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784240" y="304308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66920" y="2060640"/>
            <a:ext cx="6121440" cy="718200"/>
            <a:chOff x="2266920" y="2060640"/>
            <a:chExt cx="6121440" cy="718200"/>
          </a:xfrm>
        </p:grpSpPr>
        <p:sp>
          <p:nvSpPr>
            <p:cNvPr id="105" name=""/>
            <p:cNvSpPr/>
            <p:nvPr/>
          </p:nvSpPr>
          <p:spPr>
            <a:xfrm>
              <a:off x="2266920" y="2228760"/>
              <a:ext cx="6121440" cy="365400"/>
            </a:xfrm>
            <a:prstGeom prst="roundRect">
              <a:avLst>
                <a:gd name="adj" fmla="val 36088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2290320" y="2242440"/>
              <a:ext cx="6069240" cy="19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>
                    <a:alpha val="37254"/>
                  </a:srgbClr>
                </a:gs>
                <a:gs pos="100000">
                  <a:srgbClr val="d6d6d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27280" y="207972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35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03600" y="2156040"/>
              <a:ext cx="495360" cy="495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763720" y="2178000"/>
              <a:ext cx="370080" cy="29232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71640" y="2060640"/>
              <a:ext cx="354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2151000"/>
              <a:ext cx="3240000" cy="466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Why AgentRigh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276720" y="312264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How it Wor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105440"/>
            <a:ext cx="309564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he Modu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4920" y="5054760"/>
            <a:ext cx="309564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ummar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488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AgentR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4880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gentRight is the industry’s leading real estate solution for short-term ren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Designed with the objective of increasing online traffic to your agency’s port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gentRight, provides a one-stop virtual gateway that converts visitors’ hits into bookings through offering a total solution that goes beyond classical reserv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4898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ales by finding more tenants to fill-up units by their cl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the agency brand online by providing a world-class system for it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revenues by providing complementary services including insurance and mainten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evenue sources to agencies through partnership with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sts by automating the reservation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708360" y="5230800"/>
            <a:ext cx="2594160" cy="934560"/>
            <a:chOff x="3708360" y="5230800"/>
            <a:chExt cx="2594160" cy="934560"/>
          </a:xfrm>
        </p:grpSpPr>
        <p:sp>
          <p:nvSpPr>
            <p:cNvPr id="121" name=""/>
            <p:cNvSpPr/>
            <p:nvPr/>
          </p:nvSpPr>
          <p:spPr>
            <a:xfrm>
              <a:off x="3708360" y="5268600"/>
              <a:ext cx="2594160" cy="896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6880" y="5230800"/>
              <a:ext cx="2527200" cy="8733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5004720" y="4165560"/>
            <a:ext cx="718920" cy="289080"/>
          </a:xfrm>
          <a:custGeom>
            <a:avLst/>
            <a:gdLst>
              <a:gd name="textAreaLeft" fmla="*/ -360 w 718920"/>
              <a:gd name="textAreaRight" fmla="*/ 718920 w 7189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17" y="0"/>
                </a:lnTo>
                <a:lnTo>
                  <a:pt x="21600" y="10800"/>
                </a:lnTo>
                <a:lnTo>
                  <a:pt x="271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4b4b4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8720" y="4165560"/>
            <a:ext cx="792360" cy="289080"/>
          </a:xfrm>
          <a:custGeom>
            <a:avLst/>
            <a:gdLst>
              <a:gd name="textAreaLeft" fmla="*/ 0 w 792360"/>
              <a:gd name="textAreaRight" fmla="*/ 792720 w 792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24" y="0"/>
                </a:lnTo>
                <a:lnTo>
                  <a:pt x="21600" y="10800"/>
                </a:lnTo>
                <a:lnTo>
                  <a:pt x="53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4b4b4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213080" y="5014800"/>
            <a:ext cx="1584360" cy="676080"/>
            <a:chOff x="4213080" y="5014800"/>
            <a:chExt cx="1584360" cy="676080"/>
          </a:xfrm>
        </p:grpSpPr>
        <p:sp>
          <p:nvSpPr>
            <p:cNvPr id="126" name=""/>
            <p:cNvSpPr/>
            <p:nvPr/>
          </p:nvSpPr>
          <p:spPr>
            <a:xfrm>
              <a:off x="4213080" y="5042160"/>
              <a:ext cx="1584360" cy="6487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686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36480" y="5014800"/>
              <a:ext cx="1543680" cy="6321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686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10800000">
            <a:off x="2844360" y="3157560"/>
            <a:ext cx="4248360" cy="2016000"/>
          </a:xfrm>
          <a:prstGeom prst="blockArc">
            <a:avLst>
              <a:gd name="adj1" fmla="val 10753105"/>
              <a:gd name="adj2" fmla="val 46895"/>
              <a:gd name="adj3" fmla="val 15384"/>
            </a:avLst>
          </a:prstGeom>
          <a:gradFill rotWithShape="0">
            <a:gsLst>
              <a:gs pos="0">
                <a:srgbClr val="535353"/>
              </a:gs>
              <a:gs pos="50000">
                <a:srgbClr val="eaeaea"/>
              </a:gs>
              <a:gs pos="100000">
                <a:srgbClr val="53535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2844360" y="3301560"/>
            <a:ext cx="4248360" cy="2016360"/>
          </a:xfrm>
          <a:prstGeom prst="blockArc">
            <a:avLst>
              <a:gd name="adj1" fmla="val 10753105"/>
              <a:gd name="adj2" fmla="val 46895"/>
              <a:gd name="adj3" fmla="val 15384"/>
            </a:avLst>
          </a:prstGeom>
          <a:gradFill rotWithShape="0">
            <a:gsLst>
              <a:gs pos="0">
                <a:srgbClr val="eaeaea"/>
              </a:gs>
              <a:gs pos="50000">
                <a:srgbClr val="8b8b8b"/>
              </a:gs>
              <a:gs pos="100000">
                <a:srgbClr val="eaeae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5581800" y="3760920"/>
            <a:ext cx="2232000" cy="1038240"/>
          </a:xfrm>
          <a:prstGeom prst="ellipse">
            <a:avLst/>
          </a:prstGeom>
          <a:gradFill rotWithShape="0">
            <a:gsLst>
              <a:gs pos="0">
                <a:srgbClr val="6b6b6b"/>
              </a:gs>
              <a:gs pos="100000">
                <a:srgbClr val="eaeae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2196720" y="3760920"/>
            <a:ext cx="2087640" cy="1038240"/>
          </a:xfrm>
          <a:prstGeom prst="ellipse">
            <a:avLst/>
          </a:prstGeom>
          <a:gradFill rotWithShape="0">
            <a:gsLst>
              <a:gs pos="0">
                <a:srgbClr val="7c7c7c"/>
              </a:gs>
              <a:gs pos="100000">
                <a:srgbClr val="eaeae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580000" y="3703680"/>
            <a:ext cx="2232000" cy="10382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722920" y="3032280"/>
            <a:ext cx="1944720" cy="1389960"/>
            <a:chOff x="5722920" y="3032280"/>
            <a:chExt cx="1944720" cy="1389960"/>
          </a:xfrm>
        </p:grpSpPr>
        <p:sp>
          <p:nvSpPr>
            <p:cNvPr id="134" name=""/>
            <p:cNvSpPr/>
            <p:nvPr/>
          </p:nvSpPr>
          <p:spPr>
            <a:xfrm>
              <a:off x="5722920" y="3609720"/>
              <a:ext cx="792000" cy="374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14920" y="3032280"/>
              <a:ext cx="1152720" cy="5457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54560" y="4081320"/>
              <a:ext cx="648000" cy="340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732720" y="3036960"/>
            <a:ext cx="90792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65 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67560" y="3582720"/>
            <a:ext cx="720720" cy="433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25 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27920" y="4043160"/>
            <a:ext cx="720720" cy="433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10 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2196720" y="3703680"/>
            <a:ext cx="2087640" cy="10382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1440" y="1933560"/>
            <a:ext cx="1729080" cy="819000"/>
          </a:xfrm>
          <a:prstGeom prst="ellipse">
            <a:avLst/>
          </a:prstGeom>
          <a:solidFill>
            <a:srgbClr val="6ca2c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55800" y="2058840"/>
            <a:ext cx="1241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0 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6657840" y="503280"/>
            <a:ext cx="1521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  <a:ea typeface="Gulim"/>
              </a:rPr>
              <a:t>Multiple Solutions for marketing, reservations, back office…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862520" y="2097000"/>
            <a:ext cx="2232000" cy="2951280"/>
          </a:xfrm>
          <a:custGeom>
            <a:avLst/>
            <a:gdLst>
              <a:gd name="textAreaLeft" fmla="*/ 360 w 2232000"/>
              <a:gd name="textAreaRight" fmla="*/ 2232720 w 223200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21600" h="21600">
                <a:moveTo>
                  <a:pt x="1890" y="10946"/>
                </a:moveTo>
                <a:arcTo wR="-8911" hR="-8911" stAng="10743673" swAng="-5255365"/>
                <a:lnTo>
                  <a:pt x="11077" y="4"/>
                </a:lnTo>
                <a:arcTo wR="10800" hR="10800" stAng="-5311692" swAng="5255365"/>
                <a:lnTo>
                  <a:pt x="24298" y="10579"/>
                </a:lnTo>
                <a:lnTo>
                  <a:pt x="20714" y="14283"/>
                </a:lnTo>
                <a:lnTo>
                  <a:pt x="17010" y="10698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1171080" y="27612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gentRigh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28600"/>
            <a:ext cx="74898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Right’s integrated solutio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rot="5400000">
            <a:off x="2687400" y="3789360"/>
            <a:ext cx="1368360" cy="647640"/>
          </a:xfrm>
          <a:custGeom>
            <a:avLst/>
            <a:gdLst>
              <a:gd name="textAreaLeft" fmla="*/ 213840 w 1368360"/>
              <a:gd name="textAreaRight" fmla="*/ 1186200 w 1368360"/>
              <a:gd name="textAreaTop" fmla="*/ 173520 h 647640"/>
              <a:gd name="textAreaBottom" fmla="*/ 47412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788"/>
                </a:moveTo>
                <a:lnTo>
                  <a:pt x="15400" y="5788"/>
                </a:lnTo>
                <a:lnTo>
                  <a:pt x="15400" y="0"/>
                </a:lnTo>
                <a:lnTo>
                  <a:pt x="21600" y="10800"/>
                </a:lnTo>
                <a:lnTo>
                  <a:pt x="15400" y="21600"/>
                </a:lnTo>
                <a:lnTo>
                  <a:pt x="15400" y="15812"/>
                </a:lnTo>
                <a:lnTo>
                  <a:pt x="3375" y="15812"/>
                </a:lnTo>
                <a:close/>
              </a:path>
              <a:path w="21600" h="21600">
                <a:moveTo>
                  <a:pt x="0" y="5788"/>
                </a:moveTo>
                <a:lnTo>
                  <a:pt x="675" y="5788"/>
                </a:lnTo>
                <a:lnTo>
                  <a:pt x="675" y="15812"/>
                </a:lnTo>
                <a:lnTo>
                  <a:pt x="0" y="15812"/>
                </a:lnTo>
                <a:close/>
              </a:path>
              <a:path w="21600" h="21600">
                <a:moveTo>
                  <a:pt x="1350" y="5788"/>
                </a:moveTo>
                <a:lnTo>
                  <a:pt x="2700" y="5788"/>
                </a:lnTo>
                <a:lnTo>
                  <a:pt x="2700" y="15812"/>
                </a:lnTo>
                <a:lnTo>
                  <a:pt x="1350" y="15812"/>
                </a:lnTo>
                <a:close/>
              </a:path>
            </a:pathLst>
          </a:custGeom>
          <a:gradFill rotWithShape="0">
            <a:gsLst>
              <a:gs pos="0">
                <a:srgbClr val="4d4d4d">
                  <a:alpha val="42352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362320"/>
            <a:ext cx="1368360" cy="647640"/>
          </a:xfrm>
          <a:custGeom>
            <a:avLst/>
            <a:gdLst>
              <a:gd name="textAreaLeft" fmla="*/ 213840 w 1368360"/>
              <a:gd name="textAreaRight" fmla="*/ 1186200 w 1368360"/>
              <a:gd name="textAreaTop" fmla="*/ 173520 h 647640"/>
              <a:gd name="textAreaBottom" fmla="*/ 47412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788"/>
                </a:moveTo>
                <a:lnTo>
                  <a:pt x="15400" y="5788"/>
                </a:lnTo>
                <a:lnTo>
                  <a:pt x="15400" y="0"/>
                </a:lnTo>
                <a:lnTo>
                  <a:pt x="21600" y="10800"/>
                </a:lnTo>
                <a:lnTo>
                  <a:pt x="15400" y="21600"/>
                </a:lnTo>
                <a:lnTo>
                  <a:pt x="15400" y="15812"/>
                </a:lnTo>
                <a:lnTo>
                  <a:pt x="3375" y="15812"/>
                </a:lnTo>
                <a:close/>
              </a:path>
              <a:path w="21600" h="21600">
                <a:moveTo>
                  <a:pt x="0" y="5788"/>
                </a:moveTo>
                <a:lnTo>
                  <a:pt x="675" y="5788"/>
                </a:lnTo>
                <a:lnTo>
                  <a:pt x="675" y="15812"/>
                </a:lnTo>
                <a:lnTo>
                  <a:pt x="0" y="15812"/>
                </a:lnTo>
                <a:close/>
              </a:path>
              <a:path w="21600" h="21600">
                <a:moveTo>
                  <a:pt x="1350" y="5788"/>
                </a:moveTo>
                <a:lnTo>
                  <a:pt x="2700" y="5788"/>
                </a:lnTo>
                <a:lnTo>
                  <a:pt x="2700" y="15812"/>
                </a:lnTo>
                <a:lnTo>
                  <a:pt x="1350" y="15812"/>
                </a:lnTo>
                <a:close/>
              </a:path>
            </a:pathLst>
          </a:custGeom>
          <a:gradFill rotWithShape="0">
            <a:gsLst>
              <a:gs pos="0">
                <a:srgbClr val="4d4d4d">
                  <a:alpha val="42352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5123880" y="3790800"/>
            <a:ext cx="914400" cy="647640"/>
          </a:xfrm>
          <a:custGeom>
            <a:avLst/>
            <a:gdLst>
              <a:gd name="textAreaLeft" fmla="*/ 142920 w 914400"/>
              <a:gd name="textAreaRight" fmla="*/ 792720 w 914400"/>
              <a:gd name="textAreaTop" fmla="*/ 173520 h 647640"/>
              <a:gd name="textAreaBottom" fmla="*/ 47412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788"/>
                </a:moveTo>
                <a:lnTo>
                  <a:pt x="15400" y="5788"/>
                </a:lnTo>
                <a:lnTo>
                  <a:pt x="15400" y="0"/>
                </a:lnTo>
                <a:lnTo>
                  <a:pt x="21600" y="10800"/>
                </a:lnTo>
                <a:lnTo>
                  <a:pt x="15400" y="21600"/>
                </a:lnTo>
                <a:lnTo>
                  <a:pt x="15400" y="15812"/>
                </a:lnTo>
                <a:lnTo>
                  <a:pt x="3375" y="15812"/>
                </a:lnTo>
                <a:close/>
              </a:path>
              <a:path w="21600" h="21600">
                <a:moveTo>
                  <a:pt x="0" y="5788"/>
                </a:moveTo>
                <a:lnTo>
                  <a:pt x="675" y="5788"/>
                </a:lnTo>
                <a:lnTo>
                  <a:pt x="675" y="15812"/>
                </a:lnTo>
                <a:lnTo>
                  <a:pt x="0" y="15812"/>
                </a:lnTo>
                <a:close/>
              </a:path>
              <a:path w="21600" h="21600">
                <a:moveTo>
                  <a:pt x="1350" y="5788"/>
                </a:moveTo>
                <a:lnTo>
                  <a:pt x="2700" y="5788"/>
                </a:lnTo>
                <a:lnTo>
                  <a:pt x="2700" y="15812"/>
                </a:lnTo>
                <a:lnTo>
                  <a:pt x="1350" y="15812"/>
                </a:lnTo>
                <a:close/>
              </a:path>
            </a:pathLst>
          </a:custGeom>
          <a:gradFill rotWithShape="0">
            <a:gsLst>
              <a:gs pos="0">
                <a:srgbClr val="4d4d4d">
                  <a:alpha val="42352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132000" y="1700280"/>
            <a:ext cx="2808360" cy="2144520"/>
            <a:chOff x="3132000" y="1700280"/>
            <a:chExt cx="2808360" cy="2144520"/>
          </a:xfrm>
        </p:grpSpPr>
        <p:grpSp>
          <p:nvGrpSpPr>
            <p:cNvPr id="151" name=""/>
            <p:cNvGrpSpPr/>
            <p:nvPr/>
          </p:nvGrpSpPr>
          <p:grpSpPr>
            <a:xfrm>
              <a:off x="3132000" y="1700280"/>
              <a:ext cx="2808360" cy="2144520"/>
              <a:chOff x="3132000" y="1700280"/>
              <a:chExt cx="2808360" cy="21445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3132000" y="1700280"/>
                <a:ext cx="2808360" cy="2144520"/>
                <a:chOff x="3132000" y="1700280"/>
                <a:chExt cx="2808360" cy="2144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132000" y="1700280"/>
                  <a:ext cx="2808360" cy="214452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172680" y="1703160"/>
                  <a:ext cx="2737080" cy="20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 flipH="1">
                <a:off x="3356640" y="1896840"/>
                <a:ext cx="2360520" cy="1715760"/>
              </a:xfrm>
              <a:prstGeom prst="ellipse">
                <a:avLst/>
              </a:prstGeom>
              <a:solidFill>
                <a:srgbClr val="6c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562920" y="1972800"/>
                <a:ext cx="1908360" cy="1126800"/>
              </a:xfrm>
              <a:prstGeom prst="ellipse">
                <a:avLst/>
              </a:prstGeom>
              <a:gradFill rotWithShape="0">
                <a:gsLst>
                  <a:gs pos="0">
                    <a:srgbClr val="b6d0e2"/>
                  </a:gs>
                  <a:gs pos="100000">
                    <a:srgbClr val="6ca2c7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913560" y="2404800"/>
              <a:ext cx="1764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AgentRight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086600" y="1981080"/>
            <a:ext cx="2056680" cy="1576440"/>
            <a:chOff x="7086600" y="1981080"/>
            <a:chExt cx="2056680" cy="1576440"/>
          </a:xfrm>
        </p:grpSpPr>
        <p:grpSp>
          <p:nvGrpSpPr>
            <p:cNvPr id="159" name=""/>
            <p:cNvGrpSpPr/>
            <p:nvPr/>
          </p:nvGrpSpPr>
          <p:grpSpPr>
            <a:xfrm>
              <a:off x="7086600" y="1981080"/>
              <a:ext cx="2056680" cy="1576440"/>
              <a:chOff x="7086600" y="1981080"/>
              <a:chExt cx="2056680" cy="157644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7086600" y="1981080"/>
                <a:ext cx="2056680" cy="1576440"/>
                <a:chOff x="7086600" y="1981080"/>
                <a:chExt cx="2056680" cy="15764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086600" y="1981080"/>
                  <a:ext cx="205668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116480" y="1983240"/>
                  <a:ext cx="200448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flipH="1">
                <a:off x="7251480" y="2124000"/>
                <a:ext cx="172872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7413120" y="2158920"/>
                <a:ext cx="139824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7414560" y="2484360"/>
              <a:ext cx="13986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Agent</a:t>
              </a:r>
              <a:endParaRPr b="0" lang="en-US" sz="26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Promote</a:t>
              </a:r>
              <a:endParaRPr b="0" lang="en-US" sz="2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648320" y="4672080"/>
            <a:ext cx="1980360" cy="1576440"/>
            <a:chOff x="4648320" y="4672080"/>
            <a:chExt cx="1980360" cy="1576440"/>
          </a:xfrm>
        </p:grpSpPr>
        <p:grpSp>
          <p:nvGrpSpPr>
            <p:cNvPr id="167" name=""/>
            <p:cNvGrpSpPr/>
            <p:nvPr/>
          </p:nvGrpSpPr>
          <p:grpSpPr>
            <a:xfrm>
              <a:off x="4648320" y="4672080"/>
              <a:ext cx="1980360" cy="1576440"/>
              <a:chOff x="4648320" y="4672080"/>
              <a:chExt cx="1980360" cy="15764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4648320" y="4672080"/>
                <a:ext cx="1980360" cy="1576440"/>
                <a:chOff x="4648320" y="4672080"/>
                <a:chExt cx="1980360" cy="1576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648320" y="4672080"/>
                  <a:ext cx="198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677120" y="4674240"/>
                  <a:ext cx="193032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 flipH="1">
                <a:off x="4806360" y="4815000"/>
                <a:ext cx="166428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4962600" y="4849920"/>
                <a:ext cx="134640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964400" y="5175360"/>
              <a:ext cx="1346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Agent BackOffice</a:t>
              </a:r>
              <a:endParaRPr b="0" lang="en-US" sz="2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209680" y="4800600"/>
            <a:ext cx="2056680" cy="1576440"/>
            <a:chOff x="2209680" y="4800600"/>
            <a:chExt cx="2056680" cy="1576440"/>
          </a:xfrm>
        </p:grpSpPr>
        <p:grpSp>
          <p:nvGrpSpPr>
            <p:cNvPr id="175" name=""/>
            <p:cNvGrpSpPr/>
            <p:nvPr/>
          </p:nvGrpSpPr>
          <p:grpSpPr>
            <a:xfrm>
              <a:off x="2209680" y="4800600"/>
              <a:ext cx="2056680" cy="1576440"/>
              <a:chOff x="2209680" y="4800600"/>
              <a:chExt cx="2056680" cy="15764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209680" y="4800600"/>
                <a:ext cx="2056680" cy="1576440"/>
                <a:chOff x="2209680" y="4800600"/>
                <a:chExt cx="2056680" cy="1576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209680" y="4800600"/>
                  <a:ext cx="205668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239560" y="4802760"/>
                  <a:ext cx="200448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 flipH="1">
                <a:off x="2374560" y="4943520"/>
                <a:ext cx="172872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6200" y="4978440"/>
                <a:ext cx="139824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2537640" y="5303880"/>
              <a:ext cx="13986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AgentRight Portal</a:t>
              </a:r>
              <a:endParaRPr b="0" lang="en-US" sz="2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0800000">
            <a:off x="1823760" y="2280960"/>
            <a:ext cx="1292040" cy="723960"/>
          </a:xfrm>
          <a:custGeom>
            <a:avLst/>
            <a:gdLst>
              <a:gd name="textAreaLeft" fmla="*/ 201600 w 1292040"/>
              <a:gd name="textAreaRight" fmla="*/ 1119960 w 1292040"/>
              <a:gd name="textAreaTop" fmla="*/ 194040 h 723960"/>
              <a:gd name="textAreaBottom" fmla="*/ 529920 h 723960"/>
            </a:gdLst>
            <a:ahLst/>
            <a:rect l="textAreaLeft" t="textAreaTop" r="textAreaRight" b="textAreaBottom"/>
            <a:pathLst>
              <a:path w="21600" h="21600">
                <a:moveTo>
                  <a:pt x="3375" y="5788"/>
                </a:moveTo>
                <a:lnTo>
                  <a:pt x="15400" y="5788"/>
                </a:lnTo>
                <a:lnTo>
                  <a:pt x="15400" y="0"/>
                </a:lnTo>
                <a:lnTo>
                  <a:pt x="21600" y="10800"/>
                </a:lnTo>
                <a:lnTo>
                  <a:pt x="15400" y="21600"/>
                </a:lnTo>
                <a:lnTo>
                  <a:pt x="15400" y="15812"/>
                </a:lnTo>
                <a:lnTo>
                  <a:pt x="3375" y="15812"/>
                </a:lnTo>
                <a:close/>
              </a:path>
              <a:path w="21600" h="21600">
                <a:moveTo>
                  <a:pt x="0" y="5788"/>
                </a:moveTo>
                <a:lnTo>
                  <a:pt x="675" y="5788"/>
                </a:lnTo>
                <a:lnTo>
                  <a:pt x="675" y="15812"/>
                </a:lnTo>
                <a:lnTo>
                  <a:pt x="0" y="15812"/>
                </a:lnTo>
                <a:close/>
              </a:path>
              <a:path w="21600" h="21600">
                <a:moveTo>
                  <a:pt x="1350" y="5788"/>
                </a:moveTo>
                <a:lnTo>
                  <a:pt x="2700" y="5788"/>
                </a:lnTo>
                <a:lnTo>
                  <a:pt x="2700" y="15812"/>
                </a:lnTo>
                <a:lnTo>
                  <a:pt x="1350" y="15812"/>
                </a:lnTo>
                <a:close/>
              </a:path>
            </a:pathLst>
          </a:custGeom>
          <a:gradFill rotWithShape="0">
            <a:gsLst>
              <a:gs pos="0">
                <a:srgbClr val="4d4d4d">
                  <a:alpha val="42352"/>
                </a:srgbClr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1828800"/>
            <a:ext cx="1980360" cy="1576440"/>
            <a:chOff x="228600" y="1828800"/>
            <a:chExt cx="1980360" cy="1576440"/>
          </a:xfrm>
        </p:grpSpPr>
        <p:grpSp>
          <p:nvGrpSpPr>
            <p:cNvPr id="184" name=""/>
            <p:cNvGrpSpPr/>
            <p:nvPr/>
          </p:nvGrpSpPr>
          <p:grpSpPr>
            <a:xfrm>
              <a:off x="228600" y="1828800"/>
              <a:ext cx="1980360" cy="1576440"/>
              <a:chOff x="228600" y="1828800"/>
              <a:chExt cx="1980360" cy="157644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28600" y="1828800"/>
                <a:ext cx="1980360" cy="1576440"/>
                <a:chOff x="228600" y="1828800"/>
                <a:chExt cx="1980360" cy="15764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28600" y="1828800"/>
                  <a:ext cx="198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57400" y="1830960"/>
                  <a:ext cx="193032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 flipH="1">
                <a:off x="386640" y="1971720"/>
                <a:ext cx="166428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42880" y="2006640"/>
                <a:ext cx="134640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544680" y="2332080"/>
              <a:ext cx="13467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AgentBuzz</a:t>
              </a:r>
              <a:endParaRPr b="0" lang="en-US" sz="2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57080" y="3284640"/>
            <a:ext cx="1511280" cy="165564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655640"/>
              <a:gd name="textAreaBottom" fmla="*/ 1582200 h 1655640"/>
            </a:gdLst>
            <a:ahLst/>
            <a:rect l="textAreaLeft" t="textAreaTop" r="textAreaRight" b="textAreaBottom"/>
            <a:pathLst>
              <a:path w="21600" h="23663">
                <a:moveTo>
                  <a:pt x="3600" y="0"/>
                </a:moveTo>
                <a:arcTo wR="3600" hR="3600" stAng="16200000" swAng="-5400000"/>
                <a:lnTo>
                  <a:pt x="0" y="20063"/>
                </a:lnTo>
                <a:arcTo wR="3600" hR="3600" stAng="10800000" swAng="-5400000"/>
                <a:lnTo>
                  <a:pt x="18000" y="23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28720" y="3212280"/>
            <a:ext cx="1371600" cy="27370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737080"/>
              <a:gd name="textAreaBottom" fmla="*/ 2670120 h 2737080"/>
            </a:gdLst>
            <a:ahLst/>
            <a:rect l="textAreaLeft" t="textAreaTop" r="textAreaRight" b="textAreaBottom"/>
            <a:pathLst>
              <a:path w="21600" h="43098">
                <a:moveTo>
                  <a:pt x="3600" y="0"/>
                </a:moveTo>
                <a:arcTo wR="3600" hR="3600" stAng="16200000" swAng="-5400000"/>
                <a:lnTo>
                  <a:pt x="0" y="39498"/>
                </a:lnTo>
                <a:arcTo wR="3600" hR="3600" stAng="10800000" swAng="-5400000"/>
                <a:lnTo>
                  <a:pt x="18000" y="43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3284640"/>
            <a:ext cx="1511280" cy="165564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655640"/>
              <a:gd name="textAreaBottom" fmla="*/ 1582200 h 1655640"/>
            </a:gdLst>
            <a:ahLst/>
            <a:rect l="textAreaLeft" t="textAreaTop" r="textAreaRight" b="textAreaBottom"/>
            <a:pathLst>
              <a:path w="21600" h="23663">
                <a:moveTo>
                  <a:pt x="3600" y="0"/>
                </a:moveTo>
                <a:arcTo wR="3600" hR="3600" stAng="16200000" swAng="-5400000"/>
                <a:lnTo>
                  <a:pt x="0" y="20063"/>
                </a:lnTo>
                <a:arcTo wR="3600" hR="3600" stAng="10800000" swAng="-5400000"/>
                <a:lnTo>
                  <a:pt x="18000" y="23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859280" y="3212280"/>
            <a:ext cx="1371600" cy="27370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737080"/>
              <a:gd name="textAreaBottom" fmla="*/ 2670120 h 2737080"/>
            </a:gdLst>
            <a:ahLst/>
            <a:rect l="textAreaLeft" t="textAreaTop" r="textAreaRight" b="textAreaBottom"/>
            <a:pathLst>
              <a:path w="21600" h="43098">
                <a:moveTo>
                  <a:pt x="3600" y="0"/>
                </a:moveTo>
                <a:arcTo wR="3600" hR="3600" stAng="16200000" swAng="-5400000"/>
                <a:lnTo>
                  <a:pt x="0" y="39498"/>
                </a:lnTo>
                <a:arcTo wR="3600" hR="3600" stAng="10800000" swAng="-5400000"/>
                <a:lnTo>
                  <a:pt x="18000" y="43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932280"/>
            <a:ext cx="158436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More than just book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Easy step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Integrat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Total visibilit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3284640"/>
            <a:ext cx="1511280" cy="165564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655640"/>
              <a:gd name="textAreaBottom" fmla="*/ 1582200 h 1655640"/>
            </a:gdLst>
            <a:ahLst/>
            <a:rect l="textAreaLeft" t="textAreaTop" r="textAreaRight" b="textAreaBottom"/>
            <a:pathLst>
              <a:path w="21600" h="23663">
                <a:moveTo>
                  <a:pt x="3600" y="0"/>
                </a:moveTo>
                <a:arcTo wR="3600" hR="3600" stAng="16200000" swAng="-5400000"/>
                <a:lnTo>
                  <a:pt x="0" y="20063"/>
                </a:lnTo>
                <a:arcTo wR="3600" hR="3600" stAng="10800000" swAng="-5400000"/>
                <a:lnTo>
                  <a:pt x="18000" y="23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843280" y="3212280"/>
            <a:ext cx="1371600" cy="27370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737080"/>
              <a:gd name="textAreaBottom" fmla="*/ 2670120 h 2737080"/>
            </a:gdLst>
            <a:ahLst/>
            <a:rect l="textAreaLeft" t="textAreaTop" r="textAreaRight" b="textAreaBottom"/>
            <a:pathLst>
              <a:path w="21600" h="43098">
                <a:moveTo>
                  <a:pt x="3600" y="0"/>
                </a:moveTo>
                <a:arcTo wR="3600" hR="3600" stAng="16200000" swAng="-5400000"/>
                <a:lnTo>
                  <a:pt x="0" y="39498"/>
                </a:lnTo>
                <a:arcTo wR="3600" hR="3600" stAng="10800000" swAng="-5400000"/>
                <a:lnTo>
                  <a:pt x="18000" y="43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860640"/>
            <a:ext cx="158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Increase loyalty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Convert leads to sal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Launch promotions / deal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3860640"/>
            <a:ext cx="158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Buzz it up! Be heard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Increase traffic to your sit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Increase brand visibility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3284640"/>
            <a:ext cx="1511280" cy="165564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655640"/>
              <a:gd name="textAreaBottom" fmla="*/ 1582200 h 1655640"/>
            </a:gdLst>
            <a:ahLst/>
            <a:rect l="textAreaLeft" t="textAreaTop" r="textAreaRight" b="textAreaBottom"/>
            <a:pathLst>
              <a:path w="21600" h="23663">
                <a:moveTo>
                  <a:pt x="3600" y="0"/>
                </a:moveTo>
                <a:arcTo wR="3600" hR="3600" stAng="16200000" swAng="-5400000"/>
                <a:lnTo>
                  <a:pt x="0" y="20063"/>
                </a:lnTo>
                <a:arcTo wR="3600" hR="3600" stAng="10800000" swAng="-5400000"/>
                <a:lnTo>
                  <a:pt x="18000" y="23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75640" y="3212280"/>
            <a:ext cx="1371600" cy="27370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737080"/>
              <a:gd name="textAreaBottom" fmla="*/ 2670120 h 2737080"/>
            </a:gdLst>
            <a:ahLst/>
            <a:rect l="textAreaLeft" t="textAreaTop" r="textAreaRight" b="textAreaBottom"/>
            <a:pathLst>
              <a:path w="21600" h="43098">
                <a:moveTo>
                  <a:pt x="3600" y="0"/>
                </a:moveTo>
                <a:arcTo wR="3600" hR="3600" stAng="16200000" swAng="-5400000"/>
                <a:lnTo>
                  <a:pt x="0" y="39498"/>
                </a:lnTo>
                <a:arcTo wR="3600" hR="3600" stAng="10800000" swAng="-5400000"/>
                <a:lnTo>
                  <a:pt x="18000" y="43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04000" y="3890880"/>
            <a:ext cx="1730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Efficiency up, up!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Quick Back Office Process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Bulk import/expor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11280" y="2205000"/>
            <a:ext cx="1978920" cy="1576440"/>
            <a:chOff x="611280" y="2205000"/>
            <a:chExt cx="1978920" cy="1576440"/>
          </a:xfrm>
        </p:grpSpPr>
        <p:grpSp>
          <p:nvGrpSpPr>
            <p:cNvPr id="204" name=""/>
            <p:cNvGrpSpPr/>
            <p:nvPr/>
          </p:nvGrpSpPr>
          <p:grpSpPr>
            <a:xfrm>
              <a:off x="611280" y="2205000"/>
              <a:ext cx="1978920" cy="1576440"/>
              <a:chOff x="611280" y="2205000"/>
              <a:chExt cx="1978920" cy="157644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611280" y="2205000"/>
                <a:ext cx="1978920" cy="1576440"/>
                <a:chOff x="611280" y="2205000"/>
                <a:chExt cx="1978920" cy="1576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11280" y="2205000"/>
                  <a:ext cx="197892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40080" y="2207160"/>
                  <a:ext cx="192888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 flipH="1">
                <a:off x="769680" y="2347920"/>
                <a:ext cx="166320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924480" y="2382840"/>
                <a:ext cx="134532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927000" y="2708280"/>
              <a:ext cx="134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AgentBuzz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659640" y="2212920"/>
            <a:ext cx="1874160" cy="1576440"/>
            <a:chOff x="6659640" y="2212920"/>
            <a:chExt cx="1874160" cy="1576440"/>
          </a:xfrm>
        </p:grpSpPr>
        <p:grpSp>
          <p:nvGrpSpPr>
            <p:cNvPr id="212" name=""/>
            <p:cNvGrpSpPr/>
            <p:nvPr/>
          </p:nvGrpSpPr>
          <p:grpSpPr>
            <a:xfrm>
              <a:off x="6659640" y="2212920"/>
              <a:ext cx="1874160" cy="1576440"/>
              <a:chOff x="6659640" y="2212920"/>
              <a:chExt cx="1874160" cy="157644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659640" y="2212920"/>
                <a:ext cx="1874160" cy="1576440"/>
                <a:chOff x="6659640" y="2212920"/>
                <a:chExt cx="1874160" cy="15764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659640" y="2212920"/>
                  <a:ext cx="18741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686640" y="2215080"/>
                  <a:ext cx="1826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6807600" y="2357280"/>
                <a:ext cx="1575000" cy="1255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6957000" y="2395440"/>
                <a:ext cx="1274400" cy="828720"/>
              </a:xfrm>
              <a:prstGeom prst="ellipse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808080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6960600" y="2716200"/>
              <a:ext cx="12740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Agent BackOffic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627280" y="2205000"/>
            <a:ext cx="1800360" cy="1576440"/>
            <a:chOff x="2627280" y="2205000"/>
            <a:chExt cx="1800360" cy="1576440"/>
          </a:xfrm>
        </p:grpSpPr>
        <p:grpSp>
          <p:nvGrpSpPr>
            <p:cNvPr id="220" name=""/>
            <p:cNvGrpSpPr/>
            <p:nvPr/>
          </p:nvGrpSpPr>
          <p:grpSpPr>
            <a:xfrm>
              <a:off x="2627280" y="2205000"/>
              <a:ext cx="1800360" cy="1576440"/>
              <a:chOff x="2627280" y="2205000"/>
              <a:chExt cx="1800360" cy="15764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2627280" y="2205000"/>
                <a:ext cx="1800360" cy="1576440"/>
                <a:chOff x="2627280" y="2205000"/>
                <a:chExt cx="1800360" cy="15764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627280" y="2205000"/>
                  <a:ext cx="180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653200" y="2207160"/>
                  <a:ext cx="1754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 flipH="1">
                <a:off x="2770920" y="2349360"/>
                <a:ext cx="1513080" cy="12621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911320" y="2382840"/>
                <a:ext cx="1224000" cy="828720"/>
              </a:xfrm>
              <a:prstGeom prst="ellipse">
                <a:avLst/>
              </a:prstGeom>
              <a:gradFill rotWithShape="0">
                <a:gsLst>
                  <a:gs pos="0">
                    <a:srgbClr val="92d2e8"/>
                  </a:gs>
                  <a:gs pos="100000">
                    <a:srgbClr val="0099cc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914560" y="2700360"/>
              <a:ext cx="12240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Agen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Promot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643280" y="2205000"/>
            <a:ext cx="1985400" cy="1576440"/>
            <a:chOff x="4643280" y="2205000"/>
            <a:chExt cx="1985400" cy="1576440"/>
          </a:xfrm>
        </p:grpSpPr>
        <p:grpSp>
          <p:nvGrpSpPr>
            <p:cNvPr id="228" name=""/>
            <p:cNvGrpSpPr/>
            <p:nvPr/>
          </p:nvGrpSpPr>
          <p:grpSpPr>
            <a:xfrm>
              <a:off x="4643280" y="2205000"/>
              <a:ext cx="1985400" cy="1576440"/>
              <a:chOff x="4643280" y="2205000"/>
              <a:chExt cx="1985400" cy="15764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4643280" y="2205000"/>
                <a:ext cx="1985400" cy="1576440"/>
                <a:chOff x="4643280" y="2205000"/>
                <a:chExt cx="1985400" cy="15764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43280" y="2205000"/>
                  <a:ext cx="198540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672080" y="2207160"/>
                  <a:ext cx="193500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 flipH="1">
                <a:off x="4800600" y="2349360"/>
                <a:ext cx="1668240" cy="1255680"/>
              </a:xfrm>
              <a:prstGeom prst="ellipse">
                <a:avLst/>
              </a:prstGeom>
              <a:solidFill>
                <a:srgbClr val="6c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958280" y="2387520"/>
                <a:ext cx="1350000" cy="828720"/>
              </a:xfrm>
              <a:prstGeom prst="ellipse">
                <a:avLst/>
              </a:prstGeom>
              <a:gradFill rotWithShape="0">
                <a:gsLst>
                  <a:gs pos="0">
                    <a:srgbClr val="c9dcea"/>
                  </a:gs>
                  <a:gs pos="100000">
                    <a:srgbClr val="6ca2c7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961880" y="2708280"/>
              <a:ext cx="1349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AgentRight Portal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 flipH="1" flipV="1">
            <a:off x="4641120" y="4725360"/>
            <a:ext cx="2305080" cy="863640"/>
          </a:xfrm>
          <a:custGeom>
            <a:avLst/>
            <a:gdLst>
              <a:gd name="textAreaLeft" fmla="*/ 442080 w 2305080"/>
              <a:gd name="textAreaRight" fmla="*/ 1632600 w 23050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050920" y="4725360"/>
            <a:ext cx="2303640" cy="863640"/>
          </a:xfrm>
          <a:custGeom>
            <a:avLst/>
            <a:gdLst>
              <a:gd name="textAreaLeft" fmla="*/ 441720 w 2303640"/>
              <a:gd name="textAreaRight" fmla="*/ 1631520 w 230364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641120" y="1268280"/>
            <a:ext cx="2305080" cy="1008360"/>
          </a:xfrm>
          <a:custGeom>
            <a:avLst/>
            <a:gdLst>
              <a:gd name="textAreaLeft" fmla="*/ 442080 w 2305080"/>
              <a:gd name="textAreaRight" fmla="*/ 1632600 w 2305080"/>
              <a:gd name="textAreaTop" fmla="*/ 135000 h 1008360"/>
              <a:gd name="textAreaBottom" fmla="*/ 873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1268280"/>
            <a:ext cx="2303640" cy="1008360"/>
          </a:xfrm>
          <a:custGeom>
            <a:avLst/>
            <a:gdLst>
              <a:gd name="textAreaLeft" fmla="*/ 441720 w 2303640"/>
              <a:gd name="textAreaRight" fmla="*/ 1631520 w 2303640"/>
              <a:gd name="textAreaTop" fmla="*/ 135000 h 1008360"/>
              <a:gd name="textAreaBottom" fmla="*/ 873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124080" y="1981080"/>
            <a:ext cx="2901600" cy="5057640"/>
            <a:chOff x="3124080" y="1981080"/>
            <a:chExt cx="2901600" cy="5057640"/>
          </a:xfrm>
        </p:grpSpPr>
        <p:sp>
          <p:nvSpPr>
            <p:cNvPr id="240" name=""/>
            <p:cNvSpPr/>
            <p:nvPr/>
          </p:nvSpPr>
          <p:spPr>
            <a:xfrm>
              <a:off x="3124080" y="1981080"/>
              <a:ext cx="2901600" cy="2459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6560" y="1984320"/>
              <a:ext cx="2828160" cy="23954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76880" y="2367000"/>
              <a:ext cx="2197800" cy="46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ctr">
                <a:buClr>
                  <a:srgbClr val="4d4d4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4d4d4d"/>
                  </a:solidFill>
                  <a:latin typeface="Arial"/>
                  <a:ea typeface="Gulim"/>
                </a:rPr>
                <a:t>More traffic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ctr">
                <a:buClr>
                  <a:srgbClr val="4d4d4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ctr">
                <a:buClr>
                  <a:srgbClr val="4d4d4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4d4d4d"/>
                  </a:solidFill>
                  <a:latin typeface="Arial"/>
                  <a:ea typeface="Gulim"/>
                </a:rPr>
                <a:t>More bookings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ctr">
                <a:buClr>
                  <a:srgbClr val="4d4d4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ctr">
                <a:buClr>
                  <a:srgbClr val="4d4d4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4d4d4d"/>
                  </a:solidFill>
                  <a:latin typeface="Arial"/>
                  <a:ea typeface="Gulim"/>
                </a:rPr>
                <a:t>Compelling user experienc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ctr">
                <a:buClr>
                  <a:srgbClr val="4d4d4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ctr">
                <a:buClr>
                  <a:srgbClr val="4d4d4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4d4d4d"/>
                  </a:solidFill>
                  <a:latin typeface="Arial"/>
                  <a:ea typeface="Gulim"/>
                </a:rPr>
                <a:t>Efficiency and Improved customer servic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403280" y="3581280"/>
            <a:ext cx="1800360" cy="1576440"/>
            <a:chOff x="1403280" y="3581280"/>
            <a:chExt cx="1800360" cy="1576440"/>
          </a:xfrm>
        </p:grpSpPr>
        <p:grpSp>
          <p:nvGrpSpPr>
            <p:cNvPr id="244" name=""/>
            <p:cNvGrpSpPr/>
            <p:nvPr/>
          </p:nvGrpSpPr>
          <p:grpSpPr>
            <a:xfrm>
              <a:off x="1403280" y="3581280"/>
              <a:ext cx="1800360" cy="1576440"/>
              <a:chOff x="1403280" y="3581280"/>
              <a:chExt cx="1800360" cy="15764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1403280" y="3581280"/>
                <a:ext cx="1800360" cy="1576440"/>
                <a:chOff x="1403280" y="3581280"/>
                <a:chExt cx="1800360" cy="15764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403280" y="3581280"/>
                  <a:ext cx="180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429200" y="3583440"/>
                  <a:ext cx="1754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H="1">
                <a:off x="1546920" y="3724200"/>
                <a:ext cx="151308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1689120" y="3759120"/>
                <a:ext cx="122400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690560" y="408456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Promot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94200" y="1781280"/>
            <a:ext cx="1800360" cy="1576440"/>
            <a:chOff x="5794200" y="1781280"/>
            <a:chExt cx="1800360" cy="1576440"/>
          </a:xfrm>
        </p:grpSpPr>
        <p:grpSp>
          <p:nvGrpSpPr>
            <p:cNvPr id="252" name=""/>
            <p:cNvGrpSpPr/>
            <p:nvPr/>
          </p:nvGrpSpPr>
          <p:grpSpPr>
            <a:xfrm>
              <a:off x="5794200" y="1781280"/>
              <a:ext cx="1800360" cy="1576440"/>
              <a:chOff x="5794200" y="1781280"/>
              <a:chExt cx="1800360" cy="157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5794200" y="1781280"/>
                <a:ext cx="1800360" cy="1576440"/>
                <a:chOff x="5794200" y="1781280"/>
                <a:chExt cx="1800360" cy="15764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794200" y="1781280"/>
                  <a:ext cx="180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820120" y="1783440"/>
                  <a:ext cx="1754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 flipH="1">
                <a:off x="5937120" y="1925640"/>
                <a:ext cx="1512720" cy="1255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080040" y="1963800"/>
                <a:ext cx="1224000" cy="828720"/>
              </a:xfrm>
              <a:prstGeom prst="ellipse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808080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083280" y="2284560"/>
              <a:ext cx="1223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Portal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371600" y="1752480"/>
            <a:ext cx="2285280" cy="1576440"/>
            <a:chOff x="1371600" y="1752480"/>
            <a:chExt cx="2285280" cy="1576440"/>
          </a:xfrm>
        </p:grpSpPr>
        <p:grpSp>
          <p:nvGrpSpPr>
            <p:cNvPr id="260" name=""/>
            <p:cNvGrpSpPr/>
            <p:nvPr/>
          </p:nvGrpSpPr>
          <p:grpSpPr>
            <a:xfrm>
              <a:off x="1371600" y="1752480"/>
              <a:ext cx="2285280" cy="1576440"/>
              <a:chOff x="1371600" y="1752480"/>
              <a:chExt cx="2285280" cy="15764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1371600" y="1752480"/>
                <a:ext cx="2285280" cy="1576440"/>
                <a:chOff x="1371600" y="1752480"/>
                <a:chExt cx="2285280" cy="15764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371600" y="1752480"/>
                  <a:ext cx="228528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404720" y="1754640"/>
                  <a:ext cx="222732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 flipH="1">
                <a:off x="1554120" y="1896840"/>
                <a:ext cx="1920600" cy="126216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1731960" y="1930320"/>
                <a:ext cx="1553760" cy="828720"/>
              </a:xfrm>
              <a:prstGeom prst="ellipse">
                <a:avLst/>
              </a:prstGeom>
              <a:gradFill rotWithShape="0">
                <a:gsLst>
                  <a:gs pos="0">
                    <a:srgbClr val="92d2e8"/>
                  </a:gs>
                  <a:gs pos="100000">
                    <a:srgbClr val="0099cc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1736280" y="2247840"/>
              <a:ext cx="1553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Buzz!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794200" y="3581280"/>
            <a:ext cx="1800360" cy="1576440"/>
            <a:chOff x="5794200" y="3581280"/>
            <a:chExt cx="1800360" cy="1576440"/>
          </a:xfrm>
        </p:grpSpPr>
        <p:grpSp>
          <p:nvGrpSpPr>
            <p:cNvPr id="268" name=""/>
            <p:cNvGrpSpPr/>
            <p:nvPr/>
          </p:nvGrpSpPr>
          <p:grpSpPr>
            <a:xfrm>
              <a:off x="5794200" y="3581280"/>
              <a:ext cx="1800360" cy="1576440"/>
              <a:chOff x="5794200" y="3581280"/>
              <a:chExt cx="1800360" cy="157644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5794200" y="3581280"/>
                <a:ext cx="1800360" cy="1576440"/>
                <a:chOff x="5794200" y="3581280"/>
                <a:chExt cx="1800360" cy="15764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794200" y="3581280"/>
                  <a:ext cx="180036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20120" y="3583440"/>
                  <a:ext cx="175464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 flipH="1">
                <a:off x="5937120" y="3725640"/>
                <a:ext cx="1512720" cy="1255680"/>
              </a:xfrm>
              <a:prstGeom prst="ellipse">
                <a:avLst/>
              </a:prstGeom>
              <a:solidFill>
                <a:srgbClr val="6c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6080040" y="3763800"/>
                <a:ext cx="1224000" cy="828720"/>
              </a:xfrm>
              <a:prstGeom prst="ellipse">
                <a:avLst/>
              </a:prstGeom>
              <a:gradFill rotWithShape="0">
                <a:gsLst>
                  <a:gs pos="0">
                    <a:srgbClr val="c9dcea"/>
                  </a:gs>
                  <a:gs pos="100000">
                    <a:srgbClr val="6ca2c7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083280" y="4084560"/>
              <a:ext cx="122364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Back Offic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rot="10582200">
            <a:off x="2666520" y="4828680"/>
            <a:ext cx="576360" cy="5050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a0a0a0"/>
              </a:gs>
              <a:gs pos="100000">
                <a:srgbClr val="eaeaea"/>
              </a:gs>
            </a:gsLst>
            <a:lin ang="29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989400">
            <a:off x="6832080" y="3543120"/>
            <a:ext cx="576360" cy="504720"/>
          </a:xfrm>
          <a:custGeom>
            <a:avLst/>
            <a:gdLst>
              <a:gd name="textAreaLeft" fmla="*/ 0 w 576360"/>
              <a:gd name="textAreaRight" fmla="*/ 576720 w 576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eaeaea"/>
              </a:gs>
            </a:gsLst>
            <a:lin ang="161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67080" y="3552840"/>
            <a:ext cx="3816360" cy="264636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22520" y="3556080"/>
            <a:ext cx="3719520" cy="25779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639240" y="3614760"/>
            <a:ext cx="3278520" cy="18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292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57600" y="4040280"/>
            <a:ext cx="1469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AgentBuzz!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11280" y="4444920"/>
            <a:ext cx="1800000" cy="1576440"/>
            <a:chOff x="611280" y="4444920"/>
            <a:chExt cx="1800000" cy="1576440"/>
          </a:xfrm>
        </p:grpSpPr>
        <p:grpSp>
          <p:nvGrpSpPr>
            <p:cNvPr id="283" name=""/>
            <p:cNvGrpSpPr/>
            <p:nvPr/>
          </p:nvGrpSpPr>
          <p:grpSpPr>
            <a:xfrm>
              <a:off x="611280" y="4444920"/>
              <a:ext cx="1800000" cy="1576440"/>
              <a:chOff x="611280" y="4444920"/>
              <a:chExt cx="1800000" cy="157644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611280" y="4444920"/>
                <a:ext cx="1800000" cy="1576440"/>
                <a:chOff x="611280" y="4444920"/>
                <a:chExt cx="1800000" cy="15764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11280" y="4444920"/>
                  <a:ext cx="1800000" cy="15764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37200" y="4447080"/>
                  <a:ext cx="1754280" cy="15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 flipH="1">
                <a:off x="755280" y="4587840"/>
                <a:ext cx="1512720" cy="1266840"/>
              </a:xfrm>
              <a:prstGeom prst="ellipse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96040" y="4622760"/>
                <a:ext cx="1223640" cy="828720"/>
              </a:xfrm>
              <a:prstGeom prst="ellipse">
                <a:avLst/>
              </a:prstGeom>
              <a:gradFill rotWithShape="0">
                <a:gsLst>
                  <a:gs pos="0">
                    <a:srgbClr val="c7feb5"/>
                  </a:gs>
                  <a:gs pos="100000">
                    <a:srgbClr val="66ff3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98200" y="4948200"/>
              <a:ext cx="122364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Online Ads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948360" y="2284560"/>
            <a:ext cx="1800360" cy="1576080"/>
            <a:chOff x="6948360" y="2284560"/>
            <a:chExt cx="1800360" cy="1576080"/>
          </a:xfrm>
        </p:grpSpPr>
        <p:grpSp>
          <p:nvGrpSpPr>
            <p:cNvPr id="291" name=""/>
            <p:cNvGrpSpPr/>
            <p:nvPr/>
          </p:nvGrpSpPr>
          <p:grpSpPr>
            <a:xfrm>
              <a:off x="6948360" y="2284560"/>
              <a:ext cx="1800360" cy="1576080"/>
              <a:chOff x="6948360" y="2284560"/>
              <a:chExt cx="1800360" cy="157608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948360" y="2284560"/>
                <a:ext cx="1800360" cy="1576080"/>
                <a:chOff x="6948360" y="2284560"/>
                <a:chExt cx="1800360" cy="15760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948360" y="2284560"/>
                  <a:ext cx="1800360" cy="15760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974280" y="2286720"/>
                  <a:ext cx="1754640" cy="153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 flipH="1">
                <a:off x="7091280" y="2428560"/>
                <a:ext cx="1512720" cy="12553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34200" y="2466720"/>
                <a:ext cx="1224000" cy="828360"/>
              </a:xfrm>
              <a:prstGeom prst="ellipse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808080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7237440" y="2787480"/>
              <a:ext cx="1223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SEO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257800" y="914400"/>
            <a:ext cx="330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O built into the content management system to improve ranking by Google and other search engine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505320"/>
            <a:ext cx="330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ilored online campaigns with major advertisement agencies in highly trafficked websit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1:06:08Z</dcterms:created>
  <dc:creator>http://www.eeppt.com</dc:creator>
  <dc:description>ppt模板下载网站 http://www.eeppt.com</dc:description>
  <dc:language>en-US</dc:language>
  <cp:lastModifiedBy/>
  <dcterms:modified xsi:type="dcterms:W3CDTF">2015-06-14T09:06:2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