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9.jpeg" ContentType="image/jpeg"/>
  <Override PartName="/ppt/media/image2.gif" ContentType="image/gif"/>
  <Override PartName="/ppt/media/image27.jpeg" ContentType="image/jpeg"/>
  <Override PartName="/ppt/media/image25.gif" ContentType="image/gif"/>
  <Override PartName="/ppt/media/image6.jpeg" ContentType="image/jpeg"/>
  <Override PartName="/ppt/media/image33.jpeg" ContentType="image/jpeg"/>
  <Override PartName="/ppt/media/image9.jpeg" ContentType="image/jpeg"/>
  <Override PartName="/ppt/media/image30.gif" ContentType="image/gif"/>
  <Override PartName="/ppt/media/image1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chimes.wav" ContentType="audio/x-wav"/>
  <Override PartName="/ppt/media/image16.jpeg" ContentType="image/jpeg"/>
  <Override PartName="/ppt/media/projctor.wav" ContentType="audio/x-wav"/>
  <Override PartName="/ppt/media/image3.gif" ContentType="image/gif"/>
  <Override PartName="/ppt/media/image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624C-E923-4424-B96F-03B505CA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5A8-7462-42F5-BAAF-740C4825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1267-0DD1-49B9-BB40-2731F868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5BEB-D330-4306-93D7-BAEC2EC5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DABC-3597-47CD-ADA9-C22A43D5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F5D3-C700-456C-BFFF-68C75795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9AB-3608-4419-8669-E0FC72C5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0D2-35CC-4715-A000-B04F5AA0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79C-2C20-433F-A91B-690D5E09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5EEF-AD49-4345-9F00-CADEE09B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BDAA-234B-4C2D-80CF-8B55D626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FA0-83E9-4C74-997C-17488377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FA6F-43FB-4F12-A7AE-7968319F5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gif"/><Relationship Id="rId18" Type="http://schemas.openxmlformats.org/officeDocument/2006/relationships/image" Target="../media/image3.gif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ty115_jpg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01[3]"/>
          <p:cNvPicPr/>
          <p:nvPr/>
        </p:nvPicPr>
        <p:blipFill>
          <a:blip r:embed="rId17"/>
          <a:stretch/>
        </p:blipFill>
        <p:spPr>
          <a:xfrm>
            <a:off x="380880" y="5257800"/>
            <a:ext cx="262908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05">
            <a:hlinkClick r:id="" action="ppaction://hlinkshowjump?jump=nextslide"/>
          </p:cNvPr>
          <p:cNvPicPr/>
          <p:nvPr/>
        </p:nvPicPr>
        <p:blipFill>
          <a:blip r:embed="rId18"/>
          <a:stretch/>
        </p:blipFill>
        <p:spPr>
          <a:xfrm>
            <a:off x="8229600" y="6248520"/>
            <a:ext cx="9144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矩形 1" descr=""/>
          <p:cNvPicPr/>
          <p:nvPr/>
        </p:nvPicPr>
        <p:blipFill>
          <a:blip r:embed="rId19"/>
          <a:stretch/>
        </p:blipFill>
        <p:spPr>
          <a:xfrm>
            <a:off x="523800" y="244440"/>
            <a:ext cx="7888320" cy="3309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000" y="6219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371600" y="8380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它非常坚硬，受到猛击仍安然无恙；即使被打碎了，碎片仍然藕断丝连地粘在一起，不会伤人。有些国家规定，高层建筑必须采用这种安全可靠的玻璃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7.gif (3404 bytes)"/>
          <p:cNvPicPr/>
          <p:nvPr/>
        </p:nvPicPr>
        <p:blipFill>
          <a:blip r:embed="rId2"/>
          <a:stretch/>
        </p:blipFill>
        <p:spPr>
          <a:xfrm>
            <a:off x="8229600" y="594360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4552920"/>
            <a:ext cx="747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990720" y="10666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14400" y="7621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还有一种“变色玻璃”，能够对阳光起反射作用。建筑物装上这种玻璃，从室内看外面很清楚，从外面看室内却什么也瞧不见。变色玻璃还会随着阳光的强弱而改变颜色的深浅，调节室内的光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7.gif (3404 bytes)"/>
          <p:cNvPicPr/>
          <p:nvPr/>
        </p:nvPicPr>
        <p:blipFill>
          <a:blip r:embed="rId2"/>
          <a:stretch/>
        </p:blipFill>
        <p:spPr>
          <a:xfrm>
            <a:off x="8153280" y="6019920"/>
            <a:ext cx="571680" cy="571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600200" y="114300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在炎热的夏天，它能阻挡强烈的阳光，使室内比室外凉爽；在严寒的冬季，它把冷空气挡在室外，使室内保持温暖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7.gif (3404 bytes)"/>
          <p:cNvPicPr/>
          <p:nvPr/>
        </p:nvPicPr>
        <p:blipFill>
          <a:blip r:embed="rId2"/>
          <a:stretch/>
        </p:blipFill>
        <p:spPr>
          <a:xfrm>
            <a:off x="8001000" y="586728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1440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吃音玻璃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就是消除噪音的能手。临街的窗子上如果装上这种玻璃，街上的声音为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分贝时，传到房间里就只剩下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分贝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19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91440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吃音玻璃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就是消除噪音的能手。临街的窗子上如果装上这种玻璃，街上的声音为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分贝时，传到房间里就只剩下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分贝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"/>
          <p:cNvSpPr/>
          <p:nvPr/>
        </p:nvSpPr>
        <p:spPr>
          <a:xfrm>
            <a:off x="990720" y="3733920"/>
            <a:ext cx="12189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2819520" y="52578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7.gif (3404 bytes)"/>
          <p:cNvPicPr/>
          <p:nvPr/>
        </p:nvPicPr>
        <p:blipFill>
          <a:blip r:embed="rId2"/>
          <a:stretch/>
        </p:blipFill>
        <p:spPr>
          <a:xfrm>
            <a:off x="8001000" y="594360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7000" y="6219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F:\边框\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"/>
          <p:cNvSpPr/>
          <p:nvPr/>
        </p:nvSpPr>
        <p:spPr>
          <a:xfrm>
            <a:off x="838080" y="8380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推销方法启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62120" y="2057400"/>
            <a:ext cx="7772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说话要有礼貌，态度诚恳，面带微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了解客户的需求，说清楚产品的特点和作用以及产品带给客户的好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根据客户的心理实施相应的价格优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留下自己的联系方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F:\素材\7[6].gif"/>
          <p:cNvPicPr/>
          <p:nvPr/>
        </p:nvPicPr>
        <p:blipFill>
          <a:blip r:embed="rId2"/>
          <a:stretch/>
        </p:blipFill>
        <p:spPr>
          <a:xfrm>
            <a:off x="6781680" y="4952880"/>
            <a:ext cx="1314720" cy="140652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9"/>
          <p:cNvSpPr/>
          <p:nvPr/>
        </p:nvSpPr>
        <p:spPr>
          <a:xfrm>
            <a:off x="8381880" y="6324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http://www.mypcera.com/photo/326a/ty/images/ty196_jpg.jpg"/>
          <p:cNvPicPr/>
          <p:nvPr/>
        </p:nvPicPr>
        <p:blipFill>
          <a:blip r:embed="rId1"/>
          <a:stretch/>
        </p:blipFill>
        <p:spPr>
          <a:xfrm>
            <a:off x="7086600" y="4114800"/>
            <a:ext cx="148104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1828800" y="7621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方正姚体"/>
                <a:ea typeface="方正姚体"/>
              </a:rPr>
              <a:t>21</a:t>
            </a:r>
            <a:r>
              <a:rPr b="1" lang="zh-CN" sz="4000" spc="-1" strike="noStrike">
                <a:solidFill>
                  <a:srgbClr val="ff3300"/>
                </a:solidFill>
                <a:latin typeface="方正姚体"/>
                <a:ea typeface="方正姚体"/>
              </a:rPr>
              <a:t>世纪新型玻璃设计方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990720" y="21337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产品名称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838080" y="33526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特点和作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219320" y="449568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设计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4114800" y="2743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4114800" y="51055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523880" y="55627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日期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4114800" y="617220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8534520" y="640080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8FE1-6657-44C6-8956-435DE561FA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http://www.jiayiglass.com/img/ltyz/04.jpg"/>
          <p:cNvPicPr/>
          <p:nvPr/>
        </p:nvPicPr>
        <p:blipFill>
          <a:blip r:embed="rId2"/>
          <a:stretch/>
        </p:blipFill>
        <p:spPr>
          <a:xfrm>
            <a:off x="228600" y="1600200"/>
            <a:ext cx="4560840" cy="4343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www.jiayiglass.com/img/ltyz/09.jpg"/>
          <p:cNvPicPr/>
          <p:nvPr/>
        </p:nvPicPr>
        <p:blipFill>
          <a:blip r:embed="rId3"/>
          <a:stretch/>
        </p:blipFill>
        <p:spPr>
          <a:xfrm>
            <a:off x="5029200" y="1600200"/>
            <a:ext cx="3809880" cy="432108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cover dir="ru"/>
    <p:sndAc>
      <p:stSnd>
        <p:snd r:embed="rId4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F:\边框\Fr40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http://www.jiayiglass.com/img/ltyz/42.jpg"/>
          <p:cNvPicPr/>
          <p:nvPr/>
        </p:nvPicPr>
        <p:blipFill>
          <a:blip r:embed="rId2"/>
          <a:stretch/>
        </p:blipFill>
        <p:spPr>
          <a:xfrm>
            <a:off x="1219320" y="2438280"/>
            <a:ext cx="6858000" cy="37339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cover dir="ru"/>
    <p:sndAc>
      <p:stSnd>
        <p:snd r:embed="rId3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2" descr="http://www.yxysbl.com/chanpin2/35.jpg"/>
          <p:cNvPicPr/>
          <p:nvPr/>
        </p:nvPicPr>
        <p:blipFill>
          <a:blip r:embed="rId2"/>
          <a:stretch/>
        </p:blipFill>
        <p:spPr>
          <a:xfrm>
            <a:off x="1600200" y="152280"/>
            <a:ext cx="1257480" cy="3211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http://www.yxysbl.com/chanpin2/40.jpg"/>
          <p:cNvPicPr/>
          <p:nvPr/>
        </p:nvPicPr>
        <p:blipFill>
          <a:blip r:embed="rId3"/>
          <a:stretch/>
        </p:blipFill>
        <p:spPr>
          <a:xfrm>
            <a:off x="3962520" y="152280"/>
            <a:ext cx="1257120" cy="3222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http://www.yxysbl.com/chanpin2/36.jpg"/>
          <p:cNvPicPr/>
          <p:nvPr/>
        </p:nvPicPr>
        <p:blipFill>
          <a:blip r:embed="rId4"/>
          <a:stretch/>
        </p:blipFill>
        <p:spPr>
          <a:xfrm>
            <a:off x="6248520" y="152280"/>
            <a:ext cx="1257120" cy="322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http://www.yxysbl.com/chanpin2/12.jpg"/>
          <p:cNvPicPr/>
          <p:nvPr/>
        </p:nvPicPr>
        <p:blipFill>
          <a:blip r:embed="rId5"/>
          <a:stretch/>
        </p:blipFill>
        <p:spPr>
          <a:xfrm>
            <a:off x="457200" y="3429000"/>
            <a:ext cx="1257480" cy="322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http://www.yxysbl.com/chanpin2/27.jpg"/>
          <p:cNvPicPr/>
          <p:nvPr/>
        </p:nvPicPr>
        <p:blipFill>
          <a:blip r:embed="rId6"/>
          <a:stretch/>
        </p:blipFill>
        <p:spPr>
          <a:xfrm>
            <a:off x="2819520" y="3429000"/>
            <a:ext cx="1257120" cy="322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" descr="http://www.yxysbl.com/chanpin2/38.jpg"/>
          <p:cNvPicPr/>
          <p:nvPr/>
        </p:nvPicPr>
        <p:blipFill>
          <a:blip r:embed="rId7"/>
          <a:stretch/>
        </p:blipFill>
        <p:spPr>
          <a:xfrm>
            <a:off x="5105520" y="3429000"/>
            <a:ext cx="1257120" cy="322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5" descr="http://www.yxysbl.com/chanpin2/39.jpg"/>
          <p:cNvPicPr/>
          <p:nvPr/>
        </p:nvPicPr>
        <p:blipFill>
          <a:blip r:embed="rId8"/>
          <a:stretch/>
        </p:blipFill>
        <p:spPr>
          <a:xfrm>
            <a:off x="7467480" y="3429000"/>
            <a:ext cx="1257480" cy="3222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5"/>
          <p:cNvGrpSpPr/>
          <p:nvPr/>
        </p:nvGrpSpPr>
        <p:grpSpPr>
          <a:xfrm>
            <a:off x="0" y="663480"/>
            <a:ext cx="9144000" cy="5349960"/>
            <a:chOff x="0" y="663480"/>
            <a:chExt cx="9144000" cy="5349960"/>
          </a:xfrm>
        </p:grpSpPr>
        <p:sp>
          <p:nvSpPr>
            <p:cNvPr id="59" name="Rectangle 2"/>
            <p:cNvSpPr/>
            <p:nvPr/>
          </p:nvSpPr>
          <p:spPr>
            <a:xfrm>
              <a:off x="0" y="663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3"/>
            <p:cNvSpPr/>
            <p:nvPr/>
          </p:nvSpPr>
          <p:spPr>
            <a:xfrm>
              <a:off x="0" y="663480"/>
              <a:ext cx="9144000" cy="53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4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Picture 4" descr="http://www.mypcera.com/photo/45/08/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6"/>
          <p:cNvSpPr txBox="1"/>
          <p:nvPr/>
        </p:nvSpPr>
        <p:spPr>
          <a:xfrm>
            <a:off x="2895480" y="1981080"/>
            <a:ext cx="3276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华文行楷"/>
              </a:rPr>
              <a:t>新型玻璃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华文行楷"/>
              <a:ea typeface="华文行楷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828800" y="4419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6765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种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8195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自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62485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设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51055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推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1752480" y="4343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1" descr="http://www.mypcera.com/photo/45/04/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2133720" y="8380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夹丝网防盗玻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200400" y="20574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夹丝玻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3200400" y="3200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变色玻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200400" y="44197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吸热玻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00400" y="5486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吃音玻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8381880" y="6400800"/>
            <a:ext cx="609840" cy="304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F:\边框\Fr2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371600" y="1676520"/>
            <a:ext cx="5867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自读提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         </a:t>
            </a:r>
            <a:r>
              <a:rPr b="1" lang="en-US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、自由读课文，读准字音，读通句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         </a:t>
            </a:r>
            <a:r>
              <a:rPr b="1" lang="en-US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、你知道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         </a:t>
            </a:r>
            <a:r>
              <a:rPr b="1" lang="en-US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、还有什么不明白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TRACK07.WAV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5"/>
          <p:cNvSpPr/>
          <p:nvPr/>
        </p:nvSpPr>
        <p:spPr>
          <a:xfrm>
            <a:off x="8458200" y="640080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143000" y="38088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这种玻璃叫“夹丝网防盗玻璃”，博物馆可以采用，银行可以采用，珠宝店可以采用，存放重要图纸、文件的建筑物也可以采用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http://www.mypcera.com/photo/an/03/19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3280" y="5943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143000" y="53352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这种玻璃叫“夹丝网防盗玻璃”，博物馆可以采用，银行可以采用，珠宝店可以采用，存放重要图纸、文件的建筑物也可以采用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"/>
          <p:cNvSpPr/>
          <p:nvPr/>
        </p:nvSpPr>
        <p:spPr>
          <a:xfrm>
            <a:off x="1295280" y="304812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>
            <a:off x="5410080" y="556272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6095880" y="304812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9"/>
          <p:cNvSpPr/>
          <p:nvPr/>
        </p:nvSpPr>
        <p:spPr>
          <a:xfrm>
            <a:off x="5486400" y="388620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1" descr="7.gif (3404 bytes)"/>
          <p:cNvPicPr/>
          <p:nvPr/>
        </p:nvPicPr>
        <p:blipFill>
          <a:blip r:embed="rId2"/>
          <a:stretch/>
        </p:blipFill>
        <p:spPr>
          <a:xfrm>
            <a:off x="8229600" y="6019920"/>
            <a:ext cx="5716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13:08:26Z</dcterms:created>
  <dc:creator>http://www.eeppt.com</dc:creator>
  <dc:description>ppt模板下载网站 http://www.eeppt.com</dc:description>
  <dc:language>en-US</dc:language>
  <cp:lastModifiedBy/>
  <dcterms:modified xsi:type="dcterms:W3CDTF">2015-06-15T01:10:45Z</dcterms:modified>
  <cp:revision>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