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FDB6-C56D-4C73-BB92-9D204A33BC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42E0-337E-4926-BD72-44998BF4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652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652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A8DC-253F-4CC3-97BE-602DD6CB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192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436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192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436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D82E-8A63-45FA-9280-DFEF36CF21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EE128-6C84-4260-BFF2-FE99F9AB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1913A-C34E-4B9F-A815-98BC7DC8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FF088-2D73-4771-B8D6-CAC00215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652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67A4F-C575-40A5-8FFB-FCB65A5A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A6E1A-8D00-4ACF-A5C0-256D674F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90240" y="2602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D83EF-BA17-4C0F-BBB3-1952E8D1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652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47630-DF54-4024-99C5-B119219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22C8-C324-4CC4-9E01-E4F157F9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652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652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4C93A-3C7C-42A9-B4C8-DA5F2101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652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128A0-04C1-48A5-8D5D-71C3CACD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1E0C2-9F2E-43D5-95CD-663BAF40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652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652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23A4E-FC35-4A50-951F-49CDFC1B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9192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436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9192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436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66C19-2DEC-4CE0-9112-938C7B84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A2C1-1C54-4A97-8690-50A895D5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652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13EC-6FA7-46E4-AC85-16A58420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18F1-9951-4A5F-88A9-01BBF24F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0240" y="2602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A13B-845E-46E0-BFD5-5768B7EC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652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8746-9E14-463B-BACB-FC90F210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652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652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063D-69F7-4935-A93E-DD7F289A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2516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652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09C7-A44F-49D0-AA77-17053C41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未知"/>
          <p:cNvSpPr/>
          <p:nvPr/>
        </p:nvSpPr>
        <p:spPr>
          <a:xfrm>
            <a:off x="5448240" y="890640"/>
            <a:ext cx="3700440" cy="1231920"/>
          </a:xfrm>
          <a:custGeom>
            <a:avLst/>
            <a:gdLst/>
            <a:ahLst/>
            <a:rect l="l" t="t" r="r" b="b"/>
            <a:pathLst>
              <a:path w="2331" h="776">
                <a:moveTo>
                  <a:pt x="0" y="0"/>
                </a:moveTo>
                <a:cubicBezTo>
                  <a:pt x="616" y="64"/>
                  <a:pt x="832" y="96"/>
                  <a:pt x="1312" y="232"/>
                </a:cubicBezTo>
                <a:cubicBezTo>
                  <a:pt x="1792" y="368"/>
                  <a:pt x="2280" y="745"/>
                  <a:pt x="2328" y="776"/>
                </a:cubicBezTo>
                <a:lnTo>
                  <a:pt x="2331" y="431"/>
                </a:lnTo>
                <a:cubicBezTo>
                  <a:pt x="2108" y="307"/>
                  <a:pt x="1380" y="104"/>
                  <a:pt x="992" y="32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be4c"/>
              </a:gs>
              <a:gs pos="100000">
                <a:srgbClr val="d6ea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0" y="152280"/>
            <a:ext cx="9144000" cy="1427400"/>
          </a:xfrm>
          <a:custGeom>
            <a:avLst/>
            <a:gdLst/>
            <a:ahLst/>
            <a:rect l="l" t="t" r="r" b="b"/>
            <a:pathLst>
              <a:path w="5760" h="899">
                <a:moveTo>
                  <a:pt x="0" y="625"/>
                </a:moveTo>
                <a:cubicBezTo>
                  <a:pt x="466" y="515"/>
                  <a:pt x="1509" y="423"/>
                  <a:pt x="3017" y="451"/>
                </a:cubicBezTo>
                <a:cubicBezTo>
                  <a:pt x="4525" y="479"/>
                  <a:pt x="5486" y="753"/>
                  <a:pt x="5760" y="899"/>
                </a:cubicBezTo>
                <a:lnTo>
                  <a:pt x="5760" y="218"/>
                </a:lnTo>
                <a:cubicBezTo>
                  <a:pt x="5273" y="73"/>
                  <a:pt x="3797" y="0"/>
                  <a:pt x="2837" y="31"/>
                </a:cubicBezTo>
                <a:cubicBezTo>
                  <a:pt x="1798" y="54"/>
                  <a:pt x="448" y="285"/>
                  <a:pt x="0" y="401"/>
                </a:cubicBezTo>
                <a:lnTo>
                  <a:pt x="0" y="625"/>
                </a:lnTo>
                <a:close/>
              </a:path>
            </a:pathLst>
          </a:custGeom>
          <a:gradFill rotWithShape="0">
            <a:gsLst>
              <a:gs pos="0">
                <a:srgbClr val="308dea"/>
              </a:gs>
              <a:gs pos="100000">
                <a:srgbClr val="2979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094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be4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db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dbe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4114800" y="65527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F753-FDCE-40FC-99CF-37D285D8796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0912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4572000" cy="609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5720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未知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3535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2217600" y="0"/>
            <a:ext cx="6926400" cy="6859440"/>
          </a:xfrm>
          <a:custGeom>
            <a:avLst/>
            <a:gdLst/>
            <a:ahLst/>
            <a:rect l="l" t="t" r="r" b="b"/>
            <a:pathLst>
              <a:path w="4363" h="4321">
                <a:moveTo>
                  <a:pt x="189" y="0"/>
                </a:moveTo>
                <a:lnTo>
                  <a:pt x="561" y="181"/>
                </a:lnTo>
                <a:lnTo>
                  <a:pt x="943" y="488"/>
                </a:lnTo>
                <a:lnTo>
                  <a:pt x="1221" y="953"/>
                </a:lnTo>
                <a:lnTo>
                  <a:pt x="1413" y="1615"/>
                </a:lnTo>
                <a:lnTo>
                  <a:pt x="1290" y="2642"/>
                </a:lnTo>
                <a:lnTo>
                  <a:pt x="0" y="4321"/>
                </a:lnTo>
                <a:lnTo>
                  <a:pt x="4349" y="4321"/>
                </a:lnTo>
                <a:lnTo>
                  <a:pt x="4363" y="0"/>
                </a:lnTo>
                <a:lnTo>
                  <a:pt x="189" y="0"/>
                </a:lnTo>
                <a:close/>
              </a:path>
            </a:pathLst>
          </a:custGeom>
          <a:gradFill rotWithShape="0">
            <a:gsLst>
              <a:gs pos="0">
                <a:srgbClr val="308dea"/>
              </a:gs>
              <a:gs pos="100000">
                <a:srgbClr val="f7fa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924280"/>
            <a:ext cx="4665600" cy="1009440"/>
          </a:xfrm>
          <a:prstGeom prst="rect">
            <a:avLst/>
          </a:prstGeom>
          <a:gradFill rotWithShape="0">
            <a:gsLst>
              <a:gs pos="0">
                <a:srgbClr val="0c1f42"/>
              </a:gs>
              <a:gs pos="100000">
                <a:srgbClr val="1c459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solidFill>
            <a:srgbClr val="7dbe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未知"/>
          <p:cNvSpPr/>
          <p:nvPr/>
        </p:nvSpPr>
        <p:spPr>
          <a:xfrm>
            <a:off x="-7920" y="4149720"/>
            <a:ext cx="414828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291d62"/>
              </a:gs>
              <a:gs pos="100000">
                <a:srgbClr val="5940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2924280"/>
            <a:ext cx="464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未知"/>
          <p:cNvSpPr/>
          <p:nvPr/>
        </p:nvSpPr>
        <p:spPr>
          <a:xfrm>
            <a:off x="965160" y="0"/>
            <a:ext cx="3822840" cy="6870600"/>
          </a:xfrm>
          <a:custGeom>
            <a:avLst/>
            <a:gdLst/>
            <a:ahLst/>
            <a:rect l="l" t="t" r="r" b="b"/>
            <a:pathLst>
              <a:path w="2408" h="4328">
                <a:moveTo>
                  <a:pt x="864" y="0"/>
                </a:moveTo>
                <a:cubicBezTo>
                  <a:pt x="2026" y="270"/>
                  <a:pt x="2408" y="1624"/>
                  <a:pt x="1984" y="2576"/>
                </a:cubicBezTo>
                <a:cubicBezTo>
                  <a:pt x="1560" y="3528"/>
                  <a:pt x="880" y="3969"/>
                  <a:pt x="0" y="4320"/>
                </a:cubicBezTo>
                <a:lnTo>
                  <a:pt x="1208" y="4328"/>
                </a:lnTo>
                <a:cubicBezTo>
                  <a:pt x="1520" y="4072"/>
                  <a:pt x="2144" y="3336"/>
                  <a:pt x="2272" y="2560"/>
                </a:cubicBezTo>
                <a:cubicBezTo>
                  <a:pt x="2400" y="1784"/>
                  <a:pt x="2280" y="416"/>
                  <a:pt x="1000" y="0"/>
                </a:cubicBezTo>
                <a:lnTo>
                  <a:pt x="864" y="0"/>
                </a:lnTo>
                <a:close/>
              </a:path>
            </a:pathLst>
          </a:custGeom>
          <a:gradFill rotWithShape="0">
            <a:gsLst>
              <a:gs pos="0">
                <a:srgbClr val="daeccd"/>
              </a:gs>
              <a:gs pos="100000">
                <a:srgbClr val="7dbe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9A95-79A2-480C-A05C-7182C42E8153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7dbe4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yiliao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55640" y="2997360"/>
            <a:ext cx="47530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医学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模板下载</a:t>
            </a: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256" name=""/>
            <p:cNvSpPr/>
            <p:nvPr/>
          </p:nvSpPr>
          <p:spPr>
            <a:xfrm rot="17973000">
              <a:off x="4558320" y="2530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3465600">
              <a:off x="4608720" y="46411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4368800">
              <a:off x="3389760" y="25531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7534800">
              <a:off x="3351600" y="46076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1c45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be4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dbe4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36628"/>
                </a:gs>
                <a:gs pos="50000">
                  <a:srgbClr val="7dbe4c"/>
                </a:gs>
                <a:gs pos="100000">
                  <a:srgbClr val="4366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7dbe4c">
                    <a:alpha val="0"/>
                  </a:srgbClr>
                </a:gs>
                <a:gs pos="100000">
                  <a:srgbClr val="4f78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281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28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29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0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17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22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33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7dbe4c"/>
                </a:gs>
                <a:gs pos="100000">
                  <a:srgbClr val="3957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33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b13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34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7dbe4c"/>
                </a:gs>
                <a:gs pos="100000">
                  <a:srgbClr val="3957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351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b13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90720" y="220968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369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a7d287"/>
                </a:gs>
                <a:gs pos="100000">
                  <a:srgbClr val="7dbe4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b2013"/>
                </a:gs>
                <a:gs pos="100000">
                  <a:srgbClr val="b1362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302274"/>
                </a:gs>
                <a:gs pos="100000">
                  <a:srgbClr val="5940d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381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08dea"/>
                  </a:gs>
                  <a:gs pos="100000">
                    <a:srgbClr val="1d55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6406b"/>
                  </a:gs>
                  <a:gs pos="100000">
                    <a:srgbClr val="308dea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406b"/>
                  </a:gs>
                  <a:gs pos="100000">
                    <a:srgbClr val="308de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390" name=""/>
            <p:cNvSpPr/>
            <p:nvPr/>
          </p:nvSpPr>
          <p:spPr>
            <a:xfrm>
              <a:off x="1806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2320" y="1447920"/>
              <a:ext cx="4419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6729"/>
                </a:gs>
                <a:gs pos="50000">
                  <a:srgbClr val="7dbe4c"/>
                </a:gs>
                <a:gs pos="100000">
                  <a:srgbClr val="43672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940d6"/>
                      </a:gs>
                      <a:gs pos="100000">
                        <a:srgbClr val="38288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940d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402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08dea"/>
                      </a:gs>
                      <a:gs pos="100000">
                        <a:srgbClr val="0b223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08de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5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dbe4c"/>
                    </a:gs>
                    <a:gs pos="100000">
                      <a:srgbClr val="3f61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7dbe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13621"/>
                      </a:gs>
                      <a:gs pos="100000">
                        <a:srgbClr val="5a1b1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b1362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8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724280" y="3086280"/>
            <a:ext cx="434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dbe4c"/>
                    </a:gs>
                    <a:gs pos="100000">
                      <a:srgbClr val="308dea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dbe4c"/>
                  </a:gs>
                  <a:gs pos="100000">
                    <a:srgbClr val="308dea"/>
                  </a:gs>
                </a:gsLst>
                <a:lin ang="1080000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0" y="620640"/>
            <a:ext cx="4503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8AD3-A647-4C2E-812C-A3389B2288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981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542e"/>
              </a:gs>
              <a:gs pos="50000">
                <a:srgbClr val="eab764"/>
              </a:gs>
              <a:gs pos="100000">
                <a:srgbClr val="6b542e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743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406b"/>
              </a:gs>
              <a:gs pos="50000">
                <a:srgbClr val="308dea"/>
              </a:gs>
              <a:gs pos="100000">
                <a:srgbClr val="16406b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5053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267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02f67"/>
              </a:gs>
              <a:gs pos="50000">
                <a:srgbClr val="8d67e1"/>
              </a:gs>
              <a:gs pos="100000">
                <a:srgbClr val="402f67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5029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dbe4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8dea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308dea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308d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08d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db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4590"/>
                </a:solidFill>
                <a:latin typeface="Arial"/>
                <a:ea typeface="宋体"/>
              </a:rPr>
              <a:t>On the </a:t>
            </a:r>
            <a:r>
              <a:rPr b="1" lang="en-US" sz="2400" spc="-1" strike="noStrike">
                <a:solidFill>
                  <a:srgbClr val="b13621"/>
                </a:solidFill>
                <a:latin typeface="Arial"/>
                <a:ea typeface="宋体"/>
              </a:rPr>
              <a:t>[View]</a:t>
            </a:r>
            <a:r>
              <a:rPr b="1" lang="en-US" sz="2400" spc="-1" strike="noStrike">
                <a:solidFill>
                  <a:srgbClr val="1c4590"/>
                </a:solidFill>
                <a:latin typeface="Arial"/>
                <a:ea typeface="宋体"/>
              </a:rPr>
              <a:t> menu, point to </a:t>
            </a:r>
            <a:r>
              <a:rPr b="1" lang="en-US" sz="2400" spc="-1" strike="noStrike">
                <a:solidFill>
                  <a:srgbClr val="b13621"/>
                </a:solidFill>
                <a:latin typeface="Arial"/>
                <a:ea typeface="宋体"/>
              </a:rPr>
              <a:t>[Master],</a:t>
            </a:r>
            <a:r>
              <a:rPr b="1" lang="en-US" sz="2400" spc="-1" strike="noStrike">
                <a:solidFill>
                  <a:srgbClr val="1c4590"/>
                </a:solidFill>
                <a:latin typeface="Arial"/>
                <a:ea typeface="宋体"/>
              </a:rPr>
              <a:t> and then click </a:t>
            </a:r>
            <a:r>
              <a:rPr b="1" lang="en-US" sz="2400" spc="-1" strike="noStrike">
                <a:solidFill>
                  <a:srgbClr val="b13621"/>
                </a:solidFill>
                <a:latin typeface="Arial"/>
                <a:ea typeface="宋体"/>
              </a:rPr>
              <a:t>[Slide Master]</a:t>
            </a:r>
            <a:r>
              <a:rPr b="1" lang="en-US" sz="2400" spc="-1" strike="noStrike">
                <a:solidFill>
                  <a:srgbClr val="1c4590"/>
                </a:solidFill>
                <a:latin typeface="Arial"/>
                <a:ea typeface="宋体"/>
              </a:rPr>
              <a:t> or </a:t>
            </a:r>
            <a:r>
              <a:rPr b="1" lang="en-US" sz="2400" spc="-1" strike="noStrike">
                <a:solidFill>
                  <a:srgbClr val="b13621"/>
                </a:solidFill>
                <a:latin typeface="Arial"/>
                <a:ea typeface="宋体"/>
              </a:rPr>
              <a:t>[Notes Master].</a:t>
            </a:r>
            <a:r>
              <a:rPr b="1" lang="en-US" sz="2400" spc="-1" strike="noStrike">
                <a:solidFill>
                  <a:srgbClr val="1c459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1" lang="en-US" sz="2400" spc="-1" strike="noStrike">
                <a:solidFill>
                  <a:srgbClr val="1c459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09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485e4"/>
              </a:gs>
              <a:gs pos="100000">
                <a:srgbClr val="5940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3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c24"/>
                    </a:gs>
                    <a:gs pos="100000">
                      <a:srgbClr val="7dbe4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dbe4c"/>
                    </a:gs>
                    <a:gs pos="100000">
                      <a:srgbClr val="c4e1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b13621"/>
                  </a:gs>
                  <a:gs pos="100000">
                    <a:srgbClr val="51180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2b8b0"/>
                  </a:gs>
                  <a:gs pos="100000">
                    <a:srgbClr val="b1362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b13621">
                      <a:alpha val="48235"/>
                    </a:srgbClr>
                  </a:gs>
                  <a:gs pos="100000">
                    <a:srgbClr val="8b2a1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b13621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3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4e9c5"/>
              </a:gs>
              <a:gs pos="100000">
                <a:srgbClr val="7dbe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28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dbe4c"/>
                </a:gs>
                <a:gs pos="100000">
                  <a:srgbClr val="2a41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13621"/>
                </a:gs>
                <a:gs pos="100000">
                  <a:srgbClr val="3710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5940d6"/>
                </a:gs>
                <a:gs pos="100000">
                  <a:srgbClr val="1f16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08dea"/>
                </a:gs>
                <a:gs pos="100000">
                  <a:srgbClr val="103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5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95723"/>
                </a:gs>
                <a:gs pos="50000">
                  <a:srgbClr val="7dbe4c"/>
                </a:gs>
                <a:gs pos="100000">
                  <a:srgbClr val="3957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6" name="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167" name=""/>
              <p:cNvSpPr/>
              <p:nvPr/>
            </p:nvSpPr>
            <p:spPr>
              <a:xfrm flipH="1" rot="16200000">
                <a:off x="2927160" y="325368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5d2"/>
                  </a:gs>
                  <a:gs pos="100000">
                    <a:srgbClr val="1c4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5400000">
                <a:off x="5531040" y="3202560"/>
                <a:ext cx="45900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5d2"/>
                  </a:gs>
                  <a:gs pos="100000">
                    <a:srgbClr val="1c459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10800000">
                <a:off x="423864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5d2"/>
                  </a:gs>
                  <a:gs pos="100000">
                    <a:srgbClr val="1c459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06240" y="2209680"/>
                <a:ext cx="23302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39080" y="2344680"/>
                <a:ext cx="20631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7dbe4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436628"/>
                  </a:gs>
                  <a:gs pos="50000">
                    <a:srgbClr val="7dbe4c"/>
                  </a:gs>
                  <a:gs pos="100000">
                    <a:srgbClr val="43662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192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7dbe4c"/>
                </a:gs>
                <a:gs pos="100000">
                  <a:srgbClr val="88c35b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5940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1d62"/>
                </a:gs>
                <a:gs pos="50000">
                  <a:srgbClr val="5940d6"/>
                </a:gs>
                <a:gs pos="100000">
                  <a:srgbClr val="291d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db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5723"/>
                </a:gs>
                <a:gs pos="50000">
                  <a:srgbClr val="7dbe4c"/>
                </a:gs>
                <a:gs pos="100000">
                  <a:srgbClr val="3957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08dea"/>
                </a:gs>
                <a:gs pos="100000">
                  <a:srgbClr val="87bcf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05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308d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2365a"/>
                  </a:gs>
                  <a:gs pos="50000">
                    <a:srgbClr val="308dea"/>
                  </a:gs>
                  <a:gs pos="100000">
                    <a:srgbClr val="12365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15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db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be4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dbe4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36628"/>
                </a:gs>
                <a:gs pos="50000">
                  <a:srgbClr val="7dbe4c"/>
                </a:gs>
                <a:gs pos="100000">
                  <a:srgbClr val="4366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7dbe4c">
                    <a:alpha val="0"/>
                  </a:srgbClr>
                </a:gs>
                <a:gs pos="100000">
                  <a:srgbClr val="4f78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08de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08de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94c7e"/>
                </a:gs>
                <a:gs pos="50000">
                  <a:srgbClr val="308dea"/>
                </a:gs>
                <a:gs pos="100000">
                  <a:srgbClr val="194c7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08dea">
                    <a:alpha val="0"/>
                  </a:srgbClr>
                </a:gs>
                <a:gs pos="100000">
                  <a:srgbClr val="1e59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31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1362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1180f"/>
                </a:gs>
                <a:gs pos="100000">
                  <a:srgbClr val="b1362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f1d11"/>
                </a:gs>
                <a:gs pos="50000">
                  <a:srgbClr val="b13621"/>
                </a:gs>
                <a:gs pos="100000">
                  <a:srgbClr val="5f1d1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b13621">
                    <a:alpha val="0"/>
                  </a:srgbClr>
                </a:gs>
                <a:gs pos="100000">
                  <a:srgbClr val="7022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41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46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260360" y="6165720"/>
            <a:ext cx="624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dbe4c"/>
                </a:solidFill>
                <a:uFillTx/>
                <a:latin typeface="Arial"/>
                <a:hlinkClick r:id="rId1"/>
              </a:rPr>
              <a:t>医疗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yil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23:04:44Z</dcterms:created>
  <dc:creator>http://www.eeppt.com</dc:creator>
  <dc:description>ppt模板下载网站 http://www.eeppt.com</dc:description>
  <dc:language>en-US</dc:language>
  <cp:lastModifiedBy/>
  <dcterms:modified xsi:type="dcterms:W3CDTF">2015-06-14T09:12:3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