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DFB-6BB9-425E-A0D8-51DF0E3B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DC8-D42A-4963-A8D0-26F43390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2AF-0FAB-4FD5-8C41-676D1964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E9D-6AE3-439D-9AA1-A698691F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27E-3567-41F3-93D2-038DE7D0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524-84F8-4230-81E7-5C87220A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61D-CB5E-44C0-BC2B-EDCB19C1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BBB-7CAA-49C3-A9F0-535BF12C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F72-59DC-464A-A6E9-F7ED8023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196-9B0C-459C-AB8B-3B06AE1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BD9-E2A5-4B68-8CD7-5CDDADC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F69-CBE6-4634-BF12-88BF2CE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0A51-21BB-47A5-A270-1E69928C8E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6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8380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中国风韵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163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09D-179A-434F-AF41-C85B5678BA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http://www.eeppt.com</dc:creator>
  <dc:description>ppt模板下载网站 http://www.eeppt.com</dc:description>
  <dc:language>en-US</dc:language>
  <cp:lastModifiedBy/>
  <dcterms:modified xsi:type="dcterms:W3CDTF">2015-06-14T08:55:41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