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3"/>
          <p:cNvSpPr/>
          <p:nvPr/>
        </p:nvSpPr>
        <p:spPr>
          <a:xfrm>
            <a:off x="642960" y="1429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综合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4"/>
          <p:cNvSpPr/>
          <p:nvPr/>
        </p:nvSpPr>
        <p:spPr>
          <a:xfrm>
            <a:off x="1857240" y="2286000"/>
            <a:ext cx="1308240" cy="130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5"/>
          <p:cNvSpPr/>
          <p:nvPr/>
        </p:nvSpPr>
        <p:spPr>
          <a:xfrm>
            <a:off x="3929040" y="2286000"/>
            <a:ext cx="1308240" cy="130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6"/>
          <p:cNvSpPr/>
          <p:nvPr/>
        </p:nvSpPr>
        <p:spPr>
          <a:xfrm>
            <a:off x="6000840" y="2286000"/>
            <a:ext cx="1307880" cy="130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0040" y="4143240"/>
            <a:ext cx="8286840" cy="2357640"/>
            <a:chOff x="500040" y="4143240"/>
            <a:chExt cx="8286840" cy="2357640"/>
          </a:xfrm>
        </p:grpSpPr>
        <p:sp>
          <p:nvSpPr>
            <p:cNvPr id="80" name="流程图: 可选过程 8"/>
            <p:cNvSpPr/>
            <p:nvPr/>
          </p:nvSpPr>
          <p:spPr>
            <a:xfrm>
              <a:off x="571320" y="4214520"/>
              <a:ext cx="8215560" cy="714240"/>
            </a:xfrm>
            <a:prstGeom prst="flowChartAlternateProcess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流程图: 可选过程 9"/>
            <p:cNvSpPr/>
            <p:nvPr/>
          </p:nvSpPr>
          <p:spPr>
            <a:xfrm>
              <a:off x="571320" y="5000400"/>
              <a:ext cx="8215560" cy="714240"/>
            </a:xfrm>
            <a:prstGeom prst="flowChartAlternateProcess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流程图: 可选过程 10"/>
            <p:cNvSpPr/>
            <p:nvPr/>
          </p:nvSpPr>
          <p:spPr>
            <a:xfrm>
              <a:off x="571320" y="5786640"/>
              <a:ext cx="8215560" cy="714240"/>
            </a:xfrm>
            <a:prstGeom prst="flowChartAlternateProcess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流程图: 可选过程 11"/>
            <p:cNvSpPr/>
            <p:nvPr/>
          </p:nvSpPr>
          <p:spPr>
            <a:xfrm>
              <a:off x="500040" y="4143240"/>
              <a:ext cx="8215560" cy="7142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输入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流程图: 可选过程 12"/>
            <p:cNvSpPr/>
            <p:nvPr/>
          </p:nvSpPr>
          <p:spPr>
            <a:xfrm>
              <a:off x="500040" y="4929120"/>
              <a:ext cx="8215560" cy="7142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输入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流程图: 可选过程 13"/>
            <p:cNvSpPr/>
            <p:nvPr/>
          </p:nvSpPr>
          <p:spPr>
            <a:xfrm>
              <a:off x="500040" y="5715000"/>
              <a:ext cx="8215560" cy="7142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输入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流程图: 可选过程 14"/>
            <p:cNvSpPr/>
            <p:nvPr/>
          </p:nvSpPr>
          <p:spPr>
            <a:xfrm>
              <a:off x="571320" y="4214520"/>
              <a:ext cx="1643040" cy="57132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可选过程 15"/>
            <p:cNvSpPr/>
            <p:nvPr/>
          </p:nvSpPr>
          <p:spPr>
            <a:xfrm>
              <a:off x="571320" y="5000400"/>
              <a:ext cx="1643040" cy="57132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可选过程 16"/>
            <p:cNvSpPr/>
            <p:nvPr/>
          </p:nvSpPr>
          <p:spPr>
            <a:xfrm>
              <a:off x="571320" y="5786640"/>
              <a:ext cx="1643040" cy="57132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加号 17"/>
          <p:cNvSpPr/>
          <p:nvPr/>
        </p:nvSpPr>
        <p:spPr>
          <a:xfrm>
            <a:off x="3214800" y="2643120"/>
            <a:ext cx="642960" cy="64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加号 18"/>
          <p:cNvSpPr/>
          <p:nvPr/>
        </p:nvSpPr>
        <p:spPr>
          <a:xfrm>
            <a:off x="5286240" y="2643120"/>
            <a:ext cx="642960" cy="64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9:10:00Z</dcterms:created>
  <dc:creator>http://www.eeppt.com</dc:creator>
  <dc:description>ppt模板下载网站 http://www.eeppt.com</dc:description>
  <dc:language>en-US</dc:language>
  <cp:lastModifiedBy/>
  <dcterms:modified xsi:type="dcterms:W3CDTF">2015-06-12T16:03:25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