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853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1853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5BAE-AD1C-4308-AF35-D0608DD6A4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B801-5ECD-4923-BD61-6F4B8FF3DA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6814-8B94-473F-A9CF-8BC29CDD05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348F-77E3-4D9A-97B4-2463CF25F8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66E2-87A1-49FB-B163-1D0BF1245F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595B-2D44-42AF-9699-D37392CE74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A1C5-B251-4679-9221-4A0D439AA4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305B-1640-4C90-9302-C0726ECE29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0B64-C9EA-4D55-A028-815D9B95B5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1853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E3BB-95E8-4CEE-97F7-DB818FB45A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52D9-518D-46CB-B8E7-EF78486162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206064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185360"/>
            <a:ext cx="264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C296-CDEA-42BB-9D56-0FC9B9BBB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8536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060640"/>
            <a:ext cx="40158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8536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7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436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664F96C-FFB0-43C1-BBAF-E463B57A5AA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2013120"/>
            <a:ext cx="9180360" cy="29383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4257720" cy="4608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213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13120"/>
            <a:ext cx="9180360" cy="29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953400" y="2852640"/>
            <a:ext cx="2190600" cy="2376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0606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A8A1-DBFC-4C74-9FB7-265BDFCF8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68360" y="417312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3213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436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28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29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38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308720" y="404640"/>
            <a:ext cx="1389240" cy="349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468360" y="278136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CCCC-0784-4B2F-83A0-C0FED69F61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5F5A-CC46-4EEA-925D-399B1615B0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http://www.eeppt.com</dc:creator>
  <dc:description>ppt模板下载网站 http://www.eeppt.com</dc:description>
  <dc:language>en-US</dc:language>
  <cp:lastModifiedBy/>
  <dcterms:modified xsi:type="dcterms:W3CDTF">2015-06-14T08:59:10Z</dcterms:modified>
  <cp:revision>30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