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EA8-8395-4C18-8693-729D17EC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805-45D4-4B47-BBAC-32A1EDD7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485-30CF-4281-A968-668120CE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A95-8492-4C53-A166-381D6CB8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0347-C6AB-4871-B387-008077A1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4131-44A8-4620-AC68-C518AB9E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628D-085E-431D-9C30-CE67F74B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4AB6-C6EA-4187-9362-74F24E61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7B3A-5E9D-42C6-ADF0-A2DA9ED8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2520" y="228240"/>
            <a:ext cx="82375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0C04-1D99-40FC-9CD6-A012DEB7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0E7D-B24B-4CCF-A62D-613C17AD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B13-3FC3-4570-8B23-9FACB031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C532-DD03-4511-99EA-F51485D9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7FD9-15A7-4DF1-AF78-38930CD5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FDA9-E92B-403B-93AA-EF47C6F3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A120-BBCD-4C33-BA62-7AFEF1EF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D1BE-FD5D-45DE-A670-58A882DA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0E4-96B9-4938-A1C9-D3538A26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C26-8ACB-4A4C-BECA-11644121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4FE-6555-4286-9DE2-D5542CEA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2520" y="228240"/>
            <a:ext cx="82375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0F5-B3DD-4B95-A8D5-72E516B1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36D-2812-418A-B90C-65F4F546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868-6DCE-43DB-B443-BDB49688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F12-BA2F-4C8E-B91F-31F8952F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01320" y="636444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127400" y="6357600"/>
            <a:ext cx="9208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4911-58DA-4413-B435-6170D616EE9D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253200" cy="450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b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4622760" y="2079720"/>
            <a:ext cx="1235160" cy="11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391680" y="639432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5864040" y="6402240"/>
            <a:ext cx="27889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2534760" y="6394320"/>
            <a:ext cx="44316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77C0-D29C-4D94-8498-77F5CBA2118D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369360" y="4797360"/>
            <a:ext cx="783612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432240" y="1628640"/>
            <a:ext cx="1714320" cy="1613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47760" y="0"/>
            <a:ext cx="8796240" cy="633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720960" cy="2639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image" Target="../media/image7.png"/><Relationship Id="rId15" Type="http://schemas.openxmlformats.org/officeDocument/2006/relationships/image" Target="../media/image9.png"/><Relationship Id="rId16" Type="http://schemas.openxmlformats.org/officeDocument/2006/relationships/image" Target="../media/image7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38200" y="37227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9360" y="4797360"/>
            <a:ext cx="783612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蜻蜓与狗尾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7760" y="5551200"/>
            <a:ext cx="74404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20" y="6153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568" name="未知"/>
          <p:cNvSpPr/>
          <p:nvPr/>
        </p:nvSpPr>
        <p:spPr>
          <a:xfrm>
            <a:off x="1038240" y="4435560"/>
            <a:ext cx="701532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7a7a7"/>
              </a:gs>
              <a:gs pos="50000">
                <a:srgbClr val="dddddd"/>
              </a:gs>
              <a:gs pos="100000">
                <a:srgbClr val="a7a7a7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662200" y="522936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78040" y="4813200"/>
            <a:ext cx="463680" cy="193680"/>
          </a:xfrm>
          <a:prstGeom prst="ellipse">
            <a:avLst/>
          </a:prstGeom>
          <a:solidFill>
            <a:srgbClr val="938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008080" y="5116680"/>
            <a:ext cx="50508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31840" y="2598840"/>
            <a:ext cx="463680" cy="193680"/>
          </a:xfrm>
          <a:prstGeom prst="ellipse">
            <a:avLst/>
          </a:prstGeom>
          <a:solidFill>
            <a:srgbClr val="13d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362240" y="517860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86000" y="4265640"/>
            <a:ext cx="463320" cy="193680"/>
          </a:xfrm>
          <a:prstGeom prst="ellipse">
            <a:avLst/>
          </a:prstGeom>
          <a:solidFill>
            <a:srgbClr val="efc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240680" y="520704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267680" y="3986280"/>
            <a:ext cx="463320" cy="193680"/>
          </a:xfrm>
          <a:prstGeom prst="ellipse">
            <a:avLst/>
          </a:prstGeom>
          <a:solidFill>
            <a:srgbClr val="938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86560" y="50626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610320" y="4192560"/>
            <a:ext cx="463680" cy="193680"/>
          </a:xfrm>
          <a:prstGeom prst="ellipse">
            <a:avLst/>
          </a:prstGeom>
          <a:solidFill>
            <a:srgbClr val="13d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940360" y="51562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62680" y="4967280"/>
            <a:ext cx="463680" cy="193680"/>
          </a:xfrm>
          <a:prstGeom prst="ellipse">
            <a:avLst/>
          </a:prstGeom>
          <a:solidFill>
            <a:srgbClr val="efc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330200" y="562284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937120" y="564516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51000" y="39117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57240" y="225108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587680" y="445788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846760" y="464328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73880" y="38448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142040" y="36432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未知"/>
          <p:cNvSpPr/>
          <p:nvPr/>
        </p:nvSpPr>
        <p:spPr>
          <a:xfrm>
            <a:off x="3402000" y="188748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1c1c1"/>
              </a:gs>
              <a:gs pos="50000">
                <a:srgbClr val="ffffff"/>
              </a:gs>
              <a:gs pos="100000">
                <a:srgbClr val="c1c1c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27440" y="2000160"/>
            <a:ext cx="225360" cy="225360"/>
          </a:xfrm>
          <a:prstGeom prst="ellipse">
            <a:avLst/>
          </a:prstGeom>
          <a:solidFill>
            <a:srgbClr val="efcf0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27440" y="2382840"/>
            <a:ext cx="225360" cy="225360"/>
          </a:xfrm>
          <a:prstGeom prst="ellipse">
            <a:avLst/>
          </a:prstGeom>
          <a:solidFill>
            <a:srgbClr val="13d3f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727440" y="2776680"/>
            <a:ext cx="225360" cy="225360"/>
          </a:xfrm>
          <a:prstGeom prst="ellipse">
            <a:avLst/>
          </a:prstGeom>
          <a:solidFill>
            <a:srgbClr val="938bf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038480" y="195588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038480" y="23385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038480" y="27432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351240" y="4115520"/>
            <a:ext cx="2662200" cy="21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54" y="58966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oordinate Depth in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3-D Setting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562720" y="1828800"/>
            <a:ext cx="234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未知"/>
          <p:cNvSpPr/>
          <p:nvPr/>
        </p:nvSpPr>
        <p:spPr>
          <a:xfrm>
            <a:off x="1116000" y="234936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075463"/>
              </a:gs>
              <a:gs pos="50000">
                <a:srgbClr val="13d3f9"/>
              </a:gs>
              <a:gs pos="100000">
                <a:srgbClr val="07546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36600" y="2681280"/>
            <a:ext cx="21456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95560" y="2994120"/>
            <a:ext cx="25092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930480" y="3295800"/>
            <a:ext cx="34164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80120" y="3917880"/>
            <a:ext cx="536760" cy="64764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029200" y="3657600"/>
            <a:ext cx="422280" cy="40464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46360" y="197640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38440" y="199080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621240" y="199404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753080" y="19875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943600" y="1984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01640" y="3006720"/>
            <a:ext cx="226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17520" y="347184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112840" y="401004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65560" y="454644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154400" y="516744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4" name=""/>
          <p:cNvCxnSpPr>
            <a:stCxn id="599" idx="3"/>
            <a:endCxn id="609" idx="0"/>
          </p:cNvCxnSpPr>
          <p:nvPr/>
        </p:nvCxnSpPr>
        <p:spPr>
          <a:xfrm rot="5400000">
            <a:off x="1942200" y="2705040"/>
            <a:ext cx="194400" cy="410040"/>
          </a:xfrm>
          <a:prstGeom prst="bentConnector3">
            <a:avLst>
              <a:gd name="adj1" fmla="val 4916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15" name=""/>
          <p:cNvCxnSpPr>
            <a:stCxn id="600" idx="3"/>
            <a:endCxn id="610" idx="0"/>
          </p:cNvCxnSpPr>
          <p:nvPr/>
        </p:nvCxnSpPr>
        <p:spPr>
          <a:xfrm rot="5400000">
            <a:off x="2622960" y="2973960"/>
            <a:ext cx="295560" cy="700920"/>
          </a:xfrm>
          <a:prstGeom prst="bentConnector3">
            <a:avLst>
              <a:gd name="adj1" fmla="val 495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16" name=""/>
          <p:cNvCxnSpPr>
            <a:stCxn id="601" idx="3"/>
            <a:endCxn id="611" idx="0"/>
          </p:cNvCxnSpPr>
          <p:nvPr/>
        </p:nvCxnSpPr>
        <p:spPr>
          <a:xfrm rot="5400000">
            <a:off x="3496680" y="3404880"/>
            <a:ext cx="424440" cy="786600"/>
          </a:xfrm>
          <a:prstGeom prst="bentConnector3">
            <a:avLst>
              <a:gd name="adj1" fmla="val 4974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17" name=""/>
          <p:cNvCxnSpPr>
            <a:stCxn id="603" idx="3"/>
            <a:endCxn id="612" idx="0"/>
          </p:cNvCxnSpPr>
          <p:nvPr/>
        </p:nvCxnSpPr>
        <p:spPr>
          <a:xfrm rot="5400000">
            <a:off x="4611600" y="3918240"/>
            <a:ext cx="484920" cy="772200"/>
          </a:xfrm>
          <a:prstGeom prst="bentConnector3">
            <a:avLst>
              <a:gd name="adj1" fmla="val 4977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18" name=""/>
          <p:cNvCxnSpPr>
            <a:stCxn id="602" idx="3"/>
            <a:endCxn id="613" idx="0"/>
          </p:cNvCxnSpPr>
          <p:nvPr/>
        </p:nvCxnSpPr>
        <p:spPr>
          <a:xfrm rot="5400000">
            <a:off x="5601240" y="4321080"/>
            <a:ext cx="602640" cy="1091160"/>
          </a:xfrm>
          <a:prstGeom prst="bentConnector3">
            <a:avLst>
              <a:gd name="adj1" fmla="val 49850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619" name=""/>
          <p:cNvSpPr/>
          <p:nvPr/>
        </p:nvSpPr>
        <p:spPr>
          <a:xfrm>
            <a:off x="6180120" y="2394000"/>
            <a:ext cx="53676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efcf0f"/>
              </a:gs>
              <a:gs pos="50000">
                <a:srgbClr val="f8eca8"/>
              </a:gs>
              <a:gs pos="100000">
                <a:srgbClr val="efcf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029200" y="2390760"/>
            <a:ext cx="422280" cy="135900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efcf0f"/>
              </a:gs>
              <a:gs pos="50000">
                <a:srgbClr val="f8eca8"/>
              </a:gs>
              <a:gs pos="100000">
                <a:srgbClr val="efcf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930480" y="2387520"/>
            <a:ext cx="341640" cy="9972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efcf0f"/>
              </a:gs>
              <a:gs pos="50000">
                <a:srgbClr val="f8eca8"/>
              </a:gs>
              <a:gs pos="100000">
                <a:srgbClr val="efcf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995560" y="2394000"/>
            <a:ext cx="25092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efcf0f"/>
              </a:gs>
              <a:gs pos="50000">
                <a:srgbClr val="f8eca8"/>
              </a:gs>
              <a:gs pos="100000">
                <a:srgbClr val="efcf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136600" y="2395440"/>
            <a:ext cx="214560" cy="33984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efcf0f"/>
              </a:gs>
              <a:gs pos="50000">
                <a:srgbClr val="f8eca8"/>
              </a:gs>
              <a:gs pos="100000">
                <a:srgbClr val="efcf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 flipH="1">
            <a:off x="3402720" y="2338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480 h 834840"/>
              <a:gd name="textAreaBottom" fmla="*/ 5904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face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452600" y="23986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fbd6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490760" y="3595680"/>
            <a:ext cx="3003480" cy="2771280"/>
            <a:chOff x="1490760" y="3595680"/>
            <a:chExt cx="3003480" cy="2771280"/>
          </a:xfrm>
        </p:grpSpPr>
        <p:grpSp>
          <p:nvGrpSpPr>
            <p:cNvPr id="628" name=""/>
            <p:cNvGrpSpPr/>
            <p:nvPr/>
          </p:nvGrpSpPr>
          <p:grpSpPr>
            <a:xfrm>
              <a:off x="1665360" y="4784400"/>
              <a:ext cx="2706480" cy="1582560"/>
              <a:chOff x="1665360" y="4784400"/>
              <a:chExt cx="2706480" cy="1582560"/>
            </a:xfrm>
          </p:grpSpPr>
          <p:sp>
            <p:nvSpPr>
              <p:cNvPr id="629" name="未知"/>
              <p:cNvSpPr/>
              <p:nvPr/>
            </p:nvSpPr>
            <p:spPr>
              <a:xfrm>
                <a:off x="1665360" y="531720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未知"/>
              <p:cNvSpPr/>
              <p:nvPr/>
            </p:nvSpPr>
            <p:spPr>
              <a:xfrm>
                <a:off x="2716560" y="523620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未知"/>
              <p:cNvSpPr/>
              <p:nvPr/>
            </p:nvSpPr>
            <p:spPr>
              <a:xfrm>
                <a:off x="1665360" y="478440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1607400" y="4397760"/>
              <a:ext cx="2802240" cy="1582560"/>
              <a:chOff x="1607400" y="4397760"/>
              <a:chExt cx="2802240" cy="1582560"/>
            </a:xfrm>
          </p:grpSpPr>
          <p:sp>
            <p:nvSpPr>
              <p:cNvPr id="633" name="未知"/>
              <p:cNvSpPr/>
              <p:nvPr/>
            </p:nvSpPr>
            <p:spPr>
              <a:xfrm>
                <a:off x="1607400" y="4930560"/>
                <a:ext cx="11005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未知"/>
              <p:cNvSpPr/>
              <p:nvPr/>
            </p:nvSpPr>
            <p:spPr>
              <a:xfrm>
                <a:off x="2695680" y="4849560"/>
                <a:ext cx="1713600" cy="112572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未知"/>
              <p:cNvSpPr/>
              <p:nvPr/>
            </p:nvSpPr>
            <p:spPr>
              <a:xfrm>
                <a:off x="1607400" y="4397760"/>
                <a:ext cx="2802240" cy="130140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1548720" y="3997440"/>
              <a:ext cx="2902680" cy="1582560"/>
              <a:chOff x="1548720" y="3997440"/>
              <a:chExt cx="2902680" cy="1582560"/>
            </a:xfrm>
          </p:grpSpPr>
          <p:sp>
            <p:nvSpPr>
              <p:cNvPr id="637" name="未知"/>
              <p:cNvSpPr/>
              <p:nvPr/>
            </p:nvSpPr>
            <p:spPr>
              <a:xfrm>
                <a:off x="1548720" y="453024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未知"/>
              <p:cNvSpPr/>
              <p:nvPr/>
            </p:nvSpPr>
            <p:spPr>
              <a:xfrm>
                <a:off x="2675880" y="444924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未知"/>
              <p:cNvSpPr/>
              <p:nvPr/>
            </p:nvSpPr>
            <p:spPr>
              <a:xfrm>
                <a:off x="1548720" y="399744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1490760" y="3595680"/>
              <a:ext cx="3003480" cy="1582560"/>
              <a:chOff x="1490760" y="3595680"/>
              <a:chExt cx="3003480" cy="1582560"/>
            </a:xfrm>
          </p:grpSpPr>
          <p:sp>
            <p:nvSpPr>
              <p:cNvPr id="641" name="未知"/>
              <p:cNvSpPr/>
              <p:nvPr/>
            </p:nvSpPr>
            <p:spPr>
              <a:xfrm>
                <a:off x="1490760" y="412848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未知"/>
              <p:cNvSpPr/>
              <p:nvPr/>
            </p:nvSpPr>
            <p:spPr>
              <a:xfrm>
                <a:off x="2657160" y="404748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未知"/>
              <p:cNvSpPr/>
              <p:nvPr/>
            </p:nvSpPr>
            <p:spPr>
              <a:xfrm>
                <a:off x="1490760" y="359568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5b6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4" name=""/>
          <p:cNvSpPr/>
          <p:nvPr/>
        </p:nvSpPr>
        <p:spPr>
          <a:xfrm>
            <a:off x="4986360" y="3571920"/>
            <a:ext cx="3146400" cy="42876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967280" y="4138560"/>
            <a:ext cx="3257640" cy="42696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943520" y="5253120"/>
            <a:ext cx="3065400" cy="43956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952880" y="4695840"/>
            <a:ext cx="3065760" cy="37944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21055800">
            <a:off x="1060200" y="3795480"/>
            <a:ext cx="393480" cy="1920600"/>
          </a:xfrm>
          <a:prstGeom prst="upArrow">
            <a:avLst>
              <a:gd name="adj1" fmla="val 32231"/>
              <a:gd name="adj2" fmla="val 93395"/>
            </a:avLst>
          </a:prstGeom>
          <a:solidFill>
            <a:srgbClr val="938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4800" y="5829480"/>
            <a:ext cx="15955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1366920" y="185256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5014800" y="179532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522360" y="5316480"/>
            <a:ext cx="8059320" cy="811080"/>
            <a:chOff x="522360" y="5316480"/>
            <a:chExt cx="8059320" cy="811080"/>
          </a:xfrm>
        </p:grpSpPr>
        <p:sp>
          <p:nvSpPr>
            <p:cNvPr id="654" name=""/>
            <p:cNvSpPr/>
            <p:nvPr/>
          </p:nvSpPr>
          <p:spPr>
            <a:xfrm>
              <a:off x="522360" y="5316480"/>
              <a:ext cx="8059320" cy="811080"/>
            </a:xfrm>
            <a:prstGeom prst="rect">
              <a:avLst/>
            </a:prstGeom>
            <a:gradFill rotWithShape="0">
              <a:gsLst>
                <a:gs pos="0">
                  <a:srgbClr val="938bfd"/>
                </a:gs>
                <a:gs pos="100000">
                  <a:srgbClr val="504c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33160" y="5329800"/>
              <a:ext cx="8015040" cy="2520"/>
            </a:xfrm>
            <a:prstGeom prst="line">
              <a:avLst/>
            </a:prstGeom>
            <a:ln w="9360">
              <a:solidFill>
                <a:srgbClr val="f8f8f8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1123920" y="4746600"/>
            <a:ext cx="6924240" cy="466920"/>
            <a:chOff x="1123920" y="4746600"/>
            <a:chExt cx="6924240" cy="466920"/>
          </a:xfrm>
        </p:grpSpPr>
        <p:sp>
          <p:nvSpPr>
            <p:cNvPr id="657" name=""/>
            <p:cNvSpPr/>
            <p:nvPr/>
          </p:nvSpPr>
          <p:spPr>
            <a:xfrm>
              <a:off x="1123920" y="4746600"/>
              <a:ext cx="6924240" cy="466920"/>
            </a:xfrm>
            <a:prstGeom prst="rect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0a7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3280" y="4754160"/>
              <a:ext cx="6886440" cy="1440"/>
            </a:xfrm>
            <a:prstGeom prst="line">
              <a:avLst/>
            </a:prstGeom>
            <a:ln w="9360">
              <a:solidFill>
                <a:srgbClr val="f8f8f8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1422360" y="1555920"/>
            <a:ext cx="6194160" cy="2957040"/>
            <a:chOff x="1422360" y="1555920"/>
            <a:chExt cx="6194160" cy="2957040"/>
          </a:xfrm>
        </p:grpSpPr>
        <p:sp>
          <p:nvSpPr>
            <p:cNvPr id="660" name=""/>
            <p:cNvSpPr/>
            <p:nvPr/>
          </p:nvSpPr>
          <p:spPr>
            <a:xfrm>
              <a:off x="1422360" y="1555920"/>
              <a:ext cx="6183720" cy="2957040"/>
            </a:xfrm>
            <a:prstGeom prst="roundRect">
              <a:avLst>
                <a:gd name="adj" fmla="val 5722"/>
              </a:avLst>
            </a:pr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/>
              </a:solidFill>
              <a:miter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1" name="" descr=""/>
            <p:cNvPicPr/>
            <p:nvPr/>
          </p:nvPicPr>
          <p:blipFill>
            <a:blip r:embed="rId2"/>
            <a:srcRect l="0" t="12511" r="0" b="0"/>
            <a:stretch/>
          </p:blipFill>
          <p:spPr>
            <a:xfrm>
              <a:off x="1432800" y="1566720"/>
              <a:ext cx="6183720" cy="614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662" name=""/>
          <p:cNvSpPr/>
          <p:nvPr/>
        </p:nvSpPr>
        <p:spPr>
          <a:xfrm>
            <a:off x="1398600" y="5349960"/>
            <a:ext cx="64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752480" y="4724280"/>
            <a:ext cx="57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672560" y="201312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052720" y="274320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052720" y="325116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52720" y="375120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320920" y="2790720"/>
            <a:ext cx="2984400" cy="312840"/>
          </a:xfrm>
          <a:prstGeom prst="rect">
            <a:avLst/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320920" y="3298680"/>
            <a:ext cx="2984400" cy="312840"/>
          </a:xfrm>
          <a:prstGeom prst="rect">
            <a:avLst/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320920" y="3797280"/>
            <a:ext cx="2984400" cy="312840"/>
          </a:xfrm>
          <a:prstGeom prst="rect">
            <a:avLst/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5695920" y="2665440"/>
            <a:ext cx="1828800" cy="16336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442880" y="2054160"/>
            <a:ext cx="320760" cy="416160"/>
          </a:xfrm>
          <a:custGeom>
            <a:avLst/>
            <a:gdLst>
              <a:gd name="textAreaLeft" fmla="*/ 50040 w 320760"/>
              <a:gd name="textAreaRight" fmla="*/ 228600 w 320760"/>
              <a:gd name="textAreaTop" fmla="*/ 104760 h 416160"/>
              <a:gd name="textAreaBottom" fmla="*/ 311400 h 416160"/>
            </a:gdLst>
            <a:ahLst/>
            <a:rect l="textAreaLeft" t="textAreaTop" r="textAreaRight" b="textAreaBottom"/>
            <a:pathLst>
              <a:path w="21600" h="21600">
                <a:moveTo>
                  <a:pt x="3375" y="5441"/>
                </a:moveTo>
                <a:lnTo>
                  <a:pt x="9089" y="5441"/>
                </a:lnTo>
                <a:lnTo>
                  <a:pt x="9089" y="0"/>
                </a:lnTo>
                <a:lnTo>
                  <a:pt x="21600" y="10800"/>
                </a:lnTo>
                <a:lnTo>
                  <a:pt x="9089" y="21600"/>
                </a:lnTo>
                <a:lnTo>
                  <a:pt x="9089" y="16159"/>
                </a:lnTo>
                <a:lnTo>
                  <a:pt x="3375" y="16159"/>
                </a:lnTo>
                <a:close/>
              </a:path>
              <a:path w="21600" h="21600">
                <a:moveTo>
                  <a:pt x="0" y="5441"/>
                </a:moveTo>
                <a:lnTo>
                  <a:pt x="675" y="5441"/>
                </a:lnTo>
                <a:lnTo>
                  <a:pt x="675" y="16159"/>
                </a:lnTo>
                <a:lnTo>
                  <a:pt x="0" y="16159"/>
                </a:lnTo>
                <a:close/>
              </a:path>
              <a:path w="21600" h="21600">
                <a:moveTo>
                  <a:pt x="1350" y="5441"/>
                </a:moveTo>
                <a:lnTo>
                  <a:pt x="2700" y="5441"/>
                </a:lnTo>
                <a:lnTo>
                  <a:pt x="2700" y="16159"/>
                </a:lnTo>
                <a:lnTo>
                  <a:pt x="1350" y="16159"/>
                </a:lnTo>
                <a:close/>
              </a:path>
            </a:pathLst>
          </a:custGeom>
          <a:solidFill>
            <a:srgbClr val="212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674" name=""/>
          <p:cNvSpPr/>
          <p:nvPr/>
        </p:nvSpPr>
        <p:spPr>
          <a:xfrm>
            <a:off x="418320" y="6318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1300320" y="1600200"/>
            <a:ext cx="1879200" cy="1917720"/>
            <a:chOff x="1300320" y="1600200"/>
            <a:chExt cx="1879200" cy="1917720"/>
          </a:xfrm>
        </p:grpSpPr>
        <p:pic>
          <p:nvPicPr>
            <p:cNvPr id="676" name="" descr=""/>
            <p:cNvPicPr/>
            <p:nvPr/>
          </p:nvPicPr>
          <p:blipFill>
            <a:blip r:embed="rId2"/>
            <a:stretch/>
          </p:blipFill>
          <p:spPr>
            <a:xfrm>
              <a:off x="1300320" y="160020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1300320" y="1600200"/>
              <a:ext cx="1866960" cy="1825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未知"/>
            <p:cNvSpPr/>
            <p:nvPr/>
          </p:nvSpPr>
          <p:spPr>
            <a:xfrm>
              <a:off x="1494000" y="1636920"/>
              <a:ext cx="1466280" cy="6332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1433520" y="2861280"/>
              <a:ext cx="1648080" cy="656640"/>
              <a:chOff x="1433520" y="2861280"/>
              <a:chExt cx="1648080" cy="65664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1721160" y="2861280"/>
                <a:ext cx="1360440" cy="616680"/>
                <a:chOff x="1721160" y="2861280"/>
                <a:chExt cx="1360440" cy="616680"/>
              </a:xfrm>
            </p:grpSpPr>
            <p:sp>
              <p:nvSpPr>
                <p:cNvPr id="681" name=""/>
                <p:cNvSpPr/>
                <p:nvPr/>
              </p:nvSpPr>
              <p:spPr>
                <a:xfrm flipH="1" flipV="1" rot="3964800">
                  <a:off x="2463120" y="267480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H="1" flipV="1" rot="4780200">
                  <a:off x="2310120" y="273456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H="1" flipV="1" rot="5076000">
                  <a:off x="2216160" y="27475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H="1" flipV="1" rot="5608200">
                  <a:off x="2103840" y="275976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1433520" y="2871000"/>
                <a:ext cx="1359000" cy="646920"/>
                <a:chOff x="1433520" y="2871000"/>
                <a:chExt cx="1359000" cy="646920"/>
              </a:xfrm>
            </p:grpSpPr>
            <p:sp>
              <p:nvSpPr>
                <p:cNvPr id="686" name=""/>
                <p:cNvSpPr/>
                <p:nvPr/>
              </p:nvSpPr>
              <p:spPr>
                <a:xfrm flipH="1" flipV="1" rot="5317800">
                  <a:off x="2176560" y="275940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 flipV="1" rot="6133800">
                  <a:off x="2011320" y="275652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H="1" flipV="1" rot="6429000">
                  <a:off x="1919520" y="273240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flipH="1" flipV="1" rot="6961200">
                  <a:off x="1810800" y="269964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0" name=""/>
          <p:cNvGrpSpPr/>
          <p:nvPr/>
        </p:nvGrpSpPr>
        <p:grpSpPr>
          <a:xfrm>
            <a:off x="1347840" y="3956040"/>
            <a:ext cx="1879200" cy="1917720"/>
            <a:chOff x="1347840" y="3956040"/>
            <a:chExt cx="1879200" cy="1917720"/>
          </a:xfrm>
        </p:grpSpPr>
        <p:pic>
          <p:nvPicPr>
            <p:cNvPr id="691" name="" descr=""/>
            <p:cNvPicPr/>
            <p:nvPr/>
          </p:nvPicPr>
          <p:blipFill>
            <a:blip r:embed="rId3"/>
            <a:stretch/>
          </p:blipFill>
          <p:spPr>
            <a:xfrm>
              <a:off x="1347840" y="395604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1347840" y="3956040"/>
              <a:ext cx="1866960" cy="1825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未知"/>
            <p:cNvSpPr/>
            <p:nvPr/>
          </p:nvSpPr>
          <p:spPr>
            <a:xfrm>
              <a:off x="1541520" y="3992760"/>
              <a:ext cx="1466280" cy="6332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1481040" y="5217120"/>
              <a:ext cx="1648080" cy="656640"/>
              <a:chOff x="1481040" y="5217120"/>
              <a:chExt cx="1648080" cy="656640"/>
            </a:xfrm>
          </p:grpSpPr>
          <p:grpSp>
            <p:nvGrpSpPr>
              <p:cNvPr id="695" name=""/>
              <p:cNvGrpSpPr/>
              <p:nvPr/>
            </p:nvGrpSpPr>
            <p:grpSpPr>
              <a:xfrm>
                <a:off x="1768680" y="5217120"/>
                <a:ext cx="1360440" cy="616680"/>
                <a:chOff x="1768680" y="5217120"/>
                <a:chExt cx="1360440" cy="616680"/>
              </a:xfrm>
            </p:grpSpPr>
            <p:sp>
              <p:nvSpPr>
                <p:cNvPr id="696" name=""/>
                <p:cNvSpPr/>
                <p:nvPr/>
              </p:nvSpPr>
              <p:spPr>
                <a:xfrm flipH="1" flipV="1" rot="3964800">
                  <a:off x="2510640" y="50306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H="1" flipV="1" rot="4780200">
                  <a:off x="2357640" y="509040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H="1" flipV="1" rot="5076000">
                  <a:off x="2263680" y="510336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H="1" flipV="1" rot="5608200">
                  <a:off x="2151360" y="511560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1481040" y="5226840"/>
                <a:ext cx="1359000" cy="646920"/>
                <a:chOff x="1481040" y="5226840"/>
                <a:chExt cx="1359000" cy="646920"/>
              </a:xfrm>
            </p:grpSpPr>
            <p:sp>
              <p:nvSpPr>
                <p:cNvPr id="701" name=""/>
                <p:cNvSpPr/>
                <p:nvPr/>
              </p:nvSpPr>
              <p:spPr>
                <a:xfrm flipH="1" flipV="1" rot="5317800">
                  <a:off x="2224080" y="511524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H="1" flipV="1" rot="6133800">
                  <a:off x="2058840" y="511236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H="1" flipV="1" rot="6429000">
                  <a:off x="1967040" y="508824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H="1" flipV="1" rot="6961200">
                  <a:off x="1858320" y="505548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5" name=""/>
          <p:cNvGrpSpPr/>
          <p:nvPr/>
        </p:nvGrpSpPr>
        <p:grpSpPr>
          <a:xfrm>
            <a:off x="4495680" y="3160800"/>
            <a:ext cx="3701880" cy="1066680"/>
            <a:chOff x="4495680" y="3160800"/>
            <a:chExt cx="3701880" cy="1066680"/>
          </a:xfrm>
        </p:grpSpPr>
        <p:sp>
          <p:nvSpPr>
            <p:cNvPr id="706" name=""/>
            <p:cNvSpPr/>
            <p:nvPr/>
          </p:nvSpPr>
          <p:spPr>
            <a:xfrm>
              <a:off x="4495680" y="31608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fadcc"/>
                </a:gs>
                <a:gs pos="100000">
                  <a:srgbClr val="13d3f9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7" name="" descr=""/>
            <p:cNvPicPr/>
            <p:nvPr/>
          </p:nvPicPr>
          <p:blipFill>
            <a:blip r:embed="rId4"/>
            <a:stretch/>
          </p:blipFill>
          <p:spPr>
            <a:xfrm>
              <a:off x="4556160" y="3214800"/>
              <a:ext cx="79344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4627440" y="329256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Description of th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company’s sub conten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4492800" y="1833480"/>
            <a:ext cx="3701880" cy="1066680"/>
            <a:chOff x="4492800" y="1833480"/>
            <a:chExt cx="3701880" cy="1066680"/>
          </a:xfrm>
        </p:grpSpPr>
        <p:sp>
          <p:nvSpPr>
            <p:cNvPr id="710" name=""/>
            <p:cNvSpPr/>
            <p:nvPr/>
          </p:nvSpPr>
          <p:spPr>
            <a:xfrm>
              <a:off x="4492800" y="183348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d9815"/>
                </a:gs>
                <a:gs pos="100000">
                  <a:srgbClr val="faba1a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1" name="" descr=""/>
            <p:cNvPicPr/>
            <p:nvPr/>
          </p:nvPicPr>
          <p:blipFill>
            <a:blip r:embed="rId5"/>
            <a:stretch/>
          </p:blipFill>
          <p:spPr>
            <a:xfrm>
              <a:off x="4559400" y="188424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4627800" y="19573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Description of th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company’s sub conten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4498920" y="4491000"/>
            <a:ext cx="3701880" cy="1066680"/>
            <a:chOff x="4498920" y="4491000"/>
            <a:chExt cx="3701880" cy="1066680"/>
          </a:xfrm>
        </p:grpSpPr>
        <p:sp>
          <p:nvSpPr>
            <p:cNvPr id="714" name=""/>
            <p:cNvSpPr/>
            <p:nvPr/>
          </p:nvSpPr>
          <p:spPr>
            <a:xfrm>
              <a:off x="4498920" y="44910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4a90c"/>
                </a:gs>
                <a:gs pos="100000">
                  <a:srgbClr val="efcf0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5" name="" descr=""/>
            <p:cNvPicPr/>
            <p:nvPr/>
          </p:nvPicPr>
          <p:blipFill>
            <a:blip r:embed="rId6"/>
            <a:stretch/>
          </p:blipFill>
          <p:spPr>
            <a:xfrm>
              <a:off x="4554360" y="453852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4627440" y="460548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Description of th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company’s sub conten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1295280" y="220968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371600" y="456408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未知"/>
          <p:cNvSpPr/>
          <p:nvPr/>
        </p:nvSpPr>
        <p:spPr>
          <a:xfrm rot="16200000">
            <a:off x="3104280" y="44974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未知"/>
          <p:cNvSpPr/>
          <p:nvPr/>
        </p:nvSpPr>
        <p:spPr>
          <a:xfrm rot="16200000">
            <a:off x="3670920" y="3149640"/>
            <a:ext cx="314280" cy="10972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未知"/>
          <p:cNvSpPr/>
          <p:nvPr/>
        </p:nvSpPr>
        <p:spPr>
          <a:xfrm flipH="1" rot="16200000">
            <a:off x="3064680" y="19342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514600" y="2060640"/>
            <a:ext cx="2743200" cy="2743200"/>
          </a:xfrm>
          <a:prstGeom prst="ellipse">
            <a:avLst/>
          </a:prstGeom>
          <a:solidFill>
            <a:srgbClr val="33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657600" y="2575080"/>
            <a:ext cx="1619280" cy="161892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895480" y="3355920"/>
            <a:ext cx="152424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733920" y="2212920"/>
            <a:ext cx="91440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3828960" y="3736800"/>
            <a:ext cx="819360" cy="140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029200" y="366084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029200" y="2364840"/>
            <a:ext cx="53352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295880" y="296532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2914560" y="1336680"/>
            <a:ext cx="1167840" cy="1175400"/>
            <a:chOff x="2914560" y="1336680"/>
            <a:chExt cx="1167840" cy="1175400"/>
          </a:xfrm>
        </p:grpSpPr>
        <p:sp>
          <p:nvSpPr>
            <p:cNvPr id="733" name=""/>
            <p:cNvSpPr/>
            <p:nvPr/>
          </p:nvSpPr>
          <p:spPr>
            <a:xfrm>
              <a:off x="2914560" y="1336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2949480" y="1373040"/>
              <a:ext cx="1118520" cy="1139040"/>
              <a:chOff x="2949480" y="1373040"/>
              <a:chExt cx="1118520" cy="1139040"/>
            </a:xfrm>
          </p:grpSpPr>
          <p:pic>
            <p:nvPicPr>
              <p:cNvPr id="73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49480" y="1373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6" name=""/>
              <p:cNvSpPr/>
              <p:nvPr/>
            </p:nvSpPr>
            <p:spPr>
              <a:xfrm>
                <a:off x="2949480" y="1373040"/>
                <a:ext cx="1079640" cy="108576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37" name="" descr=""/>
              <p:cNvPicPr/>
              <p:nvPr/>
            </p:nvPicPr>
            <p:blipFill>
              <a:blip r:embed="rId3"/>
              <a:srcRect l="0" t="14289" r="0" b="0"/>
              <a:stretch/>
            </p:blipFill>
            <p:spPr>
              <a:xfrm>
                <a:off x="2959920" y="1418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38" name=""/>
              <p:cNvGrpSpPr/>
              <p:nvPr/>
            </p:nvGrpSpPr>
            <p:grpSpPr>
              <a:xfrm>
                <a:off x="3299760" y="1810440"/>
                <a:ext cx="768240" cy="701640"/>
                <a:chOff x="3299760" y="1810440"/>
                <a:chExt cx="768240" cy="701640"/>
              </a:xfrm>
            </p:grpSpPr>
            <p:grpSp>
              <p:nvGrpSpPr>
                <p:cNvPr id="739" name=""/>
                <p:cNvGrpSpPr/>
                <p:nvPr/>
              </p:nvGrpSpPr>
              <p:grpSpPr>
                <a:xfrm>
                  <a:off x="3476520" y="1810440"/>
                  <a:ext cx="591480" cy="694440"/>
                  <a:chOff x="3476520" y="1810440"/>
                  <a:chExt cx="591480" cy="69444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 flipH="1" flipV="1" rot="1528800">
                    <a:off x="3806640" y="1812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flipH="1" flipV="1" rot="2344200">
                    <a:off x="3760920" y="1896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flipH="1" flipV="1" rot="2640000">
                    <a:off x="3723840" y="1938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flipH="1" flipV="1" rot="3172200">
                    <a:off x="3678120" y="1986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4" name=""/>
                <p:cNvGrpSpPr/>
                <p:nvPr/>
              </p:nvGrpSpPr>
              <p:grpSpPr>
                <a:xfrm>
                  <a:off x="3299760" y="2002320"/>
                  <a:ext cx="743760" cy="509760"/>
                  <a:chOff x="3299760" y="2002320"/>
                  <a:chExt cx="743760" cy="50976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 flipH="1" flipV="1" rot="2881800">
                    <a:off x="3711240" y="1958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flipH="1" flipV="1" rot="3697200">
                    <a:off x="3637080" y="2018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 flipH="1" flipV="1" rot="3993000">
                    <a:off x="3586680" y="2043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 flipH="1" flipV="1" rot="4525200">
                    <a:off x="3526560" y="2070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49" name=""/>
            <p:cNvGrpSpPr/>
            <p:nvPr/>
          </p:nvGrpSpPr>
          <p:grpSpPr>
            <a:xfrm>
              <a:off x="3405240" y="1838520"/>
              <a:ext cx="677160" cy="617400"/>
              <a:chOff x="3405240" y="1838520"/>
              <a:chExt cx="677160" cy="61740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3561120" y="1838520"/>
                <a:ext cx="521280" cy="611280"/>
                <a:chOff x="3561120" y="1838520"/>
                <a:chExt cx="521280" cy="611280"/>
              </a:xfrm>
            </p:grpSpPr>
            <p:sp>
              <p:nvSpPr>
                <p:cNvPr id="751" name=""/>
                <p:cNvSpPr/>
                <p:nvPr/>
              </p:nvSpPr>
              <p:spPr>
                <a:xfrm flipH="1" flipV="1" rot="1528800">
                  <a:off x="3850920" y="18403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flipV="1" rot="2344200">
                  <a:off x="3812040" y="19144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flipV="1" rot="2640000">
                  <a:off x="3778920" y="1951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 flipV="1" rot="3172200">
                  <a:off x="3738240" y="19929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3405240" y="2006640"/>
                <a:ext cx="654480" cy="449280"/>
                <a:chOff x="3405240" y="2006640"/>
                <a:chExt cx="654480" cy="449280"/>
              </a:xfrm>
            </p:grpSpPr>
            <p:sp>
              <p:nvSpPr>
                <p:cNvPr id="756" name=""/>
                <p:cNvSpPr/>
                <p:nvPr/>
              </p:nvSpPr>
              <p:spPr>
                <a:xfrm flipH="1" flipV="1" rot="2881800">
                  <a:off x="3765960" y="19684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flipV="1" rot="3697200">
                  <a:off x="3701160" y="202248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flipV="1" rot="3993000">
                  <a:off x="3657960" y="20433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flipV="1" rot="4525200">
                  <a:off x="3603960" y="206712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0" name=""/>
            <p:cNvSpPr/>
            <p:nvPr/>
          </p:nvSpPr>
          <p:spPr>
            <a:xfrm>
              <a:off x="3199320" y="1755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1830240" y="2619360"/>
            <a:ext cx="1167840" cy="1175400"/>
            <a:chOff x="1830240" y="2619360"/>
            <a:chExt cx="1167840" cy="1175400"/>
          </a:xfrm>
        </p:grpSpPr>
        <p:sp>
          <p:nvSpPr>
            <p:cNvPr id="762" name=""/>
            <p:cNvSpPr/>
            <p:nvPr/>
          </p:nvSpPr>
          <p:spPr>
            <a:xfrm>
              <a:off x="1830240" y="2619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1865160" y="2655720"/>
              <a:ext cx="1118520" cy="1139040"/>
              <a:chOff x="1865160" y="2655720"/>
              <a:chExt cx="1118520" cy="1139040"/>
            </a:xfrm>
          </p:grpSpPr>
          <p:pic>
            <p:nvPicPr>
              <p:cNvPr id="7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5160" y="2655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5" name=""/>
              <p:cNvSpPr/>
              <p:nvPr/>
            </p:nvSpPr>
            <p:spPr>
              <a:xfrm>
                <a:off x="1865160" y="2655720"/>
                <a:ext cx="1079640" cy="1085760"/>
              </a:xfrm>
              <a:prstGeom prst="ellipse">
                <a:avLst/>
              </a:prstGeom>
              <a:solidFill>
                <a:srgbClr val="13d3f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66" name="" descr=""/>
              <p:cNvPicPr/>
              <p:nvPr/>
            </p:nvPicPr>
            <p:blipFill>
              <a:blip r:embed="rId5"/>
              <a:srcRect l="0" t="14289" r="0" b="0"/>
              <a:stretch/>
            </p:blipFill>
            <p:spPr>
              <a:xfrm>
                <a:off x="1875600" y="2700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7" name=""/>
              <p:cNvGrpSpPr/>
              <p:nvPr/>
            </p:nvGrpSpPr>
            <p:grpSpPr>
              <a:xfrm>
                <a:off x="2215440" y="3093120"/>
                <a:ext cx="768240" cy="701640"/>
                <a:chOff x="2215440" y="3093120"/>
                <a:chExt cx="768240" cy="701640"/>
              </a:xfrm>
            </p:grpSpPr>
            <p:grpSp>
              <p:nvGrpSpPr>
                <p:cNvPr id="768" name=""/>
                <p:cNvGrpSpPr/>
                <p:nvPr/>
              </p:nvGrpSpPr>
              <p:grpSpPr>
                <a:xfrm>
                  <a:off x="2392200" y="3093120"/>
                  <a:ext cx="591480" cy="694440"/>
                  <a:chOff x="2392200" y="3093120"/>
                  <a:chExt cx="591480" cy="69444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 flipH="1" flipV="1" rot="1528800">
                    <a:off x="2722320" y="3094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 flipV="1" rot="2344200">
                    <a:off x="2676600" y="3179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H="1" flipV="1" rot="2640000">
                    <a:off x="2639520" y="32212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H="1" flipV="1" rot="3172200">
                    <a:off x="2593800" y="3268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2215440" y="3285000"/>
                  <a:ext cx="743760" cy="509760"/>
                  <a:chOff x="2215440" y="3285000"/>
                  <a:chExt cx="743760" cy="50976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 flipH="1" flipV="1" rot="2881800">
                    <a:off x="2626920" y="3241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 flipV="1" rot="3697200">
                    <a:off x="2552760" y="3301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H="1" flipV="1" rot="3993000">
                    <a:off x="2502360" y="3326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 flipV="1" rot="4525200">
                    <a:off x="2442240" y="3353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78" name=""/>
            <p:cNvGrpSpPr/>
            <p:nvPr/>
          </p:nvGrpSpPr>
          <p:grpSpPr>
            <a:xfrm>
              <a:off x="2320920" y="3121200"/>
              <a:ext cx="677160" cy="617400"/>
              <a:chOff x="2320920" y="3121200"/>
              <a:chExt cx="677160" cy="617400"/>
            </a:xfrm>
          </p:grpSpPr>
          <p:grpSp>
            <p:nvGrpSpPr>
              <p:cNvPr id="779" name=""/>
              <p:cNvGrpSpPr/>
              <p:nvPr/>
            </p:nvGrpSpPr>
            <p:grpSpPr>
              <a:xfrm>
                <a:off x="2476800" y="3121200"/>
                <a:ext cx="521280" cy="611280"/>
                <a:chOff x="2476800" y="3121200"/>
                <a:chExt cx="521280" cy="611280"/>
              </a:xfrm>
            </p:grpSpPr>
            <p:sp>
              <p:nvSpPr>
                <p:cNvPr id="780" name=""/>
                <p:cNvSpPr/>
                <p:nvPr/>
              </p:nvSpPr>
              <p:spPr>
                <a:xfrm flipH="1" flipV="1" rot="1528800">
                  <a:off x="2766600" y="31230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 flipV="1" rot="2344200">
                  <a:off x="2727720" y="3197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 flipV="1" rot="2640000">
                  <a:off x="2694600" y="3233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flipV="1" rot="3172200">
                  <a:off x="2653920" y="32756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2320920" y="3289320"/>
                <a:ext cx="654480" cy="449280"/>
                <a:chOff x="2320920" y="3289320"/>
                <a:chExt cx="654480" cy="449280"/>
              </a:xfrm>
            </p:grpSpPr>
            <p:sp>
              <p:nvSpPr>
                <p:cNvPr id="785" name=""/>
                <p:cNvSpPr/>
                <p:nvPr/>
              </p:nvSpPr>
              <p:spPr>
                <a:xfrm flipH="1" flipV="1" rot="2881800">
                  <a:off x="2681640" y="32511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H="1" flipV="1" rot="3697200">
                  <a:off x="2616840" y="330516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 flipV="1" rot="3993000">
                  <a:off x="2573640" y="332604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flipV="1" rot="4525200">
                  <a:off x="2519640" y="334980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9" name=""/>
            <p:cNvSpPr/>
            <p:nvPr/>
          </p:nvSpPr>
          <p:spPr>
            <a:xfrm>
              <a:off x="2115000" y="3038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943360" y="4967280"/>
            <a:ext cx="1167120" cy="1175400"/>
            <a:chOff x="2943360" y="4967280"/>
            <a:chExt cx="1167120" cy="1175400"/>
          </a:xfrm>
        </p:grpSpPr>
        <p:sp>
          <p:nvSpPr>
            <p:cNvPr id="791" name=""/>
            <p:cNvSpPr/>
            <p:nvPr/>
          </p:nvSpPr>
          <p:spPr>
            <a:xfrm>
              <a:off x="2943360" y="4967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2977920" y="5003640"/>
              <a:ext cx="1118520" cy="1139040"/>
              <a:chOff x="2977920" y="5003640"/>
              <a:chExt cx="1118520" cy="1139040"/>
            </a:xfrm>
          </p:grpSpPr>
          <p:pic>
            <p:nvPicPr>
              <p:cNvPr id="79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977920" y="500364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>
                <a:off x="2977920" y="5003640"/>
                <a:ext cx="1079280" cy="1085760"/>
              </a:xfrm>
              <a:prstGeom prst="ellipse">
                <a:avLst/>
              </a:prstGeom>
              <a:solidFill>
                <a:srgbClr val="faba1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95" name="" descr=""/>
              <p:cNvPicPr/>
              <p:nvPr/>
            </p:nvPicPr>
            <p:blipFill>
              <a:blip r:embed="rId7"/>
              <a:srcRect l="0" t="14289" r="0" b="0"/>
              <a:stretch/>
            </p:blipFill>
            <p:spPr>
              <a:xfrm>
                <a:off x="2988360" y="504864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96" name=""/>
              <p:cNvGrpSpPr/>
              <p:nvPr/>
            </p:nvGrpSpPr>
            <p:grpSpPr>
              <a:xfrm>
                <a:off x="3328200" y="5441040"/>
                <a:ext cx="768240" cy="701640"/>
                <a:chOff x="3328200" y="5441040"/>
                <a:chExt cx="768240" cy="701640"/>
              </a:xfrm>
            </p:grpSpPr>
            <p:grpSp>
              <p:nvGrpSpPr>
                <p:cNvPr id="797" name=""/>
                <p:cNvGrpSpPr/>
                <p:nvPr/>
              </p:nvGrpSpPr>
              <p:grpSpPr>
                <a:xfrm>
                  <a:off x="3504960" y="5441040"/>
                  <a:ext cx="591480" cy="694440"/>
                  <a:chOff x="3504960" y="5441040"/>
                  <a:chExt cx="591480" cy="69444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 flipH="1" flipV="1" rot="1528800">
                    <a:off x="3835080" y="5442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 flipV="1" rot="2344200">
                    <a:off x="3789360" y="5527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 flipV="1" rot="2640000">
                    <a:off x="3752280" y="5569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flipH="1" flipV="1" rot="3172200">
                    <a:off x="3706560" y="5616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2" name=""/>
                <p:cNvGrpSpPr/>
                <p:nvPr/>
              </p:nvGrpSpPr>
              <p:grpSpPr>
                <a:xfrm>
                  <a:off x="3328200" y="5632920"/>
                  <a:ext cx="743760" cy="509760"/>
                  <a:chOff x="3328200" y="5632920"/>
                  <a:chExt cx="743760" cy="509760"/>
                </a:xfrm>
              </p:grpSpPr>
              <p:sp>
                <p:nvSpPr>
                  <p:cNvPr id="803" name=""/>
                  <p:cNvSpPr/>
                  <p:nvPr/>
                </p:nvSpPr>
                <p:spPr>
                  <a:xfrm flipH="1" flipV="1" rot="2881800">
                    <a:off x="3739680" y="55890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H="1" flipV="1" rot="3697200">
                    <a:off x="3665520" y="56494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H="1" flipV="1" rot="3993000">
                    <a:off x="3615120" y="5674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flipV="1" rot="4525200">
                    <a:off x="3555000" y="5700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07" name=""/>
            <p:cNvGrpSpPr/>
            <p:nvPr/>
          </p:nvGrpSpPr>
          <p:grpSpPr>
            <a:xfrm>
              <a:off x="3433320" y="5468760"/>
              <a:ext cx="677160" cy="617760"/>
              <a:chOff x="3433320" y="5468760"/>
              <a:chExt cx="677160" cy="61776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3589200" y="5468760"/>
                <a:ext cx="521280" cy="611640"/>
                <a:chOff x="3589200" y="5468760"/>
                <a:chExt cx="521280" cy="611640"/>
              </a:xfrm>
            </p:grpSpPr>
            <p:sp>
              <p:nvSpPr>
                <p:cNvPr id="809" name=""/>
                <p:cNvSpPr/>
                <p:nvPr/>
              </p:nvSpPr>
              <p:spPr>
                <a:xfrm flipH="1" flipV="1" rot="1528800">
                  <a:off x="3878640" y="5470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H="1" flipV="1" rot="2344200">
                  <a:off x="3840120" y="554508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H="1" flipV="1" rot="2640000">
                  <a:off x="3807720" y="55814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H="1" flipV="1" rot="3172200">
                  <a:off x="3767040" y="56232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3" name=""/>
              <p:cNvGrpSpPr/>
              <p:nvPr/>
            </p:nvGrpSpPr>
            <p:grpSpPr>
              <a:xfrm>
                <a:off x="3433320" y="5637240"/>
                <a:ext cx="654120" cy="449280"/>
                <a:chOff x="3433320" y="5637240"/>
                <a:chExt cx="654120" cy="449280"/>
              </a:xfrm>
            </p:grpSpPr>
            <p:sp>
              <p:nvSpPr>
                <p:cNvPr id="814" name=""/>
                <p:cNvSpPr/>
                <p:nvPr/>
              </p:nvSpPr>
              <p:spPr>
                <a:xfrm flipH="1" flipV="1" rot="2881800">
                  <a:off x="3794400" y="55987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H="1" flipV="1" rot="3697200">
                  <a:off x="3729600" y="565344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 flipV="1" rot="3993000">
                  <a:off x="3685680" y="567396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 flipV="1" rot="4525200">
                  <a:off x="3632400" y="569808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8" name=""/>
            <p:cNvSpPr/>
            <p:nvPr/>
          </p:nvSpPr>
          <p:spPr>
            <a:xfrm>
              <a:off x="3227760" y="53863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5187960" y="3508200"/>
            <a:ext cx="1167840" cy="1175400"/>
            <a:chOff x="5187960" y="3508200"/>
            <a:chExt cx="1167840" cy="1175400"/>
          </a:xfrm>
        </p:grpSpPr>
        <p:sp>
          <p:nvSpPr>
            <p:cNvPr id="820" name=""/>
            <p:cNvSpPr/>
            <p:nvPr/>
          </p:nvSpPr>
          <p:spPr>
            <a:xfrm>
              <a:off x="5187960" y="350820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5222880" y="3544560"/>
              <a:ext cx="1118520" cy="1139040"/>
              <a:chOff x="5222880" y="3544560"/>
              <a:chExt cx="1118520" cy="1139040"/>
            </a:xfrm>
          </p:grpSpPr>
          <p:pic>
            <p:nvPicPr>
              <p:cNvPr id="82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222880" y="354456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3" name=""/>
              <p:cNvSpPr/>
              <p:nvPr/>
            </p:nvSpPr>
            <p:spPr>
              <a:xfrm>
                <a:off x="5222880" y="3544560"/>
                <a:ext cx="1079640" cy="108576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824" name="" descr=""/>
              <p:cNvPicPr/>
              <p:nvPr/>
            </p:nvPicPr>
            <p:blipFill>
              <a:blip r:embed="rId9"/>
              <a:srcRect l="0" t="14289" r="0" b="0"/>
              <a:stretch/>
            </p:blipFill>
            <p:spPr>
              <a:xfrm>
                <a:off x="5233320" y="3589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5" name=""/>
              <p:cNvGrpSpPr/>
              <p:nvPr/>
            </p:nvGrpSpPr>
            <p:grpSpPr>
              <a:xfrm>
                <a:off x="5573160" y="3981960"/>
                <a:ext cx="768240" cy="701640"/>
                <a:chOff x="5573160" y="3981960"/>
                <a:chExt cx="768240" cy="701640"/>
              </a:xfrm>
            </p:grpSpPr>
            <p:grpSp>
              <p:nvGrpSpPr>
                <p:cNvPr id="826" name=""/>
                <p:cNvGrpSpPr/>
                <p:nvPr/>
              </p:nvGrpSpPr>
              <p:grpSpPr>
                <a:xfrm>
                  <a:off x="5749920" y="3981960"/>
                  <a:ext cx="591480" cy="694440"/>
                  <a:chOff x="5749920" y="3981960"/>
                  <a:chExt cx="591480" cy="69444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 flipH="1" flipV="1" rot="1528800">
                    <a:off x="6080040" y="3983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H="1" flipV="1" rot="2344200">
                    <a:off x="6034320" y="40683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 flipV="1" rot="2640000">
                    <a:off x="5997240" y="4110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H="1" flipV="1" rot="3172200">
                    <a:off x="5951520" y="41576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5573160" y="4173840"/>
                  <a:ext cx="743760" cy="509760"/>
                  <a:chOff x="5573160" y="4173840"/>
                  <a:chExt cx="743760" cy="50976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 flipH="1" flipV="1" rot="2881800">
                    <a:off x="5984640" y="41299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H="1" flipV="1" rot="3697200">
                    <a:off x="5910480" y="41904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 flipV="1" rot="3993000">
                    <a:off x="5860080" y="4215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flipH="1" flipV="1" rot="4525200">
                    <a:off x="5799960" y="4241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6" name=""/>
            <p:cNvGrpSpPr/>
            <p:nvPr/>
          </p:nvGrpSpPr>
          <p:grpSpPr>
            <a:xfrm>
              <a:off x="5678640" y="4010040"/>
              <a:ext cx="677160" cy="617400"/>
              <a:chOff x="5678640" y="4010040"/>
              <a:chExt cx="677160" cy="617400"/>
            </a:xfrm>
          </p:grpSpPr>
          <p:grpSp>
            <p:nvGrpSpPr>
              <p:cNvPr id="837" name=""/>
              <p:cNvGrpSpPr/>
              <p:nvPr/>
            </p:nvGrpSpPr>
            <p:grpSpPr>
              <a:xfrm>
                <a:off x="5834520" y="4010040"/>
                <a:ext cx="521280" cy="611280"/>
                <a:chOff x="5834520" y="4010040"/>
                <a:chExt cx="521280" cy="611280"/>
              </a:xfrm>
            </p:grpSpPr>
            <p:sp>
              <p:nvSpPr>
                <p:cNvPr id="838" name=""/>
                <p:cNvSpPr/>
                <p:nvPr/>
              </p:nvSpPr>
              <p:spPr>
                <a:xfrm flipH="1" flipV="1" rot="1528800">
                  <a:off x="6124320" y="40118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 flipV="1" rot="2344200">
                  <a:off x="6085440" y="40860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 flipV="1" rot="2640000">
                  <a:off x="6052320" y="4122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 flipV="1" rot="3172200">
                  <a:off x="6011640" y="41644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5678640" y="4178160"/>
                <a:ext cx="654480" cy="449280"/>
                <a:chOff x="5678640" y="4178160"/>
                <a:chExt cx="654480" cy="449280"/>
              </a:xfrm>
            </p:grpSpPr>
            <p:sp>
              <p:nvSpPr>
                <p:cNvPr id="843" name=""/>
                <p:cNvSpPr/>
                <p:nvPr/>
              </p:nvSpPr>
              <p:spPr>
                <a:xfrm flipH="1" flipV="1" rot="2881800">
                  <a:off x="6039360" y="41400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 flipV="1" rot="3697200">
                  <a:off x="5974560" y="419400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 flipV="1" rot="3993000">
                  <a:off x="5931360" y="42148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 flipV="1" rot="4525200">
                  <a:off x="5877360" y="423864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7" name=""/>
            <p:cNvSpPr/>
            <p:nvPr/>
          </p:nvSpPr>
          <p:spPr>
            <a:xfrm>
              <a:off x="5472720" y="3927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5181480" y="1346040"/>
            <a:ext cx="1167840" cy="1175400"/>
            <a:chOff x="5181480" y="1346040"/>
            <a:chExt cx="1167840" cy="1175400"/>
          </a:xfrm>
        </p:grpSpPr>
        <p:sp>
          <p:nvSpPr>
            <p:cNvPr id="849" name=""/>
            <p:cNvSpPr/>
            <p:nvPr/>
          </p:nvSpPr>
          <p:spPr>
            <a:xfrm>
              <a:off x="5181480" y="13460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5216400" y="1382400"/>
              <a:ext cx="1118520" cy="1139040"/>
              <a:chOff x="5216400" y="1382400"/>
              <a:chExt cx="1118520" cy="1139040"/>
            </a:xfrm>
          </p:grpSpPr>
          <p:pic>
            <p:nvPicPr>
              <p:cNvPr id="85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216400" y="13824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2" name=""/>
              <p:cNvSpPr/>
              <p:nvPr/>
            </p:nvSpPr>
            <p:spPr>
              <a:xfrm>
                <a:off x="5216400" y="1382400"/>
                <a:ext cx="1079640" cy="1085760"/>
              </a:xfrm>
              <a:prstGeom prst="ellipse">
                <a:avLst/>
              </a:prstGeom>
              <a:solidFill>
                <a:srgbClr val="efcf0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853" name="" descr=""/>
              <p:cNvPicPr/>
              <p:nvPr/>
            </p:nvPicPr>
            <p:blipFill>
              <a:blip r:embed="rId11"/>
              <a:srcRect l="0" t="14289" r="0" b="0"/>
              <a:stretch/>
            </p:blipFill>
            <p:spPr>
              <a:xfrm>
                <a:off x="5226840" y="14274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54" name=""/>
              <p:cNvGrpSpPr/>
              <p:nvPr/>
            </p:nvGrpSpPr>
            <p:grpSpPr>
              <a:xfrm>
                <a:off x="5566680" y="1819800"/>
                <a:ext cx="768240" cy="701640"/>
                <a:chOff x="5566680" y="1819800"/>
                <a:chExt cx="768240" cy="701640"/>
              </a:xfrm>
            </p:grpSpPr>
            <p:grpSp>
              <p:nvGrpSpPr>
                <p:cNvPr id="855" name=""/>
                <p:cNvGrpSpPr/>
                <p:nvPr/>
              </p:nvGrpSpPr>
              <p:grpSpPr>
                <a:xfrm>
                  <a:off x="5743440" y="1819800"/>
                  <a:ext cx="591480" cy="694440"/>
                  <a:chOff x="5743440" y="1819800"/>
                  <a:chExt cx="591480" cy="69444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 flipH="1" flipV="1" rot="1528800">
                    <a:off x="6073560" y="1821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 flipV="1" rot="2344200">
                    <a:off x="6027840" y="1906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 flipV="1" rot="2640000">
                    <a:off x="5990760" y="19479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 flipV="1" rot="3172200">
                    <a:off x="5945040" y="19954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5566680" y="2011680"/>
                  <a:ext cx="743760" cy="509760"/>
                  <a:chOff x="5566680" y="2011680"/>
                  <a:chExt cx="743760" cy="50976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 flipH="1" flipV="1" rot="2881800">
                    <a:off x="5978160" y="19677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 flipV="1" rot="3697200">
                    <a:off x="5904000" y="20282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H="1" flipV="1" rot="3993000">
                    <a:off x="5853600" y="2053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flipH="1" flipV="1" rot="4525200">
                    <a:off x="5793480" y="2079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65" name=""/>
            <p:cNvGrpSpPr/>
            <p:nvPr/>
          </p:nvGrpSpPr>
          <p:grpSpPr>
            <a:xfrm>
              <a:off x="5672160" y="1847880"/>
              <a:ext cx="677160" cy="617400"/>
              <a:chOff x="5672160" y="1847880"/>
              <a:chExt cx="677160" cy="617400"/>
            </a:xfrm>
          </p:grpSpPr>
          <p:grpSp>
            <p:nvGrpSpPr>
              <p:cNvPr id="866" name=""/>
              <p:cNvGrpSpPr/>
              <p:nvPr/>
            </p:nvGrpSpPr>
            <p:grpSpPr>
              <a:xfrm>
                <a:off x="5828040" y="1847880"/>
                <a:ext cx="521280" cy="611280"/>
                <a:chOff x="5828040" y="1847880"/>
                <a:chExt cx="521280" cy="611280"/>
              </a:xfrm>
            </p:grpSpPr>
            <p:sp>
              <p:nvSpPr>
                <p:cNvPr id="867" name=""/>
                <p:cNvSpPr/>
                <p:nvPr/>
              </p:nvSpPr>
              <p:spPr>
                <a:xfrm flipH="1" flipV="1" rot="1528800">
                  <a:off x="6117840" y="184968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 flipV="1" rot="2344200">
                  <a:off x="6078960" y="1923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 flipV="1" rot="2640000">
                  <a:off x="6045840" y="196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 rot="3172200">
                  <a:off x="6005160" y="2002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5672160" y="2016000"/>
                <a:ext cx="654480" cy="449280"/>
                <a:chOff x="5672160" y="2016000"/>
                <a:chExt cx="654480" cy="449280"/>
              </a:xfrm>
            </p:grpSpPr>
            <p:sp>
              <p:nvSpPr>
                <p:cNvPr id="872" name=""/>
                <p:cNvSpPr/>
                <p:nvPr/>
              </p:nvSpPr>
              <p:spPr>
                <a:xfrm flipH="1" flipV="1" rot="2881800">
                  <a:off x="6032880" y="197784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 rot="3697200">
                  <a:off x="5968080" y="203184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 flipV="1" rot="3993000">
                  <a:off x="5924880" y="2052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H="1" flipV="1" rot="4525200">
                  <a:off x="5870880" y="207648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6" name=""/>
            <p:cNvSpPr/>
            <p:nvPr/>
          </p:nvSpPr>
          <p:spPr>
            <a:xfrm>
              <a:off x="5466240" y="17650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405680" y="3041640"/>
            <a:ext cx="829440" cy="845280"/>
            <a:chOff x="4405680" y="3041640"/>
            <a:chExt cx="829440" cy="845280"/>
          </a:xfrm>
        </p:grpSpPr>
        <p:pic>
          <p:nvPicPr>
            <p:cNvPr id="878" name="" descr=""/>
            <p:cNvPicPr/>
            <p:nvPr/>
          </p:nvPicPr>
          <p:blipFill>
            <a:blip r:embed="rId12"/>
            <a:stretch/>
          </p:blipFill>
          <p:spPr>
            <a:xfrm rot="4977600">
              <a:off x="4529520" y="3173760"/>
              <a:ext cx="57312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 rot="4977000">
              <a:off x="4530960" y="3171960"/>
              <a:ext cx="570240" cy="568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>
                    <a:alpha val="50196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4508640" y="3234600"/>
              <a:ext cx="226440" cy="501120"/>
              <a:chOff x="4508640" y="3234600"/>
              <a:chExt cx="226440" cy="501120"/>
            </a:xfrm>
          </p:grpSpPr>
          <p:grpSp>
            <p:nvGrpSpPr>
              <p:cNvPr id="881" name=""/>
              <p:cNvGrpSpPr/>
              <p:nvPr/>
            </p:nvGrpSpPr>
            <p:grpSpPr>
              <a:xfrm>
                <a:off x="4515120" y="3327480"/>
                <a:ext cx="219960" cy="408240"/>
                <a:chOff x="4515120" y="3327480"/>
                <a:chExt cx="219960" cy="408240"/>
              </a:xfrm>
            </p:grpSpPr>
            <p:sp>
              <p:nvSpPr>
                <p:cNvPr id="882" name=""/>
                <p:cNvSpPr/>
                <p:nvPr/>
              </p:nvSpPr>
              <p:spPr>
                <a:xfrm flipH="1" flipV="1" rot="8941800">
                  <a:off x="4587120" y="34351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 flipV="1" rot="9757200">
                  <a:off x="4562640" y="33915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 flipV="1" rot="10053000">
                  <a:off x="4556160" y="336312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 rot="10585200">
                  <a:off x="4548240" y="33289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508640" y="3234600"/>
                <a:ext cx="169560" cy="423000"/>
                <a:chOff x="4508640" y="3234600"/>
                <a:chExt cx="169560" cy="423000"/>
              </a:xfrm>
            </p:grpSpPr>
            <p:sp>
              <p:nvSpPr>
                <p:cNvPr id="887" name=""/>
                <p:cNvSpPr/>
                <p:nvPr/>
              </p:nvSpPr>
              <p:spPr>
                <a:xfrm flipH="1" flipV="1" rot="10294800">
                  <a:off x="4550400" y="33508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 rot="11110200">
                  <a:off x="4545360" y="33012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H="1" flipV="1" rot="11406000">
                  <a:off x="4550760" y="32724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H="1" flipV="1" rot="11938200">
                  <a:off x="4555440" y="323820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1" name=""/>
            <p:cNvSpPr/>
            <p:nvPr/>
          </p:nvSpPr>
          <p:spPr>
            <a:xfrm flipH="1" rot="1129200">
              <a:off x="4496760" y="3128040"/>
              <a:ext cx="646920" cy="67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2" name="" descr=""/>
            <p:cNvPicPr/>
            <p:nvPr/>
          </p:nvPicPr>
          <p:blipFill>
            <a:blip r:embed="rId13"/>
            <a:srcRect l="0" t="23740" r="0" b="0"/>
            <a:stretch/>
          </p:blipFill>
          <p:spPr>
            <a:xfrm rot="2407200">
              <a:off x="4685760" y="3204720"/>
              <a:ext cx="425160" cy="27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3" name=""/>
          <p:cNvSpPr/>
          <p:nvPr/>
        </p:nvSpPr>
        <p:spPr>
          <a:xfrm>
            <a:off x="7176960" y="1617840"/>
            <a:ext cx="1509840" cy="366480"/>
          </a:xfrm>
          <a:noFill/>
          <a:ln w="9360">
            <a:solidFill>
              <a:srgbClr val="efcf0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872400" y="3573360"/>
            <a:ext cx="1509480" cy="3920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009800" y="1409760"/>
            <a:ext cx="1593720" cy="434880"/>
          </a:xfrm>
          <a:noFill/>
          <a:ln w="9360">
            <a:solidFill>
              <a:srgbClr val="938bfd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35080" y="3726000"/>
            <a:ext cx="1593720" cy="434880"/>
          </a:xfrm>
          <a:noFill/>
          <a:ln w="9360">
            <a:solidFill>
              <a:srgbClr val="13d3f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63680" y="5032440"/>
            <a:ext cx="1509480" cy="392040"/>
          </a:xfrm>
          <a:noFill/>
          <a:ln w="9360">
            <a:solidFill>
              <a:srgbClr val="faba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646520" y="515160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481640" y="5192640"/>
            <a:ext cx="42840" cy="74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5829480" y="2585880"/>
            <a:ext cx="1711080" cy="536400"/>
            <a:chOff x="5829480" y="2585880"/>
            <a:chExt cx="1711080" cy="536400"/>
          </a:xfrm>
        </p:grpSpPr>
        <p:sp>
          <p:nvSpPr>
            <p:cNvPr id="902" name=""/>
            <p:cNvSpPr/>
            <p:nvPr/>
          </p:nvSpPr>
          <p:spPr>
            <a:xfrm>
              <a:off x="5829480" y="2585880"/>
              <a:ext cx="171108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855760" y="261828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7080120" y="4518000"/>
            <a:ext cx="1086120" cy="1263600"/>
          </a:xfrm>
          <a:prstGeom prst="rect">
            <a:avLst/>
          </a:prstGeom>
          <a:gradFill rotWithShape="0">
            <a:gsLst>
              <a:gs pos="0">
                <a:srgbClr val="13d3f9"/>
              </a:gs>
              <a:gs pos="100000">
                <a:srgbClr val="0d98b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916600" y="4518000"/>
            <a:ext cx="1085760" cy="1263600"/>
          </a:xfrm>
          <a:prstGeom prst="rect">
            <a:avLst/>
          </a:prstGeom>
          <a:gradFill rotWithShape="0">
            <a:gsLst>
              <a:gs pos="0">
                <a:srgbClr val="13d3f9"/>
              </a:gs>
              <a:gs pos="100000">
                <a:srgbClr val="0d98b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853920" y="3830760"/>
            <a:ext cx="2273400" cy="536040"/>
            <a:chOff x="853920" y="3830760"/>
            <a:chExt cx="2273400" cy="536040"/>
          </a:xfrm>
        </p:grpSpPr>
        <p:sp>
          <p:nvSpPr>
            <p:cNvPr id="907" name=""/>
            <p:cNvSpPr/>
            <p:nvPr/>
          </p:nvSpPr>
          <p:spPr>
            <a:xfrm>
              <a:off x="853920" y="38307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efcf0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88840" y="386316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fcf0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5899320" y="3830760"/>
            <a:ext cx="2273040" cy="536040"/>
            <a:chOff x="5899320" y="3830760"/>
            <a:chExt cx="2273040" cy="536040"/>
          </a:xfrm>
        </p:grpSpPr>
        <p:sp>
          <p:nvSpPr>
            <p:cNvPr id="910" name=""/>
            <p:cNvSpPr/>
            <p:nvPr/>
          </p:nvSpPr>
          <p:spPr>
            <a:xfrm>
              <a:off x="5899320" y="38307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13d3f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34240" y="38631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3d3f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3373560" y="3840120"/>
            <a:ext cx="2273040" cy="536400"/>
            <a:chOff x="3373560" y="3840120"/>
            <a:chExt cx="2273040" cy="536400"/>
          </a:xfrm>
        </p:grpSpPr>
        <p:sp>
          <p:nvSpPr>
            <p:cNvPr id="913" name=""/>
            <p:cNvSpPr/>
            <p:nvPr/>
          </p:nvSpPr>
          <p:spPr>
            <a:xfrm>
              <a:off x="3373560" y="384012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aba1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08480" y="38725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aba1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656160" y="2585880"/>
            <a:ext cx="1711080" cy="536400"/>
            <a:chOff x="3656160" y="2585880"/>
            <a:chExt cx="1711080" cy="536400"/>
          </a:xfrm>
        </p:grpSpPr>
        <p:sp>
          <p:nvSpPr>
            <p:cNvPr id="916" name=""/>
            <p:cNvSpPr/>
            <p:nvPr/>
          </p:nvSpPr>
          <p:spPr>
            <a:xfrm>
              <a:off x="3656160" y="2585880"/>
              <a:ext cx="171108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82440" y="261828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3714840" y="1571760"/>
            <a:ext cx="1596960" cy="536040"/>
            <a:chOff x="3714840" y="1571760"/>
            <a:chExt cx="1596960" cy="536040"/>
          </a:xfrm>
        </p:grpSpPr>
        <p:sp>
          <p:nvSpPr>
            <p:cNvPr id="919" name=""/>
            <p:cNvSpPr/>
            <p:nvPr/>
          </p:nvSpPr>
          <p:spPr>
            <a:xfrm>
              <a:off x="3714840" y="157176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739320" y="1604160"/>
              <a:ext cx="15411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873000" y="4518000"/>
            <a:ext cx="1086120" cy="1263600"/>
          </a:xfrm>
          <a:prstGeom prst="rect">
            <a:avLst/>
          </a:prstGeom>
          <a:gradFill rotWithShape="0">
            <a:gsLst>
              <a:gs pos="0">
                <a:srgbClr val="efcf0f"/>
              </a:gs>
              <a:gs pos="100000">
                <a:srgbClr val="ac950a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036880" y="4518000"/>
            <a:ext cx="1085760" cy="1263600"/>
          </a:xfrm>
          <a:prstGeom prst="rect">
            <a:avLst/>
          </a:prstGeom>
          <a:gradFill rotWithShape="0">
            <a:gsLst>
              <a:gs pos="0">
                <a:srgbClr val="efcf0f"/>
              </a:gs>
              <a:gs pos="100000">
                <a:srgbClr val="ac950a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3" name=""/>
          <p:cNvCxnSpPr/>
          <p:nvPr/>
        </p:nvCxnSpPr>
        <p:spPr>
          <a:xfrm flipH="1">
            <a:off x="5385600" y="2827080"/>
            <a:ext cx="430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924" name=""/>
          <p:cNvCxnSpPr>
            <a:stCxn id="907" idx="0"/>
            <a:endCxn id="916" idx="2"/>
          </p:cNvCxnSpPr>
          <p:nvPr/>
        </p:nvCxnSpPr>
        <p:spPr>
          <a:xfrm flipH="1" flipV="1" rot="5400000">
            <a:off x="2896920" y="2215800"/>
            <a:ext cx="708840" cy="2521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925" name=""/>
          <p:cNvCxnSpPr>
            <a:stCxn id="910" idx="0"/>
            <a:endCxn id="916" idx="2"/>
          </p:cNvCxnSpPr>
          <p:nvPr/>
        </p:nvCxnSpPr>
        <p:spPr>
          <a:xfrm flipV="1" rot="16200000">
            <a:off x="5419080" y="2213640"/>
            <a:ext cx="708840" cy="25250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926" name=""/>
          <p:cNvSpPr/>
          <p:nvPr/>
        </p:nvSpPr>
        <p:spPr>
          <a:xfrm>
            <a:off x="4010040" y="16527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838840" y="268596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940360" y="39211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80920" y="391176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73280" y="485316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932120" y="485316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403440" y="391788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390840" y="4518000"/>
            <a:ext cx="1085760" cy="1263600"/>
          </a:xfrm>
          <a:prstGeom prst="rect">
            <a:avLst/>
          </a:prstGeom>
          <a:gradFill rotWithShape="0">
            <a:gsLst>
              <a:gs pos="0">
                <a:srgbClr val="faba1a"/>
              </a:gs>
              <a:gs pos="100000">
                <a:srgbClr val="b48612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554360" y="4518000"/>
            <a:ext cx="1086120" cy="1263600"/>
          </a:xfrm>
          <a:prstGeom prst="rect">
            <a:avLst/>
          </a:prstGeom>
          <a:gradFill rotWithShape="0">
            <a:gsLst>
              <a:gs pos="0">
                <a:srgbClr val="faba1a"/>
              </a:gs>
              <a:gs pos="100000">
                <a:srgbClr val="b48612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29076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44960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81652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97536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786120" y="2662200"/>
            <a:ext cx="1460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0" name=""/>
          <p:cNvCxnSpPr>
            <a:stCxn id="919" idx="2"/>
            <a:endCxn id="916" idx="0"/>
          </p:cNvCxnSpPr>
          <p:nvPr/>
        </p:nvCxnSpPr>
        <p:spPr>
          <a:xfrm flipH="1">
            <a:off x="4510800" y="2107800"/>
            <a:ext cx="2520" cy="478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941" name=""/>
          <p:cNvCxnSpPr>
            <a:stCxn id="916" idx="2"/>
            <a:endCxn id="913" idx="0"/>
          </p:cNvCxnSpPr>
          <p:nvPr/>
        </p:nvCxnSpPr>
        <p:spPr>
          <a:xfrm rot="5400000">
            <a:off x="4151520" y="3480120"/>
            <a:ext cx="717840" cy="2160"/>
          </a:xfrm>
          <a:prstGeom prst="bentConnector3">
            <a:avLst>
              <a:gd name="adj1" fmla="val 49974"/>
            </a:avLst>
          </a:prstGeom>
          <a:ln w="9360">
            <a:solidFill>
              <a:srgbClr val="ffffff"/>
            </a:solidFill>
            <a:miter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943" name=""/>
          <p:cNvSpPr/>
          <p:nvPr/>
        </p:nvSpPr>
        <p:spPr>
          <a:xfrm>
            <a:off x="536400" y="1104840"/>
            <a:ext cx="5107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1066680" y="1968120"/>
            <a:ext cx="7513560" cy="3899160"/>
            <a:chOff x="1066680" y="1968120"/>
            <a:chExt cx="7513560" cy="3899160"/>
          </a:xfrm>
        </p:grpSpPr>
        <p:pic>
          <p:nvPicPr>
            <p:cNvPr id="945" name="" descr=""/>
            <p:cNvPicPr/>
            <p:nvPr/>
          </p:nvPicPr>
          <p:blipFill>
            <a:blip r:embed="rId2"/>
            <a:stretch/>
          </p:blipFill>
          <p:spPr>
            <a:xfrm>
              <a:off x="5985360" y="215100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" descr=""/>
            <p:cNvPicPr/>
            <p:nvPr/>
          </p:nvPicPr>
          <p:blipFill>
            <a:blip r:embed="rId3"/>
            <a:stretch/>
          </p:blipFill>
          <p:spPr>
            <a:xfrm>
              <a:off x="3362760" y="262260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" descr=""/>
            <p:cNvPicPr/>
            <p:nvPr/>
          </p:nvPicPr>
          <p:blipFill>
            <a:blip r:embed="rId4"/>
            <a:stretch/>
          </p:blipFill>
          <p:spPr>
            <a:xfrm>
              <a:off x="1207080" y="306216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"/>
            <p:cNvSpPr/>
            <p:nvPr/>
          </p:nvSpPr>
          <p:spPr>
            <a:xfrm flipV="1">
              <a:off x="1066680" y="1968120"/>
              <a:ext cx="0" cy="325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84320" y="5221440"/>
              <a:ext cx="7495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214320" y="320040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of the conten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567960" y="327672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306800" y="365760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114360" y="4668840"/>
              <a:ext cx="0" cy="1198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97840" y="4668840"/>
              <a:ext cx="0" cy="11872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153440" y="531504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321000" y="531504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40000" y="531504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8" name="" descr=""/>
            <p:cNvPicPr/>
            <p:nvPr/>
          </p:nvPicPr>
          <p:blipFill>
            <a:blip r:embed="rId5"/>
            <a:stretch/>
          </p:blipFill>
          <p:spPr>
            <a:xfrm>
              <a:off x="2795040" y="368604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6"/>
            <a:stretch/>
          </p:blipFill>
          <p:spPr>
            <a:xfrm>
              <a:off x="5375160" y="368604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graphicFrame>
        <p:nvGraphicFramePr>
          <p:cNvPr id="961" name=""/>
          <p:cNvGraphicFramePr/>
          <p:nvPr/>
        </p:nvGraphicFramePr>
        <p:xfrm>
          <a:off x="2151000" y="2346480"/>
          <a:ext cx="5692680" cy="320976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62" name=""/>
          <p:cNvSpPr/>
          <p:nvPr/>
        </p:nvSpPr>
        <p:spPr>
          <a:xfrm>
            <a:off x="625320" y="24210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25320" y="2978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25320" y="3502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25320" y="40165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25320" y="4549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25320" y="5092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152800" y="2460600"/>
            <a:ext cx="968400" cy="274680"/>
          </a:xfrm>
          <a:prstGeom prst="rect">
            <a:avLst/>
          </a:prstGeom>
          <a:gradFill rotWithShape="0">
            <a:gsLst>
              <a:gs pos="0">
                <a:srgbClr val="70e3fa"/>
              </a:gs>
              <a:gs pos="100000">
                <a:srgbClr val="13d3f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152800" y="3021120"/>
            <a:ext cx="849240" cy="274680"/>
          </a:xfrm>
          <a:prstGeom prst="rect">
            <a:avLst/>
          </a:prstGeom>
          <a:gradFill rotWithShape="0">
            <a:gsLst>
              <a:gs pos="0">
                <a:srgbClr val="f4e16e"/>
              </a:gs>
              <a:gs pos="100000">
                <a:srgbClr val="efcf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52800" y="3564000"/>
            <a:ext cx="419040" cy="274680"/>
          </a:xfrm>
          <a:prstGeom prst="rect">
            <a:avLst/>
          </a:prstGeom>
          <a:gradFill rotWithShape="0">
            <a:gsLst>
              <a:gs pos="0">
                <a:srgbClr val="fbd475"/>
              </a:gs>
              <a:gs pos="100000">
                <a:srgbClr val="faba1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152800" y="4067280"/>
            <a:ext cx="1315800" cy="274680"/>
          </a:xfrm>
          <a:prstGeom prst="rect">
            <a:avLst/>
          </a:prstGeom>
          <a:gradFill rotWithShape="0">
            <a:gsLst>
              <a:gs pos="0">
                <a:srgbClr val="bdb8fc"/>
              </a:gs>
              <a:gs pos="100000">
                <a:srgbClr val="938b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152800" y="4621320"/>
            <a:ext cx="3573360" cy="274680"/>
          </a:xfrm>
          <a:prstGeom prst="rect">
            <a:avLst/>
          </a:prstGeom>
          <a:gradFill rotWithShape="0">
            <a:gsLst>
              <a:gs pos="0">
                <a:srgbClr val="a2a2fe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152800" y="5154480"/>
            <a:ext cx="4725720" cy="274680"/>
          </a:xfrm>
          <a:prstGeom prst="rect">
            <a:avLst/>
          </a:prstGeom>
          <a:gradFill rotWithShape="0">
            <a:gsLst>
              <a:gs pos="0">
                <a:srgbClr val="cca3cb"/>
              </a:gs>
              <a:gs pos="100000">
                <a:srgbClr val="ad67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050920" y="55976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265560" y="24512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265560" y="30132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692440" y="3546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598920" y="4060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837400" y="460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978600" y="5143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57280" y="112536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983" name="未知"/>
          <p:cNvSpPr/>
          <p:nvPr/>
        </p:nvSpPr>
        <p:spPr>
          <a:xfrm>
            <a:off x="2336760" y="33703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9933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未知"/>
          <p:cNvSpPr/>
          <p:nvPr/>
        </p:nvSpPr>
        <p:spPr>
          <a:xfrm>
            <a:off x="4255920" y="33051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339933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未知"/>
          <p:cNvSpPr/>
          <p:nvPr/>
        </p:nvSpPr>
        <p:spPr>
          <a:xfrm flipH="1">
            <a:off x="4656240" y="33703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9933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1974960" y="2143080"/>
            <a:ext cx="1361160" cy="1321560"/>
            <a:chOff x="1974960" y="2143080"/>
            <a:chExt cx="1361160" cy="1321560"/>
          </a:xfrm>
        </p:grpSpPr>
        <p:sp>
          <p:nvSpPr>
            <p:cNvPr id="987" name=""/>
            <p:cNvSpPr/>
            <p:nvPr/>
          </p:nvSpPr>
          <p:spPr>
            <a:xfrm>
              <a:off x="1974960" y="2143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aba1a"/>
                </a:gs>
                <a:gs pos="100000">
                  <a:srgbClr val="ad811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未知"/>
            <p:cNvSpPr/>
            <p:nvPr/>
          </p:nvSpPr>
          <p:spPr>
            <a:xfrm>
              <a:off x="2060640" y="22287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bdc8f"/>
                </a:gs>
                <a:gs pos="50000">
                  <a:srgbClr val="faba1a">
                    <a:alpha val="0"/>
                  </a:srgbClr>
                </a:gs>
                <a:gs pos="100000">
                  <a:srgbClr val="fbdc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2201040" y="252396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3754440" y="2143080"/>
            <a:ext cx="1361520" cy="1321560"/>
            <a:chOff x="3754440" y="2143080"/>
            <a:chExt cx="1361520" cy="1321560"/>
          </a:xfrm>
        </p:grpSpPr>
        <p:sp>
          <p:nvSpPr>
            <p:cNvPr id="991" name=""/>
            <p:cNvSpPr/>
            <p:nvPr/>
          </p:nvSpPr>
          <p:spPr>
            <a:xfrm>
              <a:off x="3754440" y="2143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3d3f9"/>
                </a:gs>
                <a:gs pos="100000">
                  <a:srgbClr val="0d92a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未知"/>
            <p:cNvSpPr/>
            <p:nvPr/>
          </p:nvSpPr>
          <p:spPr>
            <a:xfrm>
              <a:off x="3840120" y="2228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8be8fb"/>
                </a:gs>
                <a:gs pos="50000">
                  <a:srgbClr val="13d3f9">
                    <a:alpha val="0"/>
                  </a:srgbClr>
                </a:gs>
                <a:gs pos="100000">
                  <a:srgbClr val="8be8f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5541840" y="2152800"/>
            <a:ext cx="1361520" cy="1321560"/>
            <a:chOff x="5541840" y="2152800"/>
            <a:chExt cx="1361520" cy="1321560"/>
          </a:xfrm>
        </p:grpSpPr>
        <p:sp>
          <p:nvSpPr>
            <p:cNvPr id="994" name=""/>
            <p:cNvSpPr/>
            <p:nvPr/>
          </p:nvSpPr>
          <p:spPr>
            <a:xfrm>
              <a:off x="5541840" y="21528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38bfd"/>
                </a:gs>
                <a:gs pos="100000">
                  <a:srgbClr val="6660a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未知"/>
            <p:cNvSpPr/>
            <p:nvPr/>
          </p:nvSpPr>
          <p:spPr>
            <a:xfrm>
              <a:off x="5627520" y="22384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5fd"/>
                </a:gs>
                <a:gs pos="50000">
                  <a:srgbClr val="938bfd">
                    <a:alpha val="0"/>
                  </a:srgbClr>
                </a:gs>
                <a:gs pos="100000">
                  <a:srgbClr val="c9c5f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3936240" y="252396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753880" y="25336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427040" y="1274760"/>
            <a:ext cx="64771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325520" y="4957920"/>
            <a:ext cx="6238800" cy="976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589040" y="5113440"/>
            <a:ext cx="58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002" name=""/>
          <p:cNvSpPr/>
          <p:nvPr/>
        </p:nvSpPr>
        <p:spPr>
          <a:xfrm>
            <a:off x="527040" y="164304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380960" y="369252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rot="16200000">
            <a:off x="2795760" y="2216880"/>
            <a:ext cx="1315440" cy="351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rot="16200000">
            <a:off x="2904840" y="2144520"/>
            <a:ext cx="1196640" cy="33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f7e998"/>
              </a:gs>
              <a:gs pos="100000">
                <a:srgbClr val="efcf0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rot="16200000">
            <a:off x="2852280" y="2232000"/>
            <a:ext cx="1195200" cy="33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938bfd"/>
              </a:gs>
              <a:gs pos="100000">
                <a:srgbClr val="c9c5f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rot="16200000">
            <a:off x="2844720" y="2221920"/>
            <a:ext cx="1226160" cy="333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9fecfb"/>
              </a:gs>
              <a:gs pos="100000">
                <a:srgbClr val="13d3f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241880" y="39718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75320" y="370692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038560" y="4087800"/>
            <a:ext cx="0" cy="160200"/>
          </a:xfrm>
          <a:prstGeom prst="line">
            <a:avLst/>
          </a:prstGeom>
          <a:ln w="9360">
            <a:solidFill>
              <a:srgbClr val="1c1c1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680000" y="4578480"/>
            <a:ext cx="0" cy="112680"/>
          </a:xfrm>
          <a:prstGeom prst="line">
            <a:avLst/>
          </a:prstGeom>
          <a:ln w="9360">
            <a:solidFill>
              <a:srgbClr val="1c1c1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2734920" y="3871800"/>
            <a:ext cx="879480" cy="719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rot="16200000">
            <a:off x="2813400" y="1900440"/>
            <a:ext cx="1599120" cy="408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7f5f0d"/>
              </a:gs>
              <a:gs pos="100000">
                <a:srgbClr val="faba1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未知"/>
          <p:cNvSpPr/>
          <p:nvPr/>
        </p:nvSpPr>
        <p:spPr>
          <a:xfrm>
            <a:off x="5343480" y="340200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rot="16200000">
            <a:off x="2822400" y="1758960"/>
            <a:ext cx="1599840" cy="40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fce2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164040" y="320364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7" name=""/>
          <p:cNvCxnSpPr>
            <a:endCxn id="1016" idx="3"/>
          </p:cNvCxnSpPr>
          <p:nvPr/>
        </p:nvCxnSpPr>
        <p:spPr>
          <a:xfrm flipV="1" rot="10800000">
            <a:off x="3975840" y="263484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cxnSp>
        <p:nvCxnSpPr>
          <p:cNvPr id="1018" name=""/>
          <p:cNvCxnSpPr>
            <a:endCxn id="1009" idx="3"/>
          </p:cNvCxnSpPr>
          <p:nvPr/>
        </p:nvCxnSpPr>
        <p:spPr>
          <a:xfrm rot="10800000">
            <a:off x="5139720" y="385848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sp>
        <p:nvSpPr>
          <p:cNvPr id="1019" name=""/>
          <p:cNvSpPr/>
          <p:nvPr/>
        </p:nvSpPr>
        <p:spPr>
          <a:xfrm>
            <a:off x="3433680" y="40719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6070680" y="2451240"/>
            <a:ext cx="1758960" cy="418680"/>
            <a:chOff x="6070680" y="2451240"/>
            <a:chExt cx="1758960" cy="418680"/>
          </a:xfrm>
        </p:grpSpPr>
        <p:sp>
          <p:nvSpPr>
            <p:cNvPr id="1021" name="未知"/>
            <p:cNvSpPr/>
            <p:nvPr/>
          </p:nvSpPr>
          <p:spPr>
            <a:xfrm>
              <a:off x="6174360" y="269244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70680" y="245124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aba1a"/>
                </a:gs>
                <a:gs pos="100000">
                  <a:srgbClr val="fbd8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6070680" y="3798720"/>
            <a:ext cx="1758960" cy="419400"/>
            <a:chOff x="6070680" y="3798720"/>
            <a:chExt cx="1758960" cy="419400"/>
          </a:xfrm>
        </p:grpSpPr>
        <p:sp>
          <p:nvSpPr>
            <p:cNvPr id="1024" name="未知"/>
            <p:cNvSpPr/>
            <p:nvPr/>
          </p:nvSpPr>
          <p:spPr>
            <a:xfrm>
              <a:off x="6174360" y="404028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070680" y="379872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efcf0f"/>
                </a:gs>
                <a:gs pos="100000">
                  <a:srgbClr val="f6e6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4357800" y="4951440"/>
            <a:ext cx="1758960" cy="418680"/>
            <a:chOff x="4357800" y="4951440"/>
            <a:chExt cx="1758960" cy="418680"/>
          </a:xfrm>
        </p:grpSpPr>
        <p:sp>
          <p:nvSpPr>
            <p:cNvPr id="1027" name="未知"/>
            <p:cNvSpPr/>
            <p:nvPr/>
          </p:nvSpPr>
          <p:spPr>
            <a:xfrm>
              <a:off x="4461480" y="519264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357800" y="495144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938bfd"/>
                </a:gs>
                <a:gs pos="100000">
                  <a:srgbClr val="cdc9f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1452600" y="5060880"/>
            <a:ext cx="1758960" cy="418680"/>
            <a:chOff x="1452600" y="5060880"/>
            <a:chExt cx="1758960" cy="418680"/>
          </a:xfrm>
        </p:grpSpPr>
        <p:sp>
          <p:nvSpPr>
            <p:cNvPr id="1030" name="未知"/>
            <p:cNvSpPr/>
            <p:nvPr/>
          </p:nvSpPr>
          <p:spPr>
            <a:xfrm>
              <a:off x="1556280" y="530208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452600" y="506088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bdf1f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32" name=""/>
          <p:cNvCxnSpPr>
            <a:stCxn id="1028" idx="0"/>
            <a:endCxn id="1008" idx="3"/>
          </p:cNvCxnSpPr>
          <p:nvPr/>
        </p:nvCxnSpPr>
        <p:spPr>
          <a:xfrm flipV="1" rot="16200000">
            <a:off x="4685040" y="4398840"/>
            <a:ext cx="828000" cy="277200"/>
          </a:xfrm>
          <a:prstGeom prst="bentConnector2">
            <a:avLst/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cxnSp>
        <p:nvCxnSpPr>
          <p:cNvPr id="1033" name=""/>
          <p:cNvCxnSpPr>
            <a:stCxn id="1031" idx="3"/>
            <a:endCxn id="1019" idx="2"/>
          </p:cNvCxnSpPr>
          <p:nvPr/>
        </p:nvCxnSpPr>
        <p:spPr>
          <a:xfrm flipV="1">
            <a:off x="3211560" y="4376520"/>
            <a:ext cx="511920" cy="869040"/>
          </a:xfrm>
          <a:prstGeom prst="bentConnector2">
            <a:avLst/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sp>
        <p:nvSpPr>
          <p:cNvPr id="1034" name=""/>
          <p:cNvSpPr/>
          <p:nvPr/>
        </p:nvSpPr>
        <p:spPr>
          <a:xfrm>
            <a:off x="6334560" y="41958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375600" y="284796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583520" y="550224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2367360" y="2583000"/>
            <a:ext cx="863280" cy="1123200"/>
            <a:chOff x="2367360" y="2583000"/>
            <a:chExt cx="863280" cy="1123200"/>
          </a:xfrm>
        </p:grpSpPr>
        <p:grpSp>
          <p:nvGrpSpPr>
            <p:cNvPr id="1038" name=""/>
            <p:cNvGrpSpPr/>
            <p:nvPr/>
          </p:nvGrpSpPr>
          <p:grpSpPr>
            <a:xfrm>
              <a:off x="2367360" y="2585160"/>
              <a:ext cx="858240" cy="1121040"/>
              <a:chOff x="2367360" y="2585160"/>
              <a:chExt cx="858240" cy="1121040"/>
            </a:xfrm>
          </p:grpSpPr>
          <p:sp>
            <p:nvSpPr>
              <p:cNvPr id="1039" name="未知"/>
              <p:cNvSpPr/>
              <p:nvPr/>
            </p:nvSpPr>
            <p:spPr>
              <a:xfrm>
                <a:off x="2367360" y="302472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599200" y="2585160"/>
                <a:ext cx="41688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1" name="未知"/>
            <p:cNvSpPr/>
            <p:nvPr/>
          </p:nvSpPr>
          <p:spPr>
            <a:xfrm>
              <a:off x="2372760" y="302076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未知"/>
            <p:cNvSpPr/>
            <p:nvPr/>
          </p:nvSpPr>
          <p:spPr>
            <a:xfrm>
              <a:off x="2540880" y="306396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604240" y="258300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未知"/>
            <p:cNvSpPr/>
            <p:nvPr/>
          </p:nvSpPr>
          <p:spPr>
            <a:xfrm>
              <a:off x="2646360" y="259092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2586600" y="2588400"/>
              <a:ext cx="299160" cy="311040"/>
              <a:chOff x="2586600" y="2588400"/>
              <a:chExt cx="299160" cy="311040"/>
            </a:xfrm>
          </p:grpSpPr>
          <p:grpSp>
            <p:nvGrpSpPr>
              <p:cNvPr id="1046" name=""/>
              <p:cNvGrpSpPr/>
              <p:nvPr/>
            </p:nvGrpSpPr>
            <p:grpSpPr>
              <a:xfrm>
                <a:off x="2594160" y="2588400"/>
                <a:ext cx="291600" cy="237240"/>
                <a:chOff x="2594160" y="2588400"/>
                <a:chExt cx="291600" cy="237240"/>
              </a:xfrm>
            </p:grpSpPr>
            <p:sp>
              <p:nvSpPr>
                <p:cNvPr id="1047" name=""/>
                <p:cNvSpPr/>
                <p:nvPr/>
              </p:nvSpPr>
              <p:spPr>
                <a:xfrm flipH="1" rot="15040200">
                  <a:off x="2726640" y="255996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flipH="1" rot="14224200">
                  <a:off x="2692800" y="25729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flipH="1" rot="13928400">
                  <a:off x="2676600" y="258840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flipH="1" rot="13396200">
                  <a:off x="2657880" y="26071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2586600" y="2606760"/>
                <a:ext cx="235800" cy="292680"/>
                <a:chOff x="2586600" y="2606760"/>
                <a:chExt cx="235800" cy="292680"/>
              </a:xfrm>
            </p:grpSpPr>
            <p:sp>
              <p:nvSpPr>
                <p:cNvPr id="1052" name=""/>
                <p:cNvSpPr/>
                <p:nvPr/>
              </p:nvSpPr>
              <p:spPr>
                <a:xfrm flipH="1" rot="13687200">
                  <a:off x="2670120" y="26017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H="1" rot="12871200">
                  <a:off x="2644560" y="262656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H="1" rot="12576000">
                  <a:off x="2635200" y="26470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 flipH="1" rot="12043800">
                  <a:off x="2625480" y="26719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"/>
            <p:cNvGrpSpPr/>
            <p:nvPr/>
          </p:nvGrpSpPr>
          <p:grpSpPr>
            <a:xfrm>
              <a:off x="2430360" y="3052440"/>
              <a:ext cx="372600" cy="449640"/>
              <a:chOff x="2430360" y="3052440"/>
              <a:chExt cx="372600" cy="449640"/>
            </a:xfrm>
          </p:grpSpPr>
          <p:grpSp>
            <p:nvGrpSpPr>
              <p:cNvPr id="1057" name=""/>
              <p:cNvGrpSpPr/>
              <p:nvPr/>
            </p:nvGrpSpPr>
            <p:grpSpPr>
              <a:xfrm>
                <a:off x="2430360" y="3052440"/>
                <a:ext cx="372600" cy="352440"/>
                <a:chOff x="2430360" y="3052440"/>
                <a:chExt cx="372600" cy="352440"/>
              </a:xfrm>
            </p:grpSpPr>
            <p:sp>
              <p:nvSpPr>
                <p:cNvPr id="1058" name=""/>
                <p:cNvSpPr/>
                <p:nvPr/>
              </p:nvSpPr>
              <p:spPr>
                <a:xfrm flipH="1" rot="14424600">
                  <a:off x="2600640" y="300852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flipH="1" rot="13608600">
                  <a:off x="2556360" y="303660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H="1" rot="13313400">
                  <a:off x="2534760" y="305928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 flipH="1" rot="12781200">
                  <a:off x="2511000" y="308808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2432880" y="3077280"/>
                <a:ext cx="266400" cy="424800"/>
                <a:chOff x="2432880" y="3077280"/>
                <a:chExt cx="266400" cy="424800"/>
              </a:xfrm>
            </p:grpSpPr>
            <p:sp>
              <p:nvSpPr>
                <p:cNvPr id="1063" name=""/>
                <p:cNvSpPr/>
                <p:nvPr/>
              </p:nvSpPr>
              <p:spPr>
                <a:xfrm flipH="1" rot="13071600">
                  <a:off x="2525400" y="306936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flipH="1" rot="12256200">
                  <a:off x="2494800" y="311292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flipH="1" rot="11960400">
                  <a:off x="2484000" y="31420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 rot="11428200">
                  <a:off x="2472120" y="317664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7" name=""/>
          <p:cNvSpPr/>
          <p:nvPr/>
        </p:nvSpPr>
        <p:spPr>
          <a:xfrm>
            <a:off x="1971000" y="37069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1904400" y="2583000"/>
            <a:ext cx="864000" cy="1123200"/>
            <a:chOff x="1904400" y="2583000"/>
            <a:chExt cx="864000" cy="1123200"/>
          </a:xfrm>
        </p:grpSpPr>
        <p:grpSp>
          <p:nvGrpSpPr>
            <p:cNvPr id="1069" name=""/>
            <p:cNvGrpSpPr/>
            <p:nvPr/>
          </p:nvGrpSpPr>
          <p:grpSpPr>
            <a:xfrm>
              <a:off x="1904400" y="2585160"/>
              <a:ext cx="859680" cy="1121040"/>
              <a:chOff x="1904400" y="2585160"/>
              <a:chExt cx="859680" cy="1121040"/>
            </a:xfrm>
          </p:grpSpPr>
          <p:sp>
            <p:nvSpPr>
              <p:cNvPr id="1070" name="未知"/>
              <p:cNvSpPr/>
              <p:nvPr/>
            </p:nvSpPr>
            <p:spPr>
              <a:xfrm>
                <a:off x="1904400" y="302472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136600" y="2585160"/>
                <a:ext cx="41760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2" name="未知"/>
            <p:cNvSpPr/>
            <p:nvPr/>
          </p:nvSpPr>
          <p:spPr>
            <a:xfrm>
              <a:off x="1909440" y="302076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263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未知"/>
            <p:cNvSpPr/>
            <p:nvPr/>
          </p:nvSpPr>
          <p:spPr>
            <a:xfrm>
              <a:off x="2077920" y="306396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141280" y="258300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b2d"/>
                </a:gs>
                <a:gs pos="50000">
                  <a:srgbClr val="93c052"/>
                </a:gs>
                <a:gs pos="100000">
                  <a:srgbClr val="526b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未知"/>
            <p:cNvSpPr/>
            <p:nvPr/>
          </p:nvSpPr>
          <p:spPr>
            <a:xfrm>
              <a:off x="2183760" y="259092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2123640" y="2588400"/>
              <a:ext cx="300240" cy="311400"/>
              <a:chOff x="2123640" y="2588400"/>
              <a:chExt cx="300240" cy="311400"/>
            </a:xfrm>
          </p:grpSpPr>
          <p:grpSp>
            <p:nvGrpSpPr>
              <p:cNvPr id="1077" name=""/>
              <p:cNvGrpSpPr/>
              <p:nvPr/>
            </p:nvGrpSpPr>
            <p:grpSpPr>
              <a:xfrm>
                <a:off x="2131560" y="2588400"/>
                <a:ext cx="292320" cy="237600"/>
                <a:chOff x="2131560" y="2588400"/>
                <a:chExt cx="292320" cy="237600"/>
              </a:xfrm>
            </p:grpSpPr>
            <p:sp>
              <p:nvSpPr>
                <p:cNvPr id="1078" name=""/>
                <p:cNvSpPr/>
                <p:nvPr/>
              </p:nvSpPr>
              <p:spPr>
                <a:xfrm flipH="1" rot="15040200">
                  <a:off x="2264040" y="255924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H="1" rot="14224200">
                  <a:off x="2229480" y="257292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H="1" rot="13928400">
                  <a:off x="2213640" y="258804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 rot="13396200">
                  <a:off x="2194920" y="260712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2123640" y="2607120"/>
                <a:ext cx="235800" cy="292680"/>
                <a:chOff x="2123640" y="2607120"/>
                <a:chExt cx="235800" cy="292680"/>
              </a:xfrm>
            </p:grpSpPr>
            <p:sp>
              <p:nvSpPr>
                <p:cNvPr id="1083" name=""/>
                <p:cNvSpPr/>
                <p:nvPr/>
              </p:nvSpPr>
              <p:spPr>
                <a:xfrm flipH="1" rot="13687200">
                  <a:off x="2207520" y="26017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 rot="12871200">
                  <a:off x="2181600" y="262656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H="1" rot="12576000">
                  <a:off x="2172240" y="264708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H="1" rot="12043800">
                  <a:off x="2161800" y="267156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"/>
            <p:cNvGrpSpPr/>
            <p:nvPr/>
          </p:nvGrpSpPr>
          <p:grpSpPr>
            <a:xfrm>
              <a:off x="1967400" y="3052440"/>
              <a:ext cx="372600" cy="450360"/>
              <a:chOff x="1967400" y="3052440"/>
              <a:chExt cx="372600" cy="450360"/>
            </a:xfrm>
          </p:grpSpPr>
          <p:grpSp>
            <p:nvGrpSpPr>
              <p:cNvPr id="1088" name=""/>
              <p:cNvGrpSpPr/>
              <p:nvPr/>
            </p:nvGrpSpPr>
            <p:grpSpPr>
              <a:xfrm>
                <a:off x="1967400" y="3052440"/>
                <a:ext cx="372600" cy="352800"/>
                <a:chOff x="1967400" y="3052440"/>
                <a:chExt cx="372600" cy="352800"/>
              </a:xfrm>
            </p:grpSpPr>
            <p:sp>
              <p:nvSpPr>
                <p:cNvPr id="1089" name=""/>
                <p:cNvSpPr/>
                <p:nvPr/>
              </p:nvSpPr>
              <p:spPr>
                <a:xfrm flipH="1" rot="14424600">
                  <a:off x="2138040" y="300816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H="1" rot="13608600">
                  <a:off x="2093400" y="3036600"/>
                  <a:ext cx="8424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 rot="13313400">
                  <a:off x="2071080" y="30592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H="1" rot="12781200">
                  <a:off x="2047680" y="3087360"/>
                  <a:ext cx="8424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1969200" y="3077280"/>
                <a:ext cx="266400" cy="425520"/>
                <a:chOff x="1969200" y="3077280"/>
                <a:chExt cx="266400" cy="425520"/>
              </a:xfrm>
            </p:grpSpPr>
            <p:sp>
              <p:nvSpPr>
                <p:cNvPr id="1094" name=""/>
                <p:cNvSpPr/>
                <p:nvPr/>
              </p:nvSpPr>
              <p:spPr>
                <a:xfrm flipH="1" rot="13071600">
                  <a:off x="2061720" y="306936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H="1" rot="12256200">
                  <a:off x="2031480" y="311256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H="1" rot="11960400">
                  <a:off x="2020320" y="314208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H="1" rot="11428200">
                  <a:off x="2009160" y="317736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98" name=""/>
          <p:cNvSpPr/>
          <p:nvPr/>
        </p:nvSpPr>
        <p:spPr>
          <a:xfrm>
            <a:off x="1744920" y="54799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87360" y="6273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101" name="未知"/>
          <p:cNvSpPr/>
          <p:nvPr/>
        </p:nvSpPr>
        <p:spPr>
          <a:xfrm>
            <a:off x="5583240" y="2549520"/>
            <a:ext cx="2306520" cy="3463920"/>
          </a:xfrm>
          <a:custGeom>
            <a:avLst/>
            <a:gdLst/>
            <a:ahLst/>
            <a:rect l="l" t="t" r="r" b="b"/>
            <a:pathLst>
              <a:path w="1247" h="1812">
                <a:moveTo>
                  <a:pt x="0" y="392"/>
                </a:moveTo>
                <a:lnTo>
                  <a:pt x="1223" y="0"/>
                </a:lnTo>
                <a:lnTo>
                  <a:pt x="1247" y="288"/>
                </a:lnTo>
                <a:lnTo>
                  <a:pt x="1247" y="1798"/>
                </a:lnTo>
                <a:lnTo>
                  <a:pt x="8" y="1812"/>
                </a:lnTo>
                <a:lnTo>
                  <a:pt x="0" y="392"/>
                </a:lnTo>
                <a:close/>
              </a:path>
            </a:pathLst>
          </a:custGeom>
          <a:gradFill rotWithShape="0">
            <a:gsLst>
              <a:gs pos="0">
                <a:srgbClr val="938bfd"/>
              </a:gs>
              <a:gs pos="100000">
                <a:srgbClr val="434074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未知"/>
          <p:cNvSpPr/>
          <p:nvPr/>
        </p:nvSpPr>
        <p:spPr>
          <a:xfrm>
            <a:off x="3241800" y="2797200"/>
            <a:ext cx="2349360" cy="3017880"/>
          </a:xfrm>
          <a:custGeom>
            <a:avLst/>
            <a:gdLst/>
            <a:ahLst/>
            <a:rect l="l" t="t" r="r" b="b"/>
            <a:pathLst>
              <a:path w="1211" h="1664">
                <a:moveTo>
                  <a:pt x="0" y="321"/>
                </a:moveTo>
                <a:lnTo>
                  <a:pt x="1199" y="0"/>
                </a:lnTo>
                <a:lnTo>
                  <a:pt x="1211" y="250"/>
                </a:lnTo>
                <a:lnTo>
                  <a:pt x="1211" y="1651"/>
                </a:lnTo>
                <a:lnTo>
                  <a:pt x="8" y="1664"/>
                </a:lnTo>
                <a:lnTo>
                  <a:pt x="0" y="321"/>
                </a:lnTo>
                <a:close/>
              </a:path>
            </a:pathLst>
          </a:custGeom>
          <a:gradFill rotWithShape="0">
            <a:gsLst>
              <a:gs pos="0">
                <a:srgbClr val="13d3f9"/>
              </a:gs>
              <a:gs pos="100000">
                <a:srgbClr val="086172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未知"/>
          <p:cNvSpPr/>
          <p:nvPr/>
        </p:nvSpPr>
        <p:spPr>
          <a:xfrm>
            <a:off x="880920" y="3025800"/>
            <a:ext cx="2397240" cy="3011400"/>
          </a:xfrm>
          <a:custGeom>
            <a:avLst/>
            <a:gdLst/>
            <a:ahLst/>
            <a:rect l="l" t="t" r="r" b="b"/>
            <a:pathLst>
              <a:path w="1223" h="1575">
                <a:moveTo>
                  <a:pt x="0" y="351"/>
                </a:moveTo>
                <a:lnTo>
                  <a:pt x="1211" y="0"/>
                </a:lnTo>
                <a:lnTo>
                  <a:pt x="1223" y="244"/>
                </a:lnTo>
                <a:lnTo>
                  <a:pt x="1223" y="1568"/>
                </a:lnTo>
                <a:lnTo>
                  <a:pt x="8" y="1575"/>
                </a:lnTo>
                <a:lnTo>
                  <a:pt x="0" y="351"/>
                </a:ln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73550b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262320" y="3197160"/>
            <a:ext cx="1440" cy="2809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591160" y="2536920"/>
            <a:ext cx="6480" cy="34606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7869240" y="2664000"/>
            <a:ext cx="7920" cy="333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未知"/>
          <p:cNvSpPr/>
          <p:nvPr/>
        </p:nvSpPr>
        <p:spPr>
          <a:xfrm>
            <a:off x="1093680" y="1957320"/>
            <a:ext cx="7488360" cy="2030400"/>
          </a:xfrm>
          <a:custGeom>
            <a:avLst/>
            <a:gdLst/>
            <a:ahLst/>
            <a:rect l="l" t="t" r="r" b="b"/>
            <a:pathLst>
              <a:path w="4717" h="1279">
                <a:moveTo>
                  <a:pt x="0" y="947"/>
                </a:moveTo>
                <a:lnTo>
                  <a:pt x="1714" y="388"/>
                </a:lnTo>
                <a:lnTo>
                  <a:pt x="1714" y="720"/>
                </a:lnTo>
                <a:lnTo>
                  <a:pt x="3084" y="301"/>
                </a:lnTo>
                <a:lnTo>
                  <a:pt x="3078" y="612"/>
                </a:lnTo>
                <a:lnTo>
                  <a:pt x="4237" y="284"/>
                </a:lnTo>
                <a:lnTo>
                  <a:pt x="4237" y="0"/>
                </a:lnTo>
                <a:lnTo>
                  <a:pt x="4717" y="381"/>
                </a:lnTo>
                <a:lnTo>
                  <a:pt x="4245" y="914"/>
                </a:lnTo>
                <a:lnTo>
                  <a:pt x="4238" y="612"/>
                </a:lnTo>
                <a:lnTo>
                  <a:pt x="2798" y="1100"/>
                </a:lnTo>
                <a:lnTo>
                  <a:pt x="2808" y="723"/>
                </a:lnTo>
                <a:lnTo>
                  <a:pt x="1379" y="1167"/>
                </a:lnTo>
                <a:lnTo>
                  <a:pt x="1393" y="798"/>
                </a:lnTo>
                <a:lnTo>
                  <a:pt x="0" y="1279"/>
                </a:lnTo>
                <a:lnTo>
                  <a:pt x="0" y="947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8e2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884160" y="5637240"/>
            <a:ext cx="2379600" cy="48564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4b3707"/>
              </a:gs>
              <a:gs pos="50000">
                <a:srgbClr val="faba1a"/>
              </a:gs>
              <a:gs pos="100000">
                <a:srgbClr val="4b37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57640" y="5627520"/>
            <a:ext cx="2317680" cy="48600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053f4a"/>
              </a:gs>
              <a:gs pos="50000">
                <a:srgbClr val="13d3f9"/>
              </a:gs>
              <a:gs pos="100000">
                <a:srgbClr val="053f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584680" y="5627520"/>
            <a:ext cx="2298960" cy="48600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2c294c"/>
              </a:gs>
              <a:gs pos="50000">
                <a:srgbClr val="938bfd"/>
              </a:gs>
              <a:gs pos="100000">
                <a:srgbClr val="2c29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28920" y="178740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888840" y="4370400"/>
            <a:ext cx="2260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641240" y="5656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938400" y="5653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368760" y="5653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866520" y="4083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d6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dfd6b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276720" y="4370400"/>
            <a:ext cx="2222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244680" y="4083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d6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dfd6b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608800" y="4370400"/>
            <a:ext cx="2222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576760" y="4083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d6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dfd6b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2"/>
          <a:stretch/>
        </p:blipFill>
        <p:spPr>
          <a:xfrm>
            <a:off x="6205680" y="3168720"/>
            <a:ext cx="1985760" cy="198756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3"/>
          <a:stretch/>
        </p:blipFill>
        <p:spPr>
          <a:xfrm>
            <a:off x="838080" y="3151080"/>
            <a:ext cx="2106720" cy="210528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/>
          <p:cNvPicPr/>
          <p:nvPr/>
        </p:nvPicPr>
        <p:blipFill>
          <a:blip r:embed="rId4"/>
          <a:stretch/>
        </p:blipFill>
        <p:spPr>
          <a:xfrm>
            <a:off x="2962440" y="3967200"/>
            <a:ext cx="506160" cy="57312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5"/>
          <a:stretch/>
        </p:blipFill>
        <p:spPr>
          <a:xfrm>
            <a:off x="5688000" y="3890880"/>
            <a:ext cx="507960" cy="57312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/>
          <p:cNvPicPr/>
          <p:nvPr/>
        </p:nvPicPr>
        <p:blipFill>
          <a:blip r:embed="rId6"/>
          <a:stretch/>
        </p:blipFill>
        <p:spPr>
          <a:xfrm>
            <a:off x="3508200" y="3174840"/>
            <a:ext cx="2141640" cy="214164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1084320" y="3992400"/>
            <a:ext cx="157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762360" y="40212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400800" y="3983040"/>
            <a:ext cx="157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31720" y="1442880"/>
            <a:ext cx="697716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2838600"/>
            <a:ext cx="9144000" cy="6778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0" y="3819600"/>
            <a:ext cx="9144000" cy="7300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003400" y="54878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837360" y="23367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292560" y="1792440"/>
            <a:ext cx="249696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041560" y="2684520"/>
            <a:ext cx="249696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549680" y="2678040"/>
            <a:ext cx="2497320" cy="198612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3294000" y="1600200"/>
            <a:ext cx="2496960" cy="1986120"/>
            <a:chOff x="3294000" y="1600200"/>
            <a:chExt cx="2496960" cy="1986120"/>
          </a:xfrm>
        </p:grpSpPr>
        <p:sp>
          <p:nvSpPr>
            <p:cNvPr id="1140" name=""/>
            <p:cNvSpPr/>
            <p:nvPr/>
          </p:nvSpPr>
          <p:spPr>
            <a:xfrm>
              <a:off x="3294000" y="160020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faba1a"/>
                </a:gs>
                <a:gs pos="100000">
                  <a:srgbClr val="fce8b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294000" y="259380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2036880" y="2495520"/>
            <a:ext cx="2496960" cy="1986120"/>
            <a:chOff x="2036880" y="2495520"/>
            <a:chExt cx="2496960" cy="1986120"/>
          </a:xfrm>
        </p:grpSpPr>
        <p:sp>
          <p:nvSpPr>
            <p:cNvPr id="1143" name=""/>
            <p:cNvSpPr/>
            <p:nvPr/>
          </p:nvSpPr>
          <p:spPr>
            <a:xfrm>
              <a:off x="2036880" y="249552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95ea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041560" y="348444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545000" y="2489040"/>
            <a:ext cx="2496960" cy="1986120"/>
            <a:chOff x="4545000" y="2489040"/>
            <a:chExt cx="2496960" cy="1986120"/>
          </a:xfrm>
        </p:grpSpPr>
        <p:sp>
          <p:nvSpPr>
            <p:cNvPr id="1146" name=""/>
            <p:cNvSpPr/>
            <p:nvPr/>
          </p:nvSpPr>
          <p:spPr>
            <a:xfrm>
              <a:off x="4545000" y="248904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efcf0f"/>
                </a:gs>
                <a:gs pos="100000">
                  <a:srgbClr val="f6e8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556160" y="347976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3603600" y="23670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332080" y="32828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840200" y="325764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3889440" y="3882960"/>
            <a:ext cx="1682280" cy="1552320"/>
            <a:chOff x="3889440" y="3882960"/>
            <a:chExt cx="1682280" cy="1552320"/>
          </a:xfrm>
        </p:grpSpPr>
        <p:sp>
          <p:nvSpPr>
            <p:cNvPr id="1152" name="未知"/>
            <p:cNvSpPr/>
            <p:nvPr/>
          </p:nvSpPr>
          <p:spPr>
            <a:xfrm>
              <a:off x="4055760" y="5078520"/>
              <a:ext cx="655200" cy="33732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未知"/>
            <p:cNvSpPr/>
            <p:nvPr/>
          </p:nvSpPr>
          <p:spPr>
            <a:xfrm>
              <a:off x="4505400" y="4955400"/>
              <a:ext cx="717840" cy="33156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未知"/>
            <p:cNvSpPr/>
            <p:nvPr/>
          </p:nvSpPr>
          <p:spPr>
            <a:xfrm>
              <a:off x="4971600" y="5156640"/>
              <a:ext cx="600120" cy="27864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未知"/>
            <p:cNvSpPr/>
            <p:nvPr/>
          </p:nvSpPr>
          <p:spPr>
            <a:xfrm>
              <a:off x="3889440" y="4302000"/>
              <a:ext cx="438120" cy="11095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未知"/>
            <p:cNvSpPr/>
            <p:nvPr/>
          </p:nvSpPr>
          <p:spPr>
            <a:xfrm>
              <a:off x="4312080" y="38829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未知"/>
            <p:cNvSpPr/>
            <p:nvPr/>
          </p:nvSpPr>
          <p:spPr>
            <a:xfrm>
              <a:off x="4816440" y="4325400"/>
              <a:ext cx="438120" cy="11095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2"/>
          <a:stretch/>
        </p:blipFill>
        <p:spPr>
          <a:xfrm rot="18480600">
            <a:off x="1421280" y="378972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1160" name="未知"/>
          <p:cNvSpPr/>
          <p:nvPr/>
        </p:nvSpPr>
        <p:spPr>
          <a:xfrm>
            <a:off x="1963800" y="2965320"/>
            <a:ext cx="209700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未知"/>
          <p:cNvSpPr/>
          <p:nvPr/>
        </p:nvSpPr>
        <p:spPr>
          <a:xfrm flipH="1">
            <a:off x="5055480" y="3011400"/>
            <a:ext cx="209700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4278240" y="2960640"/>
            <a:ext cx="625680" cy="2103480"/>
            <a:chOff x="4278240" y="2960640"/>
            <a:chExt cx="625680" cy="2103480"/>
          </a:xfrm>
        </p:grpSpPr>
        <p:sp>
          <p:nvSpPr>
            <p:cNvPr id="1163" name="未知"/>
            <p:cNvSpPr/>
            <p:nvPr/>
          </p:nvSpPr>
          <p:spPr>
            <a:xfrm>
              <a:off x="4278240" y="2960640"/>
              <a:ext cx="62568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未知"/>
            <p:cNvSpPr/>
            <p:nvPr/>
          </p:nvSpPr>
          <p:spPr>
            <a:xfrm>
              <a:off x="4473000" y="3433680"/>
              <a:ext cx="53280" cy="76644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5" name="未知"/>
          <p:cNvSpPr/>
          <p:nvPr/>
        </p:nvSpPr>
        <p:spPr>
          <a:xfrm>
            <a:off x="2462040" y="3195720"/>
            <a:ext cx="587520" cy="74124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未知"/>
          <p:cNvSpPr/>
          <p:nvPr/>
        </p:nvSpPr>
        <p:spPr>
          <a:xfrm flipH="1">
            <a:off x="6071400" y="3311640"/>
            <a:ext cx="530280" cy="56016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066680" y="4362480"/>
            <a:ext cx="1749600" cy="173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bcbc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141560" y="4441680"/>
            <a:ext cx="15951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1198440" y="4498920"/>
            <a:ext cx="1492200" cy="145728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>
            <a:off x="1198440" y="4498920"/>
            <a:ext cx="1482840" cy="1460520"/>
          </a:xfrm>
          <a:prstGeom prst="ellipse">
            <a:avLst/>
          </a:prstGeom>
          <a:gradFill rotWithShape="0">
            <a:gsLst>
              <a:gs pos="0">
                <a:srgbClr val="4242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242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未知"/>
          <p:cNvSpPr/>
          <p:nvPr/>
        </p:nvSpPr>
        <p:spPr>
          <a:xfrm>
            <a:off x="1351080" y="4527720"/>
            <a:ext cx="116496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159600" y="43624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7e7e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232680" y="44416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4" name="" descr=""/>
          <p:cNvPicPr/>
          <p:nvPr/>
        </p:nvPicPr>
        <p:blipFill>
          <a:blip r:embed="rId4"/>
          <a:stretch/>
        </p:blipFill>
        <p:spPr>
          <a:xfrm>
            <a:off x="6291360" y="4498920"/>
            <a:ext cx="1490400" cy="1457280"/>
          </a:xfrm>
          <a:prstGeom prst="rect">
            <a:avLst/>
          </a:prstGeom>
          <a:ln w="0">
            <a:noFill/>
          </a:ln>
        </p:spPr>
      </p:pic>
      <p:sp>
        <p:nvSpPr>
          <p:cNvPr id="1175" name=""/>
          <p:cNvSpPr/>
          <p:nvPr/>
        </p:nvSpPr>
        <p:spPr>
          <a:xfrm>
            <a:off x="6291360" y="44989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353542">
                  <a:alpha val="90196"/>
                </a:srgbClr>
              </a:gs>
              <a:gs pos="50000">
                <a:srgbClr val="ccccff">
                  <a:alpha val="45098"/>
                </a:srgbClr>
              </a:gs>
              <a:gs pos="100000">
                <a:srgbClr val="3535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未知"/>
          <p:cNvSpPr/>
          <p:nvPr/>
        </p:nvSpPr>
        <p:spPr>
          <a:xfrm>
            <a:off x="6443640" y="4527720"/>
            <a:ext cx="11635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6396840" y="5510160"/>
            <a:ext cx="1310040" cy="522000"/>
            <a:chOff x="6396840" y="5510160"/>
            <a:chExt cx="1310040" cy="522000"/>
          </a:xfrm>
        </p:grpSpPr>
        <p:grpSp>
          <p:nvGrpSpPr>
            <p:cNvPr id="1178" name=""/>
            <p:cNvGrpSpPr/>
            <p:nvPr/>
          </p:nvGrpSpPr>
          <p:grpSpPr>
            <a:xfrm>
              <a:off x="6626160" y="5510160"/>
              <a:ext cx="1080720" cy="491040"/>
              <a:chOff x="6626160" y="5510160"/>
              <a:chExt cx="1080720" cy="491040"/>
            </a:xfrm>
          </p:grpSpPr>
          <p:sp>
            <p:nvSpPr>
              <p:cNvPr id="1179" name=""/>
              <p:cNvSpPr/>
              <p:nvPr/>
            </p:nvSpPr>
            <p:spPr>
              <a:xfrm flipH="1" flipV="1" rot="3964800">
                <a:off x="7214760" y="536292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 flipV="1" rot="4780200">
                <a:off x="7093440" y="54108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 flipV="1" rot="5076000">
                <a:off x="7018920" y="54201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 flipV="1" rot="5608200">
                <a:off x="6928560" y="54298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6396840" y="5516280"/>
              <a:ext cx="1079640" cy="515880"/>
              <a:chOff x="6396840" y="5516280"/>
              <a:chExt cx="1079640" cy="515880"/>
            </a:xfrm>
          </p:grpSpPr>
          <p:sp>
            <p:nvSpPr>
              <p:cNvPr id="1184" name=""/>
              <p:cNvSpPr/>
              <p:nvPr/>
            </p:nvSpPr>
            <p:spPr>
              <a:xfrm flipH="1" flipV="1" rot="5317800">
                <a:off x="6985440" y="54284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 flipV="1" rot="6133800">
                <a:off x="6855480" y="54266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 flipV="1" rot="6429000">
                <a:off x="6782400" y="54086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 flipV="1" rot="6961200">
                <a:off x="6696000" y="53809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"/>
          <p:cNvSpPr/>
          <p:nvPr/>
        </p:nvSpPr>
        <p:spPr>
          <a:xfrm>
            <a:off x="3687840" y="43624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bcbc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760920" y="44416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5"/>
          <a:stretch/>
        </p:blipFill>
        <p:spPr>
          <a:xfrm>
            <a:off x="3819600" y="449892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3819600" y="44989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84235">
                  <a:alpha val="90196"/>
                </a:srgbClr>
              </a:gs>
              <a:gs pos="50000">
                <a:srgbClr val="99ffcc">
                  <a:alpha val="45098"/>
                </a:srgbClr>
              </a:gs>
              <a:gs pos="100000">
                <a:srgbClr val="284235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未知"/>
          <p:cNvSpPr/>
          <p:nvPr/>
        </p:nvSpPr>
        <p:spPr>
          <a:xfrm>
            <a:off x="3971880" y="4527720"/>
            <a:ext cx="11635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3925080" y="5510160"/>
            <a:ext cx="1310040" cy="522000"/>
            <a:chOff x="3925080" y="5510160"/>
            <a:chExt cx="1310040" cy="522000"/>
          </a:xfrm>
        </p:grpSpPr>
        <p:grpSp>
          <p:nvGrpSpPr>
            <p:cNvPr id="1194" name=""/>
            <p:cNvGrpSpPr/>
            <p:nvPr/>
          </p:nvGrpSpPr>
          <p:grpSpPr>
            <a:xfrm>
              <a:off x="4154400" y="5510160"/>
              <a:ext cx="1080720" cy="491040"/>
              <a:chOff x="4154400" y="5510160"/>
              <a:chExt cx="1080720" cy="491040"/>
            </a:xfrm>
          </p:grpSpPr>
          <p:sp>
            <p:nvSpPr>
              <p:cNvPr id="1195" name=""/>
              <p:cNvSpPr/>
              <p:nvPr/>
            </p:nvSpPr>
            <p:spPr>
              <a:xfrm flipH="1" flipV="1" rot="3964800">
                <a:off x="4743000" y="536292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 flipV="1" rot="4780200">
                <a:off x="4621680" y="54108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 flipV="1" rot="5076000">
                <a:off x="4547160" y="54201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 flipV="1" rot="5608200">
                <a:off x="4456800" y="54298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3925080" y="5516280"/>
              <a:ext cx="1079640" cy="515880"/>
              <a:chOff x="3925080" y="5516280"/>
              <a:chExt cx="1079640" cy="515880"/>
            </a:xfrm>
          </p:grpSpPr>
          <p:sp>
            <p:nvSpPr>
              <p:cNvPr id="1200" name=""/>
              <p:cNvSpPr/>
              <p:nvPr/>
            </p:nvSpPr>
            <p:spPr>
              <a:xfrm flipH="1" flipV="1" rot="5317800">
                <a:off x="4513680" y="54284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 flipV="1" rot="6133800">
                <a:off x="4383720" y="54266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 flipV="1" rot="6429000">
                <a:off x="4310640" y="54086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 flipV="1" rot="6961200">
                <a:off x="4224240" y="53809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04" name="" descr=""/>
          <p:cNvPicPr/>
          <p:nvPr/>
        </p:nvPicPr>
        <p:blipFill>
          <a:blip r:embed="rId6"/>
          <a:stretch/>
        </p:blipFill>
        <p:spPr>
          <a:xfrm rot="3050400">
            <a:off x="4444200" y="379008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3939480" y="5051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291320" y="5051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415920" y="5051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981080" y="1600200"/>
            <a:ext cx="5105520" cy="617400"/>
          </a:xfrm>
          <a:prstGeom prst="roundRect">
            <a:avLst>
              <a:gd name="adj" fmla="val 50000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055960" y="1652760"/>
            <a:ext cx="4944960" cy="520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ba1a">
                  <a:alpha val="90196"/>
                </a:srgbClr>
              </a:gs>
              <a:gs pos="50000">
                <a:srgbClr val="9e7510"/>
              </a:gs>
              <a:gs pos="100000">
                <a:srgbClr val="faba1a">
                  <a:alpha val="90196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322080" y="1800360"/>
            <a:ext cx="24681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981080" y="239076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1293120" y="5510160"/>
            <a:ext cx="1309320" cy="522360"/>
            <a:chOff x="1293120" y="5510160"/>
            <a:chExt cx="1309320" cy="522360"/>
          </a:xfrm>
        </p:grpSpPr>
        <p:grpSp>
          <p:nvGrpSpPr>
            <p:cNvPr id="1213" name=""/>
            <p:cNvGrpSpPr/>
            <p:nvPr/>
          </p:nvGrpSpPr>
          <p:grpSpPr>
            <a:xfrm>
              <a:off x="1521720" y="5510160"/>
              <a:ext cx="1080720" cy="491040"/>
              <a:chOff x="1521720" y="5510160"/>
              <a:chExt cx="1080720" cy="491040"/>
            </a:xfrm>
          </p:grpSpPr>
          <p:sp>
            <p:nvSpPr>
              <p:cNvPr id="1214" name=""/>
              <p:cNvSpPr/>
              <p:nvPr/>
            </p:nvSpPr>
            <p:spPr>
              <a:xfrm flipH="1" flipV="1" rot="3964800">
                <a:off x="2110320" y="536292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 flipV="1" rot="4780200">
                <a:off x="1989000" y="54108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 flipV="1" rot="5076000">
                <a:off x="1914480" y="54205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 flipV="1" rot="5608200">
                <a:off x="1824120" y="543024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8" name=""/>
            <p:cNvGrpSpPr/>
            <p:nvPr/>
          </p:nvGrpSpPr>
          <p:grpSpPr>
            <a:xfrm>
              <a:off x="1293120" y="5517000"/>
              <a:ext cx="1078920" cy="515520"/>
              <a:chOff x="1293120" y="5517000"/>
              <a:chExt cx="1078920" cy="515520"/>
            </a:xfrm>
          </p:grpSpPr>
          <p:sp>
            <p:nvSpPr>
              <p:cNvPr id="1219" name=""/>
              <p:cNvSpPr/>
              <p:nvPr/>
            </p:nvSpPr>
            <p:spPr>
              <a:xfrm flipH="1" flipV="1" rot="5317800">
                <a:off x="1881720" y="542880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H="1" flipV="1" rot="6133800">
                <a:off x="1750680" y="542700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H="1" flipV="1" rot="6429000">
                <a:off x="1679040" y="54082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 flipV="1" rot="6961200">
                <a:off x="1592280" y="53820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224" name=""/>
          <p:cNvSpPr/>
          <p:nvPr/>
        </p:nvSpPr>
        <p:spPr>
          <a:xfrm>
            <a:off x="4491000" y="34290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. Describe contents for a Ch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491000" y="22860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. Describe contents for a Chart</a:t>
            </a: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491000" y="332100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V="1" rot="16200000">
            <a:off x="2796120" y="401472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938bfd">
                  <a:alpha val="70196"/>
                </a:srgbClr>
              </a:gs>
              <a:gs pos="100000">
                <a:srgbClr val="4340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 rot="16200000">
            <a:off x="3308760" y="254376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3d3f9">
                  <a:alpha val="70196"/>
                </a:srgbClr>
              </a:gs>
              <a:gs pos="100000">
                <a:srgbClr val="086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V="1" rot="16200000">
            <a:off x="2146320" y="4263120"/>
            <a:ext cx="163224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938bfd">
                  <a:alpha val="70196"/>
                </a:srgbClr>
              </a:gs>
              <a:gs pos="100000">
                <a:srgbClr val="4340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flipV="1" rot="16200000">
            <a:off x="2412720" y="3037680"/>
            <a:ext cx="110988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3d3f9">
                  <a:alpha val="70196"/>
                </a:srgbClr>
              </a:gs>
              <a:gs pos="100000">
                <a:srgbClr val="086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V="1" rot="16200000">
            <a:off x="1469160" y="4522680"/>
            <a:ext cx="11602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938bfd">
                  <a:alpha val="70196"/>
                </a:srgbClr>
              </a:gs>
              <a:gs pos="100000">
                <a:srgbClr val="4340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 rot="16200000">
            <a:off x="1497240" y="353448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3d3f9">
                  <a:alpha val="70196"/>
                </a:srgbClr>
              </a:gs>
              <a:gs pos="100000">
                <a:srgbClr val="086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 rot="16200000">
            <a:off x="769320" y="473688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938bfd">
                  <a:alpha val="70196"/>
                </a:srgbClr>
              </a:gs>
              <a:gs pos="100000">
                <a:srgbClr val="4340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V="1" rot="16200000">
            <a:off x="584640" y="3961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3d3f9">
                  <a:alpha val="70196"/>
                </a:srgbClr>
              </a:gs>
              <a:gs pos="100000">
                <a:srgbClr val="086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未知"/>
          <p:cNvSpPr/>
          <p:nvPr/>
        </p:nvSpPr>
        <p:spPr>
          <a:xfrm flipH="1">
            <a:off x="955800" y="2927520"/>
            <a:ext cx="3022560" cy="243180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860040" y="34815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782360" y="29894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704680" y="2489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609360" y="200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008000" y="5670720"/>
            <a:ext cx="2930760" cy="45216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370160" y="571500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744480" y="399240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658880" y="350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571840" y="30369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451320" y="253224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12840" y="63802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1066680" y="2693880"/>
            <a:ext cx="6838920" cy="3365640"/>
            <a:chOff x="1066680" y="2693880"/>
            <a:chExt cx="6838920" cy="3365640"/>
          </a:xfrm>
        </p:grpSpPr>
        <p:sp>
          <p:nvSpPr>
            <p:cNvPr id="1249" name="未知"/>
            <p:cNvSpPr/>
            <p:nvPr/>
          </p:nvSpPr>
          <p:spPr>
            <a:xfrm>
              <a:off x="1191960" y="2843280"/>
              <a:ext cx="201132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未知"/>
            <p:cNvSpPr/>
            <p:nvPr/>
          </p:nvSpPr>
          <p:spPr>
            <a:xfrm>
              <a:off x="1128600" y="3136680"/>
              <a:ext cx="54000" cy="446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未知"/>
            <p:cNvSpPr/>
            <p:nvPr/>
          </p:nvSpPr>
          <p:spPr>
            <a:xfrm>
              <a:off x="1616040" y="3332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未知"/>
            <p:cNvSpPr/>
            <p:nvPr/>
          </p:nvSpPr>
          <p:spPr>
            <a:xfrm>
              <a:off x="2857320" y="3421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未知"/>
            <p:cNvSpPr/>
            <p:nvPr/>
          </p:nvSpPr>
          <p:spPr>
            <a:xfrm>
              <a:off x="2104920" y="4030560"/>
              <a:ext cx="250920" cy="13320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未知"/>
            <p:cNvSpPr/>
            <p:nvPr/>
          </p:nvSpPr>
          <p:spPr>
            <a:xfrm>
              <a:off x="2311200" y="4132080"/>
              <a:ext cx="157320" cy="651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未知"/>
            <p:cNvSpPr/>
            <p:nvPr/>
          </p:nvSpPr>
          <p:spPr>
            <a:xfrm>
              <a:off x="2477880" y="417348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未知"/>
            <p:cNvSpPr/>
            <p:nvPr/>
          </p:nvSpPr>
          <p:spPr>
            <a:xfrm>
              <a:off x="2566800" y="4178160"/>
              <a:ext cx="19080" cy="396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未知"/>
            <p:cNvSpPr/>
            <p:nvPr/>
          </p:nvSpPr>
          <p:spPr>
            <a:xfrm>
              <a:off x="2276280" y="2835000"/>
              <a:ext cx="285840" cy="14004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未知"/>
            <p:cNvSpPr/>
            <p:nvPr/>
          </p:nvSpPr>
          <p:spPr>
            <a:xfrm>
              <a:off x="2403360" y="2770200"/>
              <a:ext cx="231840" cy="9504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未知"/>
            <p:cNvSpPr/>
            <p:nvPr/>
          </p:nvSpPr>
          <p:spPr>
            <a:xfrm>
              <a:off x="2728800" y="2881080"/>
              <a:ext cx="36972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未知"/>
            <p:cNvSpPr/>
            <p:nvPr/>
          </p:nvSpPr>
          <p:spPr>
            <a:xfrm>
              <a:off x="2725560" y="2751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未知"/>
            <p:cNvSpPr/>
            <p:nvPr/>
          </p:nvSpPr>
          <p:spPr>
            <a:xfrm>
              <a:off x="2592360" y="2862000"/>
              <a:ext cx="102960" cy="66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未知"/>
            <p:cNvSpPr/>
            <p:nvPr/>
          </p:nvSpPr>
          <p:spPr>
            <a:xfrm>
              <a:off x="2700360" y="2874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未知"/>
            <p:cNvSpPr/>
            <p:nvPr/>
          </p:nvSpPr>
          <p:spPr>
            <a:xfrm>
              <a:off x="2654280" y="2817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未知"/>
            <p:cNvSpPr/>
            <p:nvPr/>
          </p:nvSpPr>
          <p:spPr>
            <a:xfrm>
              <a:off x="2611440" y="2766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未知"/>
            <p:cNvSpPr/>
            <p:nvPr/>
          </p:nvSpPr>
          <p:spPr>
            <a:xfrm>
              <a:off x="2792160" y="2771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未知"/>
            <p:cNvSpPr/>
            <p:nvPr/>
          </p:nvSpPr>
          <p:spPr>
            <a:xfrm>
              <a:off x="1066680" y="3160440"/>
              <a:ext cx="39600" cy="241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未知"/>
            <p:cNvSpPr/>
            <p:nvPr/>
          </p:nvSpPr>
          <p:spPr>
            <a:xfrm>
              <a:off x="2268360" y="3971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未知"/>
            <p:cNvSpPr/>
            <p:nvPr/>
          </p:nvSpPr>
          <p:spPr>
            <a:xfrm>
              <a:off x="2273040" y="4011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未知"/>
            <p:cNvSpPr/>
            <p:nvPr/>
          </p:nvSpPr>
          <p:spPr>
            <a:xfrm>
              <a:off x="2597040" y="4221000"/>
              <a:ext cx="237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未知"/>
            <p:cNvSpPr/>
            <p:nvPr/>
          </p:nvSpPr>
          <p:spPr>
            <a:xfrm>
              <a:off x="2793960" y="345276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未知"/>
            <p:cNvSpPr/>
            <p:nvPr/>
          </p:nvSpPr>
          <p:spPr>
            <a:xfrm>
              <a:off x="2635200" y="312732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未知"/>
            <p:cNvSpPr/>
            <p:nvPr/>
          </p:nvSpPr>
          <p:spPr>
            <a:xfrm>
              <a:off x="2738160" y="2843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未知"/>
            <p:cNvSpPr/>
            <p:nvPr/>
          </p:nvSpPr>
          <p:spPr>
            <a:xfrm>
              <a:off x="2838240" y="301464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未知"/>
            <p:cNvSpPr/>
            <p:nvPr/>
          </p:nvSpPr>
          <p:spPr>
            <a:xfrm>
              <a:off x="2863800" y="2693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未知"/>
            <p:cNvSpPr/>
            <p:nvPr/>
          </p:nvSpPr>
          <p:spPr>
            <a:xfrm>
              <a:off x="3201840" y="298584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未知"/>
            <p:cNvSpPr/>
            <p:nvPr/>
          </p:nvSpPr>
          <p:spPr>
            <a:xfrm>
              <a:off x="3651120" y="3090600"/>
              <a:ext cx="203040" cy="8604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未知"/>
            <p:cNvSpPr/>
            <p:nvPr/>
          </p:nvSpPr>
          <p:spPr>
            <a:xfrm>
              <a:off x="3811320" y="2832120"/>
              <a:ext cx="61920" cy="37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未知"/>
            <p:cNvSpPr/>
            <p:nvPr/>
          </p:nvSpPr>
          <p:spPr>
            <a:xfrm>
              <a:off x="4238640" y="2781360"/>
              <a:ext cx="245880" cy="99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未知"/>
            <p:cNvSpPr/>
            <p:nvPr/>
          </p:nvSpPr>
          <p:spPr>
            <a:xfrm>
              <a:off x="4392360" y="2833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未知"/>
            <p:cNvSpPr/>
            <p:nvPr/>
          </p:nvSpPr>
          <p:spPr>
            <a:xfrm>
              <a:off x="3929040" y="3265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未知"/>
            <p:cNvSpPr/>
            <p:nvPr/>
          </p:nvSpPr>
          <p:spPr>
            <a:xfrm>
              <a:off x="3843360" y="3341520"/>
              <a:ext cx="109440" cy="1080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未知"/>
            <p:cNvSpPr/>
            <p:nvPr/>
          </p:nvSpPr>
          <p:spPr>
            <a:xfrm>
              <a:off x="6519600" y="515592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未知"/>
            <p:cNvSpPr/>
            <p:nvPr/>
          </p:nvSpPr>
          <p:spPr>
            <a:xfrm>
              <a:off x="6753240" y="4741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未知"/>
            <p:cNvSpPr/>
            <p:nvPr/>
          </p:nvSpPr>
          <p:spPr>
            <a:xfrm>
              <a:off x="6767280" y="4744800"/>
              <a:ext cx="493920" cy="33516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未知"/>
            <p:cNvSpPr/>
            <p:nvPr/>
          </p:nvSpPr>
          <p:spPr>
            <a:xfrm>
              <a:off x="7132680" y="5967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未知"/>
            <p:cNvSpPr/>
            <p:nvPr/>
          </p:nvSpPr>
          <p:spPr>
            <a:xfrm>
              <a:off x="7348320" y="5824440"/>
              <a:ext cx="26028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未知"/>
            <p:cNvSpPr/>
            <p:nvPr/>
          </p:nvSpPr>
          <p:spPr>
            <a:xfrm>
              <a:off x="7618320" y="574488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未知"/>
            <p:cNvSpPr/>
            <p:nvPr/>
          </p:nvSpPr>
          <p:spPr>
            <a:xfrm>
              <a:off x="7705440" y="5680080"/>
              <a:ext cx="59040" cy="410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未知"/>
            <p:cNvSpPr/>
            <p:nvPr/>
          </p:nvSpPr>
          <p:spPr>
            <a:xfrm>
              <a:off x="4970520" y="4908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未知"/>
            <p:cNvSpPr/>
            <p:nvPr/>
          </p:nvSpPr>
          <p:spPr>
            <a:xfrm>
              <a:off x="5814720" y="4413240"/>
              <a:ext cx="7812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未知"/>
            <p:cNvSpPr/>
            <p:nvPr/>
          </p:nvSpPr>
          <p:spPr>
            <a:xfrm>
              <a:off x="6343560" y="4518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未知"/>
            <p:cNvSpPr/>
            <p:nvPr/>
          </p:nvSpPr>
          <p:spPr>
            <a:xfrm>
              <a:off x="6194160" y="4427280"/>
              <a:ext cx="114480" cy="2178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未知"/>
            <p:cNvSpPr/>
            <p:nvPr/>
          </p:nvSpPr>
          <p:spPr>
            <a:xfrm>
              <a:off x="6271920" y="4601880"/>
              <a:ext cx="6372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未知"/>
            <p:cNvSpPr/>
            <p:nvPr/>
          </p:nvSpPr>
          <p:spPr>
            <a:xfrm>
              <a:off x="6343560" y="4819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未知"/>
            <p:cNvSpPr/>
            <p:nvPr/>
          </p:nvSpPr>
          <p:spPr>
            <a:xfrm>
              <a:off x="6508800" y="4668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未知"/>
            <p:cNvSpPr/>
            <p:nvPr/>
          </p:nvSpPr>
          <p:spPr>
            <a:xfrm>
              <a:off x="6464160" y="4005000"/>
              <a:ext cx="34920" cy="11304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未知"/>
            <p:cNvSpPr/>
            <p:nvPr/>
          </p:nvSpPr>
          <p:spPr>
            <a:xfrm>
              <a:off x="6486480" y="4194000"/>
              <a:ext cx="96840" cy="18756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未知"/>
            <p:cNvSpPr/>
            <p:nvPr/>
          </p:nvSpPr>
          <p:spPr>
            <a:xfrm>
              <a:off x="6554520" y="4441680"/>
              <a:ext cx="101880" cy="12528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未知"/>
            <p:cNvSpPr/>
            <p:nvPr/>
          </p:nvSpPr>
          <p:spPr>
            <a:xfrm>
              <a:off x="6675480" y="4665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未知"/>
            <p:cNvSpPr/>
            <p:nvPr/>
          </p:nvSpPr>
          <p:spPr>
            <a:xfrm>
              <a:off x="6649920" y="479556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未知"/>
            <p:cNvSpPr/>
            <p:nvPr/>
          </p:nvSpPr>
          <p:spPr>
            <a:xfrm>
              <a:off x="6692760" y="4779720"/>
              <a:ext cx="71280" cy="59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未知"/>
            <p:cNvSpPr/>
            <p:nvPr/>
          </p:nvSpPr>
          <p:spPr>
            <a:xfrm>
              <a:off x="6802200" y="4890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未知"/>
            <p:cNvSpPr/>
            <p:nvPr/>
          </p:nvSpPr>
          <p:spPr>
            <a:xfrm>
              <a:off x="7226280" y="4824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未知"/>
            <p:cNvSpPr/>
            <p:nvPr/>
          </p:nvSpPr>
          <p:spPr>
            <a:xfrm>
              <a:off x="6595920" y="4917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未知"/>
            <p:cNvSpPr/>
            <p:nvPr/>
          </p:nvSpPr>
          <p:spPr>
            <a:xfrm>
              <a:off x="6518160" y="4948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未知"/>
            <p:cNvSpPr/>
            <p:nvPr/>
          </p:nvSpPr>
          <p:spPr>
            <a:xfrm>
              <a:off x="6484680" y="4902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未知"/>
            <p:cNvSpPr/>
            <p:nvPr/>
          </p:nvSpPr>
          <p:spPr>
            <a:xfrm>
              <a:off x="6538680" y="491940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未知"/>
            <p:cNvSpPr/>
            <p:nvPr/>
          </p:nvSpPr>
          <p:spPr>
            <a:xfrm>
              <a:off x="6460920" y="4392360"/>
              <a:ext cx="42840" cy="874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未知"/>
            <p:cNvSpPr/>
            <p:nvPr/>
          </p:nvSpPr>
          <p:spPr>
            <a:xfrm>
              <a:off x="6541920" y="4378320"/>
              <a:ext cx="30240" cy="87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未知"/>
            <p:cNvSpPr/>
            <p:nvPr/>
          </p:nvSpPr>
          <p:spPr>
            <a:xfrm>
              <a:off x="6576840" y="4351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未知"/>
            <p:cNvSpPr/>
            <p:nvPr/>
          </p:nvSpPr>
          <p:spPr>
            <a:xfrm>
              <a:off x="6592680" y="4370400"/>
              <a:ext cx="33480" cy="759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未知"/>
            <p:cNvSpPr/>
            <p:nvPr/>
          </p:nvSpPr>
          <p:spPr>
            <a:xfrm>
              <a:off x="6165720" y="4479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未知"/>
            <p:cNvSpPr/>
            <p:nvPr/>
          </p:nvSpPr>
          <p:spPr>
            <a:xfrm>
              <a:off x="6149880" y="4443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未知"/>
            <p:cNvSpPr/>
            <p:nvPr/>
          </p:nvSpPr>
          <p:spPr>
            <a:xfrm>
              <a:off x="6143400" y="4414680"/>
              <a:ext cx="1908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未知"/>
            <p:cNvSpPr/>
            <p:nvPr/>
          </p:nvSpPr>
          <p:spPr>
            <a:xfrm>
              <a:off x="6124320" y="4351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未知"/>
            <p:cNvSpPr/>
            <p:nvPr/>
          </p:nvSpPr>
          <p:spPr>
            <a:xfrm>
              <a:off x="6127560" y="4390920"/>
              <a:ext cx="25560" cy="205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未知"/>
            <p:cNvSpPr/>
            <p:nvPr/>
          </p:nvSpPr>
          <p:spPr>
            <a:xfrm>
              <a:off x="7454880" y="5379840"/>
              <a:ext cx="71280" cy="9540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未知"/>
            <p:cNvSpPr/>
            <p:nvPr/>
          </p:nvSpPr>
          <p:spPr>
            <a:xfrm>
              <a:off x="7821360" y="5302080"/>
              <a:ext cx="84240" cy="7308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未知"/>
            <p:cNvSpPr/>
            <p:nvPr/>
          </p:nvSpPr>
          <p:spPr>
            <a:xfrm>
              <a:off x="7567560" y="5262480"/>
              <a:ext cx="27000" cy="36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未知"/>
            <p:cNvSpPr/>
            <p:nvPr/>
          </p:nvSpPr>
          <p:spPr>
            <a:xfrm>
              <a:off x="7554960" y="5227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未知"/>
            <p:cNvSpPr/>
            <p:nvPr/>
          </p:nvSpPr>
          <p:spPr>
            <a:xfrm>
              <a:off x="7311960" y="491940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未知"/>
            <p:cNvSpPr/>
            <p:nvPr/>
          </p:nvSpPr>
          <p:spPr>
            <a:xfrm>
              <a:off x="7365960" y="4987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未知"/>
            <p:cNvSpPr/>
            <p:nvPr/>
          </p:nvSpPr>
          <p:spPr>
            <a:xfrm>
              <a:off x="7408800" y="5087880"/>
              <a:ext cx="44280" cy="442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未知"/>
            <p:cNvSpPr/>
            <p:nvPr/>
          </p:nvSpPr>
          <p:spPr>
            <a:xfrm>
              <a:off x="7462800" y="5072040"/>
              <a:ext cx="44280" cy="410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未知"/>
            <p:cNvSpPr/>
            <p:nvPr/>
          </p:nvSpPr>
          <p:spPr>
            <a:xfrm>
              <a:off x="7446960" y="5014800"/>
              <a:ext cx="41040" cy="31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未知"/>
            <p:cNvSpPr/>
            <p:nvPr/>
          </p:nvSpPr>
          <p:spPr>
            <a:xfrm>
              <a:off x="7405560" y="4975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未知"/>
            <p:cNvSpPr/>
            <p:nvPr/>
          </p:nvSpPr>
          <p:spPr>
            <a:xfrm>
              <a:off x="7354800" y="494964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未知"/>
            <p:cNvSpPr/>
            <p:nvPr/>
          </p:nvSpPr>
          <p:spPr>
            <a:xfrm>
              <a:off x="7418160" y="5033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862520" y="2852640"/>
              <a:ext cx="223560" cy="171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>
              <a:off x="4995720" y="3017880"/>
              <a:ext cx="6336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5321160" y="2770200"/>
              <a:ext cx="66600" cy="442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>
              <a:off x="5368680" y="2790720"/>
              <a:ext cx="79560" cy="3168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未知"/>
            <p:cNvSpPr/>
            <p:nvPr/>
          </p:nvSpPr>
          <p:spPr>
            <a:xfrm>
              <a:off x="5454360" y="2795400"/>
              <a:ext cx="7956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未知"/>
            <p:cNvSpPr/>
            <p:nvPr/>
          </p:nvSpPr>
          <p:spPr>
            <a:xfrm>
              <a:off x="6008400" y="2838240"/>
              <a:ext cx="140040" cy="4932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未知"/>
            <p:cNvSpPr/>
            <p:nvPr/>
          </p:nvSpPr>
          <p:spPr>
            <a:xfrm>
              <a:off x="6151320" y="2836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未知"/>
            <p:cNvSpPr/>
            <p:nvPr/>
          </p:nvSpPr>
          <p:spPr>
            <a:xfrm>
              <a:off x="6118200" y="2882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未知"/>
            <p:cNvSpPr/>
            <p:nvPr/>
          </p:nvSpPr>
          <p:spPr>
            <a:xfrm>
              <a:off x="6518160" y="3238560"/>
              <a:ext cx="120600" cy="1807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未知"/>
            <p:cNvSpPr/>
            <p:nvPr/>
          </p:nvSpPr>
          <p:spPr>
            <a:xfrm>
              <a:off x="6615000" y="3425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未知"/>
            <p:cNvSpPr/>
            <p:nvPr/>
          </p:nvSpPr>
          <p:spPr>
            <a:xfrm>
              <a:off x="6557760" y="3552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未知"/>
            <p:cNvSpPr/>
            <p:nvPr/>
          </p:nvSpPr>
          <p:spPr>
            <a:xfrm>
              <a:off x="4873680" y="275256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未知"/>
            <p:cNvSpPr/>
            <p:nvPr/>
          </p:nvSpPr>
          <p:spPr>
            <a:xfrm>
              <a:off x="4703760" y="2766960"/>
              <a:ext cx="2988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未知"/>
            <p:cNvSpPr/>
            <p:nvPr/>
          </p:nvSpPr>
          <p:spPr>
            <a:xfrm>
              <a:off x="4741920" y="2765160"/>
              <a:ext cx="58680" cy="432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未知"/>
            <p:cNvSpPr/>
            <p:nvPr/>
          </p:nvSpPr>
          <p:spPr>
            <a:xfrm>
              <a:off x="4838760" y="2751120"/>
              <a:ext cx="31680" cy="252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未知"/>
            <p:cNvSpPr/>
            <p:nvPr/>
          </p:nvSpPr>
          <p:spPr>
            <a:xfrm>
              <a:off x="4809960" y="2779560"/>
              <a:ext cx="23760" cy="205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未知"/>
            <p:cNvSpPr/>
            <p:nvPr/>
          </p:nvSpPr>
          <p:spPr>
            <a:xfrm>
              <a:off x="6619680" y="2805120"/>
              <a:ext cx="28800" cy="52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未知"/>
            <p:cNvSpPr/>
            <p:nvPr/>
          </p:nvSpPr>
          <p:spPr>
            <a:xfrm>
              <a:off x="5216400" y="5110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未知"/>
            <p:cNvSpPr/>
            <p:nvPr/>
          </p:nvSpPr>
          <p:spPr>
            <a:xfrm>
              <a:off x="5279760" y="5099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未知"/>
            <p:cNvSpPr/>
            <p:nvPr/>
          </p:nvSpPr>
          <p:spPr>
            <a:xfrm>
              <a:off x="5173560" y="4854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未知"/>
            <p:cNvSpPr/>
            <p:nvPr/>
          </p:nvSpPr>
          <p:spPr>
            <a:xfrm>
              <a:off x="5268960" y="4738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未知"/>
            <p:cNvSpPr/>
            <p:nvPr/>
          </p:nvSpPr>
          <p:spPr>
            <a:xfrm>
              <a:off x="5230800" y="47368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未知"/>
            <p:cNvSpPr/>
            <p:nvPr/>
          </p:nvSpPr>
          <p:spPr>
            <a:xfrm>
              <a:off x="5213160" y="477180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未知"/>
            <p:cNvSpPr/>
            <p:nvPr/>
          </p:nvSpPr>
          <p:spPr>
            <a:xfrm>
              <a:off x="5173560" y="48258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未知"/>
            <p:cNvSpPr/>
            <p:nvPr/>
          </p:nvSpPr>
          <p:spPr>
            <a:xfrm>
              <a:off x="5203800" y="4805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未知"/>
            <p:cNvSpPr/>
            <p:nvPr/>
          </p:nvSpPr>
          <p:spPr>
            <a:xfrm>
              <a:off x="4039920" y="323676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未知"/>
            <p:cNvSpPr/>
            <p:nvPr/>
          </p:nvSpPr>
          <p:spPr>
            <a:xfrm>
              <a:off x="3943080" y="318276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未知"/>
            <p:cNvSpPr/>
            <p:nvPr/>
          </p:nvSpPr>
          <p:spPr>
            <a:xfrm>
              <a:off x="3565440" y="2838240"/>
              <a:ext cx="3270240" cy="261000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1905120" y="308772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30200" y="1496880"/>
            <a:ext cx="54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400640" y="438948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389640" y="354168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822920" y="3166920"/>
            <a:ext cx="260280" cy="2606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511360" y="535140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5268960" y="2278080"/>
            <a:ext cx="3146400" cy="43344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484200" y="1344600"/>
            <a:ext cx="708984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645080" y="4565520"/>
            <a:ext cx="3465360" cy="39060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d7d7d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93800" y="4565520"/>
            <a:ext cx="3465360" cy="39060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d7d7d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2254320" y="3379680"/>
            <a:ext cx="660240" cy="1157400"/>
            <a:chOff x="2254320" y="3379680"/>
            <a:chExt cx="660240" cy="1157400"/>
          </a:xfrm>
        </p:grpSpPr>
        <p:sp>
          <p:nvSpPr>
            <p:cNvPr id="1368" name="未知"/>
            <p:cNvSpPr/>
            <p:nvPr/>
          </p:nvSpPr>
          <p:spPr>
            <a:xfrm>
              <a:off x="2254320" y="3605760"/>
              <a:ext cx="660240" cy="931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38bfd"/>
                </a:gs>
                <a:gs pos="100000">
                  <a:srgbClr val="6f69b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449440" y="3379680"/>
              <a:ext cx="221760" cy="240480"/>
            </a:xfrm>
            <a:prstGeom prst="ellipse">
              <a:avLst/>
            </a:prstGeom>
            <a:gradFill rotWithShape="0">
              <a:gsLst>
                <a:gs pos="0">
                  <a:srgbClr val="938bfd"/>
                </a:gs>
                <a:gs pos="100000">
                  <a:srgbClr val="6f69b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0" name=""/>
          <p:cNvSpPr/>
          <p:nvPr/>
        </p:nvSpPr>
        <p:spPr>
          <a:xfrm>
            <a:off x="4826160" y="45831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740560" y="45831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6751800" y="45831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571760" y="2733840"/>
            <a:ext cx="71280" cy="745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706760" y="263196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statistics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4835520" y="2711520"/>
            <a:ext cx="71280" cy="745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962600" y="25909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statistics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597840" y="49467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7377840" y="49467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716400" y="497376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003  Statistics agency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647240" y="498312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003  Statistics agency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262240" y="369108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193760" y="45831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101680" y="458316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098880" y="45831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3106800" y="2851200"/>
            <a:ext cx="969480" cy="1694880"/>
            <a:chOff x="3106800" y="2851200"/>
            <a:chExt cx="969480" cy="1694880"/>
          </a:xfrm>
        </p:grpSpPr>
        <p:sp>
          <p:nvSpPr>
            <p:cNvPr id="1386" name="未知"/>
            <p:cNvSpPr/>
            <p:nvPr/>
          </p:nvSpPr>
          <p:spPr>
            <a:xfrm>
              <a:off x="3106800" y="3182400"/>
              <a:ext cx="969480" cy="136368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38bfd"/>
                </a:gs>
                <a:gs pos="100000">
                  <a:srgbClr val="6f69b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3393360" y="2851200"/>
              <a:ext cx="325440" cy="352080"/>
            </a:xfrm>
            <a:prstGeom prst="ellipse">
              <a:avLst/>
            </a:prstGeom>
            <a:gradFill rotWithShape="0">
              <a:gsLst>
                <a:gs pos="0">
                  <a:srgbClr val="938bfd"/>
                </a:gs>
                <a:gs pos="100000">
                  <a:srgbClr val="6f69b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8" name=""/>
          <p:cNvSpPr/>
          <p:nvPr/>
        </p:nvSpPr>
        <p:spPr>
          <a:xfrm>
            <a:off x="3129120" y="337032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1415880" y="3621240"/>
            <a:ext cx="519120" cy="910800"/>
            <a:chOff x="1415880" y="3621240"/>
            <a:chExt cx="519120" cy="910800"/>
          </a:xfrm>
        </p:grpSpPr>
        <p:sp>
          <p:nvSpPr>
            <p:cNvPr id="1390" name="未知"/>
            <p:cNvSpPr/>
            <p:nvPr/>
          </p:nvSpPr>
          <p:spPr>
            <a:xfrm>
              <a:off x="1415880" y="3799080"/>
              <a:ext cx="519120" cy="73296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38bfd"/>
                </a:gs>
                <a:gs pos="100000">
                  <a:srgbClr val="6f69b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1569240" y="3621240"/>
              <a:ext cx="174240" cy="189360"/>
            </a:xfrm>
            <a:prstGeom prst="ellipse">
              <a:avLst/>
            </a:prstGeom>
            <a:gradFill rotWithShape="0">
              <a:gsLst>
                <a:gs pos="0">
                  <a:srgbClr val="938bfd"/>
                </a:gs>
                <a:gs pos="100000">
                  <a:srgbClr val="6f69b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2" name=""/>
          <p:cNvSpPr/>
          <p:nvPr/>
        </p:nvSpPr>
        <p:spPr>
          <a:xfrm>
            <a:off x="1349280" y="38797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6807240" y="2824200"/>
            <a:ext cx="851040" cy="1698120"/>
            <a:chOff x="6807240" y="2824200"/>
            <a:chExt cx="851040" cy="1698120"/>
          </a:xfrm>
        </p:grpSpPr>
        <p:sp>
          <p:nvSpPr>
            <p:cNvPr id="1394" name="未知"/>
            <p:cNvSpPr/>
            <p:nvPr/>
          </p:nvSpPr>
          <p:spPr>
            <a:xfrm>
              <a:off x="6807240" y="3121200"/>
              <a:ext cx="851040" cy="14011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7fe6fa"/>
                </a:gs>
                <a:gs pos="100000">
                  <a:srgbClr val="13d3f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059600" y="2824200"/>
              <a:ext cx="307080" cy="324360"/>
            </a:xfrm>
            <a:prstGeom prst="ellipse">
              <a:avLst/>
            </a:prstGeom>
            <a:gradFill rotWithShape="0">
              <a:gsLst>
                <a:gs pos="0">
                  <a:srgbClr val="7fe6fa"/>
                </a:gs>
                <a:gs pos="100000">
                  <a:srgbClr val="13d3f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864480" y="33703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5867280" y="3094200"/>
            <a:ext cx="717840" cy="1433160"/>
            <a:chOff x="5867280" y="3094200"/>
            <a:chExt cx="717840" cy="1433160"/>
          </a:xfrm>
        </p:grpSpPr>
        <p:sp>
          <p:nvSpPr>
            <p:cNvPr id="1398" name="未知"/>
            <p:cNvSpPr/>
            <p:nvPr/>
          </p:nvSpPr>
          <p:spPr>
            <a:xfrm>
              <a:off x="5867280" y="3344760"/>
              <a:ext cx="717840" cy="11826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7fe6fa"/>
                </a:gs>
                <a:gs pos="100000">
                  <a:srgbClr val="13d3f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080040" y="3094200"/>
              <a:ext cx="258840" cy="273960"/>
            </a:xfrm>
            <a:prstGeom prst="ellipse">
              <a:avLst/>
            </a:prstGeom>
            <a:gradFill rotWithShape="0">
              <a:gsLst>
                <a:gs pos="0">
                  <a:srgbClr val="7fe6fa"/>
                </a:gs>
                <a:gs pos="100000">
                  <a:srgbClr val="13d3f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0" name=""/>
          <p:cNvGrpSpPr/>
          <p:nvPr/>
        </p:nvGrpSpPr>
        <p:grpSpPr>
          <a:xfrm>
            <a:off x="5030640" y="3467160"/>
            <a:ext cx="533520" cy="1064880"/>
            <a:chOff x="5030640" y="3467160"/>
            <a:chExt cx="533520" cy="1064880"/>
          </a:xfrm>
        </p:grpSpPr>
        <p:sp>
          <p:nvSpPr>
            <p:cNvPr id="1401" name="未知"/>
            <p:cNvSpPr/>
            <p:nvPr/>
          </p:nvSpPr>
          <p:spPr>
            <a:xfrm>
              <a:off x="5030640" y="3653280"/>
              <a:ext cx="533520" cy="878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7fe6fa"/>
                </a:gs>
                <a:gs pos="100000">
                  <a:srgbClr val="13d3f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188680" y="3467160"/>
              <a:ext cx="192240" cy="203400"/>
            </a:xfrm>
            <a:prstGeom prst="ellipse">
              <a:avLst/>
            </a:prstGeom>
            <a:gradFill rotWithShape="0">
              <a:gsLst>
                <a:gs pos="0">
                  <a:srgbClr val="7fe6fa"/>
                </a:gs>
                <a:gs pos="100000">
                  <a:srgbClr val="13d3f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3" name=""/>
          <p:cNvSpPr/>
          <p:nvPr/>
        </p:nvSpPr>
        <p:spPr>
          <a:xfrm>
            <a:off x="5019840" y="380520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5896080" y="355932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749880" y="5538960"/>
            <a:ext cx="41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408" name="未知"/>
          <p:cNvSpPr/>
          <p:nvPr/>
        </p:nvSpPr>
        <p:spPr>
          <a:xfrm flipH="1" flipV="1">
            <a:off x="721800" y="3906720"/>
            <a:ext cx="7607520" cy="194472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b6d74d"/>
              </a:gs>
              <a:gs pos="100000">
                <a:srgbClr val="53632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未知"/>
          <p:cNvSpPr/>
          <p:nvPr/>
        </p:nvSpPr>
        <p:spPr>
          <a:xfrm>
            <a:off x="708120" y="1852560"/>
            <a:ext cx="7607160" cy="211788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5295d2"/>
              </a:gs>
              <a:gs pos="100000">
                <a:srgbClr val="25446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92880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77020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460044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44220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749160" y="1981080"/>
            <a:ext cx="221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95076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040440" y="5376960"/>
            <a:ext cx="2219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123720" y="267804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8" name=""/>
          <p:cNvCxnSpPr>
            <a:stCxn id="1410" idx="0"/>
            <a:endCxn id="1417" idx="1"/>
          </p:cNvCxnSpPr>
          <p:nvPr/>
        </p:nvCxnSpPr>
        <p:spPr>
          <a:xfrm flipH="1" flipV="1" rot="5400000">
            <a:off x="2293200" y="2303640"/>
            <a:ext cx="286200" cy="137088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419" name=""/>
          <p:cNvCxnSpPr>
            <a:stCxn id="1413" idx="0"/>
            <a:endCxn id="1417" idx="3"/>
          </p:cNvCxnSpPr>
          <p:nvPr/>
        </p:nvCxnSpPr>
        <p:spPr>
          <a:xfrm flipV="1" rot="16200000">
            <a:off x="6344640" y="2212200"/>
            <a:ext cx="286200" cy="155340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420" name=""/>
          <p:cNvCxnSpPr>
            <a:stCxn id="1410" idx="2"/>
            <a:endCxn id="1411" idx="2"/>
          </p:cNvCxnSpPr>
          <p:nvPr/>
        </p:nvCxnSpPr>
        <p:spPr>
          <a:xfrm flipH="1" rot="16200000">
            <a:off x="2670120" y="385200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1" name=""/>
          <p:cNvCxnSpPr>
            <a:stCxn id="1412" idx="2"/>
            <a:endCxn id="1413" idx="2"/>
          </p:cNvCxnSpPr>
          <p:nvPr/>
        </p:nvCxnSpPr>
        <p:spPr>
          <a:xfrm flipH="1" rot="16200000">
            <a:off x="6342120" y="385200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22" name=""/>
          <p:cNvSpPr/>
          <p:nvPr/>
        </p:nvSpPr>
        <p:spPr>
          <a:xfrm>
            <a:off x="277668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60548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45480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01844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1.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86308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2.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69368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3.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53184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4.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rot="5400000">
            <a:off x="1643040" y="442116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 rot="5400000">
            <a:off x="3460680" y="442116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rot="5400000">
            <a:off x="5365080" y="442116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 rot="5400000">
            <a:off x="7170120" y="4421160"/>
            <a:ext cx="177840" cy="152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530680" y="219240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98480" y="522756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436" name=""/>
          <p:cNvSpPr/>
          <p:nvPr/>
        </p:nvSpPr>
        <p:spPr>
          <a:xfrm>
            <a:off x="1465200" y="30988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960720" y="15843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105440" y="1954080"/>
            <a:ext cx="4701960" cy="520200"/>
          </a:xfrm>
          <a:prstGeom prst="rect">
            <a:avLst/>
          </a:prstGeom>
          <a:gradFill rotWithShape="0">
            <a:gsLst>
              <a:gs pos="0">
                <a:srgbClr val="fefefe">
                  <a:alpha val="60000"/>
                </a:srgbClr>
              </a:gs>
              <a:gs pos="50000">
                <a:srgbClr val="ffffff">
                  <a:alpha val="20000"/>
                </a:srgbClr>
              </a:gs>
              <a:gs pos="100000">
                <a:srgbClr val="fefefe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960720" y="2590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105440" y="2949480"/>
            <a:ext cx="4701960" cy="520200"/>
          </a:xfrm>
          <a:prstGeom prst="rect">
            <a:avLst/>
          </a:prstGeom>
          <a:gradFill rotWithShape="0">
            <a:gsLst>
              <a:gs pos="0">
                <a:srgbClr val="fefefe">
                  <a:alpha val="60000"/>
                </a:srgbClr>
              </a:gs>
              <a:gs pos="50000">
                <a:srgbClr val="ffffff">
                  <a:alpha val="20000"/>
                </a:srgbClr>
              </a:gs>
              <a:gs pos="100000">
                <a:srgbClr val="fefefe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3960720" y="35164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4105440" y="3875040"/>
            <a:ext cx="4701960" cy="520200"/>
          </a:xfrm>
          <a:prstGeom prst="rect">
            <a:avLst/>
          </a:prstGeom>
          <a:gradFill rotWithShape="0">
            <a:gsLst>
              <a:gs pos="0">
                <a:srgbClr val="fefefe">
                  <a:alpha val="60000"/>
                </a:srgbClr>
              </a:gs>
              <a:gs pos="50000">
                <a:srgbClr val="ffffff">
                  <a:alpha val="20000"/>
                </a:srgbClr>
              </a:gs>
              <a:gs pos="100000">
                <a:srgbClr val="fefefe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960720" y="44197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4105440" y="4789440"/>
            <a:ext cx="4701960" cy="520200"/>
          </a:xfrm>
          <a:prstGeom prst="rect">
            <a:avLst/>
          </a:prstGeom>
          <a:gradFill rotWithShape="0">
            <a:gsLst>
              <a:gs pos="0">
                <a:srgbClr val="fefefe">
                  <a:alpha val="60000"/>
                </a:srgbClr>
              </a:gs>
              <a:gs pos="50000">
                <a:srgbClr val="ffffff">
                  <a:alpha val="20000"/>
                </a:srgbClr>
              </a:gs>
              <a:gs pos="100000">
                <a:srgbClr val="fefefe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5" name=""/>
          <p:cNvGrpSpPr/>
          <p:nvPr/>
        </p:nvGrpSpPr>
        <p:grpSpPr>
          <a:xfrm>
            <a:off x="228600" y="1522080"/>
            <a:ext cx="3882600" cy="4178880"/>
            <a:chOff x="228600" y="1522080"/>
            <a:chExt cx="3882600" cy="4178880"/>
          </a:xfrm>
        </p:grpSpPr>
        <p:sp>
          <p:nvSpPr>
            <p:cNvPr id="1446" name=""/>
            <p:cNvSpPr/>
            <p:nvPr/>
          </p:nvSpPr>
          <p:spPr>
            <a:xfrm rot="279000">
              <a:off x="380880" y="1660680"/>
              <a:ext cx="3578040" cy="3901680"/>
            </a:xfrm>
            <a:custGeom>
              <a:avLst/>
              <a:gdLst>
                <a:gd name="textAreaLeft" fmla="*/ 0 w 3578040"/>
                <a:gd name="textAreaRight" fmla="*/ 3578400 w 3578040"/>
                <a:gd name="textAreaTop" fmla="*/ 0 h 3901680"/>
                <a:gd name="textAreaBottom" fmla="*/ 390168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5" y="11372"/>
                  </a:moveTo>
                  <a:arcTo wR="-7317" hR="-7317" stAng="10530997" swAng="-3693184"/>
                  <a:lnTo>
                    <a:pt x="15186" y="931"/>
                  </a:lnTo>
                  <a:arcTo wR="10800" hR="10800" stAng="-3962187" swAng="3693184"/>
                  <a:lnTo>
                    <a:pt x="24259" y="9745"/>
                  </a:lnTo>
                  <a:lnTo>
                    <a:pt x="20178" y="14520"/>
                  </a:lnTo>
                  <a:lnTo>
                    <a:pt x="15403" y="10439"/>
                  </a:lnTo>
                  <a:close/>
                </a:path>
              </a:pathLst>
            </a:custGeom>
            <a:solidFill>
              <a:srgbClr val="938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 rot="15972600">
              <a:off x="218880" y="1822320"/>
              <a:ext cx="3901680" cy="3578040"/>
            </a:xfrm>
            <a:custGeom>
              <a:avLst/>
              <a:gdLst>
                <a:gd name="textAreaLeft" fmla="*/ 0 w 3901680"/>
                <a:gd name="textAreaRight" fmla="*/ 3901680 w 3901680"/>
                <a:gd name="textAreaTop" fmla="*/ 0 h 3578040"/>
                <a:gd name="textAreaBottom" fmla="*/ 3578400 h 357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71" y="9655"/>
                  </a:moveTo>
                  <a:arcTo wR="-7220" hR="-7220" stAng="-10252534" swAng="-3449138"/>
                  <a:lnTo>
                    <a:pt x="17976" y="2729"/>
                  </a:lnTo>
                  <a:arcTo wR="10800" hR="10800" stAng="-2901671" swAng="3449138"/>
                  <a:lnTo>
                    <a:pt x="24129" y="12941"/>
                  </a:lnTo>
                  <a:lnTo>
                    <a:pt x="18984" y="16662"/>
                  </a:lnTo>
                  <a:lnTo>
                    <a:pt x="15263" y="11517"/>
                  </a:lnTo>
                  <a:close/>
                </a:path>
              </a:pathLst>
            </a:custGeom>
            <a:solidFill>
              <a:srgbClr val="13d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 rot="10800000">
              <a:off x="380520" y="1660680"/>
              <a:ext cx="3578040" cy="3901680"/>
            </a:xfrm>
            <a:custGeom>
              <a:avLst/>
              <a:gdLst>
                <a:gd name="textAreaLeft" fmla="*/ 0 w 3578040"/>
                <a:gd name="textAreaRight" fmla="*/ 3578400 w 3578040"/>
                <a:gd name="textAreaTop" fmla="*/ 0 h 3901680"/>
                <a:gd name="textAreaBottom" fmla="*/ 390168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62" y="10457"/>
                  </a:moveTo>
                  <a:arcTo wR="-7146" hR="-7146" stAng="-10634934" swAng="-3642614"/>
                  <a:lnTo>
                    <a:pt x="16530" y="1645"/>
                  </a:lnTo>
                  <a:arcTo wR="10800" hR="10800" stAng="-3477548" swAng="3642614"/>
                  <a:lnTo>
                    <a:pt x="24284" y="11448"/>
                  </a:lnTo>
                  <a:lnTo>
                    <a:pt x="19545" y="15752"/>
                  </a:lnTo>
                  <a:lnTo>
                    <a:pt x="15241" y="11013"/>
                  </a:lnTo>
                  <a:close/>
                </a:path>
              </a:pathLst>
            </a:custGeom>
            <a:solidFill>
              <a:srgbClr val="fab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5400000">
              <a:off x="218520" y="1822320"/>
              <a:ext cx="3901680" cy="3578040"/>
            </a:xfrm>
            <a:custGeom>
              <a:avLst/>
              <a:gdLst>
                <a:gd name="textAreaLeft" fmla="*/ 0 w 3901680"/>
                <a:gd name="textAreaRight" fmla="*/ 3901680 w 3901680"/>
                <a:gd name="textAreaTop" fmla="*/ 0 h 3578040"/>
                <a:gd name="textAreaBottom" fmla="*/ 3578400 h 357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88" y="10954"/>
                  </a:moveTo>
                  <a:arcTo wR="-7114" hR="-7114" stAng="10725582" swAng="-3801681"/>
                  <a:lnTo>
                    <a:pt x="15432" y="1044"/>
                  </a:lnTo>
                  <a:arcTo wR="10800" hR="10800" stAng="-3876098" swAng="3801681"/>
                  <a:lnTo>
                    <a:pt x="24297" y="10508"/>
                  </a:lnTo>
                  <a:lnTo>
                    <a:pt x="19853" y="15148"/>
                  </a:lnTo>
                  <a:lnTo>
                    <a:pt x="15213" y="10704"/>
                  </a:lnTo>
                  <a:close/>
                </a:path>
              </a:pathLst>
            </a:custGeom>
            <a:solidFill>
              <a:srgbClr val="efc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0" name=""/>
          <p:cNvSpPr/>
          <p:nvPr/>
        </p:nvSpPr>
        <p:spPr>
          <a:xfrm>
            <a:off x="281880" y="63943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30040"/>
            <a:ext cx="783576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60640" y="1144440"/>
            <a:ext cx="744048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4600" y="354348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aba1a"/>
              </a:gs>
              <a:gs pos="100000">
                <a:srgbClr val="b58712"/>
              </a:gs>
            </a:gsLst>
            <a:lin ang="5400000"/>
          </a:gradFill>
          <a:ln w="9360">
            <a:solidFill>
              <a:srgbClr val="fab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6680" y="403236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aba1a"/>
              </a:gs>
              <a:gs pos="100000">
                <a:srgbClr val="86640e"/>
              </a:gs>
            </a:gsLst>
            <a:lin ang="5400000"/>
          </a:gradFill>
          <a:ln w="9360">
            <a:solidFill>
              <a:srgbClr val="fab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84320" y="533412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aba1a"/>
              </a:gs>
              <a:gs pos="100000">
                <a:srgbClr val="2f2304"/>
              </a:gs>
            </a:gsLst>
            <a:lin ang="5400000"/>
          </a:gradFill>
          <a:ln w="9360">
            <a:solidFill>
              <a:srgbClr val="fab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2285640" y="4441680"/>
            <a:ext cx="4812840" cy="4707000"/>
            <a:chOff x="-2285640" y="4441680"/>
            <a:chExt cx="4812840" cy="4707000"/>
          </a:xfrm>
        </p:grpSpPr>
        <p:sp>
          <p:nvSpPr>
            <p:cNvPr id="107" name=""/>
            <p:cNvSpPr/>
            <p:nvPr/>
          </p:nvSpPr>
          <p:spPr>
            <a:xfrm>
              <a:off x="-2285640" y="4566960"/>
              <a:ext cx="4571280" cy="45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8080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0" y="4441680"/>
              <a:ext cx="2527200" cy="2416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-2193480" y="4667040"/>
              <a:ext cx="4386960" cy="438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cbbc63"/>
                </a:gs>
                <a:gs pos="100000">
                  <a:srgbClr val="9388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-2115720" y="4700520"/>
              <a:ext cx="4276080" cy="426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ddd39b"/>
                </a:gs>
                <a:gs pos="100000">
                  <a:srgbClr val="cbbc6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80" y="5583240"/>
              <a:ext cx="16444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Compan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LOG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34960" y="373212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aba1a"/>
              </a:gs>
              <a:gs pos="100000">
                <a:srgbClr val="b58712"/>
              </a:gs>
            </a:gsLst>
            <a:lin ang="5400000"/>
          </a:gradFill>
          <a:ln w="9360">
            <a:solidFill>
              <a:srgbClr val="fab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630252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aba1a"/>
              </a:gs>
              <a:gs pos="100000">
                <a:srgbClr val="2f2304"/>
              </a:gs>
            </a:gsLst>
            <a:lin ang="5400000"/>
          </a:gradFill>
          <a:ln w="9360">
            <a:solidFill>
              <a:srgbClr val="fab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20226600">
            <a:off x="3521160" y="5387760"/>
            <a:ext cx="514440" cy="514080"/>
          </a:xfrm>
          <a:custGeom>
            <a:avLst/>
            <a:gdLst>
              <a:gd name="textAreaLeft" fmla="*/ 120960 w 514440"/>
              <a:gd name="textAreaRight" fmla="*/ 393120 w 514440"/>
              <a:gd name="textAreaTop" fmla="*/ 60480 h 514080"/>
              <a:gd name="textAreaBottom" fmla="*/ 322560 h 514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13d3f9"/>
              </a:gs>
              <a:gs pos="100000">
                <a:srgbClr val="096b7e"/>
              </a:gs>
            </a:gsLst>
            <a:lin ang="6774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55920" y="1587600"/>
            <a:ext cx="657000" cy="657000"/>
          </a:xfrm>
          <a:custGeom>
            <a:avLst/>
            <a:gdLst>
              <a:gd name="textAreaLeft" fmla="*/ 154440 w 657000"/>
              <a:gd name="textAreaRight" fmla="*/ 502200 w 657000"/>
              <a:gd name="textAreaTop" fmla="*/ 77040 h 657000"/>
              <a:gd name="textAreaBottom" fmla="*/ 412200 h 657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e8e6fd"/>
              </a:gs>
              <a:gs pos="100000">
                <a:srgbClr val="938bfd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801600">
            <a:off x="2041560" y="2952720"/>
            <a:ext cx="657360" cy="657360"/>
          </a:xfrm>
          <a:custGeom>
            <a:avLst/>
            <a:gdLst>
              <a:gd name="textAreaLeft" fmla="*/ 154440 w 657360"/>
              <a:gd name="textAreaRight" fmla="*/ 502560 w 657360"/>
              <a:gd name="textAreaTop" fmla="*/ 77040 h 657360"/>
              <a:gd name="textAreaBottom" fmla="*/ 412200 h 657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4596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833000">
            <a:off x="2705040" y="4292640"/>
            <a:ext cx="604800" cy="604800"/>
          </a:xfrm>
          <a:custGeom>
            <a:avLst/>
            <a:gdLst>
              <a:gd name="textAreaLeft" fmla="*/ 142200 w 604800"/>
              <a:gd name="textAreaRight" fmla="*/ 462240 w 604800"/>
              <a:gd name="textAreaTop" fmla="*/ 70920 h 604800"/>
              <a:gd name="textAreaBottom" fmla="*/ 379440 h 604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efcf0f"/>
              </a:gs>
              <a:gs pos="100000">
                <a:srgbClr val="bca30b"/>
              </a:gs>
            </a:gsLst>
            <a:lin ang="357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90760" y="1379520"/>
            <a:ext cx="510552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 txBox="1"/>
          <p:nvPr/>
        </p:nvSpPr>
        <p:spPr>
          <a:xfrm>
            <a:off x="2185920" y="3327480"/>
            <a:ext cx="495612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339933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339933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5BE1-2D09-4F9A-91BA-846DC6DB38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137200"/>
            <a:ext cx="4191120" cy="750960"/>
          </a:xfrm>
          <a:prstGeom prst="rect">
            <a:avLst/>
          </a:prstGeom>
          <a:gradFill rotWithShape="0">
            <a:gsLst>
              <a:gs pos="0">
                <a:srgbClr val="efcf0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35320"/>
            <a:ext cx="4191120" cy="750960"/>
          </a:xfrm>
          <a:prstGeom prst="rect">
            <a:avLst/>
          </a:prstGeom>
          <a:gradFill rotWithShape="0">
            <a:gsLst>
              <a:gs pos="0">
                <a:srgbClr val="938bfd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090960"/>
            <a:ext cx="4191120" cy="750960"/>
          </a:xfrm>
          <a:prstGeom prst="rect">
            <a:avLst/>
          </a:prstGeom>
          <a:gradFill rotWithShape="0">
            <a:gsLst>
              <a:gs pos="0">
                <a:srgbClr val="13d3f9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090880"/>
            <a:ext cx="4191120" cy="750600"/>
          </a:xfrm>
          <a:prstGeom prst="rect">
            <a:avLst/>
          </a:prstGeom>
          <a:gradFill rotWithShape="0">
            <a:gsLst>
              <a:gs pos="0">
                <a:srgbClr val="faba1a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82800" y="219708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82800" y="320364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82800" y="427032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82800" y="526104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5160" y="3203640"/>
            <a:ext cx="1447560" cy="160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45160" y="3487680"/>
            <a:ext cx="2109600" cy="169920"/>
          </a:xfrm>
          <a:prstGeom prst="rect">
            <a:avLst/>
          </a:prstGeom>
          <a:solidFill>
            <a:srgbClr val="13d3f9"/>
          </a:solidFill>
          <a:ln w="0">
            <a:noFill/>
          </a:ln>
          <a:effectLst>
            <a:outerShdw dist="17819" dir="2700000" blurRad="0" rotWithShape="0">
              <a:srgbClr val="0b7e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45160" y="4270320"/>
            <a:ext cx="3105000" cy="1699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4554360"/>
            <a:ext cx="2792160" cy="181080"/>
          </a:xfrm>
          <a:prstGeom prst="rect">
            <a:avLst/>
          </a:prstGeom>
          <a:solidFill>
            <a:srgbClr val="938bfd"/>
          </a:solidFill>
          <a:ln w="0">
            <a:noFill/>
          </a:ln>
          <a:effectLst>
            <a:outerShdw dist="17819" dir="2700000" blurRad="0" rotWithShape="0">
              <a:srgbClr val="5753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73600" y="2281320"/>
            <a:ext cx="2401920" cy="1699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73600" y="2556000"/>
            <a:ext cx="3024360" cy="160200"/>
          </a:xfrm>
          <a:prstGeom prst="rect">
            <a:avLst/>
          </a:prstGeom>
          <a:solidFill>
            <a:srgbClr val="faba1a"/>
          </a:solidFill>
          <a:ln w="0">
            <a:noFill/>
          </a:ln>
          <a:effectLst>
            <a:outerShdw dist="17819" dir="2700000" blurRad="0" rotWithShape="0">
              <a:srgbClr val="956f0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34200" y="220176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05680" y="21924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440" y="310824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31000" y="41940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93200" y="246528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18320" y="340200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31120" y="446724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45160" y="5243400"/>
            <a:ext cx="1447560" cy="1605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45160" y="5527800"/>
            <a:ext cx="2109600" cy="169560"/>
          </a:xfrm>
          <a:prstGeom prst="rect">
            <a:avLst/>
          </a:prstGeom>
          <a:solidFill>
            <a:srgbClr val="efcf0f"/>
          </a:solidFill>
          <a:ln w="0">
            <a:noFill/>
          </a:ln>
          <a:effectLst>
            <a:outerShdw dist="17819" dir="2700000" blurRad="0" rotWithShape="0">
              <a:srgbClr val="8e7b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440" y="514836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18320" y="544212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733920" y="2057400"/>
            <a:ext cx="822240" cy="819000"/>
            <a:chOff x="3733920" y="2057400"/>
            <a:chExt cx="822240" cy="819000"/>
          </a:xfrm>
        </p:grpSpPr>
        <p:sp>
          <p:nvSpPr>
            <p:cNvPr id="145" name=""/>
            <p:cNvSpPr/>
            <p:nvPr/>
          </p:nvSpPr>
          <p:spPr>
            <a:xfrm>
              <a:off x="3733920" y="2060640"/>
              <a:ext cx="822240" cy="815760"/>
            </a:xfrm>
            <a:prstGeom prst="ellipse">
              <a:avLst/>
            </a:prstGeom>
            <a:solidFill>
              <a:srgbClr val="faba1a"/>
            </a:solidFill>
            <a:ln w="2844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3754440" y="205740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"/>
          <p:cNvGrpSpPr/>
          <p:nvPr/>
        </p:nvGrpSpPr>
        <p:grpSpPr>
          <a:xfrm>
            <a:off x="3733920" y="3048120"/>
            <a:ext cx="822240" cy="819000"/>
            <a:chOff x="3733920" y="3048120"/>
            <a:chExt cx="822240" cy="819000"/>
          </a:xfrm>
        </p:grpSpPr>
        <p:sp>
          <p:nvSpPr>
            <p:cNvPr id="148" name=""/>
            <p:cNvSpPr/>
            <p:nvPr/>
          </p:nvSpPr>
          <p:spPr>
            <a:xfrm>
              <a:off x="3733920" y="3051360"/>
              <a:ext cx="822240" cy="815760"/>
            </a:xfrm>
            <a:prstGeom prst="ellipse">
              <a:avLst/>
            </a:prstGeom>
            <a:solidFill>
              <a:srgbClr val="13d3f9"/>
            </a:solidFill>
            <a:ln w="2844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3"/>
            <a:stretch/>
          </p:blipFill>
          <p:spPr>
            <a:xfrm>
              <a:off x="3754440" y="304812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3733920" y="4114800"/>
            <a:ext cx="822240" cy="819000"/>
            <a:chOff x="3733920" y="4114800"/>
            <a:chExt cx="822240" cy="819000"/>
          </a:xfrm>
        </p:grpSpPr>
        <p:sp>
          <p:nvSpPr>
            <p:cNvPr id="151" name=""/>
            <p:cNvSpPr/>
            <p:nvPr/>
          </p:nvSpPr>
          <p:spPr>
            <a:xfrm>
              <a:off x="3733920" y="4118040"/>
              <a:ext cx="822240" cy="815760"/>
            </a:xfrm>
            <a:prstGeom prst="ellipse">
              <a:avLst/>
            </a:prstGeom>
            <a:solidFill>
              <a:srgbClr val="938bfd"/>
            </a:solidFill>
            <a:ln w="2844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3754440" y="411480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"/>
          <p:cNvGrpSpPr/>
          <p:nvPr/>
        </p:nvGrpSpPr>
        <p:grpSpPr>
          <a:xfrm>
            <a:off x="3789360" y="5073480"/>
            <a:ext cx="822240" cy="819000"/>
            <a:chOff x="3789360" y="5073480"/>
            <a:chExt cx="822240" cy="819000"/>
          </a:xfrm>
        </p:grpSpPr>
        <p:sp>
          <p:nvSpPr>
            <p:cNvPr id="154" name=""/>
            <p:cNvSpPr/>
            <p:nvPr/>
          </p:nvSpPr>
          <p:spPr>
            <a:xfrm>
              <a:off x="3789360" y="5076720"/>
              <a:ext cx="822240" cy="815760"/>
            </a:xfrm>
            <a:prstGeom prst="ellipse">
              <a:avLst/>
            </a:prstGeom>
            <a:solidFill>
              <a:srgbClr val="efcf0f"/>
            </a:solidFill>
            <a:ln w="2844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>
              <a:off x="3809880" y="507348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"/>
          <p:cNvGrpSpPr/>
          <p:nvPr/>
        </p:nvGrpSpPr>
        <p:grpSpPr>
          <a:xfrm>
            <a:off x="3919680" y="2286000"/>
            <a:ext cx="450360" cy="339840"/>
            <a:chOff x="3919680" y="2286000"/>
            <a:chExt cx="450360" cy="339840"/>
          </a:xfrm>
        </p:grpSpPr>
        <p:sp>
          <p:nvSpPr>
            <p:cNvPr id="157" name="未知"/>
            <p:cNvSpPr/>
            <p:nvPr/>
          </p:nvSpPr>
          <p:spPr>
            <a:xfrm>
              <a:off x="3919680" y="2286000"/>
              <a:ext cx="225720" cy="33984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4145400" y="2286000"/>
              <a:ext cx="224640" cy="33984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未知"/>
          <p:cNvSpPr/>
          <p:nvPr/>
        </p:nvSpPr>
        <p:spPr>
          <a:xfrm>
            <a:off x="3968640" y="5270400"/>
            <a:ext cx="438120" cy="45108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922560" y="3218040"/>
            <a:ext cx="419040" cy="469800"/>
            <a:chOff x="3922560" y="3218040"/>
            <a:chExt cx="419040" cy="469800"/>
          </a:xfrm>
        </p:grpSpPr>
        <p:sp>
          <p:nvSpPr>
            <p:cNvPr id="161" name="未知"/>
            <p:cNvSpPr/>
            <p:nvPr/>
          </p:nvSpPr>
          <p:spPr>
            <a:xfrm>
              <a:off x="3922560" y="3259440"/>
              <a:ext cx="155520" cy="42804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4023000" y="3218040"/>
              <a:ext cx="318600" cy="46980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43240" y="3342600"/>
              <a:ext cx="32760" cy="4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66480" y="3259440"/>
              <a:ext cx="111240" cy="4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884760" y="4257720"/>
            <a:ext cx="533160" cy="533520"/>
            <a:chOff x="3884760" y="4257720"/>
            <a:chExt cx="533160" cy="533520"/>
          </a:xfrm>
        </p:grpSpPr>
        <p:sp>
          <p:nvSpPr>
            <p:cNvPr id="166" name="未知"/>
            <p:cNvSpPr/>
            <p:nvPr/>
          </p:nvSpPr>
          <p:spPr>
            <a:xfrm>
              <a:off x="3884760" y="4257720"/>
              <a:ext cx="533160" cy="5335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4019760" y="4425840"/>
              <a:ext cx="264240" cy="2466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70" name=""/>
          <p:cNvSpPr/>
          <p:nvPr/>
        </p:nvSpPr>
        <p:spPr>
          <a:xfrm>
            <a:off x="4898880" y="2001960"/>
            <a:ext cx="35085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749480" y="1841400"/>
            <a:ext cx="4680" cy="3095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692800">
            <a:off x="835200" y="16743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938bfd"/>
              </a:gs>
              <a:gs pos="100000">
                <a:srgbClr val="aea8fc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8892800">
            <a:off x="860760" y="167364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efc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 rot="18907200">
            <a:off x="831960" y="163548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aba1a"/>
              </a:gs>
              <a:gs pos="100000">
                <a:srgbClr val="facb55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 rot="2692800">
            <a:off x="860400" y="163548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13d3f9"/>
              </a:gs>
              <a:gs pos="100000">
                <a:srgbClr val="50ddf9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 rot="18991800">
            <a:off x="906120" y="226188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 rot="2855400">
            <a:off x="2072880" y="231948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 rot="2855400">
            <a:off x="899640" y="345924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 rot="18739200">
            <a:off x="2096280" y="339804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89120" y="3110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30720" y="3648240"/>
            <a:ext cx="247680" cy="247320"/>
          </a:xfrm>
          <a:prstGeom prst="donut">
            <a:avLst>
              <a:gd name="adj" fmla="val 25000"/>
            </a:avLst>
          </a:prstGeom>
          <a:solidFill>
            <a:srgbClr val="13d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30720" y="3981600"/>
            <a:ext cx="247680" cy="247680"/>
          </a:xfrm>
          <a:prstGeom prst="donut">
            <a:avLst>
              <a:gd name="adj" fmla="val 25000"/>
            </a:avLst>
          </a:prstGeom>
          <a:solidFill>
            <a:srgbClr val="efc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30720" y="4286160"/>
            <a:ext cx="247680" cy="247680"/>
          </a:xfrm>
          <a:prstGeom prst="donut">
            <a:avLst>
              <a:gd name="adj" fmla="val 25000"/>
            </a:avLst>
          </a:prstGeom>
          <a:solidFill>
            <a:srgbClr val="938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30720" y="4591080"/>
            <a:ext cx="247680" cy="247680"/>
          </a:xfrm>
          <a:prstGeom prst="donut">
            <a:avLst>
              <a:gd name="adj" fmla="val 25000"/>
            </a:avLst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84880" y="3606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84880" y="39434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84880" y="42577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84880" y="45626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92680" y="2532240"/>
            <a:ext cx="3557520" cy="6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096920" y="3297240"/>
            <a:ext cx="1041480" cy="1099080"/>
            <a:chOff x="1096920" y="3297240"/>
            <a:chExt cx="1041480" cy="1099080"/>
          </a:xfrm>
        </p:grpSpPr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1096920" y="329724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096920" y="329724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938bfd"/>
                </a:gs>
                <a:gs pos="50000">
                  <a:srgbClr val="e5e4fd"/>
                </a:gs>
                <a:gs pos="100000">
                  <a:srgbClr val="938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168200" y="4028760"/>
              <a:ext cx="916200" cy="367560"/>
              <a:chOff x="1168200" y="4028760"/>
              <a:chExt cx="916200" cy="3675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1328760" y="4028760"/>
                <a:ext cx="755640" cy="347400"/>
                <a:chOff x="1328760" y="4028760"/>
                <a:chExt cx="755640" cy="347400"/>
              </a:xfrm>
            </p:grpSpPr>
            <p:sp>
              <p:nvSpPr>
                <p:cNvPr id="195" name=""/>
                <p:cNvSpPr/>
                <p:nvPr/>
              </p:nvSpPr>
              <p:spPr>
                <a:xfrm flipH="1" flipV="1" rot="3964800">
                  <a:off x="1737360" y="39279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 flipV="1" rot="4780200">
                  <a:off x="1653840" y="39618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 rot="5076000">
                  <a:off x="1601280" y="396864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flipV="1" rot="5608200">
                  <a:off x="1537560" y="39744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168200" y="4033440"/>
                <a:ext cx="754560" cy="362880"/>
                <a:chOff x="1168200" y="4033440"/>
                <a:chExt cx="754560" cy="362880"/>
              </a:xfrm>
            </p:grpSpPr>
            <p:sp>
              <p:nvSpPr>
                <p:cNvPr id="200" name=""/>
                <p:cNvSpPr/>
                <p:nvPr/>
              </p:nvSpPr>
              <p:spPr>
                <a:xfrm flipH="1" flipV="1" rot="5318400">
                  <a:off x="1578600" y="39747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flipV="1" rot="6133800">
                  <a:off x="1487520" y="39729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flipV="1" rot="6429600">
                  <a:off x="1436400" y="39600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 flipV="1" rot="6961800">
                  <a:off x="1376280" y="394020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4" name=""/>
          <p:cNvGrpSpPr/>
          <p:nvPr/>
        </p:nvGrpSpPr>
        <p:grpSpPr>
          <a:xfrm>
            <a:off x="3060720" y="3289320"/>
            <a:ext cx="1041480" cy="1099080"/>
            <a:chOff x="3060720" y="3289320"/>
            <a:chExt cx="1041480" cy="1099080"/>
          </a:xfrm>
        </p:grpSpPr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3060720" y="328932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060720" y="328932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13d3f9"/>
                </a:gs>
                <a:gs pos="50000">
                  <a:srgbClr val="c9f4fc"/>
                </a:gs>
                <a:gs pos="100000">
                  <a:srgbClr val="13d3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132000" y="4020840"/>
              <a:ext cx="916200" cy="367560"/>
              <a:chOff x="3132000" y="4020840"/>
              <a:chExt cx="916200" cy="36756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3292560" y="4020840"/>
                <a:ext cx="755640" cy="347400"/>
                <a:chOff x="3292560" y="4020840"/>
                <a:chExt cx="755640" cy="347400"/>
              </a:xfrm>
            </p:grpSpPr>
            <p:sp>
              <p:nvSpPr>
                <p:cNvPr id="209" name=""/>
                <p:cNvSpPr/>
                <p:nvPr/>
              </p:nvSpPr>
              <p:spPr>
                <a:xfrm flipH="1" flipV="1" rot="3964800">
                  <a:off x="3701160" y="3920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flipV="1" rot="4780200">
                  <a:off x="3617640" y="39538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 rot="5076000">
                  <a:off x="3565080" y="396072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 flipV="1" rot="5608200">
                  <a:off x="3501360" y="39664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132000" y="4025520"/>
                <a:ext cx="754560" cy="362880"/>
                <a:chOff x="3132000" y="4025520"/>
                <a:chExt cx="754560" cy="362880"/>
              </a:xfrm>
            </p:grpSpPr>
            <p:sp>
              <p:nvSpPr>
                <p:cNvPr id="214" name=""/>
                <p:cNvSpPr/>
                <p:nvPr/>
              </p:nvSpPr>
              <p:spPr>
                <a:xfrm flipH="1" flipV="1" rot="5318400">
                  <a:off x="3542400" y="39668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 flipV="1" rot="6133800">
                  <a:off x="3451320" y="3965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 flipV="1" rot="6429600">
                  <a:off x="3400200" y="39520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flipV="1" rot="6961800">
                  <a:off x="3340080" y="393228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4998960" y="3300480"/>
            <a:ext cx="1041480" cy="1099800"/>
            <a:chOff x="4998960" y="3300480"/>
            <a:chExt cx="1041480" cy="1099800"/>
          </a:xfrm>
        </p:grpSpPr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4998960" y="330048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998960" y="330048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efcf0f"/>
                </a:gs>
                <a:gs pos="50000">
                  <a:srgbClr val="faf3c8"/>
                </a:gs>
                <a:gs pos="100000">
                  <a:srgbClr val="efc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5069880" y="4031280"/>
              <a:ext cx="917280" cy="369000"/>
              <a:chOff x="5069880" y="4031280"/>
              <a:chExt cx="917280" cy="3690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5230800" y="4031280"/>
                <a:ext cx="756360" cy="348120"/>
                <a:chOff x="5230800" y="4031280"/>
                <a:chExt cx="756360" cy="348120"/>
              </a:xfrm>
            </p:grpSpPr>
            <p:sp>
              <p:nvSpPr>
                <p:cNvPr id="223" name=""/>
                <p:cNvSpPr/>
                <p:nvPr/>
              </p:nvSpPr>
              <p:spPr>
                <a:xfrm flipH="1" flipV="1" rot="3964800">
                  <a:off x="5639400" y="39308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 flipV="1" rot="4780200">
                  <a:off x="5554800" y="396468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flipV="1" rot="5076000">
                  <a:off x="5502600" y="39711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 flipV="1" rot="5608200">
                  <a:off x="5439240" y="39765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069880" y="4035600"/>
                <a:ext cx="754920" cy="364680"/>
                <a:chOff x="5069880" y="4035600"/>
                <a:chExt cx="754920" cy="364680"/>
              </a:xfrm>
            </p:grpSpPr>
            <p:sp>
              <p:nvSpPr>
                <p:cNvPr id="228" name=""/>
                <p:cNvSpPr/>
                <p:nvPr/>
              </p:nvSpPr>
              <p:spPr>
                <a:xfrm flipH="1" flipV="1" rot="5318400">
                  <a:off x="5480280" y="39776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 rot="6133800">
                  <a:off x="5388480" y="39769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flipV="1" rot="6429600">
                  <a:off x="5338080" y="39618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 flipV="1" rot="6961800">
                  <a:off x="5276880" y="39434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961320" y="3292560"/>
            <a:ext cx="1041120" cy="1099440"/>
            <a:chOff x="6961320" y="3292560"/>
            <a:chExt cx="1041120" cy="1099440"/>
          </a:xfrm>
        </p:grpSpPr>
        <p:pic>
          <p:nvPicPr>
            <p:cNvPr id="233" name="" descr=""/>
            <p:cNvPicPr/>
            <p:nvPr/>
          </p:nvPicPr>
          <p:blipFill>
            <a:blip r:embed="rId5"/>
            <a:stretch/>
          </p:blipFill>
          <p:spPr>
            <a:xfrm>
              <a:off x="6961320" y="329256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961320" y="3292560"/>
              <a:ext cx="1034640" cy="1050840"/>
            </a:xfrm>
            <a:prstGeom prst="ellipse">
              <a:avLst/>
            </a:prstGeom>
            <a:gradFill rotWithShape="0">
              <a:gsLst>
                <a:gs pos="0">
                  <a:srgbClr val="faba1a"/>
                </a:gs>
                <a:gs pos="50000">
                  <a:srgbClr val="fceecb"/>
                </a:gs>
                <a:gs pos="100000">
                  <a:srgbClr val="faba1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7032240" y="4023360"/>
              <a:ext cx="916560" cy="368640"/>
              <a:chOff x="7032240" y="4023360"/>
              <a:chExt cx="916560" cy="36864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7193160" y="4023360"/>
                <a:ext cx="755640" cy="348120"/>
                <a:chOff x="7193160" y="4023360"/>
                <a:chExt cx="755640" cy="348120"/>
              </a:xfrm>
            </p:grpSpPr>
            <p:sp>
              <p:nvSpPr>
                <p:cNvPr id="237" name=""/>
                <p:cNvSpPr/>
                <p:nvPr/>
              </p:nvSpPr>
              <p:spPr>
                <a:xfrm flipH="1" flipV="1" rot="3964800">
                  <a:off x="7601760" y="39229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 rot="4780200">
                  <a:off x="7516800" y="39567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 flipV="1" rot="5076000">
                  <a:off x="7464240" y="39632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 flipV="1" rot="5608200">
                  <a:off x="7401600" y="39686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7032240" y="4027680"/>
                <a:ext cx="754200" cy="364320"/>
                <a:chOff x="7032240" y="4027680"/>
                <a:chExt cx="754200" cy="364320"/>
              </a:xfrm>
            </p:grpSpPr>
            <p:sp>
              <p:nvSpPr>
                <p:cNvPr id="242" name=""/>
                <p:cNvSpPr/>
                <p:nvPr/>
              </p:nvSpPr>
              <p:spPr>
                <a:xfrm flipH="1" flipV="1" rot="5318400">
                  <a:off x="7441560" y="39697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flipV="1" rot="6133800">
                  <a:off x="7350480" y="396900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flipV="1" rot="6429600">
                  <a:off x="7299360" y="39542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 rot="6961800">
                  <a:off x="7239600" y="393588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6" name=""/>
          <p:cNvSpPr/>
          <p:nvPr/>
        </p:nvSpPr>
        <p:spPr>
          <a:xfrm>
            <a:off x="1612800" y="4444920"/>
            <a:ext cx="0" cy="335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57160" y="4789440"/>
            <a:ext cx="1495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448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9368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956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9752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548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80440" y="287028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616440" y="286848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81280" y="287028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57160" y="2868480"/>
            <a:ext cx="17715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306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95760" y="4444920"/>
            <a:ext cx="0" cy="335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684680" y="4780080"/>
            <a:ext cx="15876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4976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-360" y="3184920"/>
            <a:ext cx="9144360" cy="1261800"/>
            <a:chOff x="-360" y="3184920"/>
            <a:chExt cx="9144360" cy="1261800"/>
          </a:xfrm>
        </p:grpSpPr>
        <p:sp>
          <p:nvSpPr>
            <p:cNvPr id="263" name=""/>
            <p:cNvSpPr/>
            <p:nvPr/>
          </p:nvSpPr>
          <p:spPr>
            <a:xfrm flipH="1">
              <a:off x="-360" y="3820320"/>
              <a:ext cx="103500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6094080" y="3820320"/>
              <a:ext cx="80964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16200000">
              <a:off x="2956680" y="3205440"/>
              <a:ext cx="1243800" cy="12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8" y="2"/>
                  </a:moveTo>
                  <a:arcTo wR="10800" hR="10800" stAng="-5470653" swAng="11060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8" y="2"/>
                  </a:moveTo>
                  <a:arcTo wR="10800" hR="10800" stAng="-5470653" swAng="11060793"/>
                </a:path>
              </a:pathLst>
            </a:custGeom>
            <a:noFill/>
            <a:ln w="76320">
              <a:solidFill>
                <a:srgbClr val="faba1a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16200000">
              <a:off x="6843600" y="3205080"/>
              <a:ext cx="1261800" cy="12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8" y="2"/>
                  </a:moveTo>
                  <a:arcTo wR="10800" hR="10800" stAng="-5470653" swAng="11060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8" y="2"/>
                  </a:moveTo>
                  <a:arcTo wR="10800" hR="10800" stAng="-5470653" swAng="11060793"/>
                </a:path>
              </a:pathLst>
            </a:custGeom>
            <a:noFill/>
            <a:ln w="76320">
              <a:solidFill>
                <a:srgbClr val="faba1a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4157280" y="3820320"/>
              <a:ext cx="78732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5400000">
              <a:off x="4911840" y="3224160"/>
              <a:ext cx="1207080" cy="12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8" y="2"/>
                  </a:moveTo>
                  <a:arcTo wR="10800" hR="10800" stAng="-5470653" swAng="11060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8" y="2"/>
                  </a:moveTo>
                  <a:arcTo wR="10800" hR="10800" stAng="-5470653" swAng="11060793"/>
                </a:path>
              </a:pathLst>
            </a:custGeom>
            <a:noFill/>
            <a:ln w="76320">
              <a:solidFill>
                <a:srgbClr val="faba1a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8050320" y="3820320"/>
              <a:ext cx="109368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185920" y="3820320"/>
              <a:ext cx="83016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5400000">
              <a:off x="1001880" y="3224160"/>
              <a:ext cx="1207080" cy="12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8" y="2"/>
                  </a:moveTo>
                  <a:arcTo wR="10800" hR="10800" stAng="-5470653" swAng="11060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8" y="2"/>
                  </a:moveTo>
                  <a:arcTo wR="10800" hR="10800" stAng="-5470653" swAng="11060793"/>
                </a:path>
              </a:pathLst>
            </a:custGeom>
            <a:noFill/>
            <a:ln w="76320">
              <a:solidFill>
                <a:srgbClr val="faba1a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2" name="" descr=""/>
          <p:cNvPicPr/>
          <p:nvPr/>
        </p:nvPicPr>
        <p:blipFill>
          <a:blip r:embed="rId6"/>
          <a:stretch/>
        </p:blipFill>
        <p:spPr>
          <a:xfrm>
            <a:off x="1204920" y="330840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7"/>
          <a:stretch/>
        </p:blipFill>
        <p:spPr>
          <a:xfrm>
            <a:off x="3181320" y="329868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8"/>
          <a:stretch/>
        </p:blipFill>
        <p:spPr>
          <a:xfrm>
            <a:off x="5114880" y="331776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9"/>
          <a:stretch/>
        </p:blipFill>
        <p:spPr>
          <a:xfrm>
            <a:off x="7077240" y="330840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311120" y="5819760"/>
            <a:ext cx="6407280" cy="574560"/>
          </a:xfrm>
          <a:prstGeom prst="roundRect">
            <a:avLst>
              <a:gd name="adj" fmla="val 27481"/>
            </a:avLst>
          </a:prstGeom>
          <a:gradFill rotWithShape="0">
            <a:gsLst>
              <a:gs pos="0">
                <a:srgbClr val="339933"/>
              </a:gs>
              <a:gs pos="50000">
                <a:srgbClr val="fefefe"/>
              </a:gs>
              <a:gs pos="100000">
                <a:srgbClr val="33993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16120" y="149544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938bfd"/>
              </a:gs>
              <a:gs pos="100000">
                <a:srgbClr val="b6b0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22680" y="1162080"/>
            <a:ext cx="0" cy="4586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48240" y="149544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13d3f9"/>
              </a:gs>
              <a:gs pos="100000">
                <a:srgbClr val="7de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4549680" y="3436920"/>
            <a:ext cx="1873440" cy="1873440"/>
          </a:xfrm>
          <a:prstGeom prst="rtTriangle">
            <a:avLst/>
          </a:prstGeom>
          <a:gradFill rotWithShape="0">
            <a:gsLst>
              <a:gs pos="0">
                <a:srgbClr val="faba1a"/>
              </a:gs>
              <a:gs pos="100000">
                <a:srgbClr val="fbd6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rot="16200000">
            <a:off x="2616480" y="34369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fcf0f"/>
              </a:gs>
              <a:gs pos="100000">
                <a:srgbClr val="f4e0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89000" y="3405240"/>
            <a:ext cx="50706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38200" y="16225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26840" y="24321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95480" y="24321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95480" y="38926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74720" y="38926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86000" y="5945040"/>
            <a:ext cx="6248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910040" y="16225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38200" y="449424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10040" y="449424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294" name=""/>
          <p:cNvSpPr/>
          <p:nvPr/>
        </p:nvSpPr>
        <p:spPr>
          <a:xfrm>
            <a:off x="161280" y="64404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296" name="未知"/>
          <p:cNvSpPr/>
          <p:nvPr/>
        </p:nvSpPr>
        <p:spPr>
          <a:xfrm>
            <a:off x="520560" y="4848120"/>
            <a:ext cx="8077320" cy="540000"/>
          </a:xfrm>
          <a:custGeom>
            <a:avLst/>
            <a:gdLst/>
            <a:ahLst/>
            <a:rect l="l" t="t" r="r" b="b"/>
            <a:pathLst>
              <a:path w="5135" h="200">
                <a:moveTo>
                  <a:pt x="0" y="200"/>
                </a:moveTo>
                <a:lnTo>
                  <a:pt x="427" y="0"/>
                </a:lnTo>
                <a:lnTo>
                  <a:pt x="4668" y="4"/>
                </a:lnTo>
                <a:lnTo>
                  <a:pt x="5135" y="194"/>
                </a:lnTo>
                <a:lnTo>
                  <a:pt x="0" y="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67480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3d3f9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378320" y="267480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77960" y="2666880"/>
            <a:ext cx="2435400" cy="2111400"/>
          </a:xfrm>
          <a:custGeom>
            <a:avLst/>
            <a:gdLst>
              <a:gd name="textAreaLeft" fmla="*/ 0 w 2435400"/>
              <a:gd name="textAreaRight" fmla="*/ 2435760 w 2435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未知"/>
          <p:cNvSpPr/>
          <p:nvPr/>
        </p:nvSpPr>
        <p:spPr>
          <a:xfrm>
            <a:off x="2347920" y="2295360"/>
            <a:ext cx="5492880" cy="4240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fcf0f"/>
              </a:gs>
              <a:gs pos="100000">
                <a:srgbClr val="6e5f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17440" y="2297160"/>
            <a:ext cx="2081520" cy="2487600"/>
          </a:xfrm>
          <a:custGeom>
            <a:avLst/>
            <a:gdLst>
              <a:gd name="textAreaLeft" fmla="*/ 0 w 2081520"/>
              <a:gd name="textAreaRight" fmla="*/ 2081520 w 2081520"/>
              <a:gd name="textAreaTop" fmla="*/ 0 h 2487600"/>
              <a:gd name="textAreaBottom" fmla="*/ 2487960 h 248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d8112"/>
              </a:gs>
              <a:gs pos="100000">
                <a:srgbClr val="faba1a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25440" y="2884320"/>
            <a:ext cx="1652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35160" y="232236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00760" y="3124080"/>
            <a:ext cx="14475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30400" y="1752480"/>
            <a:ext cx="624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63760" y="3133800"/>
            <a:ext cx="1447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69080" y="3133800"/>
            <a:ext cx="1447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340080" y="5329080"/>
            <a:ext cx="2382840" cy="538200"/>
            <a:chOff x="3340080" y="5329080"/>
            <a:chExt cx="2382840" cy="538200"/>
          </a:xfrm>
        </p:grpSpPr>
        <p:sp>
          <p:nvSpPr>
            <p:cNvPr id="309" name=""/>
            <p:cNvSpPr/>
            <p:nvPr/>
          </p:nvSpPr>
          <p:spPr>
            <a:xfrm>
              <a:off x="3340080" y="532908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68520" y="535932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aba1a">
                    <a:alpha val="90196"/>
                  </a:srgbClr>
                </a:gs>
                <a:gs pos="50000">
                  <a:srgbClr val="fce6b1"/>
                </a:gs>
                <a:gs pos="100000">
                  <a:srgbClr val="faba1a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810600" y="53989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289560" y="5329080"/>
            <a:ext cx="2384280" cy="538200"/>
            <a:chOff x="6289560" y="5329080"/>
            <a:chExt cx="2384280" cy="538200"/>
          </a:xfrm>
        </p:grpSpPr>
        <p:sp>
          <p:nvSpPr>
            <p:cNvPr id="313" name=""/>
            <p:cNvSpPr/>
            <p:nvPr/>
          </p:nvSpPr>
          <p:spPr>
            <a:xfrm>
              <a:off x="6289560" y="53290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19800" y="535932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8bfd">
                    <a:alpha val="90196"/>
                  </a:srgbClr>
                </a:gs>
                <a:gs pos="50000">
                  <a:srgbClr val="d9d7fd"/>
                </a:gs>
                <a:gs pos="100000">
                  <a:srgbClr val="938bfd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6762600" y="53989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44600" y="5329080"/>
            <a:ext cx="2384280" cy="538200"/>
            <a:chOff x="444600" y="5329080"/>
            <a:chExt cx="2384280" cy="538200"/>
          </a:xfrm>
        </p:grpSpPr>
        <p:sp>
          <p:nvSpPr>
            <p:cNvPr id="317" name=""/>
            <p:cNvSpPr/>
            <p:nvPr/>
          </p:nvSpPr>
          <p:spPr>
            <a:xfrm>
              <a:off x="444600" y="53290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64b59"/>
                </a:gs>
                <a:gs pos="50000">
                  <a:srgbClr val="13d3f9"/>
                </a:gs>
                <a:gs pos="100000">
                  <a:srgbClr val="064b59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4840" y="535932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3d3f9">
                    <a:alpha val="90196"/>
                  </a:srgbClr>
                </a:gs>
                <a:gs pos="50000">
                  <a:srgbClr val="aeeffb"/>
                </a:gs>
                <a:gs pos="100000">
                  <a:srgbClr val="13d3f9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917280" y="53989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00000" y="5616720"/>
            <a:ext cx="7253280" cy="404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1544760"/>
            <a:ext cx="5919840" cy="3855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600200" y="2063880"/>
            <a:ext cx="5776920" cy="2930400"/>
            <a:chOff x="1600200" y="2063880"/>
            <a:chExt cx="5776920" cy="2930400"/>
          </a:xfrm>
        </p:grpSpPr>
        <p:sp>
          <p:nvSpPr>
            <p:cNvPr id="323" name=""/>
            <p:cNvSpPr/>
            <p:nvPr/>
          </p:nvSpPr>
          <p:spPr>
            <a:xfrm>
              <a:off x="1600200" y="206388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00200" y="255600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00200" y="303372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00200" y="352584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00200" y="400392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00200" y="449604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00200" y="499428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未知"/>
          <p:cNvSpPr/>
          <p:nvPr/>
        </p:nvSpPr>
        <p:spPr>
          <a:xfrm>
            <a:off x="1670040" y="2206800"/>
            <a:ext cx="5665680" cy="33066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df7e8">
                  <a:alpha val="80000"/>
                </a:srgbClr>
              </a:gs>
              <a:gs pos="100000">
                <a:srgbClr val="faba1a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5320" y="5638680"/>
            <a:ext cx="60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001240" y="4618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22040" y="4457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50440" y="36194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136040" y="29862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785480" y="4562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72920" y="3691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21000" y="17874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750720" y="30052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" y="6095880"/>
            <a:ext cx="2300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185920" y="4919760"/>
            <a:ext cx="187920" cy="188640"/>
            <a:chOff x="2185920" y="4919760"/>
            <a:chExt cx="187920" cy="188640"/>
          </a:xfrm>
        </p:grpSpPr>
        <p:sp>
          <p:nvSpPr>
            <p:cNvPr id="342" name=""/>
            <p:cNvSpPr/>
            <p:nvPr/>
          </p:nvSpPr>
          <p:spPr>
            <a:xfrm>
              <a:off x="2185920" y="491976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2191320" y="4925520"/>
              <a:ext cx="180000" cy="182880"/>
              <a:chOff x="2191320" y="4925520"/>
              <a:chExt cx="180000" cy="182880"/>
            </a:xfrm>
          </p:grpSpPr>
          <p:pic>
            <p:nvPicPr>
              <p:cNvPr id="3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191320" y="492552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"/>
              <p:cNvSpPr/>
              <p:nvPr/>
            </p:nvSpPr>
            <p:spPr>
              <a:xfrm>
                <a:off x="2191320" y="492552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46" name="" descr=""/>
              <p:cNvPicPr/>
              <p:nvPr/>
            </p:nvPicPr>
            <p:blipFill>
              <a:blip r:embed="rId3"/>
              <a:srcRect l="0" t="14289" r="0" b="0"/>
              <a:stretch/>
            </p:blipFill>
            <p:spPr>
              <a:xfrm>
                <a:off x="2192760" y="493272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47" name=""/>
              <p:cNvGrpSpPr/>
              <p:nvPr/>
            </p:nvGrpSpPr>
            <p:grpSpPr>
              <a:xfrm>
                <a:off x="2247480" y="4995720"/>
                <a:ext cx="123840" cy="112680"/>
                <a:chOff x="2247480" y="4995720"/>
                <a:chExt cx="123840" cy="112680"/>
              </a:xfrm>
            </p:grpSpPr>
            <p:grpSp>
              <p:nvGrpSpPr>
                <p:cNvPr id="348" name=""/>
                <p:cNvGrpSpPr/>
                <p:nvPr/>
              </p:nvGrpSpPr>
              <p:grpSpPr>
                <a:xfrm>
                  <a:off x="2275920" y="4995720"/>
                  <a:ext cx="95400" cy="111600"/>
                  <a:chOff x="2275920" y="4995720"/>
                  <a:chExt cx="95400" cy="1116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flipV="1" rot="1528800">
                    <a:off x="2328120" y="49960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flipV="1" rot="2344200">
                    <a:off x="2321640" y="50094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 flipV="1" rot="2640000">
                    <a:off x="2315880" y="501660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 flipV="1" rot="3172200">
                    <a:off x="2307600" y="5023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2247480" y="5026320"/>
                  <a:ext cx="119880" cy="82080"/>
                  <a:chOff x="2247480" y="5026320"/>
                  <a:chExt cx="119880" cy="820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flipH="1" flipV="1" rot="2881800">
                    <a:off x="2313720" y="5018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 flipV="1" rot="3697200">
                    <a:off x="2301480" y="50284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flipV="1" rot="3993000">
                    <a:off x="2293920" y="5032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H="1" flipV="1" rot="4525200">
                    <a:off x="2283840" y="5035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8" name=""/>
            <p:cNvGrpSpPr/>
            <p:nvPr/>
          </p:nvGrpSpPr>
          <p:grpSpPr>
            <a:xfrm>
              <a:off x="2264760" y="4999680"/>
              <a:ext cx="109080" cy="99360"/>
              <a:chOff x="2264760" y="4999680"/>
              <a:chExt cx="109080" cy="9936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2289600" y="4999680"/>
                <a:ext cx="84240" cy="98640"/>
                <a:chOff x="2289600" y="4999680"/>
                <a:chExt cx="84240" cy="98640"/>
              </a:xfrm>
            </p:grpSpPr>
            <p:sp>
              <p:nvSpPr>
                <p:cNvPr id="360" name=""/>
                <p:cNvSpPr/>
                <p:nvPr/>
              </p:nvSpPr>
              <p:spPr>
                <a:xfrm flipH="1" flipV="1" rot="1528800">
                  <a:off x="2335680" y="4999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 rot="2344200">
                  <a:off x="2329560" y="50112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 rot="2640000">
                  <a:off x="2324880" y="50180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 flipV="1" rot="3172200">
                  <a:off x="2317680" y="50245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2264760" y="5027400"/>
                <a:ext cx="105480" cy="71640"/>
                <a:chOff x="2264760" y="5027400"/>
                <a:chExt cx="105480" cy="71640"/>
              </a:xfrm>
            </p:grpSpPr>
            <p:sp>
              <p:nvSpPr>
                <p:cNvPr id="365" name=""/>
                <p:cNvSpPr/>
                <p:nvPr/>
              </p:nvSpPr>
              <p:spPr>
                <a:xfrm flipH="1" flipV="1" rot="2881800">
                  <a:off x="2322360" y="50205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 rot="3697200">
                  <a:off x="2312640" y="5028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 flipV="1" rot="3993000">
                  <a:off x="2305080" y="50324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 flipV="1" rot="4525200">
                  <a:off x="2296800" y="5036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9" name=""/>
          <p:cNvGrpSpPr/>
          <p:nvPr/>
        </p:nvGrpSpPr>
        <p:grpSpPr>
          <a:xfrm>
            <a:off x="3011400" y="4792680"/>
            <a:ext cx="187920" cy="188640"/>
            <a:chOff x="3011400" y="4792680"/>
            <a:chExt cx="187920" cy="188640"/>
          </a:xfrm>
        </p:grpSpPr>
        <p:sp>
          <p:nvSpPr>
            <p:cNvPr id="370" name=""/>
            <p:cNvSpPr/>
            <p:nvPr/>
          </p:nvSpPr>
          <p:spPr>
            <a:xfrm>
              <a:off x="3011400" y="479268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3016800" y="4798440"/>
              <a:ext cx="180000" cy="182880"/>
              <a:chOff x="3016800" y="4798440"/>
              <a:chExt cx="180000" cy="182880"/>
            </a:xfrm>
          </p:grpSpPr>
          <p:pic>
            <p:nvPicPr>
              <p:cNvPr id="3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16800" y="479844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3016800" y="479844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74" name="" descr=""/>
              <p:cNvPicPr/>
              <p:nvPr/>
            </p:nvPicPr>
            <p:blipFill>
              <a:blip r:embed="rId5"/>
              <a:srcRect l="0" t="14289" r="0" b="0"/>
              <a:stretch/>
            </p:blipFill>
            <p:spPr>
              <a:xfrm>
                <a:off x="3018240" y="480564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5" name=""/>
              <p:cNvGrpSpPr/>
              <p:nvPr/>
            </p:nvGrpSpPr>
            <p:grpSpPr>
              <a:xfrm>
                <a:off x="3072960" y="4868640"/>
                <a:ext cx="123840" cy="112680"/>
                <a:chOff x="3072960" y="4868640"/>
                <a:chExt cx="123840" cy="112680"/>
              </a:xfrm>
            </p:grpSpPr>
            <p:grpSp>
              <p:nvGrpSpPr>
                <p:cNvPr id="376" name=""/>
                <p:cNvGrpSpPr/>
                <p:nvPr/>
              </p:nvGrpSpPr>
              <p:grpSpPr>
                <a:xfrm>
                  <a:off x="3101400" y="4868640"/>
                  <a:ext cx="95400" cy="111600"/>
                  <a:chOff x="3101400" y="4868640"/>
                  <a:chExt cx="95400" cy="11160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flipH="1" flipV="1" rot="1528800">
                    <a:off x="3153600" y="4869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H="1" flipV="1" rot="2344200">
                    <a:off x="3147120" y="48823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flipV="1" rot="2640000">
                    <a:off x="3141360" y="488952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 flipV="1" rot="3172200">
                    <a:off x="3133080" y="48967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3072960" y="4899240"/>
                  <a:ext cx="119880" cy="82080"/>
                  <a:chOff x="3072960" y="4899240"/>
                  <a:chExt cx="119880" cy="8208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 flipH="1" flipV="1" rot="2881800">
                    <a:off x="3139200" y="4891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flipH="1" flipV="1" rot="3697200">
                    <a:off x="3126960" y="49014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 flipV="1" rot="3993000">
                    <a:off x="3119400" y="49057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flipV="1" rot="4525200">
                    <a:off x="3109320" y="4908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6" name=""/>
            <p:cNvGrpSpPr/>
            <p:nvPr/>
          </p:nvGrpSpPr>
          <p:grpSpPr>
            <a:xfrm>
              <a:off x="3090240" y="4872600"/>
              <a:ext cx="109080" cy="99360"/>
              <a:chOff x="3090240" y="4872600"/>
              <a:chExt cx="109080" cy="9936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3115080" y="4872600"/>
                <a:ext cx="84240" cy="98640"/>
                <a:chOff x="3115080" y="4872600"/>
                <a:chExt cx="84240" cy="98640"/>
              </a:xfrm>
            </p:grpSpPr>
            <p:sp>
              <p:nvSpPr>
                <p:cNvPr id="388" name=""/>
                <p:cNvSpPr/>
                <p:nvPr/>
              </p:nvSpPr>
              <p:spPr>
                <a:xfrm flipH="1" flipV="1" rot="1528800">
                  <a:off x="3161160" y="48726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 rot="2344200">
                  <a:off x="3155040" y="488412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 rot="2640000">
                  <a:off x="3150360" y="48909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 rot="3172200">
                  <a:off x="3143160" y="48974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3090240" y="4900320"/>
                <a:ext cx="105480" cy="71640"/>
                <a:chOff x="3090240" y="4900320"/>
                <a:chExt cx="105480" cy="71640"/>
              </a:xfrm>
            </p:grpSpPr>
            <p:sp>
              <p:nvSpPr>
                <p:cNvPr id="393" name=""/>
                <p:cNvSpPr/>
                <p:nvPr/>
              </p:nvSpPr>
              <p:spPr>
                <a:xfrm flipH="1" flipV="1" rot="2881800">
                  <a:off x="3147840" y="48934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 flipV="1" rot="3697200">
                  <a:off x="3138120" y="4901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 flipV="1" rot="3993000">
                  <a:off x="3130560" y="49053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 flipV="1" rot="4525200">
                  <a:off x="3122280" y="49089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7" name=""/>
          <p:cNvGrpSpPr/>
          <p:nvPr/>
        </p:nvGrpSpPr>
        <p:grpSpPr>
          <a:xfrm>
            <a:off x="3681360" y="3914640"/>
            <a:ext cx="188280" cy="188640"/>
            <a:chOff x="3681360" y="3914640"/>
            <a:chExt cx="188280" cy="188640"/>
          </a:xfrm>
        </p:grpSpPr>
        <p:sp>
          <p:nvSpPr>
            <p:cNvPr id="398" name=""/>
            <p:cNvSpPr/>
            <p:nvPr/>
          </p:nvSpPr>
          <p:spPr>
            <a:xfrm>
              <a:off x="3681360" y="391464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686760" y="3920400"/>
              <a:ext cx="180360" cy="182880"/>
              <a:chOff x="3686760" y="3920400"/>
              <a:chExt cx="180360" cy="182880"/>
            </a:xfrm>
          </p:grpSpPr>
          <p:pic>
            <p:nvPicPr>
              <p:cNvPr id="4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686760" y="3920400"/>
                <a:ext cx="17280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>
                <a:off x="3686760" y="3920400"/>
                <a:ext cx="173880" cy="17460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02" name="" descr=""/>
              <p:cNvPicPr/>
              <p:nvPr/>
            </p:nvPicPr>
            <p:blipFill>
              <a:blip r:embed="rId7"/>
              <a:srcRect l="0" t="14289" r="0" b="0"/>
              <a:stretch/>
            </p:blipFill>
            <p:spPr>
              <a:xfrm>
                <a:off x="3688200" y="3927600"/>
                <a:ext cx="12744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3" name=""/>
              <p:cNvGrpSpPr/>
              <p:nvPr/>
            </p:nvGrpSpPr>
            <p:grpSpPr>
              <a:xfrm>
                <a:off x="3743280" y="3990240"/>
                <a:ext cx="123840" cy="113040"/>
                <a:chOff x="3743280" y="3990240"/>
                <a:chExt cx="123840" cy="11304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3771360" y="3990240"/>
                  <a:ext cx="95760" cy="111960"/>
                  <a:chOff x="3771360" y="3990240"/>
                  <a:chExt cx="95760" cy="11196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flipV="1" rot="1528800">
                    <a:off x="3824280" y="39902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flipV="1" rot="2344200">
                    <a:off x="3816720" y="40042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flipV="1" rot="2640000">
                    <a:off x="3811680" y="40107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 rot="3172200">
                    <a:off x="3803760" y="4017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3743280" y="4021200"/>
                  <a:ext cx="119520" cy="82080"/>
                  <a:chOff x="3743280" y="4021200"/>
                  <a:chExt cx="119520" cy="8208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flipH="1" flipV="1" rot="2881800">
                    <a:off x="3809160" y="4013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 flipV="1" rot="3697200">
                    <a:off x="3797280" y="402300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flipV="1" rot="3993000">
                    <a:off x="3789360" y="4027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flipV="1" rot="4525200">
                    <a:off x="3779280" y="403092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4" name=""/>
            <p:cNvGrpSpPr/>
            <p:nvPr/>
          </p:nvGrpSpPr>
          <p:grpSpPr>
            <a:xfrm>
              <a:off x="3760200" y="3994560"/>
              <a:ext cx="109440" cy="99360"/>
              <a:chOff x="3760200" y="3994560"/>
              <a:chExt cx="109440" cy="9936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3785040" y="3994560"/>
                <a:ext cx="84600" cy="98640"/>
                <a:chOff x="3785040" y="3994560"/>
                <a:chExt cx="84600" cy="98640"/>
              </a:xfrm>
            </p:grpSpPr>
            <p:sp>
              <p:nvSpPr>
                <p:cNvPr id="416" name=""/>
                <p:cNvSpPr/>
                <p:nvPr/>
              </p:nvSpPr>
              <p:spPr>
                <a:xfrm flipH="1" flipV="1" rot="1528800">
                  <a:off x="3831480" y="39945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 flipV="1" rot="2344200">
                  <a:off x="3825360" y="400608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 flipV="1" rot="2640000">
                  <a:off x="3820320" y="40129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 flipV="1" rot="3172200">
                  <a:off x="3813120" y="4019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3760200" y="4022280"/>
                <a:ext cx="105840" cy="71640"/>
                <a:chOff x="3760200" y="4022280"/>
                <a:chExt cx="105840" cy="71640"/>
              </a:xfrm>
            </p:grpSpPr>
            <p:sp>
              <p:nvSpPr>
                <p:cNvPr id="421" name=""/>
                <p:cNvSpPr/>
                <p:nvPr/>
              </p:nvSpPr>
              <p:spPr>
                <a:xfrm flipH="1" flipV="1" rot="2881800">
                  <a:off x="3818160" y="40154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H="1" flipV="1" rot="3697200">
                  <a:off x="3808080" y="40230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flipV="1" rot="3993000">
                  <a:off x="3800520" y="4027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 flipV="1" rot="4525200">
                  <a:off x="3792240" y="4031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"/>
          <p:cNvGrpSpPr/>
          <p:nvPr/>
        </p:nvGrpSpPr>
        <p:grpSpPr>
          <a:xfrm>
            <a:off x="4280040" y="3201840"/>
            <a:ext cx="187920" cy="188640"/>
            <a:chOff x="4280040" y="3201840"/>
            <a:chExt cx="187920" cy="188640"/>
          </a:xfrm>
        </p:grpSpPr>
        <p:sp>
          <p:nvSpPr>
            <p:cNvPr id="426" name=""/>
            <p:cNvSpPr/>
            <p:nvPr/>
          </p:nvSpPr>
          <p:spPr>
            <a:xfrm>
              <a:off x="4280040" y="320184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4285440" y="3207600"/>
              <a:ext cx="180360" cy="182880"/>
              <a:chOff x="4285440" y="3207600"/>
              <a:chExt cx="180360" cy="182880"/>
            </a:xfrm>
          </p:grpSpPr>
          <p:pic>
            <p:nvPicPr>
              <p:cNvPr id="42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285440" y="3207600"/>
                <a:ext cx="17244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"/>
              <p:cNvSpPr/>
              <p:nvPr/>
            </p:nvSpPr>
            <p:spPr>
              <a:xfrm>
                <a:off x="4285440" y="3207600"/>
                <a:ext cx="173520" cy="17460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30" name="" descr=""/>
              <p:cNvPicPr/>
              <p:nvPr/>
            </p:nvPicPr>
            <p:blipFill>
              <a:blip r:embed="rId9"/>
              <a:srcRect l="0" t="14289" r="0" b="0"/>
              <a:stretch/>
            </p:blipFill>
            <p:spPr>
              <a:xfrm>
                <a:off x="4286880" y="3214800"/>
                <a:ext cx="12708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1" name=""/>
              <p:cNvGrpSpPr/>
              <p:nvPr/>
            </p:nvGrpSpPr>
            <p:grpSpPr>
              <a:xfrm>
                <a:off x="4341960" y="3277440"/>
                <a:ext cx="123840" cy="113040"/>
                <a:chOff x="4341960" y="3277440"/>
                <a:chExt cx="123840" cy="113040"/>
              </a:xfrm>
            </p:grpSpPr>
            <p:grpSp>
              <p:nvGrpSpPr>
                <p:cNvPr id="432" name=""/>
                <p:cNvGrpSpPr/>
                <p:nvPr/>
              </p:nvGrpSpPr>
              <p:grpSpPr>
                <a:xfrm>
                  <a:off x="4370040" y="3277440"/>
                  <a:ext cx="95760" cy="111960"/>
                  <a:chOff x="4370040" y="3277440"/>
                  <a:chExt cx="95760" cy="11196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flipH="1" flipV="1" rot="1528800">
                    <a:off x="4422960" y="32774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flipV="1" rot="2344200">
                    <a:off x="4415400" y="32914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flipV="1" rot="2640000">
                    <a:off x="4410360" y="32979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flipV="1" rot="3172200">
                    <a:off x="4402440" y="33048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341960" y="3308400"/>
                  <a:ext cx="119520" cy="82080"/>
                  <a:chOff x="4341960" y="3308400"/>
                  <a:chExt cx="119520" cy="820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flipV="1" rot="2881800">
                    <a:off x="4407840" y="33008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flipV="1" rot="3697200">
                    <a:off x="4395960" y="331020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flipV="1" rot="3993000">
                    <a:off x="4388040" y="33148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flipV="1" rot="4525200">
                    <a:off x="4377960" y="331812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2" name=""/>
            <p:cNvGrpSpPr/>
            <p:nvPr/>
          </p:nvGrpSpPr>
          <p:grpSpPr>
            <a:xfrm>
              <a:off x="4358520" y="3281760"/>
              <a:ext cx="109440" cy="99360"/>
              <a:chOff x="4358520" y="3281760"/>
              <a:chExt cx="109440" cy="9936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4383360" y="3281760"/>
                <a:ext cx="84600" cy="98640"/>
                <a:chOff x="4383360" y="3281760"/>
                <a:chExt cx="84600" cy="98640"/>
              </a:xfrm>
            </p:grpSpPr>
            <p:sp>
              <p:nvSpPr>
                <p:cNvPr id="444" name=""/>
                <p:cNvSpPr/>
                <p:nvPr/>
              </p:nvSpPr>
              <p:spPr>
                <a:xfrm flipH="1" flipV="1" rot="1528800">
                  <a:off x="4429800" y="3281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 flipV="1" rot="2344200">
                  <a:off x="4423680" y="329328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H="1" flipV="1" rot="2640000">
                  <a:off x="4418640" y="33001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 flipV="1" rot="3172200">
                  <a:off x="4411440" y="33066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4358520" y="3309480"/>
                <a:ext cx="105840" cy="71640"/>
                <a:chOff x="4358520" y="3309480"/>
                <a:chExt cx="105840" cy="71640"/>
              </a:xfrm>
            </p:grpSpPr>
            <p:sp>
              <p:nvSpPr>
                <p:cNvPr id="449" name=""/>
                <p:cNvSpPr/>
                <p:nvPr/>
              </p:nvSpPr>
              <p:spPr>
                <a:xfrm flipH="1" flipV="1" rot="2881800">
                  <a:off x="4416480" y="33026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 flipV="1" rot="3697200">
                  <a:off x="4406400" y="33102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 flipV="1" rot="3993000">
                  <a:off x="4398840" y="33145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 flipV="1" rot="4525200">
                  <a:off x="4390560" y="33184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3" name=""/>
          <p:cNvGrpSpPr/>
          <p:nvPr/>
        </p:nvGrpSpPr>
        <p:grpSpPr>
          <a:xfrm>
            <a:off x="5006880" y="4373640"/>
            <a:ext cx="187920" cy="188640"/>
            <a:chOff x="5006880" y="4373640"/>
            <a:chExt cx="187920" cy="188640"/>
          </a:xfrm>
        </p:grpSpPr>
        <p:sp>
          <p:nvSpPr>
            <p:cNvPr id="454" name=""/>
            <p:cNvSpPr/>
            <p:nvPr/>
          </p:nvSpPr>
          <p:spPr>
            <a:xfrm>
              <a:off x="5006880" y="437364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5012280" y="4379400"/>
              <a:ext cx="180000" cy="182880"/>
              <a:chOff x="5012280" y="4379400"/>
              <a:chExt cx="180000" cy="182880"/>
            </a:xfrm>
          </p:grpSpPr>
          <p:pic>
            <p:nvPicPr>
              <p:cNvPr id="45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12280" y="437940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>
                <a:off x="5012280" y="437940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58" name="" descr=""/>
              <p:cNvPicPr/>
              <p:nvPr/>
            </p:nvPicPr>
            <p:blipFill>
              <a:blip r:embed="rId11"/>
              <a:srcRect l="0" t="14289" r="0" b="0"/>
              <a:stretch/>
            </p:blipFill>
            <p:spPr>
              <a:xfrm>
                <a:off x="5013720" y="438660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59" name=""/>
              <p:cNvGrpSpPr/>
              <p:nvPr/>
            </p:nvGrpSpPr>
            <p:grpSpPr>
              <a:xfrm>
                <a:off x="5068440" y="4449600"/>
                <a:ext cx="123840" cy="112680"/>
                <a:chOff x="5068440" y="4449600"/>
                <a:chExt cx="123840" cy="112680"/>
              </a:xfrm>
            </p:grpSpPr>
            <p:grpSp>
              <p:nvGrpSpPr>
                <p:cNvPr id="460" name=""/>
                <p:cNvGrpSpPr/>
                <p:nvPr/>
              </p:nvGrpSpPr>
              <p:grpSpPr>
                <a:xfrm>
                  <a:off x="5096880" y="4449600"/>
                  <a:ext cx="95400" cy="111600"/>
                  <a:chOff x="5096880" y="4449600"/>
                  <a:chExt cx="95400" cy="11160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 flipH="1" flipV="1" rot="1528800">
                    <a:off x="5149080" y="44499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flipH="1" flipV="1" rot="2344200">
                    <a:off x="5142600" y="44632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H="1" flipV="1" rot="2640000">
                    <a:off x="5136840" y="447048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H="1" flipV="1" rot="3172200">
                    <a:off x="5128560" y="4477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5068440" y="4480200"/>
                  <a:ext cx="119880" cy="82080"/>
                  <a:chOff x="5068440" y="4480200"/>
                  <a:chExt cx="119880" cy="8208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flipH="1" flipV="1" rot="2881800">
                    <a:off x="5134680" y="4472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H="1" flipV="1" rot="3697200">
                    <a:off x="5122440" y="44823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 flipV="1" rot="3993000">
                    <a:off x="5114880" y="4486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 flipV="1" rot="4525200">
                    <a:off x="5104800" y="44895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70" name=""/>
            <p:cNvGrpSpPr/>
            <p:nvPr/>
          </p:nvGrpSpPr>
          <p:grpSpPr>
            <a:xfrm>
              <a:off x="5085720" y="4453560"/>
              <a:ext cx="109080" cy="99360"/>
              <a:chOff x="5085720" y="4453560"/>
              <a:chExt cx="109080" cy="99360"/>
            </a:xfrm>
          </p:grpSpPr>
          <p:grpSp>
            <p:nvGrpSpPr>
              <p:cNvPr id="471" name=""/>
              <p:cNvGrpSpPr/>
              <p:nvPr/>
            </p:nvGrpSpPr>
            <p:grpSpPr>
              <a:xfrm>
                <a:off x="5110560" y="4453560"/>
                <a:ext cx="84240" cy="98640"/>
                <a:chOff x="5110560" y="4453560"/>
                <a:chExt cx="84240" cy="98640"/>
              </a:xfrm>
            </p:grpSpPr>
            <p:sp>
              <p:nvSpPr>
                <p:cNvPr id="472" name=""/>
                <p:cNvSpPr/>
                <p:nvPr/>
              </p:nvSpPr>
              <p:spPr>
                <a:xfrm flipH="1" flipV="1" rot="1528800">
                  <a:off x="5156640" y="44535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 rot="2344200">
                  <a:off x="5150520" y="446508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 flipV="1" rot="2640000">
                  <a:off x="5145840" y="44719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flipV="1" rot="3172200">
                  <a:off x="5138640" y="4478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5085720" y="4481280"/>
                <a:ext cx="105480" cy="71640"/>
                <a:chOff x="5085720" y="4481280"/>
                <a:chExt cx="105480" cy="71640"/>
              </a:xfrm>
            </p:grpSpPr>
            <p:sp>
              <p:nvSpPr>
                <p:cNvPr id="477" name=""/>
                <p:cNvSpPr/>
                <p:nvPr/>
              </p:nvSpPr>
              <p:spPr>
                <a:xfrm flipH="1" flipV="1" rot="2881800">
                  <a:off x="5143320" y="44744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 flipV="1" rot="3697200">
                  <a:off x="5133600" y="44820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 flipV="1" rot="3993000">
                  <a:off x="5126040" y="4486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 flipV="1" rot="4525200">
                  <a:off x="5117760" y="44899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1" name=""/>
          <p:cNvGrpSpPr/>
          <p:nvPr/>
        </p:nvGrpSpPr>
        <p:grpSpPr>
          <a:xfrm>
            <a:off x="5680080" y="3911760"/>
            <a:ext cx="187920" cy="188640"/>
            <a:chOff x="5680080" y="3911760"/>
            <a:chExt cx="187920" cy="188640"/>
          </a:xfrm>
        </p:grpSpPr>
        <p:sp>
          <p:nvSpPr>
            <p:cNvPr id="482" name=""/>
            <p:cNvSpPr/>
            <p:nvPr/>
          </p:nvSpPr>
          <p:spPr>
            <a:xfrm>
              <a:off x="5680080" y="391176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5685480" y="3917520"/>
              <a:ext cx="180000" cy="182880"/>
              <a:chOff x="5685480" y="3917520"/>
              <a:chExt cx="180000" cy="182880"/>
            </a:xfrm>
          </p:grpSpPr>
          <p:pic>
            <p:nvPicPr>
              <p:cNvPr id="48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685480" y="391752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>
                <a:off x="5685480" y="391752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86" name="" descr=""/>
              <p:cNvPicPr/>
              <p:nvPr/>
            </p:nvPicPr>
            <p:blipFill>
              <a:blip r:embed="rId13"/>
              <a:srcRect l="0" t="14289" r="0" b="0"/>
              <a:stretch/>
            </p:blipFill>
            <p:spPr>
              <a:xfrm>
                <a:off x="5686920" y="392472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87" name=""/>
              <p:cNvGrpSpPr/>
              <p:nvPr/>
            </p:nvGrpSpPr>
            <p:grpSpPr>
              <a:xfrm>
                <a:off x="5741640" y="3987720"/>
                <a:ext cx="123840" cy="112680"/>
                <a:chOff x="5741640" y="3987720"/>
                <a:chExt cx="123840" cy="112680"/>
              </a:xfrm>
            </p:grpSpPr>
            <p:grpSp>
              <p:nvGrpSpPr>
                <p:cNvPr id="488" name=""/>
                <p:cNvGrpSpPr/>
                <p:nvPr/>
              </p:nvGrpSpPr>
              <p:grpSpPr>
                <a:xfrm>
                  <a:off x="5770080" y="3987720"/>
                  <a:ext cx="95400" cy="111600"/>
                  <a:chOff x="5770080" y="3987720"/>
                  <a:chExt cx="95400" cy="11160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flipH="1" flipV="1" rot="1528800">
                    <a:off x="5822280" y="39880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H="1" flipV="1" rot="2344200">
                    <a:off x="5815800" y="40014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 flipV="1" rot="2640000">
                    <a:off x="5810040" y="400860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flipV="1" rot="3172200">
                    <a:off x="5801760" y="4015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741640" y="4018320"/>
                  <a:ext cx="119880" cy="82080"/>
                  <a:chOff x="5741640" y="4018320"/>
                  <a:chExt cx="119880" cy="8208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flipV="1" rot="2881800">
                    <a:off x="5807880" y="4010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flipV="1" rot="3697200">
                    <a:off x="5795640" y="40204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H="1" flipV="1" rot="3993000">
                    <a:off x="5788080" y="4024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H="1" flipV="1" rot="4525200">
                    <a:off x="5778000" y="4027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98" name=""/>
            <p:cNvGrpSpPr/>
            <p:nvPr/>
          </p:nvGrpSpPr>
          <p:grpSpPr>
            <a:xfrm>
              <a:off x="5758920" y="3991680"/>
              <a:ext cx="109080" cy="99360"/>
              <a:chOff x="5758920" y="3991680"/>
              <a:chExt cx="109080" cy="99360"/>
            </a:xfrm>
          </p:grpSpPr>
          <p:grpSp>
            <p:nvGrpSpPr>
              <p:cNvPr id="499" name=""/>
              <p:cNvGrpSpPr/>
              <p:nvPr/>
            </p:nvGrpSpPr>
            <p:grpSpPr>
              <a:xfrm>
                <a:off x="5783760" y="3991680"/>
                <a:ext cx="84240" cy="98640"/>
                <a:chOff x="5783760" y="3991680"/>
                <a:chExt cx="84240" cy="98640"/>
              </a:xfrm>
            </p:grpSpPr>
            <p:sp>
              <p:nvSpPr>
                <p:cNvPr id="500" name=""/>
                <p:cNvSpPr/>
                <p:nvPr/>
              </p:nvSpPr>
              <p:spPr>
                <a:xfrm flipH="1" flipV="1" rot="1528800">
                  <a:off x="5829840" y="3991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flipV="1" rot="2344200">
                  <a:off x="5823720" y="40032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 flipV="1" rot="2640000">
                  <a:off x="5819040" y="40100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 rot="3172200">
                  <a:off x="5811840" y="40165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5758920" y="4019400"/>
                <a:ext cx="105480" cy="71640"/>
                <a:chOff x="5758920" y="4019400"/>
                <a:chExt cx="105480" cy="71640"/>
              </a:xfrm>
            </p:grpSpPr>
            <p:sp>
              <p:nvSpPr>
                <p:cNvPr id="505" name=""/>
                <p:cNvSpPr/>
                <p:nvPr/>
              </p:nvSpPr>
              <p:spPr>
                <a:xfrm flipH="1" flipV="1" rot="2881800">
                  <a:off x="5816520" y="40125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 flipV="1" rot="3697200">
                  <a:off x="5806800" y="4020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 flipV="1" rot="3993000">
                  <a:off x="5799240" y="40244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 flipV="1" rot="4525200">
                  <a:off x="5790960" y="4028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9" name=""/>
          <p:cNvGrpSpPr/>
          <p:nvPr/>
        </p:nvGrpSpPr>
        <p:grpSpPr>
          <a:xfrm>
            <a:off x="6467400" y="2195640"/>
            <a:ext cx="187920" cy="188640"/>
            <a:chOff x="6467400" y="2195640"/>
            <a:chExt cx="187920" cy="188640"/>
          </a:xfrm>
        </p:grpSpPr>
        <p:sp>
          <p:nvSpPr>
            <p:cNvPr id="510" name=""/>
            <p:cNvSpPr/>
            <p:nvPr/>
          </p:nvSpPr>
          <p:spPr>
            <a:xfrm>
              <a:off x="6467400" y="219564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6472800" y="2201400"/>
              <a:ext cx="180000" cy="182880"/>
              <a:chOff x="6472800" y="2201400"/>
              <a:chExt cx="180000" cy="182880"/>
            </a:xfrm>
          </p:grpSpPr>
          <p:pic>
            <p:nvPicPr>
              <p:cNvPr id="51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472800" y="220140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>
                <a:off x="6472800" y="220140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14" name="" descr=""/>
              <p:cNvPicPr/>
              <p:nvPr/>
            </p:nvPicPr>
            <p:blipFill>
              <a:blip r:embed="rId15"/>
              <a:srcRect l="0" t="14289" r="0" b="0"/>
              <a:stretch/>
            </p:blipFill>
            <p:spPr>
              <a:xfrm>
                <a:off x="6474240" y="220860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"/>
              <p:cNvGrpSpPr/>
              <p:nvPr/>
            </p:nvGrpSpPr>
            <p:grpSpPr>
              <a:xfrm>
                <a:off x="6528960" y="2271600"/>
                <a:ext cx="123840" cy="112680"/>
                <a:chOff x="6528960" y="2271600"/>
                <a:chExt cx="123840" cy="11268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6557400" y="2271600"/>
                  <a:ext cx="95400" cy="111600"/>
                  <a:chOff x="6557400" y="2271600"/>
                  <a:chExt cx="95400" cy="11160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flipH="1" flipV="1" rot="1528800">
                    <a:off x="6609600" y="22719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H="1" flipV="1" rot="2344200">
                    <a:off x="6603120" y="22852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flipV="1" rot="2640000">
                    <a:off x="6597360" y="229248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flipV="1" rot="3172200">
                    <a:off x="6589080" y="2299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6528960" y="2302200"/>
                  <a:ext cx="119880" cy="82080"/>
                  <a:chOff x="6528960" y="2302200"/>
                  <a:chExt cx="119880" cy="8208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 flipH="1" flipV="1" rot="2881800">
                    <a:off x="6595200" y="2294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 flipV="1" rot="3697200">
                    <a:off x="6582960" y="23043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H="1" flipV="1" rot="3993000">
                    <a:off x="6575400" y="2308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flipV="1" rot="4525200">
                    <a:off x="6565320" y="23115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6" name=""/>
            <p:cNvGrpSpPr/>
            <p:nvPr/>
          </p:nvGrpSpPr>
          <p:grpSpPr>
            <a:xfrm>
              <a:off x="6546240" y="2275560"/>
              <a:ext cx="109080" cy="99360"/>
              <a:chOff x="6546240" y="2275560"/>
              <a:chExt cx="109080" cy="99360"/>
            </a:xfrm>
          </p:grpSpPr>
          <p:grpSp>
            <p:nvGrpSpPr>
              <p:cNvPr id="527" name=""/>
              <p:cNvGrpSpPr/>
              <p:nvPr/>
            </p:nvGrpSpPr>
            <p:grpSpPr>
              <a:xfrm>
                <a:off x="6571080" y="2275560"/>
                <a:ext cx="84240" cy="98640"/>
                <a:chOff x="6571080" y="2275560"/>
                <a:chExt cx="84240" cy="98640"/>
              </a:xfrm>
            </p:grpSpPr>
            <p:sp>
              <p:nvSpPr>
                <p:cNvPr id="528" name=""/>
                <p:cNvSpPr/>
                <p:nvPr/>
              </p:nvSpPr>
              <p:spPr>
                <a:xfrm flipH="1" flipV="1" rot="1528800">
                  <a:off x="6617160" y="22755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 flipV="1" rot="2344200">
                  <a:off x="6611040" y="228708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 flipV="1" rot="2640000">
                  <a:off x="6606360" y="22939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 flipV="1" rot="3172200">
                  <a:off x="6599160" y="2300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546240" y="2303280"/>
                <a:ext cx="105480" cy="71640"/>
                <a:chOff x="6546240" y="2303280"/>
                <a:chExt cx="105480" cy="71640"/>
              </a:xfrm>
            </p:grpSpPr>
            <p:sp>
              <p:nvSpPr>
                <p:cNvPr id="533" name=""/>
                <p:cNvSpPr/>
                <p:nvPr/>
              </p:nvSpPr>
              <p:spPr>
                <a:xfrm flipH="1" flipV="1" rot="2881800">
                  <a:off x="6603840" y="22964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 flipV="1" rot="3697200">
                  <a:off x="6594120" y="23040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H="1" flipV="1" rot="3993000">
                  <a:off x="6586560" y="2308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 flipV="1" rot="4525200">
                  <a:off x="6578280" y="23119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7" name=""/>
          <p:cNvGrpSpPr/>
          <p:nvPr/>
        </p:nvGrpSpPr>
        <p:grpSpPr>
          <a:xfrm>
            <a:off x="7170840" y="2825640"/>
            <a:ext cx="187920" cy="188640"/>
            <a:chOff x="7170840" y="2825640"/>
            <a:chExt cx="187920" cy="188640"/>
          </a:xfrm>
        </p:grpSpPr>
        <p:sp>
          <p:nvSpPr>
            <p:cNvPr id="538" name=""/>
            <p:cNvSpPr/>
            <p:nvPr/>
          </p:nvSpPr>
          <p:spPr>
            <a:xfrm>
              <a:off x="7170840" y="282564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176240" y="2831400"/>
              <a:ext cx="180360" cy="182880"/>
              <a:chOff x="7176240" y="2831400"/>
              <a:chExt cx="180360" cy="182880"/>
            </a:xfrm>
          </p:grpSpPr>
          <p:pic>
            <p:nvPicPr>
              <p:cNvPr id="54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176240" y="2831400"/>
                <a:ext cx="17244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>
                <a:off x="7176240" y="2831400"/>
                <a:ext cx="173520" cy="17460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42" name="" descr=""/>
              <p:cNvPicPr/>
              <p:nvPr/>
            </p:nvPicPr>
            <p:blipFill>
              <a:blip r:embed="rId17"/>
              <a:srcRect l="0" t="14289" r="0" b="0"/>
              <a:stretch/>
            </p:blipFill>
            <p:spPr>
              <a:xfrm>
                <a:off x="7177680" y="2838600"/>
                <a:ext cx="12708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3" name=""/>
              <p:cNvGrpSpPr/>
              <p:nvPr/>
            </p:nvGrpSpPr>
            <p:grpSpPr>
              <a:xfrm>
                <a:off x="7232760" y="2901240"/>
                <a:ext cx="123840" cy="113040"/>
                <a:chOff x="7232760" y="2901240"/>
                <a:chExt cx="123840" cy="113040"/>
              </a:xfrm>
            </p:grpSpPr>
            <p:grpSp>
              <p:nvGrpSpPr>
                <p:cNvPr id="544" name=""/>
                <p:cNvGrpSpPr/>
                <p:nvPr/>
              </p:nvGrpSpPr>
              <p:grpSpPr>
                <a:xfrm>
                  <a:off x="7260840" y="2901240"/>
                  <a:ext cx="95760" cy="111960"/>
                  <a:chOff x="7260840" y="2901240"/>
                  <a:chExt cx="95760" cy="11196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 flipH="1" flipV="1" rot="1528800">
                    <a:off x="7313760" y="29012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H="1" flipV="1" rot="2344200">
                    <a:off x="7306200" y="29152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H="1" flipV="1" rot="2640000">
                    <a:off x="7301160" y="29217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H="1" flipV="1" rot="3172200">
                    <a:off x="7293240" y="2928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232760" y="2932200"/>
                  <a:ext cx="119520" cy="82080"/>
                  <a:chOff x="7232760" y="2932200"/>
                  <a:chExt cx="119520" cy="8208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flipH="1" flipV="1" rot="2881800">
                    <a:off x="7298640" y="2924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 flipV="1" rot="3697200">
                    <a:off x="7286760" y="293400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H="1" flipV="1" rot="3993000">
                    <a:off x="7278840" y="2938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 flipV="1" rot="4525200">
                    <a:off x="7268760" y="294192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54" name=""/>
            <p:cNvGrpSpPr/>
            <p:nvPr/>
          </p:nvGrpSpPr>
          <p:grpSpPr>
            <a:xfrm>
              <a:off x="7249320" y="2905560"/>
              <a:ext cx="109440" cy="99360"/>
              <a:chOff x="7249320" y="2905560"/>
              <a:chExt cx="109440" cy="99360"/>
            </a:xfrm>
          </p:grpSpPr>
          <p:grpSp>
            <p:nvGrpSpPr>
              <p:cNvPr id="555" name=""/>
              <p:cNvGrpSpPr/>
              <p:nvPr/>
            </p:nvGrpSpPr>
            <p:grpSpPr>
              <a:xfrm>
                <a:off x="7274160" y="2905560"/>
                <a:ext cx="84600" cy="98640"/>
                <a:chOff x="7274160" y="2905560"/>
                <a:chExt cx="84600" cy="98640"/>
              </a:xfrm>
            </p:grpSpPr>
            <p:sp>
              <p:nvSpPr>
                <p:cNvPr id="556" name=""/>
                <p:cNvSpPr/>
                <p:nvPr/>
              </p:nvSpPr>
              <p:spPr>
                <a:xfrm flipH="1" flipV="1" rot="1528800">
                  <a:off x="7320600" y="29055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flipH="1" flipV="1" rot="2344200">
                  <a:off x="7314480" y="291708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flipV="1" rot="2640000">
                  <a:off x="7309440" y="29239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H="1" flipV="1" rot="3172200">
                  <a:off x="7302240" y="2930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249320" y="2933280"/>
                <a:ext cx="105840" cy="71640"/>
                <a:chOff x="7249320" y="2933280"/>
                <a:chExt cx="105840" cy="71640"/>
              </a:xfrm>
            </p:grpSpPr>
            <p:sp>
              <p:nvSpPr>
                <p:cNvPr id="561" name=""/>
                <p:cNvSpPr/>
                <p:nvPr/>
              </p:nvSpPr>
              <p:spPr>
                <a:xfrm flipH="1" flipV="1" rot="2881800">
                  <a:off x="7307280" y="29264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 flipV="1" rot="3697200">
                  <a:off x="7297200" y="29340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H="1" flipV="1" rot="3993000">
                  <a:off x="7289640" y="2938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H="1" flipV="1" rot="4525200">
                  <a:off x="7281360" y="2942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5" name=""/>
          <p:cNvSpPr/>
          <p:nvPr/>
        </p:nvSpPr>
        <p:spPr>
          <a:xfrm>
            <a:off x="963720" y="5707080"/>
            <a:ext cx="761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7:23:28Z</dcterms:created>
  <dc:creator>http://www.eeppt.com</dc:creator>
  <dc:description>ppt模板下载网站 http://www.eeppt.com</dc:description>
  <dc:language>en-US</dc:language>
  <cp:lastModifiedBy/>
  <dcterms:modified xsi:type="dcterms:W3CDTF">2015-06-14T07:53:4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