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gif" ContentType="image/gi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B763-3399-480D-86E4-72483B60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6720" y="1066320"/>
            <a:ext cx="701028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6720" y="3710160"/>
            <a:ext cx="701028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DCAF-5078-4F2D-ADB7-F93E863B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6720" y="106632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8800" y="106632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6720" y="371016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8800" y="371016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7FA3-270F-4F25-9F9D-CC3B9749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6720" y="1066320"/>
            <a:ext cx="225720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320" y="1066320"/>
            <a:ext cx="225720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7560" y="1066320"/>
            <a:ext cx="225720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6720" y="3710160"/>
            <a:ext cx="225720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320" y="3710160"/>
            <a:ext cx="225720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7560" y="3710160"/>
            <a:ext cx="225720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897E-2CE2-428A-9E78-52A60035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A136-2BB6-40B1-ADAD-FDCED4E1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6720" y="1066320"/>
            <a:ext cx="701028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8D23-BA40-472E-BF98-81D9FC5A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6720" y="1066320"/>
            <a:ext cx="701028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F774-CE20-4550-B135-ABEB530B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6720" y="1066320"/>
            <a:ext cx="342072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8800" y="1066320"/>
            <a:ext cx="342072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AC5B-EEC0-4CD7-81A6-E8750BE6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0C12-FD4B-4D23-B8C7-1DF37B7D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5280" y="7596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C145-08D9-4B48-953F-041E0CCF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6720" y="106632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8800" y="1066320"/>
            <a:ext cx="342072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6720" y="371016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16E8-A6E5-4522-B3A6-9A3F4420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6720" y="1066320"/>
            <a:ext cx="701028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12B1-73BD-4442-BD70-AF24C8A7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6720" y="1066320"/>
            <a:ext cx="342072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8800" y="106632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8800" y="371016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8FD7-F741-48E6-B3A5-E6B72371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6720" y="106632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8800" y="106632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6720" y="3710160"/>
            <a:ext cx="701028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680F-6BCD-4D84-B405-E0CF32AA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6720" y="1066320"/>
            <a:ext cx="701028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6720" y="3710160"/>
            <a:ext cx="701028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BD0D-25D0-4E86-AC6E-45117DE5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6720" y="106632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8800" y="106632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6720" y="371016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8800" y="371016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023D-131E-449A-B043-8FD1AFB7D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6720" y="1066320"/>
            <a:ext cx="225720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67320" y="1066320"/>
            <a:ext cx="225720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7560" y="1066320"/>
            <a:ext cx="225720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6720" y="3710160"/>
            <a:ext cx="225720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67320" y="3710160"/>
            <a:ext cx="225720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7560" y="3710160"/>
            <a:ext cx="225720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C341-116C-4349-8EE1-E7B9A8B3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6720" y="1066320"/>
            <a:ext cx="701028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DD2A-4488-4F60-9975-B62C1A6C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6720" y="1066320"/>
            <a:ext cx="342072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8800" y="1066320"/>
            <a:ext cx="342072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7FF6-6013-4789-8FB0-F7552DA4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8708-B8D6-4B63-A443-B4AF9BBD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5280" y="7596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8C17-8201-4CCB-A996-BBC46B1F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6720" y="106632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8800" y="1066320"/>
            <a:ext cx="342072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6720" y="371016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DE25-7083-4022-BFCF-70A008C9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6720" y="1066320"/>
            <a:ext cx="342072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8800" y="106632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8800" y="371016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4283-1B9B-414B-B822-48FBFC4F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6720" y="106632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8800" y="106632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6720" y="3710160"/>
            <a:ext cx="701028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2F4A-D65B-4F35-AFC6-F2906578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9A18-F344-4D92-8C5C-2317254B6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deba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296720" y="1066320"/>
            <a:ext cx="701028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424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2466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14246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2466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  <a:p>
            <a:pPr lvl="2" marL="1143000" indent="-228600">
              <a:spcBef>
                <a:spcPts val="601"/>
              </a:spcBef>
              <a:buClr>
                <a:srgbClr val="1424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2466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  <a:p>
            <a:pPr lvl="3" marL="1600200" indent="-228600">
              <a:spcBef>
                <a:spcPts val="601"/>
              </a:spcBef>
              <a:buClr>
                <a:srgbClr val="14246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2466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  <a:p>
            <a:pPr lvl="4" marL="2057400" indent="-228600">
              <a:spcBef>
                <a:spcPts val="601"/>
              </a:spcBef>
              <a:buClr>
                <a:srgbClr val="14246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2466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2466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2466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66720" y="2971800"/>
            <a:ext cx="4876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deba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B735-F104-463A-ACC4-03D1C2734DFA}" type="slidenum"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24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424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142466"/>
              </a:buClr>
              <a:buFont typeface="黑体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466"/>
                </a:solidFill>
                <a:latin typeface="黑体"/>
              </a:rPr>
              <a:t>Third Outline Level</a:t>
            </a:r>
            <a:endParaRPr b="0" lang="en-US" sz="1800" spc="-1" strike="noStrike">
              <a:solidFill>
                <a:srgbClr val="142466"/>
              </a:solidFill>
              <a:latin typeface="黑体"/>
            </a:endParaRPr>
          </a:p>
          <a:p>
            <a:pPr lvl="3" marL="1371600" algn="ctr">
              <a:spcBef>
                <a:spcPts val="400"/>
              </a:spcBef>
              <a:buClr>
                <a:srgbClr val="142466"/>
              </a:buClr>
              <a:buFont typeface="黑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2466"/>
                </a:solidFill>
                <a:latin typeface="黑体"/>
              </a:rPr>
              <a:t>Fourth Outline Level</a:t>
            </a:r>
            <a:endParaRPr b="0" lang="en-US" sz="1600" spc="-1" strike="noStrike">
              <a:solidFill>
                <a:srgbClr val="142466"/>
              </a:solidFill>
              <a:latin typeface="黑体"/>
            </a:endParaRPr>
          </a:p>
          <a:p>
            <a:pPr lvl="4" marL="1828800" algn="ctr">
              <a:spcBef>
                <a:spcPts val="400"/>
              </a:spcBef>
              <a:buClr>
                <a:srgbClr val="142466"/>
              </a:buClr>
              <a:buFont typeface="黑体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2466"/>
                </a:solidFill>
                <a:latin typeface="黑体"/>
              </a:rPr>
              <a:t>Fifth Outline Level</a:t>
            </a:r>
            <a:endParaRPr b="0" lang="en-US" sz="1600" spc="-1" strike="noStrike">
              <a:solidFill>
                <a:srgbClr val="142466"/>
              </a:solidFill>
              <a:latin typeface="黑体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2466"/>
                </a:solidFill>
                <a:latin typeface="黑体"/>
              </a:rPr>
              <a:t>Sixth Outline Level</a:t>
            </a:r>
            <a:endParaRPr b="0" lang="en-US" sz="1600" spc="-1" strike="noStrike">
              <a:solidFill>
                <a:srgbClr val="142466"/>
              </a:solidFill>
              <a:latin typeface="黑体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2466"/>
                </a:solidFill>
                <a:latin typeface="黑体"/>
              </a:rPr>
              <a:t>Seventh Outline Level</a:t>
            </a:r>
            <a:endParaRPr b="0" lang="en-US" sz="1600" spc="-1" strike="noStrike">
              <a:solidFill>
                <a:srgbClr val="142466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6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66720" y="2971800"/>
            <a:ext cx="4876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deba"/>
                </a:solidFill>
                <a:latin typeface="黑体"/>
              </a:rPr>
              <a:t>3D</a:t>
            </a:r>
            <a:r>
              <a:rPr b="1" lang="en-US" sz="3200" spc="-1" strike="noStrike">
                <a:solidFill>
                  <a:srgbClr val="d4deba"/>
                </a:solidFill>
                <a:latin typeface="黑体"/>
              </a:rPr>
              <a:t>动画人物课件</a:t>
            </a:r>
            <a:r>
              <a:rPr b="1" lang="zh-CN" sz="3200" spc="-1" strike="noStrike">
                <a:solidFill>
                  <a:srgbClr val="d4deba"/>
                </a:solidFill>
                <a:latin typeface="黑体"/>
              </a:rPr>
              <a:t>PPT</a:t>
            </a:r>
            <a:r>
              <a:rPr b="1" lang="en-US" sz="3200" spc="-1" strike="noStrike">
                <a:solidFill>
                  <a:srgbClr val="d4deba"/>
                </a:solidFill>
                <a:latin typeface="黑体"/>
              </a:rPr>
              <a:t>模板</a:t>
            </a: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266720" y="3962160"/>
            <a:ext cx="4876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4deba"/>
                </a:solidFill>
                <a:latin typeface="黑体"/>
              </a:rPr>
              <a:t>幻灯片之家 </a:t>
            </a:r>
            <a:r>
              <a:rPr b="1" lang="zh-CN" sz="2000" spc="-1" strike="noStrike">
                <a:solidFill>
                  <a:srgbClr val="d4deba"/>
                </a:solidFill>
                <a:latin typeface="黑体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78840"/>
            <a:ext cx="716256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066320"/>
            <a:ext cx="71625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78840"/>
            <a:ext cx="716256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1066320"/>
            <a:ext cx="71625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477120"/>
            <a:ext cx="5624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66"/>
                </a:solidFill>
                <a:uFillTx/>
                <a:latin typeface="Arial"/>
                <a:hlinkClick r:id="rId2"/>
              </a:rPr>
              <a:t>说课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320" y="342900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4deba"/>
                </a:solidFill>
                <a:latin typeface="黑体"/>
                <a:ea typeface="宋体"/>
              </a:rPr>
              <a:t>The end,thank you!</a:t>
            </a: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918480" y="2514600"/>
            <a:ext cx="2149200" cy="2343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266720" y="3962160"/>
            <a:ext cx="4876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ero"/>
              </a:rPr>
              <a:t>elements</a:t>
            </a:r>
            <a:endParaRPr b="1" lang="en-US" sz="5400" spc="-1" strike="noStrike">
              <a:solidFill>
                <a:srgbClr val="d4deba"/>
              </a:solidFill>
              <a:latin typeface="黑体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19920" y="4343400"/>
            <a:ext cx="2666880" cy="2000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819520" y="1828800"/>
            <a:ext cx="2666880" cy="2000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819520" y="4343400"/>
            <a:ext cx="2666880" cy="2000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019920" y="1828800"/>
            <a:ext cx="2666880" cy="2000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304920" y="1371600"/>
            <a:ext cx="2187360" cy="2552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457200" y="4114800"/>
            <a:ext cx="21495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4deba"/>
                </a:solidFill>
                <a:latin typeface="黑体"/>
              </a:rPr>
              <a:t>使用规范说明</a:t>
            </a: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黑体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黑体"/>
              </a:rPr>
              <a:t>：</a:t>
            </a:r>
            <a:endParaRPr b="0" lang="en-US" sz="15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黑体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黑体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黑体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黑体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黑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黑体"/>
              </a:rPr>
              <a:t>特别说明：</a:t>
            </a:r>
            <a:endParaRPr b="0" lang="en-US" sz="15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黑体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黑体"/>
              </a:rPr>
              <a:t>：</a:t>
            </a:r>
            <a:endParaRPr b="0" lang="en-US" sz="15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A914-00C2-46EE-8C16-B589614812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5:33:31Z</dcterms:created>
  <dc:creator/>
  <dc:description/>
  <dc:language>en-US</dc:language>
  <cp:lastModifiedBy>eclipse</cp:lastModifiedBy>
  <dcterms:modified xsi:type="dcterms:W3CDTF">2015-07-04T08:48:07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