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029-9A86-49BF-8035-B309A162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932-3E12-4602-8C41-B7C992A0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6A1-DB57-4B09-A43D-46D55782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6C1-921C-408F-80C4-47CA70D6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A77-4BB0-4B62-869B-6CA9737C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E3D-D8DB-4481-8F70-43DD30BA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1AB-7359-4006-AC8A-F2C3DE3F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C2F-19EF-4E14-9902-7C89FAC6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68A-1CC9-43B5-98C3-6159503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F4F-ACF7-4E1D-9EA6-86C9284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870-A934-4C03-8268-C8B99D9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27F-F4FE-4A70-8C4A-3A65AA4E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1FC-8385-40D1-86D7-8712352DF5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0619-70A1-4A0F-880E-30C0B38156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"/>
          <p:cNvPicPr/>
          <p:nvPr/>
        </p:nvPicPr>
        <p:blipFill>
          <a:blip r:embed="rId1"/>
          <a:stretch/>
        </p:blipFill>
        <p:spPr>
          <a:xfrm>
            <a:off x="792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正方形/長方形 34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c0c0c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97040" y="558720"/>
            <a:ext cx="5759280" cy="6746760"/>
            <a:chOff x="1697040" y="558720"/>
            <a:chExt cx="5759280" cy="6746760"/>
          </a:xfrm>
        </p:grpSpPr>
        <p:sp>
          <p:nvSpPr>
            <p:cNvPr id="44" name="テキスト ボックス 36"/>
            <p:cNvSpPr/>
            <p:nvPr/>
          </p:nvSpPr>
          <p:spPr>
            <a:xfrm>
              <a:off x="2985840" y="917280"/>
              <a:ext cx="318132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3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1</a:t>
              </a:r>
              <a:endParaRPr b="0" lang="en-US" sz="4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円/楕円​​ 37"/>
            <p:cNvSpPr/>
            <p:nvPr/>
          </p:nvSpPr>
          <p:spPr>
            <a:xfrm>
              <a:off x="1697040" y="558720"/>
              <a:ext cx="5759280" cy="575964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図 2" descr=""/>
          <p:cNvPicPr/>
          <p:nvPr/>
        </p:nvPicPr>
        <p:blipFill>
          <a:blip r:embed="rId2"/>
          <a:srcRect l="11147" t="0" r="0" b="0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9"/>
          <p:cNvSpPr/>
          <p:nvPr/>
        </p:nvSpPr>
        <p:spPr>
          <a:xfrm>
            <a:off x="0" y="12600"/>
            <a:ext cx="9144000" cy="6858000"/>
          </a:xfrm>
          <a:prstGeom prst="rect">
            <a:avLst/>
          </a:prstGeom>
          <a:solidFill>
            <a:srgbClr val="538cd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92360" y="558720"/>
            <a:ext cx="5759280" cy="6746760"/>
            <a:chOff x="1692360" y="558720"/>
            <a:chExt cx="5759280" cy="6746760"/>
          </a:xfrm>
        </p:grpSpPr>
        <p:sp>
          <p:nvSpPr>
            <p:cNvPr id="49" name="テキスト ボックス 31"/>
            <p:cNvSpPr/>
            <p:nvPr/>
          </p:nvSpPr>
          <p:spPr>
            <a:xfrm>
              <a:off x="2981160" y="917280"/>
              <a:ext cx="318132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3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2</a:t>
              </a:r>
              <a:endParaRPr b="0" lang="en-US" sz="4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円/楕円​​ 32"/>
            <p:cNvSpPr/>
            <p:nvPr/>
          </p:nvSpPr>
          <p:spPr>
            <a:xfrm>
              <a:off x="1692360" y="558720"/>
              <a:ext cx="5759280" cy="575964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図 2" descr=""/>
          <p:cNvPicPr/>
          <p:nvPr/>
        </p:nvPicPr>
        <p:blipFill>
          <a:blip r:embed="rId3"/>
          <a:srcRect l="0" t="0" r="10602" b="0"/>
          <a:stretch/>
        </p:blipFill>
        <p:spPr>
          <a:xfrm>
            <a:off x="468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正方形/長方形 24"/>
          <p:cNvSpPr/>
          <p:nvPr/>
        </p:nvSpPr>
        <p:spPr>
          <a:xfrm>
            <a:off x="4680" y="12600"/>
            <a:ext cx="9144000" cy="6858000"/>
          </a:xfrm>
          <a:prstGeom prst="rect">
            <a:avLst/>
          </a:prstGeom>
          <a:solidFill>
            <a:srgbClr val="0033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92360" y="558720"/>
            <a:ext cx="5759280" cy="6746760"/>
            <a:chOff x="1692360" y="558720"/>
            <a:chExt cx="5759280" cy="6746760"/>
          </a:xfrm>
        </p:grpSpPr>
        <p:sp>
          <p:nvSpPr>
            <p:cNvPr id="54" name="テキスト ボックス 26"/>
            <p:cNvSpPr/>
            <p:nvPr/>
          </p:nvSpPr>
          <p:spPr>
            <a:xfrm>
              <a:off x="2981160" y="917280"/>
              <a:ext cx="318132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3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3</a:t>
              </a:r>
              <a:endParaRPr b="0" lang="en-US" sz="4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円/楕円​​ 27"/>
            <p:cNvSpPr/>
            <p:nvPr/>
          </p:nvSpPr>
          <p:spPr>
            <a:xfrm>
              <a:off x="1692360" y="558720"/>
              <a:ext cx="5759280" cy="575964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図 2" descr=""/>
          <p:cNvPicPr/>
          <p:nvPr/>
        </p:nvPicPr>
        <p:blipFill>
          <a:blip r:embed="rId4"/>
          <a:srcRect l="4994" t="0" r="6191" b="0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正方形/長方形 15"/>
          <p:cNvSpPr/>
          <p:nvPr/>
        </p:nvSpPr>
        <p:spPr>
          <a:xfrm>
            <a:off x="0" y="12600"/>
            <a:ext cx="9144000" cy="6858000"/>
          </a:xfrm>
          <a:prstGeom prst="rect">
            <a:avLst/>
          </a:prstGeom>
          <a:solidFill>
            <a:srgbClr val="0f243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92360" y="558720"/>
            <a:ext cx="5759280" cy="6746760"/>
            <a:chOff x="1692360" y="558720"/>
            <a:chExt cx="5759280" cy="6746760"/>
          </a:xfrm>
        </p:grpSpPr>
        <p:sp>
          <p:nvSpPr>
            <p:cNvPr id="59" name="テキスト ボックス 17"/>
            <p:cNvSpPr/>
            <p:nvPr/>
          </p:nvSpPr>
          <p:spPr>
            <a:xfrm>
              <a:off x="2981160" y="917280"/>
              <a:ext cx="318132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3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4</a:t>
              </a:r>
              <a:endParaRPr b="0" lang="en-US" sz="4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円/楕円​​ 19"/>
            <p:cNvSpPr/>
            <p:nvPr/>
          </p:nvSpPr>
          <p:spPr>
            <a:xfrm>
              <a:off x="1692360" y="558720"/>
              <a:ext cx="5759280" cy="575964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正方形/長方形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正方形/長方形 11"/>
          <p:cNvSpPr/>
          <p:nvPr/>
        </p:nvSpPr>
        <p:spPr>
          <a:xfrm>
            <a:off x="4680" y="0"/>
            <a:ext cx="9144000" cy="68580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92360" y="558720"/>
            <a:ext cx="5759280" cy="6746760"/>
            <a:chOff x="1692360" y="558720"/>
            <a:chExt cx="5759280" cy="6746760"/>
          </a:xfrm>
        </p:grpSpPr>
        <p:sp>
          <p:nvSpPr>
            <p:cNvPr id="64" name="テキスト ボックス 1"/>
            <p:cNvSpPr/>
            <p:nvPr/>
          </p:nvSpPr>
          <p:spPr>
            <a:xfrm>
              <a:off x="2981160" y="917280"/>
              <a:ext cx="3181320" cy="638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3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5</a:t>
              </a:r>
              <a:endParaRPr b="0" lang="en-US" sz="4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円/楕円​​ 2"/>
            <p:cNvSpPr/>
            <p:nvPr/>
          </p:nvSpPr>
          <p:spPr>
            <a:xfrm>
              <a:off x="1692360" y="558720"/>
              <a:ext cx="5759280" cy="575964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1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1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1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1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1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1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1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1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1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1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1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" dur="1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1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E66-0607-4E44-9DFC-7867D0AF0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4:01:00Z</dcterms:created>
  <dc:creator/>
  <dc:description/>
  <dc:language>en-US</dc:language>
  <cp:lastModifiedBy/>
  <dcterms:modified xsi:type="dcterms:W3CDTF">2015-07-04T08:46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