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284-31F1-4F14-9DB5-EF154CE7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B3E9-C56F-4B3C-B320-32A69A31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2C5-0E91-4EA2-8FF4-3719D2B2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BFE-6900-4A03-94FA-E5D8933C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E3EC-A987-45A2-A457-2488F4FA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928F-D2D5-4A31-AEA8-5528E3E1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8B4C-05DF-4547-8E06-457E30BC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F146-9A9B-42A5-A6FA-D2310A0B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D8CD-A019-45EC-BA73-14E82949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6D99-EAA5-4F6C-A16C-6B11F895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5CF3-ED20-4E8E-8957-EEC62FE6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256-2AB9-4B6F-912E-40B98C6F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E36B-5361-4019-9DD8-B06ED3B9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3C1E-8EDA-47C4-93BD-836D4ABB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DEC6-E911-4593-8DAF-488BCC05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6BB8-5A40-43AB-B9FC-D296CDC4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F936-161B-4BD7-B053-FE3D50EC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6B9-0539-4A3D-97C5-B8C1D80C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BF3-C8A4-4DD4-B0E3-BCEE2E69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4D1-1B8B-47FA-9325-B2C38551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4D4-985C-4893-8042-1A9E0903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FBF-B919-4FAA-BE9E-1783D396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7CF-4342-4B05-9A47-8171728D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B85-DEB5-41E5-9FC0-228D3511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CE83-8032-4FA5-8CFF-ED565B25C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A29C-641E-4925-BE65-ACD1B591C4D6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hyperlink" Target="http://image.baidu.com/i?ct=503316480&amp;z=0&amp;tn=baiduimagedetail&amp;word=&#1322;%B5%A9&#892;&#428;&amp;in=11317&amp;cl=2&amp;cm=1&amp;sc=0&amp;lm=-1&amp;pn=7&amp;rn=1&amp;di=1811587848&amp;ln=2000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hyperlink" Target="http://image.baidu.com/i?ct=503316480&amp;z=0&amp;tn=baiduimagedetail&amp;word=%B1%B1%BE%A9%B5&#308;%BA%BD%DA%C0%FA&#695;&amp;in=28015&amp;cl=2&amp;cm=1&amp;sc=0&amp;lm=-1&amp;pn=0&amp;rn=1&amp;di=2659659092&amp;ln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-618840" y="476280"/>
            <a:ext cx="16426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锣鼓喧天辞旧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374240" y="487440"/>
            <a:ext cx="16426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爆竹声中迎新春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1332000" y="765000"/>
            <a:ext cx="6553080" cy="460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ffff"/>
                </a:solidFill>
                <a:latin typeface="华文行楷"/>
              </a:rPr>
              <a:t>北京的春节</a:t>
            </a:r>
            <a:endParaRPr b="0" lang="en-US" sz="9600" spc="-1" strike="noStrike">
              <a:ln w="9360">
                <a:solidFill>
                  <a:srgbClr val="3366ff"/>
                </a:solidFill>
                <a:miter/>
              </a:ln>
              <a:solidFill>
                <a:srgbClr val="00ffff"/>
              </a:solidFill>
              <a:latin typeface="华文行楷"/>
              <a:ea typeface="华文行楷"/>
            </a:endParaRPr>
          </a:p>
        </p:txBody>
      </p:sp>
      <p:sp>
        <p:nvSpPr>
          <p:cNvPr id="85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14440" y="368280"/>
            <a:ext cx="830556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歌谣</a:t>
            </a:r>
            <a:r>
              <a:rPr b="1" lang="en-US" sz="66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黑体"/>
                <a:ea typeface="黑体"/>
              </a:rPr>
              <a:t>　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孩子孩子你别馋，过了腊八就是年。腊八粥喝几天，哩哩啦啦二十三。二十三，糖瓜儿粘；二十四，扫房日；二十五，炸豆腐；二十六，炖羊肉；二十七，杀只鸡；二十八，把面发；二十九，蒸馒头；三十晚上熬一宿；大年初一扭一扭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目标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．学会生字词，能正确、流利、有感情地朗读课文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．揣摩文章的表达顺序，体会详写、略写的好处。 </a:t>
            </a:r>
            <a:br>
              <a:rPr sz="4000"/>
            </a:b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．理解课文内容，了解老北京春节的习俗，感受节日的热闹气氛。从而激发热爱生活、热爱祖国的 情感 。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539640" y="692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979640" y="2060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11280" y="1773360"/>
            <a:ext cx="82087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1.   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课文是按什么顺序写的？分别介绍了北京春节的哪些风俗习惯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2.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通读课文，说说北京的春节整体上给你留下什么印象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979640" y="5013360"/>
            <a:ext cx="6913440" cy="1297080"/>
          </a:xfrm>
          <a:prstGeom prst="cloudCallout">
            <a:avLst>
              <a:gd name="adj1" fmla="val -40125"/>
              <a:gd name="adj2" fmla="val 75458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热闹、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黑体"/>
              </a:rPr>
              <a:t>喜庆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、祥和、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黑体"/>
              </a:rPr>
              <a:t>团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AutoShape 6">
            <a:hlinkClick r:id="" action="ppaction://hlinkshowjump?jump=nextslide"/>
          </p:cNvPr>
          <p:cNvSpPr/>
          <p:nvPr/>
        </p:nvSpPr>
        <p:spPr>
          <a:xfrm>
            <a:off x="7380360" y="6381720"/>
            <a:ext cx="611280" cy="476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68" y="1350"/>
                </a:lnTo>
                <a:lnTo>
                  <a:pt x="1350" y="135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68" y="20250"/>
                </a:lnTo>
                <a:lnTo>
                  <a:pt x="26368" y="135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368" y="2025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18" h="21600">
                <a:moveTo>
                  <a:pt x="6815" y="3756"/>
                </a:moveTo>
                <a:lnTo>
                  <a:pt x="20903" y="10800"/>
                </a:lnTo>
                <a:lnTo>
                  <a:pt x="6815" y="17844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68" y="1350"/>
                </a:lnTo>
                <a:lnTo>
                  <a:pt x="1350" y="135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68" y="20250"/>
                </a:lnTo>
                <a:lnTo>
                  <a:pt x="26368" y="135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368" y="2025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18" h="21600">
                <a:moveTo>
                  <a:pt x="17376" y="10800"/>
                </a:moveTo>
                <a:lnTo>
                  <a:pt x="6815" y="17844"/>
                </a:lnTo>
                <a:lnTo>
                  <a:pt x="6815" y="3756"/>
                </a:lnTo>
                <a:close/>
              </a:path>
              <a:path fill="darken" w="27718" h="21600">
                <a:moveTo>
                  <a:pt x="19231" y="3756"/>
                </a:moveTo>
                <a:lnTo>
                  <a:pt x="19231" y="17844"/>
                </a:lnTo>
                <a:lnTo>
                  <a:pt x="20903" y="17844"/>
                </a:lnTo>
                <a:lnTo>
                  <a:pt x="20903" y="375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9" name="北京的春节.mp3" descr=""/>
          <p:cNvPicPr/>
          <p:nvPr/>
        </p:nvPicPr>
        <p:blipFill>
          <a:blip r:embed="rId2"/>
          <a:stretch/>
        </p:blipFill>
        <p:spPr>
          <a:xfrm>
            <a:off x="2411280" y="765000"/>
            <a:ext cx="5050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32690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826920" y="1557360"/>
            <a:ext cx="7632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旬    熬    蒜    醋    饺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翡    拌    榛    栗    筝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鞭    麦    寺    逛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900000" y="6237360"/>
            <a:ext cx="576360" cy="360360"/>
          </a:xfrm>
          <a:custGeom>
            <a:avLst/>
            <a:gdLst>
              <a:gd name="textAreaLeft" fmla="*/ 22320 w 576360"/>
              <a:gd name="textAreaRight" fmla="*/ 554040 w 576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84" y="1350"/>
                </a:lnTo>
                <a:lnTo>
                  <a:pt x="1350" y="135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84" y="20250"/>
                </a:lnTo>
                <a:lnTo>
                  <a:pt x="33184" y="135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184" y="2025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34" h="21600">
                <a:moveTo>
                  <a:pt x="10223" y="3756"/>
                </a:moveTo>
                <a:lnTo>
                  <a:pt x="24311" y="10800"/>
                </a:lnTo>
                <a:lnTo>
                  <a:pt x="10223" y="17844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057040" y="1773360"/>
            <a:ext cx="561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初旬   熬夜   米醋   蒜瓣 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饺子  翡翠    杂拌   榛子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栗子  风筝    鞭炮   寺院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麦芽糖    逛庙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260280"/>
            <a:ext cx="45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读读写写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7956720" y="6308640"/>
            <a:ext cx="647640" cy="360360"/>
          </a:xfrm>
          <a:custGeom>
            <a:avLst/>
            <a:gdLst>
              <a:gd name="textAreaLeft" fmla="*/ 22320 w 647640"/>
              <a:gd name="textAreaRight" fmla="*/ 625320 w 64764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52" y="1350"/>
                </a:lnTo>
                <a:lnTo>
                  <a:pt x="1350" y="135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52" y="20250"/>
                </a:lnTo>
                <a:lnTo>
                  <a:pt x="37452" y="135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452" y="2025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8802" h="21600">
                <a:moveTo>
                  <a:pt x="12357" y="10800"/>
                </a:moveTo>
                <a:lnTo>
                  <a:pt x="26445" y="3756"/>
                </a:lnTo>
                <a:lnTo>
                  <a:pt x="26445" y="17844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85800" y="-111960"/>
            <a:ext cx="739152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轻声：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饺子  榛子  栗子  风筝  　　　　　　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　　　规矩  掺和  红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儿化：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杂拌儿  零七八碎儿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　　　玩意儿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多音：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万象更新  正月  间断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分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色如翡翠      色味双美     零七八碎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万年更新      灯火通宵      日夜不绝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万不得以      娴熟技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腊七腊八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冻死寒鸭”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这是一年里最冷的时候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除夕夜家家灯火通宵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不许间断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鞭炮日夜不绝 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一眨眼，到了残灯末庙，春节在正月十九结束了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403280" y="18900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好词好句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611280" y="105264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Tahoma"/>
                <a:ea typeface="华文隶书"/>
              </a:rPr>
              <a:t>研读</a:t>
            </a:r>
            <a:r>
              <a:rPr b="1" lang="en-US" sz="6600" spc="-1" strike="noStrike">
                <a:solidFill>
                  <a:srgbClr val="0033cc"/>
                </a:solidFill>
                <a:latin typeface="Tahoma"/>
                <a:ea typeface="华文隶书"/>
              </a:rPr>
              <a:t>《</a:t>
            </a:r>
            <a:r>
              <a:rPr b="1" lang="zh-CN" sz="6600" spc="-1" strike="noStrike">
                <a:solidFill>
                  <a:srgbClr val="0033cc"/>
                </a:solidFill>
                <a:latin typeface="Tahoma"/>
                <a:ea typeface="华文隶书"/>
              </a:rPr>
              <a:t>北京的春节</a:t>
            </a:r>
            <a:r>
              <a:rPr b="1" lang="en-US" sz="6600" spc="-1" strike="noStrike">
                <a:solidFill>
                  <a:srgbClr val="0033cc"/>
                </a:solidFill>
                <a:latin typeface="Tahoma"/>
                <a:ea typeface="华文隶书"/>
              </a:rPr>
              <a:t>》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9" name="Picture 5" descr="20082124091"/>
          <p:cNvPicPr/>
          <p:nvPr/>
        </p:nvPicPr>
        <p:blipFill>
          <a:blip r:embed="rId2"/>
          <a:stretch/>
        </p:blipFill>
        <p:spPr>
          <a:xfrm>
            <a:off x="2195640" y="256536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62120" y="609480"/>
            <a:ext cx="198108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隶书"/>
                <a:ea typeface="隶书"/>
              </a:rPr>
              <a:t>主旨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09480" y="19051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　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作者描绘了一幅幅北京春节的民风民俗画卷，展示了中国节日习俗的温馨和美好，表达了对传统文化的认同和喜爱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50920" y="2602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课文层次</a:t>
            </a:r>
            <a:r>
              <a:rPr b="1" lang="zh-CN" sz="54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24000" y="146700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部分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--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：腊月初旬开始到除夕之前，人们为过年做准备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部分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：介绍除夕这天的热闹景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部分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--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：介绍初一至十五之间人们过年的一些活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四部分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--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：介绍元宵节人们观灯、放鞭炮、吃元宵的习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五部分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）：写正月十九春节结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4"/>
          <p:cNvSpPr/>
          <p:nvPr/>
        </p:nvSpPr>
        <p:spPr>
          <a:xfrm>
            <a:off x="4572000" y="4653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Picture 4" descr="北京的春节"/>
          <p:cNvPicPr/>
          <p:nvPr/>
        </p:nvPicPr>
        <p:blipFill>
          <a:blip r:embed="rId2"/>
          <a:stretch/>
        </p:blipFill>
        <p:spPr>
          <a:xfrm>
            <a:off x="539640" y="1773360"/>
            <a:ext cx="8280360" cy="4653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1763640" y="33336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cc"/>
                </a:soli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北京的春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cc"/>
              </a:soli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白花纹底版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1187280" y="40464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整体感知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5800" y="15746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作者是以什么为记叙线索的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84360" y="31496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本文选取和组织了哪些材料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84360" y="480528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本文中的重要日子有哪些？</a:t>
            </a: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611280" y="9810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4400" spc="-1" strike="noStrike">
                <a:solidFill>
                  <a:srgbClr val="0033cc"/>
                </a:solidFill>
                <a:latin typeface="华文中宋"/>
                <a:ea typeface="华文中宋"/>
              </a:rPr>
              <a:t>1: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文按怎样的顺序写的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68360" y="21398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Tahoma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7572"/>
                </a:solidFill>
                <a:latin typeface="Tahoma"/>
                <a:ea typeface="黑体"/>
              </a:rPr>
              <a:t>文章以时间为经线，以人们的活动为纬线结构全文。腊八、除夕、正月初一、元宵节这四天写得详细，其他略写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026"/>
          <p:cNvSpPr/>
          <p:nvPr/>
        </p:nvSpPr>
        <p:spPr>
          <a:xfrm>
            <a:off x="539640" y="620640"/>
            <a:ext cx="820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本文中的重要日子有哪些？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1027"/>
          <p:cNvSpPr/>
          <p:nvPr/>
        </p:nvSpPr>
        <p:spPr>
          <a:xfrm>
            <a:off x="679320" y="1773360"/>
            <a:ext cx="7925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本文的重要日子有：腊月初、腊八、二十三小年、除夕、大年初一、正月初六、正月十五、正月十九。重点写了高潮和开始即腊八、除夕、正月初一、正月十五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684360" y="5493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本文选取和组织了哪些材料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71640" y="1628640"/>
            <a:ext cx="746748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熬腊八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泡腊八蒜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孩子们准备过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年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彩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除夕以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除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旦光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六开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宵节（春节的高潮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70000" y="692280"/>
          <a:ext cx="8839080" cy="5340240"/>
        </p:xfrm>
        <a:graphic>
          <a:graphicData uri="http://schemas.openxmlformats.org/drawingml/2006/table">
            <a:tbl>
              <a:tblPr/>
              <a:tblGrid>
                <a:gridCol w="1459080"/>
                <a:gridCol w="7380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时 间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　　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风　　　　俗　　　　习　　　　惯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37"/>
          <p:cNvSpPr/>
          <p:nvPr/>
        </p:nvSpPr>
        <p:spPr>
          <a:xfrm>
            <a:off x="324000" y="1197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 Black"/>
                <a:ea typeface="仿宋_GB2312"/>
              </a:rPr>
              <a:t>腊月初八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38"/>
          <p:cNvSpPr/>
          <p:nvPr/>
        </p:nvSpPr>
        <p:spPr>
          <a:xfrm>
            <a:off x="2050920" y="1197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 Black"/>
                <a:ea typeface="仿宋_GB2312"/>
              </a:rPr>
              <a:t>熬腊八粥，泡腊八蒜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Text Box 39"/>
          <p:cNvSpPr/>
          <p:nvPr/>
        </p:nvSpPr>
        <p:spPr>
          <a:xfrm>
            <a:off x="324000" y="170028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腊月初九至腊月二十二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Text Box 40"/>
          <p:cNvSpPr/>
          <p:nvPr/>
        </p:nvSpPr>
        <p:spPr>
          <a:xfrm>
            <a:off x="1763640" y="170028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孩子：买杂拌儿，买爆竹，买各种玩意儿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大人：预备过年的物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41"/>
          <p:cNvSpPr/>
          <p:nvPr/>
        </p:nvSpPr>
        <p:spPr>
          <a:xfrm>
            <a:off x="324000" y="2421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 Black"/>
                <a:ea typeface="仿宋_GB2312"/>
              </a:rPr>
              <a:t>腊月二十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1979640" y="24922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 Black"/>
                <a:ea typeface="仿宋_GB2312"/>
              </a:rPr>
              <a:t>过小年，放鞭炮，吃糖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Text Box 43"/>
          <p:cNvSpPr/>
          <p:nvPr/>
        </p:nvSpPr>
        <p:spPr>
          <a:xfrm>
            <a:off x="250920" y="2924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 Black"/>
                <a:ea typeface="仿宋_GB2312"/>
              </a:rPr>
              <a:t>过了二十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Text Box 44"/>
          <p:cNvSpPr/>
          <p:nvPr/>
        </p:nvSpPr>
        <p:spPr>
          <a:xfrm>
            <a:off x="2041560" y="40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Text Box 45"/>
          <p:cNvSpPr/>
          <p:nvPr/>
        </p:nvSpPr>
        <p:spPr>
          <a:xfrm>
            <a:off x="1763640" y="2924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Black"/>
                <a:ea typeface="仿宋_GB2312"/>
              </a:rPr>
              <a:t>大扫除，把吃的准备充足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Text Box 46"/>
          <p:cNvSpPr/>
          <p:nvPr/>
        </p:nvSpPr>
        <p:spPr>
          <a:xfrm>
            <a:off x="684360" y="3429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除夕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Text Box 47"/>
          <p:cNvSpPr/>
          <p:nvPr/>
        </p:nvSpPr>
        <p:spPr>
          <a:xfrm>
            <a:off x="1692360" y="3429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Black"/>
                <a:ea typeface="仿宋_GB2312"/>
              </a:rPr>
              <a:t>做年菜，穿新衣，贴对联，贴年画，灯火通宵，放鞭炮，吃团圆饭，守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Text Box 48"/>
          <p:cNvSpPr/>
          <p:nvPr/>
        </p:nvSpPr>
        <p:spPr>
          <a:xfrm>
            <a:off x="395280" y="407664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Black"/>
                <a:ea typeface="仿宋_GB2312"/>
              </a:rPr>
              <a:t>正月初一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Text Box 49"/>
          <p:cNvSpPr/>
          <p:nvPr/>
        </p:nvSpPr>
        <p:spPr>
          <a:xfrm>
            <a:off x="1763640" y="393372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店铺关门，男人拜年，女人待客，逛庙会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Text Box 50"/>
          <p:cNvSpPr/>
          <p:nvPr/>
        </p:nvSpPr>
        <p:spPr>
          <a:xfrm>
            <a:off x="684360" y="450864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初六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Text Box 51"/>
          <p:cNvSpPr/>
          <p:nvPr/>
        </p:nvSpPr>
        <p:spPr>
          <a:xfrm>
            <a:off x="1763640" y="450864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Black"/>
                <a:ea typeface="仿宋_GB2312"/>
              </a:rPr>
              <a:t>铺户开张，还可以逛庙会、逛天桥和听戏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Text Box 52"/>
          <p:cNvSpPr/>
          <p:nvPr/>
        </p:nvSpPr>
        <p:spPr>
          <a:xfrm>
            <a:off x="611280" y="50133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Black"/>
                <a:ea typeface="仿宋_GB2312"/>
              </a:rPr>
              <a:t>元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53"/>
          <p:cNvSpPr/>
          <p:nvPr/>
        </p:nvSpPr>
        <p:spPr>
          <a:xfrm>
            <a:off x="1835280" y="50133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看花灯，小孩放花炮，吃元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 Box 54"/>
          <p:cNvSpPr/>
          <p:nvPr/>
        </p:nvSpPr>
        <p:spPr>
          <a:xfrm>
            <a:off x="395280" y="5516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Black"/>
                <a:ea typeface="仿宋_GB2312"/>
              </a:rPr>
              <a:t>正月十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Text Box 55"/>
          <p:cNvSpPr/>
          <p:nvPr/>
        </p:nvSpPr>
        <p:spPr>
          <a:xfrm>
            <a:off x="1979640" y="55166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Black"/>
                <a:ea typeface="仿宋_GB2312"/>
              </a:rPr>
              <a:t>春节结束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Text Box 56"/>
          <p:cNvSpPr/>
          <p:nvPr/>
        </p:nvSpPr>
        <p:spPr>
          <a:xfrm>
            <a:off x="395280" y="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Arial"/>
              </a:rPr>
              <a:t>按时间顺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AutoShape 57"/>
          <p:cNvSpPr/>
          <p:nvPr/>
        </p:nvSpPr>
        <p:spPr>
          <a:xfrm>
            <a:off x="8567640" y="6570720"/>
            <a:ext cx="576360" cy="287280"/>
          </a:xfrm>
          <a:custGeom>
            <a:avLst/>
            <a:gdLst>
              <a:gd name="textAreaLeft" fmla="*/ 17640 w 576360"/>
              <a:gd name="textAreaRight" fmla="*/ 558720 w 57636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58" y="1350"/>
                </a:lnTo>
                <a:lnTo>
                  <a:pt x="1350" y="135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58" y="20250"/>
                </a:lnTo>
                <a:lnTo>
                  <a:pt x="41958" y="135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958" y="2025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308" h="21600">
                <a:moveTo>
                  <a:pt x="14610" y="10800"/>
                </a:moveTo>
                <a:lnTo>
                  <a:pt x="28698" y="3756"/>
                </a:lnTo>
                <a:lnTo>
                  <a:pt x="28698" y="1784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26"/>
          <p:cNvSpPr/>
          <p:nvPr/>
        </p:nvSpPr>
        <p:spPr>
          <a:xfrm>
            <a:off x="533520" y="62064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本文怎样描写孩子们过春节的呢？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1027"/>
          <p:cNvSpPr/>
          <p:nvPr/>
        </p:nvSpPr>
        <p:spPr>
          <a:xfrm>
            <a:off x="468360" y="1700280"/>
            <a:ext cx="8001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小孩子们：买杂拌、买爆竹、买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中宋"/>
              </a:rPr>
              <a:t>种玩意、吃糖、穿新衣、逛庙会买玩具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Picture 1029" descr="78949"/>
          <p:cNvPicPr/>
          <p:nvPr/>
        </p:nvPicPr>
        <p:blipFill>
          <a:blip r:embed="rId2"/>
          <a:srcRect l="31506" t="1706" r="3002" b="10971"/>
          <a:stretch/>
        </p:blipFill>
        <p:spPr>
          <a:xfrm>
            <a:off x="2916360" y="371628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39640" y="620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者如何将叙事与风俗的介绍穿插进行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24000" y="2349360"/>
            <a:ext cx="88200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举例：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熬腊八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种特制的粥是祭神祭祖的，可是细一想，它倒是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农业社会的一种自傲的表现，是小型的农业展览会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684360" y="8366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元宵节美在何处呢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68360" y="227664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美在处处悬灯结彩，整条大街像是办喜事，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炽而美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4" name="Picture 5" descr="01193110"/>
          <p:cNvPicPr/>
          <p:nvPr/>
        </p:nvPicPr>
        <p:blipFill>
          <a:blip r:embed="rId2"/>
          <a:stretch/>
        </p:blipFill>
        <p:spPr>
          <a:xfrm>
            <a:off x="2484360" y="328464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9640" y="620640"/>
            <a:ext cx="80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家抓住一个“灯”字做足了文章，请问他是从哪些方面写灯的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68360" y="2060640"/>
            <a:ext cx="82803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作家抓住一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字做文章。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围绕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灯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，先写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灯展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，再写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</a:rPr>
              <a:t>观灯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1" lang="zh-CN" sz="3600" spc="-1" strike="noStrike">
                <a:solidFill>
                  <a:srgbClr val="cc0066"/>
                </a:solidFill>
                <a:latin typeface="Tahoma"/>
              </a:rPr>
              <a:t>写灯展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先写哪些地方有灯：处处张灯结彩，整条大街像是办喜事。再写</a:t>
            </a:r>
            <a:r>
              <a:rPr b="1" lang="zh-CN" sz="3600" spc="-1" strike="noStrike">
                <a:solidFill>
                  <a:srgbClr val="cc0066"/>
                </a:solidFill>
                <a:latin typeface="Tahoma"/>
              </a:rPr>
              <a:t>灯的用材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有名的老店的灯常常有几百盏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有的一律是玻璃的，有的清一色是牛角的，有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是纱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539640" y="620640"/>
            <a:ext cx="81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思考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这的确是美好快乐的日子”一句在这里的作用是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3520" y="2362320"/>
            <a:ext cx="7848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总结上文，揭示这几段文字的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心意思，流露出对元宵节的喜爱之情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2"/>
          <a:stretch/>
        </p:blipFill>
        <p:spPr>
          <a:xfrm>
            <a:off x="468360" y="1152360"/>
            <a:ext cx="3233520" cy="4221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3995640" y="0"/>
            <a:ext cx="51483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老舍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899~1966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）原名舒庆春，字舍予，满族，中国现代小说家、戏剧家、著名作家，因作品很多而获得“人民艺术家”称号。主要作品有：长篇小说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骆驼祥子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》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四世同堂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话剧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龙须沟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》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茶馆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等。作品收在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老舍文集</a:t>
            </a: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里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74600" y="992880"/>
            <a:ext cx="89694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　　　　　　　　　　</a:t>
            </a:r>
            <a:br>
              <a:rPr sz="6000"/>
            </a:b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　　　　　　　　　　　　　　　　　　　热闹　喜庆　团圆　祥和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851840" y="14367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北京的春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575600" y="1447920"/>
            <a:ext cx="29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独特的民俗文化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2276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腊八－腊月二十三－除夕－正月初一－正月十五－正月十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026"/>
          <p:cNvSpPr/>
          <p:nvPr/>
        </p:nvSpPr>
        <p:spPr>
          <a:xfrm>
            <a:off x="684360" y="167652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66"/>
                </a:solidFill>
                <a:latin typeface="Tahoma"/>
              </a:rPr>
              <a:t>   </a:t>
            </a:r>
            <a:r>
              <a:rPr b="1" lang="zh-CN" sz="8000" spc="-1" strike="noStrike">
                <a:solidFill>
                  <a:srgbClr val="cc0066"/>
                </a:solidFill>
                <a:latin typeface="Tahoma"/>
              </a:rPr>
              <a:t>说说你家乡的春节习俗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白花纹底版"/>
          <p:cNvPicPr/>
          <p:nvPr/>
        </p:nvPicPr>
        <p:blipFill>
          <a:blip r:embed="rId2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"/>
          <p:cNvSpPr/>
          <p:nvPr/>
        </p:nvSpPr>
        <p:spPr>
          <a:xfrm>
            <a:off x="533520" y="1371600"/>
            <a:ext cx="8001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ahoma"/>
                <a:ea typeface="隶书"/>
              </a:rPr>
              <a:t>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2916360" y="2133720"/>
            <a:ext cx="352728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再见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附</a:t>
            </a:r>
            <a:r>
              <a:rPr b="1" lang="en-US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春节习俗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68360" y="1699920"/>
            <a:ext cx="81741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中国农历年的岁首称为春节。是中国人民最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重的传统节日，也象征团结、兴旺，对未来寄托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希望的佳节。据记载，中国人民过春节已有４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多年的历史，它是由虞舜兴起的。公元前两千多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一天，舜即天子位，带领着部下人员，祭拜天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从此，人们就把这一天当作岁首，算是正月初一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据说这就是农历新年的由来，后来叫春节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539640" y="1557360"/>
            <a:ext cx="7848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我国春节，一般是从祭灶揭开序幕的。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谣中“二十三，糖瓜粘”指的即是每年腊月二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三或二十四日的祭灶，有所谓“官三民四船家五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的说法，也就是官府在腊月二十三日，一般民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在二十四日，水上人家则为二十五日举行祭灶。 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468360" y="55872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祭灶，是一项在我国民间影响很大、流传极广的习俗。旧时，差不多家家灶间都设有“灶王爷”神位。人们称这尊神为“司命菩萨”或“灶君司命”，传说他是玉皇大帝封的“九天东厨司命灶王府君“，负责管理各家的灶火，被作为一家的保护神而受到崇拜。灶王龛大都设在灶房的北面或东面，中间供上灶王爷的神像。没有灶王龛的人家，也有将神像直接贴在墙上的。有的神像只画灶王爷一人，有的则有男女两人，女神被称为“灶王奶奶”。这大概是模仿人间夫妇的形象。灶王爷像上大都还印有这一年的日历，上书“东厨司命主”、“人间监察神“、”一家之主“等文字，以表明灶神的地位。两旁贴上“上天言好事，下界保平安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对联，以保佑全家老小的平安。 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9152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灶王爷自上一年的除夕以来就一直留在家中，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保护和监察一家；到了腊月二十三日灶王爷便要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天，去向天上的玉皇大帝汇报这一家人的善行或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行，送灶神的仪式称为“送灶”或“辞灶”。玉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大帝根据灶王爷的汇报，再将这一家在新的一年中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应该得到的吉凶祸福的命运交于灶王爷之手。因此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对一家人来说，灶王爷的汇报实在具有重大利害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系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扫    尘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举行过灶祭后，便正式地开始做迎接过年的准备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每年从农历腊月二十三日起到除夕止，我国民间把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段时间叫做“迎春日”，也叫“扫尘日”。扫尘就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终大扫除，北方称“扫房”，南方叫“掸尘”。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春节前扫尘，是我国人民素有的传统习惯。每逢春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来临，家家户户都要打扫环境，清洗各种器具，拆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被褥窗帘，洒扫六闾庭院，掸拂尘垢蛛网，疏浚明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暗沟。这一习俗寄托着人们破旧立新的愿望和辞旧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新的祈求。 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748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春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起源于桃符。“桃符”，周代悬挂在大门两旁的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方形桃木板。明代，桃符才改称“春联”。明代陈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瞻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簪云楼杂话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中载：“春联之设，自明太祖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帝都金陵，除夕前忽传旨：公卿士庶家门口须加春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幅帝微行时出现。“朱元璋不仅亲自微服出城，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赏笑乐，他还亲自题春联。他经过一户人家，见门上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不曾贴春联，便去询问，知道这是一家阉猪的，还未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请人代写。朱元璋就特地为那阉猪人写了“双手劈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生死路，一刀割断是非根“的春联。联意贴切、幽默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经明太祖这一提倡，此后春联便沿习成为习俗，一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流传至今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78920" y="761760"/>
            <a:ext cx="88203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年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我国的一种古老的民间艺术，他反映了人民大众的风俗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信仰，寄托着人们对未来的希望。年画，也和春联一样，起源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门神”。民间流传新年除夕之夜是老鼠娶亲的吉日良辰，人们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要放一些食物在床下、灶间，算是送给鼠新郎的礼物，以祈求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年五谷丰登。有些老奶奶在临睡前常逗孩子说：“快把鞋藏好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别让老鼠偷走当花轿了。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此话即源于此。因此，年画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老鼠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亲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特别能引起孩子们的共鸣。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5" name="Picture 4" descr="20071221135439733"/>
          <p:cNvPicPr/>
          <p:nvPr/>
        </p:nvPicPr>
        <p:blipFill>
          <a:blip r:embed="rId2"/>
          <a:stretch/>
        </p:blipFill>
        <p:spPr>
          <a:xfrm>
            <a:off x="4572000" y="4292640"/>
            <a:ext cx="35384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白花纹底版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1476360" y="333360"/>
            <a:ext cx="2736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作家简介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  <a:ea typeface="黑体"/>
              </a:rPr>
              <a:t>: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30200" y="14158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老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l89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6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4)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满族，原名舒庆春，字舍予，生于北京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夏天，他以优秀的成绩由北京师范学校毕业，被派到北京第十七小学去当校长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2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夏应聘到英国伦敦大学东方学院当中文讲师。在英期间开始文学创作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长篇小说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老张的哲学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第一部作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起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说月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志连载，立刻震动文坛。以后陆续发表了长篇小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赵子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奠定了老舍作为新文学开拓者之一的地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拜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中国民间的传统习俗，是人们辞旧迎新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相互表达美好祝愿的一种方式。 古时“拜年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词原有的含义是为长者拜贺新年，包括向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者叩头施礼、祝贺新年如意、问候生活安好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内容。遇有同辈亲友，也要施礼道贺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183-B09E-4CA8-999C-8A73C90DFDE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白花纹底版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826920" y="692280"/>
            <a:ext cx="784872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3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老舍回国后，先后在齐鲁大学和山东大学任教授。这个时期创作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猫城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离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骆驼祥子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长篇小说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牙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这一辈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中篇小说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短篇小说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4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开始，创作近百万字的长篇巨著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四世同堂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他担任全国文联和全国作协副主席兼北京文联主席，是全国人大代表和全国政协常委。被授予“人民艺术家”的光荣称号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6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不堪凌辱投湖自尽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948360" y="189000"/>
            <a:ext cx="1524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ahoma"/>
                <a:ea typeface="隶书"/>
              </a:rPr>
              <a:t>北京的春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Object 2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5010120" cy="4513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2124000" y="56610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老   舍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342800" y="1700280"/>
            <a:ext cx="9115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老舍先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Picture 5" descr="W020080826565895551825"/>
          <p:cNvPicPr/>
          <p:nvPr/>
        </p:nvPicPr>
        <p:blipFill>
          <a:blip r:embed="rId2"/>
          <a:srcRect l="0" t="0" r="1287" b="7145"/>
          <a:stretch/>
        </p:blipFill>
        <p:spPr>
          <a:xfrm>
            <a:off x="3348000" y="836640"/>
            <a:ext cx="3816360" cy="5013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28720" y="6165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971640" y="31060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。</a:t>
            </a:r>
            <a:br>
              <a:rPr sz="18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364000" y="765000"/>
            <a:ext cx="459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634920" y="1728360"/>
            <a:ext cx="504036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春节习俗是我国最大的传统民俗节日。春节在古都更受到人们，由此也形成普遍重视了一套完整的春节习俗。农历的正月初一为春节，俗称“过年”。春节原起于殷商时期年头岁尾的祭神祭祖活动。古代的春节称：“元日”、“元旦”。辛亥革命后，才把正月初一正式定名为春节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3060720" y="260280"/>
            <a:ext cx="431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北京的春节历史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6" name="Picture 6" descr="u=3448669748,1432821404&amp;gp=4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2133720"/>
            <a:ext cx="321768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843280" y="549360"/>
            <a:ext cx="47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北京的春节习俗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066920" y="1981080"/>
            <a:ext cx="45608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北京人总是把“福”倒着贴在门里、衣柜里，寓意着福到了。贴春联也有许多讲究，一般百姓家贴红色春联，门楣上贴“横批”，内廷、王公府第，一律用白宣纸镶红边；有父、母丧者则要用蓝纸；庙宇用黄纸。北京人喜欢在屋内廷贴上“抬头见喜”，屋外贴上“出门见喜”，院内贴“全院生辉”等春条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Picture 8" descr="u=3724530761,681092716&amp;gp=-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2060640"/>
            <a:ext cx="2998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3:04:21Z</dcterms:created>
  <dc:creator>An</dc:creator>
  <dc:description/>
  <dc:language>en-US</dc:language>
  <cp:lastModifiedBy/>
  <dcterms:modified xsi:type="dcterms:W3CDTF">2015-07-04T08:50:50Z</dcterms:modified>
  <cp:revision>6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