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0D9-0FE5-48E1-8679-5EAAABA3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074-CBAA-4FEB-9237-1D631AB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B5A-092B-46A5-A01D-2CBFF28A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9C4-B071-4FA0-8129-318E7BB1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DA6-6A32-4FF1-A315-AB2BF52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E6C-F5BF-4996-8AAF-34B1B742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E7D-6CA7-489F-BDDF-B081E8F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6B4-9BF0-4581-8C6E-C7C15F8A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DD7-3DA3-4894-BAD7-3B3BABC2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08E-056C-45DB-A5A7-00700F5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F6D-CEEB-4114-A51A-0B684D2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65B-4360-4892-9522-1B6E51A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D3F-FCCA-432D-9B29-AB523E7D757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9E9E-FE51-4DAD-AA22-17E7252562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chuangyi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4" descr="Corporate-identity-vector-set-6-(3)-[转换].png"/>
          <p:cNvPicPr/>
          <p:nvPr/>
        </p:nvPicPr>
        <p:blipFill>
          <a:blip r:embed="rId1"/>
          <a:srcRect l="0" t="0" r="17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未标题-7.png"/>
          <p:cNvPicPr/>
          <p:nvPr/>
        </p:nvPicPr>
        <p:blipFill>
          <a:blip r:embed="rId2"/>
          <a:stretch/>
        </p:blipFill>
        <p:spPr>
          <a:xfrm>
            <a:off x="3571920" y="214200"/>
            <a:ext cx="164952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692360" y="3357720"/>
            <a:ext cx="53132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国外设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17000" y="4437000"/>
            <a:ext cx="51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7CE-27DE-4235-9B66-2D67D2FE2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rcRect l="0" t="0" r="19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4500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未标题-7.png"/>
          <p:cNvPicPr/>
          <p:nvPr/>
        </p:nvPicPr>
        <p:blipFill>
          <a:blip r:embed="rId3"/>
          <a:stretch/>
        </p:blipFill>
        <p:spPr>
          <a:xfrm>
            <a:off x="1643040" y="1857240"/>
            <a:ext cx="72540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未标题-7.png"/>
          <p:cNvPicPr/>
          <p:nvPr/>
        </p:nvPicPr>
        <p:blipFill>
          <a:blip r:embed="rId4"/>
          <a:stretch/>
        </p:blipFill>
        <p:spPr>
          <a:xfrm>
            <a:off x="1643040" y="2857680"/>
            <a:ext cx="725400" cy="785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未标题-7.png"/>
          <p:cNvPicPr/>
          <p:nvPr/>
        </p:nvPicPr>
        <p:blipFill>
          <a:blip r:embed="rId5"/>
          <a:stretch/>
        </p:blipFill>
        <p:spPr>
          <a:xfrm>
            <a:off x="1643040" y="39290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6000840" y="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目录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/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2"/>
          <p:cNvGrpSpPr/>
          <p:nvPr/>
        </p:nvGrpSpPr>
        <p:grpSpPr>
          <a:xfrm>
            <a:off x="2714760" y="2000160"/>
            <a:ext cx="4000320" cy="581400"/>
            <a:chOff x="2714760" y="2000160"/>
            <a:chExt cx="4000320" cy="581400"/>
          </a:xfrm>
        </p:grpSpPr>
        <p:sp>
          <p:nvSpPr>
            <p:cNvPr id="54" name="圆角矩形 9"/>
            <p:cNvSpPr/>
            <p:nvPr/>
          </p:nvSpPr>
          <p:spPr>
            <a:xfrm>
              <a:off x="2714760" y="2000160"/>
              <a:ext cx="3714840" cy="571680"/>
            </a:xfrm>
            <a:prstGeom prst="roundRect">
              <a:avLst>
                <a:gd name="adj" fmla="val 16667"/>
              </a:avLst>
            </a:prstGeom>
            <a:solidFill>
              <a:srgbClr val="fa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46"/>
            <p:cNvSpPr/>
            <p:nvPr/>
          </p:nvSpPr>
          <p:spPr>
            <a:xfrm>
              <a:off x="2714760" y="2000160"/>
              <a:ext cx="40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lick to add 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4"/>
          <p:cNvGrpSpPr/>
          <p:nvPr/>
        </p:nvGrpSpPr>
        <p:grpSpPr>
          <a:xfrm>
            <a:off x="2714760" y="3071880"/>
            <a:ext cx="4000320" cy="581400"/>
            <a:chOff x="2714760" y="3071880"/>
            <a:chExt cx="4000320" cy="581400"/>
          </a:xfrm>
        </p:grpSpPr>
        <p:sp>
          <p:nvSpPr>
            <p:cNvPr id="57" name="圆角矩形 15"/>
            <p:cNvSpPr/>
            <p:nvPr/>
          </p:nvSpPr>
          <p:spPr>
            <a:xfrm>
              <a:off x="2714760" y="3071880"/>
              <a:ext cx="3714840" cy="571680"/>
            </a:xfrm>
            <a:prstGeom prst="roundRect">
              <a:avLst>
                <a:gd name="adj" fmla="val 16667"/>
              </a:avLst>
            </a:prstGeom>
            <a:solidFill>
              <a:srgbClr val="fa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46"/>
            <p:cNvSpPr/>
            <p:nvPr/>
          </p:nvSpPr>
          <p:spPr>
            <a:xfrm>
              <a:off x="2714760" y="3071880"/>
              <a:ext cx="40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lick to add 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7"/>
          <p:cNvGrpSpPr/>
          <p:nvPr/>
        </p:nvGrpSpPr>
        <p:grpSpPr>
          <a:xfrm>
            <a:off x="2714760" y="4071960"/>
            <a:ext cx="4000320" cy="581400"/>
            <a:chOff x="2714760" y="4071960"/>
            <a:chExt cx="4000320" cy="581400"/>
          </a:xfrm>
        </p:grpSpPr>
        <p:sp>
          <p:nvSpPr>
            <p:cNvPr id="60" name="圆角矩形 18"/>
            <p:cNvSpPr/>
            <p:nvPr/>
          </p:nvSpPr>
          <p:spPr>
            <a:xfrm>
              <a:off x="2714760" y="4071960"/>
              <a:ext cx="3714840" cy="571680"/>
            </a:xfrm>
            <a:prstGeom prst="roundRect">
              <a:avLst>
                <a:gd name="adj" fmla="val 16667"/>
              </a:avLst>
            </a:prstGeom>
            <a:solidFill>
              <a:srgbClr val="fa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46"/>
            <p:cNvSpPr/>
            <p:nvPr/>
          </p:nvSpPr>
          <p:spPr>
            <a:xfrm>
              <a:off x="2714760" y="4071960"/>
              <a:ext cx="40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lick to add 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4"/>
          <p:cNvSpPr/>
          <p:nvPr/>
        </p:nvSpPr>
        <p:spPr>
          <a:xfrm>
            <a:off x="0" y="1357200"/>
            <a:ext cx="9144000" cy="278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边形 9"/>
          <p:cNvSpPr/>
          <p:nvPr/>
        </p:nvSpPr>
        <p:spPr>
          <a:xfrm>
            <a:off x="0" y="2714760"/>
            <a:ext cx="3286080" cy="50004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74806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箭头 16"/>
          <p:cNvSpPr/>
          <p:nvPr/>
        </p:nvSpPr>
        <p:spPr>
          <a:xfrm>
            <a:off x="1714680" y="1071720"/>
            <a:ext cx="7429320" cy="500040"/>
          </a:xfrm>
          <a:custGeom>
            <a:avLst/>
            <a:gdLst>
              <a:gd name="textAreaLeft" fmla="*/ 124560 w 7429320"/>
              <a:gd name="textAreaRight" fmla="*/ 7304760 w 742932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874" y="5400"/>
                </a:lnTo>
                <a:lnTo>
                  <a:pt x="20874" y="0"/>
                </a:lnTo>
                <a:lnTo>
                  <a:pt x="21600" y="10800"/>
                </a:lnTo>
                <a:lnTo>
                  <a:pt x="20874" y="21600"/>
                </a:lnTo>
                <a:lnTo>
                  <a:pt x="20874" y="16200"/>
                </a:lnTo>
                <a:lnTo>
                  <a:pt x="0" y="16200"/>
                </a:lnTo>
                <a:lnTo>
                  <a:pt x="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6"/>
          <p:cNvSpPr/>
          <p:nvPr/>
        </p:nvSpPr>
        <p:spPr>
          <a:xfrm>
            <a:off x="3786120" y="264312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28760" y="8715240"/>
            <a:ext cx="9144000" cy="42876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26"/>
          <p:cNvGrpSpPr/>
          <p:nvPr/>
        </p:nvGrpSpPr>
        <p:grpSpPr>
          <a:xfrm>
            <a:off x="285840" y="571680"/>
            <a:ext cx="4000320" cy="285480"/>
            <a:chOff x="285840" y="571680"/>
            <a:chExt cx="4000320" cy="285480"/>
          </a:xfrm>
        </p:grpSpPr>
        <p:sp>
          <p:nvSpPr>
            <p:cNvPr id="68" name="燕尾形 6"/>
            <p:cNvSpPr/>
            <p:nvPr/>
          </p:nvSpPr>
          <p:spPr>
            <a:xfrm>
              <a:off x="7858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燕尾形 7"/>
            <p:cNvSpPr/>
            <p:nvPr/>
          </p:nvSpPr>
          <p:spPr>
            <a:xfrm>
              <a:off x="19288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燕尾形 8"/>
            <p:cNvSpPr/>
            <p:nvPr/>
          </p:nvSpPr>
          <p:spPr>
            <a:xfrm>
              <a:off x="13572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燕尾形 9"/>
            <p:cNvSpPr/>
            <p:nvPr/>
          </p:nvSpPr>
          <p:spPr>
            <a:xfrm>
              <a:off x="24289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燕尾形 10"/>
            <p:cNvSpPr/>
            <p:nvPr/>
          </p:nvSpPr>
          <p:spPr>
            <a:xfrm>
              <a:off x="2858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燕尾形 12"/>
            <p:cNvSpPr/>
            <p:nvPr/>
          </p:nvSpPr>
          <p:spPr>
            <a:xfrm>
              <a:off x="314316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燕尾形 13"/>
            <p:cNvSpPr/>
            <p:nvPr/>
          </p:nvSpPr>
          <p:spPr>
            <a:xfrm>
              <a:off x="39290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5"/>
          <p:cNvSpPr/>
          <p:nvPr/>
        </p:nvSpPr>
        <p:spPr>
          <a:xfrm rot="3418800">
            <a:off x="2638080" y="4087800"/>
            <a:ext cx="924120" cy="100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 rot="3418800">
            <a:off x="995040" y="1587240"/>
            <a:ext cx="923760" cy="1003320"/>
          </a:xfrm>
          <a:prstGeom prst="rect">
            <a:avLst/>
          </a:prstGeom>
          <a:solidFill>
            <a:srgbClr val="97480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 rot="3418800">
            <a:off x="7638480" y="4302000"/>
            <a:ext cx="923760" cy="1003320"/>
          </a:xfrm>
          <a:prstGeom prst="rect">
            <a:avLst/>
          </a:prstGeom>
          <a:solidFill>
            <a:srgbClr val="e36c0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 rot="3418800">
            <a:off x="5924160" y="1944720"/>
            <a:ext cx="924120" cy="1003320"/>
          </a:xfrm>
          <a:prstGeom prst="rect">
            <a:avLst/>
          </a:prstGeom>
          <a:solidFill>
            <a:srgbClr val="fbd4b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Calibri"/>
                <a:ea typeface="宋体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28880" y="2428920"/>
            <a:ext cx="928800" cy="1714320"/>
            <a:chOff x="1928880" y="2428920"/>
            <a:chExt cx="928800" cy="1714320"/>
          </a:xfrm>
        </p:grpSpPr>
        <p:sp>
          <p:nvSpPr>
            <p:cNvPr id="80" name="Line 13"/>
            <p:cNvSpPr/>
            <p:nvPr/>
          </p:nvSpPr>
          <p:spPr>
            <a:xfrm flipH="1" flipV="1">
              <a:off x="1928880" y="2428920"/>
              <a:ext cx="928800" cy="1714320"/>
            </a:xfrm>
            <a:prstGeom prst="line">
              <a:avLst/>
            </a:prstGeom>
            <a:ln cap="rnd" w="76320">
              <a:solidFill>
                <a:srgbClr val="97480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 rot="10800000">
              <a:off x="1928880" y="2428920"/>
              <a:ext cx="928800" cy="171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714720" y="2928960"/>
            <a:ext cx="785880" cy="1571760"/>
            <a:chOff x="6714720" y="2928960"/>
            <a:chExt cx="785880" cy="1571760"/>
          </a:xfrm>
        </p:grpSpPr>
        <p:sp>
          <p:nvSpPr>
            <p:cNvPr id="83" name="Line 13"/>
            <p:cNvSpPr/>
            <p:nvPr/>
          </p:nvSpPr>
          <p:spPr>
            <a:xfrm flipH="1" flipV="1">
              <a:off x="6714720" y="2928960"/>
              <a:ext cx="785880" cy="1571760"/>
            </a:xfrm>
            <a:prstGeom prst="line">
              <a:avLst/>
            </a:prstGeom>
            <a:ln cap="rnd" w="76320">
              <a:solidFill>
                <a:srgbClr val="97480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6714720" y="2928960"/>
              <a:ext cx="785880" cy="15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714480" y="2857680"/>
            <a:ext cx="2214720" cy="1357200"/>
            <a:chOff x="3714480" y="2857680"/>
            <a:chExt cx="2214720" cy="1357200"/>
          </a:xfrm>
        </p:grpSpPr>
        <p:sp>
          <p:nvSpPr>
            <p:cNvPr id="86" name="Line 13"/>
            <p:cNvSpPr/>
            <p:nvPr/>
          </p:nvSpPr>
          <p:spPr>
            <a:xfrm flipH="1">
              <a:off x="3714480" y="2857680"/>
              <a:ext cx="2214360" cy="1357200"/>
            </a:xfrm>
            <a:prstGeom prst="line">
              <a:avLst/>
            </a:prstGeom>
            <a:ln cap="rnd" w="76320">
              <a:solidFill>
                <a:srgbClr val="97480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714840" y="2857680"/>
              <a:ext cx="2214360" cy="13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7"/>
          <p:cNvSpPr/>
          <p:nvPr/>
        </p:nvSpPr>
        <p:spPr>
          <a:xfrm>
            <a:off x="1785600" y="128592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1500120" y="53578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715800" y="135720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5929920" y="542916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" name="组合 34"/>
            <p:cNvGrpSpPr/>
            <p:nvPr/>
          </p:nvGrpSpPr>
          <p:grpSpPr>
            <a:xfrm>
              <a:off x="0" y="0"/>
              <a:ext cx="4443480" cy="785520"/>
              <a:chOff x="0" y="0"/>
              <a:chExt cx="4443480" cy="785520"/>
            </a:xfrm>
          </p:grpSpPr>
          <p:sp>
            <p:nvSpPr>
              <p:cNvPr id="94" name="Rectangle 9"/>
              <p:cNvSpPr/>
              <p:nvPr/>
            </p:nvSpPr>
            <p:spPr>
              <a:xfrm>
                <a:off x="785880" y="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d1b10"/>
                    </a:solidFill>
                    <a:latin typeface="Calibri"/>
                    <a:ea typeface="宋体"/>
                  </a:rPr>
                  <a:t>Click To Edit Title Sty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图片 36" descr="未标题-7.png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725400" cy="78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37"/>
            <p:cNvSpPr/>
            <p:nvPr/>
          </p:nvSpPr>
          <p:spPr>
            <a:xfrm>
              <a:off x="0" y="6500880"/>
              <a:ext cx="9144000" cy="35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00000" y="23875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计模板下载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6"/>
          <p:cNvGrpSpPr/>
          <p:nvPr/>
        </p:nvGrpSpPr>
        <p:grpSpPr>
          <a:xfrm>
            <a:off x="785880" y="1571760"/>
            <a:ext cx="7500960" cy="4946400"/>
            <a:chOff x="785880" y="1571760"/>
            <a:chExt cx="7500960" cy="4946400"/>
          </a:xfrm>
        </p:grpSpPr>
        <p:sp>
          <p:nvSpPr>
            <p:cNvPr id="99" name="直接连接符 6"/>
            <p:cNvSpPr/>
            <p:nvPr/>
          </p:nvSpPr>
          <p:spPr>
            <a:xfrm flipH="1">
              <a:off x="4689360" y="1657440"/>
              <a:ext cx="6120" cy="4860720"/>
            </a:xfrm>
            <a:prstGeom prst="line">
              <a:avLst/>
            </a:prstGeom>
            <a:ln w="9360">
              <a:solidFill>
                <a:srgbClr val="95373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"/>
            <p:cNvSpPr/>
            <p:nvPr/>
          </p:nvSpPr>
          <p:spPr>
            <a:xfrm>
              <a:off x="1019160" y="1571760"/>
              <a:ext cx="3537000" cy="515880"/>
            </a:xfrm>
            <a:prstGeom prst="rect">
              <a:avLst/>
            </a:prstGeom>
            <a:solidFill>
              <a:srgbClr val="c2d59b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6"/>
            <p:cNvSpPr/>
            <p:nvPr/>
          </p:nvSpPr>
          <p:spPr>
            <a:xfrm>
              <a:off x="4781520" y="1571760"/>
              <a:ext cx="3481560" cy="515880"/>
            </a:xfrm>
            <a:prstGeom prst="rect">
              <a:avLst/>
            </a:prstGeom>
            <a:solidFill>
              <a:srgbClr val="ddd9c3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图表 9" descr=""/>
            <p:cNvPicPr/>
            <p:nvPr/>
          </p:nvPicPr>
          <p:blipFill>
            <a:blip r:embed="rId1"/>
            <a:stretch/>
          </p:blipFill>
          <p:spPr>
            <a:xfrm>
              <a:off x="785880" y="3453480"/>
              <a:ext cx="3634200" cy="22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表 12" descr=""/>
            <p:cNvPicPr/>
            <p:nvPr/>
          </p:nvPicPr>
          <p:blipFill>
            <a:blip r:embed="rId2"/>
            <a:stretch/>
          </p:blipFill>
          <p:spPr>
            <a:xfrm>
              <a:off x="4749840" y="3120480"/>
              <a:ext cx="35370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4569840" y="3053520"/>
              <a:ext cx="388080" cy="201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率（单位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5"/>
            <p:cNvSpPr/>
            <p:nvPr/>
          </p:nvSpPr>
          <p:spPr>
            <a:xfrm>
              <a:off x="5410440" y="2187720"/>
              <a:ext cx="1682640" cy="1022400"/>
            </a:xfrm>
            <a:prstGeom prst="wedgeRoundRectCallout">
              <a:avLst>
                <a:gd name="adj1" fmla="val -20013"/>
                <a:gd name="adj2" fmla="val 60699"/>
                <a:gd name="adj3" fmla="val 16667"/>
              </a:avLst>
            </a:prstGeom>
            <a:solidFill>
              <a:srgbClr val="c4bd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今年平均得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35.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"/>
            <p:cNvSpPr/>
            <p:nvPr/>
          </p:nvSpPr>
          <p:spPr>
            <a:xfrm>
              <a:off x="1566720" y="2587680"/>
              <a:ext cx="1441440" cy="9316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c2d59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上年平均得分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32.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" name="组合 34"/>
            <p:cNvGrpSpPr/>
            <p:nvPr/>
          </p:nvGrpSpPr>
          <p:grpSpPr>
            <a:xfrm>
              <a:off x="0" y="0"/>
              <a:ext cx="4443480" cy="785520"/>
              <a:chOff x="0" y="0"/>
              <a:chExt cx="4443480" cy="785520"/>
            </a:xfrm>
          </p:grpSpPr>
          <p:sp>
            <p:nvSpPr>
              <p:cNvPr id="109" name="Rectangle 9"/>
              <p:cNvSpPr/>
              <p:nvPr/>
            </p:nvSpPr>
            <p:spPr>
              <a:xfrm>
                <a:off x="785880" y="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d1b10"/>
                    </a:solidFill>
                    <a:latin typeface="Calibri"/>
                    <a:ea typeface="宋体"/>
                  </a:rPr>
                  <a:t>Click To Edit Title Sty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图片 18" descr="未标题-7.png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25400" cy="78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16"/>
            <p:cNvSpPr/>
            <p:nvPr/>
          </p:nvSpPr>
          <p:spPr>
            <a:xfrm>
              <a:off x="0" y="6286680"/>
              <a:ext cx="91440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9"/>
          <p:cNvGrpSpPr/>
          <p:nvPr/>
        </p:nvGrpSpPr>
        <p:grpSpPr>
          <a:xfrm>
            <a:off x="714240" y="571680"/>
            <a:ext cx="4000680" cy="285480"/>
            <a:chOff x="714240" y="571680"/>
            <a:chExt cx="4000680" cy="285480"/>
          </a:xfrm>
        </p:grpSpPr>
        <p:sp>
          <p:nvSpPr>
            <p:cNvPr id="113" name="燕尾形 20"/>
            <p:cNvSpPr/>
            <p:nvPr/>
          </p:nvSpPr>
          <p:spPr>
            <a:xfrm>
              <a:off x="1214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燕尾形 21"/>
            <p:cNvSpPr/>
            <p:nvPr/>
          </p:nvSpPr>
          <p:spPr>
            <a:xfrm>
              <a:off x="2357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燕尾形 22"/>
            <p:cNvSpPr/>
            <p:nvPr/>
          </p:nvSpPr>
          <p:spPr>
            <a:xfrm>
              <a:off x="17856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燕尾形 23"/>
            <p:cNvSpPr/>
            <p:nvPr/>
          </p:nvSpPr>
          <p:spPr>
            <a:xfrm>
              <a:off x="28573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燕尾形 24"/>
            <p:cNvSpPr/>
            <p:nvPr/>
          </p:nvSpPr>
          <p:spPr>
            <a:xfrm>
              <a:off x="7142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燕尾形 25"/>
            <p:cNvSpPr/>
            <p:nvPr/>
          </p:nvSpPr>
          <p:spPr>
            <a:xfrm>
              <a:off x="35719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燕尾形 26"/>
            <p:cNvSpPr/>
            <p:nvPr/>
          </p:nvSpPr>
          <p:spPr>
            <a:xfrm>
              <a:off x="43578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79320"/>
          <a:ext cx="6431040" cy="16020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3160"/>
                <a:gridCol w="1071720"/>
                <a:gridCol w="1071360"/>
                <a:gridCol w="1071720"/>
              </a:tblGrid>
              <a:tr h="160200"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f3f3f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e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121" name="矩形 5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7"/>
          <p:cNvSpPr/>
          <p:nvPr/>
        </p:nvSpPr>
        <p:spPr>
          <a:xfrm flipV="1">
            <a:off x="0" y="6608880"/>
            <a:ext cx="9144000" cy="1440"/>
          </a:xfrm>
          <a:prstGeom prst="line">
            <a:avLst/>
          </a:prstGeom>
          <a:ln w="57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6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4000680"/>
            <a:ext cx="2351160" cy="6379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203"/>
          <p:cNvGrpSpPr/>
          <p:nvPr/>
        </p:nvGrpSpPr>
        <p:grpSpPr>
          <a:xfrm>
            <a:off x="360" y="2499840"/>
            <a:ext cx="1795320" cy="1813320"/>
            <a:chOff x="360" y="2499840"/>
            <a:chExt cx="1795320" cy="1813320"/>
          </a:xfrm>
        </p:grpSpPr>
        <p:sp>
          <p:nvSpPr>
            <p:cNvPr id="125" name="Freeform 15"/>
            <p:cNvSpPr/>
            <p:nvPr/>
          </p:nvSpPr>
          <p:spPr>
            <a:xfrm rot="17239800">
              <a:off x="666720" y="2529360"/>
              <a:ext cx="838080" cy="12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 rot="17239800">
              <a:off x="-321840" y="3055680"/>
              <a:ext cx="145404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rot="17239800">
              <a:off x="538560" y="3192840"/>
              <a:ext cx="6332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 rot="17239800">
              <a:off x="946080" y="3695040"/>
              <a:ext cx="58572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 rot="17239800">
              <a:off x="1014120" y="2991240"/>
              <a:ext cx="81756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 rot="17239800">
              <a:off x="675000" y="2523600"/>
              <a:ext cx="641160" cy="9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 rot="17239800">
              <a:off x="182520" y="2684160"/>
              <a:ext cx="642960" cy="34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 rot="17239800">
              <a:off x="925920" y="3540240"/>
              <a:ext cx="1317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 rot="17239800">
              <a:off x="644760" y="388224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 rot="17239800">
              <a:off x="321480" y="3780360"/>
              <a:ext cx="125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 rot="17239800">
              <a:off x="951840" y="396216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 rot="17239800">
              <a:off x="597240" y="3446640"/>
              <a:ext cx="1256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 rot="17239800">
              <a:off x="1239480" y="3619440"/>
              <a:ext cx="1508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 rot="17239800">
              <a:off x="645840" y="3209040"/>
              <a:ext cx="1746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 rot="17239800">
              <a:off x="975240" y="3301560"/>
              <a:ext cx="17784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 rot="17239800">
              <a:off x="687600" y="2642760"/>
              <a:ext cx="1699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 rot="17239800">
              <a:off x="1005120" y="2740320"/>
              <a:ext cx="1620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 rot="17239800">
              <a:off x="1315080" y="284328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 rot="17239800">
              <a:off x="1302480" y="3405600"/>
              <a:ext cx="174600" cy="23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 rot="17239800">
              <a:off x="124920" y="368136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 rot="17239800">
              <a:off x="267480" y="349848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 rot="17239800">
              <a:off x="316800" y="2941200"/>
              <a:ext cx="204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 rot="17239800">
              <a:off x="192960" y="3116520"/>
              <a:ext cx="2062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 rot="17239800">
              <a:off x="441000" y="2760120"/>
              <a:ext cx="2253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 rot="17239800">
              <a:off x="399960" y="3321360"/>
              <a:ext cx="2124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03"/>
          <p:cNvGrpSpPr/>
          <p:nvPr/>
        </p:nvGrpSpPr>
        <p:grpSpPr>
          <a:xfrm>
            <a:off x="5786640" y="1642680"/>
            <a:ext cx="1917360" cy="1904040"/>
            <a:chOff x="5786640" y="1642680"/>
            <a:chExt cx="1917360" cy="1904040"/>
          </a:xfrm>
        </p:grpSpPr>
        <p:sp>
          <p:nvSpPr>
            <p:cNvPr id="151" name="Freeform 15"/>
            <p:cNvSpPr/>
            <p:nvPr/>
          </p:nvSpPr>
          <p:spPr>
            <a:xfrm rot="1481400">
              <a:off x="6563520" y="2202120"/>
              <a:ext cx="838080" cy="12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 rot="1481400">
              <a:off x="6233760" y="1928160"/>
              <a:ext cx="145404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 rot="1481400">
              <a:off x="6020640" y="1868760"/>
              <a:ext cx="6332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 rot="1481400">
              <a:off x="5891400" y="2633400"/>
              <a:ext cx="58572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 rot="1481400">
              <a:off x="6424200" y="2876760"/>
              <a:ext cx="81756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 rot="1481400">
              <a:off x="6804000" y="2254680"/>
              <a:ext cx="641160" cy="9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 rot="1481400">
              <a:off x="7017120" y="2099880"/>
              <a:ext cx="642960" cy="34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 rot="1481400">
              <a:off x="6419160" y="2540520"/>
              <a:ext cx="1317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 rot="1481400">
              <a:off x="6131160" y="221868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 rot="1481400">
              <a:off x="6011280" y="251316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 rot="1481400">
              <a:off x="6336360" y="2208960"/>
              <a:ext cx="1256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 rot="1481400">
              <a:off x="6271920" y="2829960"/>
              <a:ext cx="1508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 rot="1481400">
              <a:off x="6619680" y="2637720"/>
              <a:ext cx="17784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1481400">
              <a:off x="7014600" y="2530800"/>
              <a:ext cx="16992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1481400">
              <a:off x="7187040" y="2737440"/>
              <a:ext cx="1620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 rot="1481400">
              <a:off x="7057080" y="303912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 rot="1481400">
              <a:off x="6480720" y="2952000"/>
              <a:ext cx="174600" cy="23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 rot="1481400">
              <a:off x="6419160" y="186192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 rot="1481400">
              <a:off x="6582960" y="202428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rot="1481400">
              <a:off x="7133400" y="2143080"/>
              <a:ext cx="204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 rot="1481400">
              <a:off x="6976080" y="2000880"/>
              <a:ext cx="2062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"/>
            <p:cNvSpPr/>
            <p:nvPr/>
          </p:nvSpPr>
          <p:spPr>
            <a:xfrm rot="1481400">
              <a:off x="6907680" y="2139120"/>
              <a:ext cx="21276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03"/>
          <p:cNvGrpSpPr/>
          <p:nvPr/>
        </p:nvGrpSpPr>
        <p:grpSpPr>
          <a:xfrm>
            <a:off x="7500960" y="2856960"/>
            <a:ext cx="1932840" cy="1919880"/>
            <a:chOff x="7500960" y="2856960"/>
            <a:chExt cx="1932840" cy="1919880"/>
          </a:xfrm>
        </p:grpSpPr>
        <p:sp>
          <p:nvSpPr>
            <p:cNvPr id="174" name="Freeform 15"/>
            <p:cNvSpPr/>
            <p:nvPr/>
          </p:nvSpPr>
          <p:spPr>
            <a:xfrm rot="12358800">
              <a:off x="7815600" y="2978640"/>
              <a:ext cx="838080" cy="12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 rot="12358800">
              <a:off x="7513920" y="4084200"/>
              <a:ext cx="145404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 rot="12358800">
              <a:off x="8556120" y="3291480"/>
              <a:ext cx="6332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 rot="12358800">
              <a:off x="8741160" y="3325320"/>
              <a:ext cx="58572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 rot="12358800">
              <a:off x="7983000" y="3015360"/>
              <a:ext cx="81756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 rot="12358800">
              <a:off x="7770600" y="3173400"/>
              <a:ext cx="641160" cy="9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1"/>
            <p:cNvSpPr/>
            <p:nvPr/>
          </p:nvSpPr>
          <p:spPr>
            <a:xfrm rot="12358800">
              <a:off x="7544880" y="3948840"/>
              <a:ext cx="642960" cy="34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2"/>
            <p:cNvSpPr/>
            <p:nvPr/>
          </p:nvSpPr>
          <p:spPr>
            <a:xfrm rot="12358800">
              <a:off x="8662680" y="3645720"/>
              <a:ext cx="1317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 rot="12358800">
              <a:off x="8957160" y="398808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6"/>
            <p:cNvSpPr/>
            <p:nvPr/>
          </p:nvSpPr>
          <p:spPr>
            <a:xfrm rot="12358800">
              <a:off x="9082080" y="369612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 rot="12358800">
              <a:off x="8797680" y="3322440"/>
              <a:ext cx="1508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0"/>
            <p:cNvSpPr/>
            <p:nvPr/>
          </p:nvSpPr>
          <p:spPr>
            <a:xfrm rot="12358800">
              <a:off x="8418240" y="3534480"/>
              <a:ext cx="17784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 rot="12358800">
              <a:off x="7868880" y="3433680"/>
              <a:ext cx="1620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 rot="12358800">
              <a:off x="8011440" y="315288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 rot="12358800">
              <a:off x="8567640" y="3231720"/>
              <a:ext cx="174600" cy="23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 rot="12358800">
              <a:off x="8564760" y="448920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 rot="12358800">
              <a:off x="8407440" y="432180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 rot="12358800">
              <a:off x="7864920" y="4192200"/>
              <a:ext cx="204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 rot="12358800">
              <a:off x="8017200" y="4342320"/>
              <a:ext cx="2062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03"/>
          <p:cNvGrpSpPr/>
          <p:nvPr/>
        </p:nvGrpSpPr>
        <p:grpSpPr>
          <a:xfrm>
            <a:off x="1856520" y="1499760"/>
            <a:ext cx="2037240" cy="2035800"/>
            <a:chOff x="1856520" y="1499760"/>
            <a:chExt cx="2037240" cy="2035800"/>
          </a:xfrm>
        </p:grpSpPr>
        <p:sp>
          <p:nvSpPr>
            <p:cNvPr id="194" name="Freeform 15"/>
            <p:cNvSpPr/>
            <p:nvPr/>
          </p:nvSpPr>
          <p:spPr>
            <a:xfrm rot="13357200">
              <a:off x="2297160" y="1621080"/>
              <a:ext cx="838080" cy="122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 rot="13357200">
              <a:off x="1797840" y="2701080"/>
              <a:ext cx="145404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 rot="13357200">
              <a:off x="2916720" y="2103120"/>
              <a:ext cx="633240" cy="12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 rot="13357200">
              <a:off x="3199320" y="2198160"/>
              <a:ext cx="585720" cy="46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 rot="13357200">
              <a:off x="2549520" y="1716480"/>
              <a:ext cx="817560" cy="51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 rot="13357200">
              <a:off x="2238480" y="1772640"/>
              <a:ext cx="641160" cy="9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 rot="13357200">
              <a:off x="1889640" y="2464920"/>
              <a:ext cx="642960" cy="34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4"/>
            <p:cNvSpPr/>
            <p:nvPr/>
          </p:nvSpPr>
          <p:spPr>
            <a:xfrm rot="13357200">
              <a:off x="3123720" y="263952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"/>
            <p:cNvSpPr/>
            <p:nvPr/>
          </p:nvSpPr>
          <p:spPr>
            <a:xfrm rot="13357200">
              <a:off x="3040560" y="3072960"/>
              <a:ext cx="125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6"/>
            <p:cNvSpPr/>
            <p:nvPr/>
          </p:nvSpPr>
          <p:spPr>
            <a:xfrm rot="13357200">
              <a:off x="3307680" y="2226600"/>
              <a:ext cx="118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 rot="13357200">
              <a:off x="2642040" y="2516400"/>
              <a:ext cx="1746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2"/>
            <p:cNvSpPr/>
            <p:nvPr/>
          </p:nvSpPr>
          <p:spPr>
            <a:xfrm rot="13357200">
              <a:off x="2608920" y="2175480"/>
              <a:ext cx="1699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4"/>
            <p:cNvSpPr/>
            <p:nvPr/>
          </p:nvSpPr>
          <p:spPr>
            <a:xfrm rot="13357200">
              <a:off x="2595240" y="176832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6"/>
            <p:cNvSpPr/>
            <p:nvPr/>
          </p:nvSpPr>
          <p:spPr>
            <a:xfrm rot="13357200">
              <a:off x="2761560" y="321912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7"/>
            <p:cNvSpPr/>
            <p:nvPr/>
          </p:nvSpPr>
          <p:spPr>
            <a:xfrm rot="13357200">
              <a:off x="2390760" y="286596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 rot="13357200">
              <a:off x="2062080" y="2532960"/>
              <a:ext cx="2253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3"/>
          <p:cNvGrpSpPr/>
          <p:nvPr/>
        </p:nvGrpSpPr>
        <p:grpSpPr>
          <a:xfrm>
            <a:off x="3857760" y="3215520"/>
            <a:ext cx="1966320" cy="1976400"/>
            <a:chOff x="3857760" y="3215520"/>
            <a:chExt cx="1966320" cy="1976400"/>
          </a:xfrm>
        </p:grpSpPr>
        <p:sp>
          <p:nvSpPr>
            <p:cNvPr id="211" name="Freeform 15"/>
            <p:cNvSpPr/>
            <p:nvPr/>
          </p:nvSpPr>
          <p:spPr>
            <a:xfrm rot="3575400">
              <a:off x="4490640" y="3907440"/>
              <a:ext cx="838080" cy="122544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 rot="3575400">
              <a:off x="4559040" y="3745080"/>
              <a:ext cx="1454040" cy="39384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 rot="3575400">
              <a:off x="4244760" y="3261600"/>
              <a:ext cx="633240" cy="126036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 rot="3575400">
              <a:off x="3932640" y="3872880"/>
              <a:ext cx="585720" cy="46512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 rot="3575400">
              <a:off x="4194360" y="4438440"/>
              <a:ext cx="817560" cy="51732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 rot="3575400">
              <a:off x="4746960" y="4053960"/>
              <a:ext cx="641160" cy="9748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 rot="3575400">
              <a:off x="5189040" y="4105800"/>
              <a:ext cx="642960" cy="34920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 rot="3575400">
              <a:off x="4617000" y="374796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 rot="3575400">
              <a:off x="4210560" y="390384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3575400">
              <a:off x="5047200" y="4249800"/>
              <a:ext cx="1699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4"/>
            <p:cNvSpPr/>
            <p:nvPr/>
          </p:nvSpPr>
          <p:spPr>
            <a:xfrm rot="3575400">
              <a:off x="4663800" y="4562640"/>
              <a:ext cx="15552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 rot="3575400">
              <a:off x="5220720" y="407700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7"/>
            <p:cNvSpPr/>
            <p:nvPr/>
          </p:nvSpPr>
          <p:spPr>
            <a:xfrm rot="3575400">
              <a:off x="5209560" y="391608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直接连接符 155"/>
          <p:cNvSpPr/>
          <p:nvPr/>
        </p:nvSpPr>
        <p:spPr>
          <a:xfrm flipH="1">
            <a:off x="641520" y="4214880"/>
            <a:ext cx="1440" cy="107136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16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14680" y="3214800"/>
            <a:ext cx="2350800" cy="63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6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714840" y="4857840"/>
            <a:ext cx="2351160" cy="63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6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715000" y="3000240"/>
            <a:ext cx="2351160" cy="63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16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7286760" y="4429080"/>
            <a:ext cx="2350800" cy="638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285480" y="46432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143800" y="392904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63"/>
          <p:cNvSpPr/>
          <p:nvPr/>
        </p:nvSpPr>
        <p:spPr>
          <a:xfrm>
            <a:off x="2571840" y="3286080"/>
            <a:ext cx="0" cy="107172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64"/>
          <p:cNvSpPr/>
          <p:nvPr/>
        </p:nvSpPr>
        <p:spPr>
          <a:xfrm>
            <a:off x="4357800" y="2643120"/>
            <a:ext cx="71280" cy="100008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929760" y="23572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644080" y="378612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67"/>
          <p:cNvSpPr/>
          <p:nvPr/>
        </p:nvSpPr>
        <p:spPr>
          <a:xfrm flipH="1">
            <a:off x="6213600" y="2786040"/>
            <a:ext cx="1440" cy="157176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69"/>
          <p:cNvSpPr/>
          <p:nvPr/>
        </p:nvSpPr>
        <p:spPr>
          <a:xfrm flipH="1">
            <a:off x="8784720" y="4357800"/>
            <a:ext cx="1800" cy="157140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6858720" y="51436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24"/>
          <p:cNvGrpSpPr/>
          <p:nvPr/>
        </p:nvGrpSpPr>
        <p:grpSpPr>
          <a:xfrm>
            <a:off x="0" y="0"/>
            <a:ext cx="4443480" cy="785880"/>
            <a:chOff x="0" y="0"/>
            <a:chExt cx="4443480" cy="785880"/>
          </a:xfrm>
        </p:grpSpPr>
        <p:sp>
          <p:nvSpPr>
            <p:cNvPr id="239" name="Rectangle 9"/>
            <p:cNvSpPr/>
            <p:nvPr/>
          </p:nvSpPr>
          <p:spPr>
            <a:xfrm>
              <a:off x="785880" y="0"/>
              <a:ext cx="3657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Calibri"/>
                  <a:ea typeface="宋体"/>
                </a:rPr>
                <a:t>Click To Edit Title Sty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图片 123" descr="未标题-7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72540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7"/>
          <p:cNvGrpSpPr/>
          <p:nvPr/>
        </p:nvGrpSpPr>
        <p:grpSpPr>
          <a:xfrm>
            <a:off x="714240" y="1643040"/>
            <a:ext cx="7572600" cy="4286160"/>
            <a:chOff x="714240" y="1643040"/>
            <a:chExt cx="7572600" cy="4286160"/>
          </a:xfrm>
        </p:grpSpPr>
        <p:grpSp>
          <p:nvGrpSpPr>
            <p:cNvPr id="242" name="Group 2"/>
            <p:cNvGrpSpPr/>
            <p:nvPr/>
          </p:nvGrpSpPr>
          <p:grpSpPr>
            <a:xfrm>
              <a:off x="2342520" y="2182320"/>
              <a:ext cx="4714200" cy="2927880"/>
              <a:chOff x="2342520" y="2182320"/>
              <a:chExt cx="4714200" cy="2927880"/>
            </a:xfrm>
          </p:grpSpPr>
          <p:sp>
            <p:nvSpPr>
              <p:cNvPr id="243" name="Freeform 3"/>
              <p:cNvSpPr/>
              <p:nvPr/>
            </p:nvSpPr>
            <p:spPr>
              <a:xfrm>
                <a:off x="3053160" y="3688920"/>
                <a:ext cx="4003560" cy="1421280"/>
              </a:xfrm>
              <a:prstGeom prst="pie">
                <a:avLst/>
              </a:prstGeom>
              <a:solidFill>
                <a:srgbClr val="c0c0c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"/>
              <p:cNvSpPr/>
              <p:nvPr/>
            </p:nvSpPr>
            <p:spPr>
              <a:xfrm>
                <a:off x="3802320" y="2182320"/>
                <a:ext cx="3245760" cy="1806840"/>
              </a:xfrm>
              <a:prstGeom prst="pie">
                <a:avLst/>
              </a:prstGeom>
              <a:solidFill>
                <a:srgbClr val="c0c0c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"/>
              <p:cNvSpPr/>
              <p:nvPr/>
            </p:nvSpPr>
            <p:spPr>
              <a:xfrm>
                <a:off x="2342520" y="2583360"/>
                <a:ext cx="1773360" cy="2035440"/>
              </a:xfrm>
              <a:prstGeom prst="pie">
                <a:avLst/>
              </a:prstGeom>
              <a:solidFill>
                <a:srgbClr val="c0c0c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7"/>
            <p:cNvGrpSpPr/>
            <p:nvPr/>
          </p:nvGrpSpPr>
          <p:grpSpPr>
            <a:xfrm>
              <a:off x="2274120" y="2105280"/>
              <a:ext cx="4782240" cy="2850840"/>
              <a:chOff x="2274120" y="2105280"/>
              <a:chExt cx="4782240" cy="2850840"/>
            </a:xfrm>
          </p:grpSpPr>
          <p:sp>
            <p:nvSpPr>
              <p:cNvPr id="247" name="Freeform 8"/>
              <p:cNvSpPr/>
              <p:nvPr/>
            </p:nvSpPr>
            <p:spPr>
              <a:xfrm>
                <a:off x="2994840" y="3572280"/>
                <a:ext cx="4061520" cy="138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>
                <a:off x="3754800" y="2105280"/>
                <a:ext cx="3290760" cy="1759320"/>
              </a:xfrm>
              <a:prstGeom prst="pie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>
                <a:off x="2274120" y="2495520"/>
                <a:ext cx="1798920" cy="1982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11"/>
            <p:cNvSpPr/>
            <p:nvPr/>
          </p:nvSpPr>
          <p:spPr>
            <a:xfrm>
              <a:off x="3746160" y="3322080"/>
              <a:ext cx="173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lick 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2"/>
            <p:cNvSpPr/>
            <p:nvPr/>
          </p:nvSpPr>
          <p:spPr>
            <a:xfrm>
              <a:off x="5827320" y="1643040"/>
              <a:ext cx="2459520" cy="924480"/>
            </a:xfrm>
            <a:noFill/>
            <a:ln w="9360">
              <a:solidFill>
                <a:srgbClr val="c11594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buClr>
                  <a:srgbClr val="1c1c1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Text A</a:t>
              </a: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 is a Design Digital 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werPoint Templates &amp; Backgrounds for Your Impressiv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3"/>
            <p:cNvSpPr/>
            <p:nvPr/>
          </p:nvSpPr>
          <p:spPr>
            <a:xfrm>
              <a:off x="5262120" y="5065560"/>
              <a:ext cx="2732760" cy="863640"/>
            </a:xfrm>
            <a:noFill/>
            <a:ln w="9360">
              <a:solidFill>
                <a:srgbClr val="4f81bd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buClr>
                  <a:srgbClr val="1c1c1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Text A</a:t>
              </a: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 is a Design Digital 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werPoint Templates &amp; Backgrounds for Your Impressiv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4"/>
            <p:cNvSpPr/>
            <p:nvPr/>
          </p:nvSpPr>
          <p:spPr>
            <a:xfrm>
              <a:off x="714240" y="2103480"/>
              <a:ext cx="1965600" cy="975960"/>
            </a:xfrm>
            <a:noFill/>
            <a:ln w="9360">
              <a:solidFill>
                <a:srgbClr val="1f497d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buClr>
                  <a:srgbClr val="1c1c1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Text A</a:t>
              </a: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 is a Design Digital 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werPoint Templates &amp; Backgrounds for Your Impressiv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矩形 19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6" name="组合 34"/>
            <p:cNvGrpSpPr/>
            <p:nvPr/>
          </p:nvGrpSpPr>
          <p:grpSpPr>
            <a:xfrm>
              <a:off x="0" y="0"/>
              <a:ext cx="4443480" cy="785520"/>
              <a:chOff x="0" y="0"/>
              <a:chExt cx="4443480" cy="785520"/>
            </a:xfrm>
          </p:grpSpPr>
          <p:sp>
            <p:nvSpPr>
              <p:cNvPr id="257" name="Rectangle 9"/>
              <p:cNvSpPr/>
              <p:nvPr/>
            </p:nvSpPr>
            <p:spPr>
              <a:xfrm>
                <a:off x="785880" y="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d1b10"/>
                    </a:solidFill>
                    <a:latin typeface="Calibri"/>
                    <a:ea typeface="宋体"/>
                  </a:rPr>
                  <a:t>Click To Edit Title Sty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8" name="图片 24" descr="未标题-7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725400" cy="78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22"/>
            <p:cNvSpPr/>
            <p:nvPr/>
          </p:nvSpPr>
          <p:spPr>
            <a:xfrm>
              <a:off x="0" y="6286680"/>
              <a:ext cx="91440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5"/>
          <p:cNvGrpSpPr/>
          <p:nvPr/>
        </p:nvGrpSpPr>
        <p:grpSpPr>
          <a:xfrm>
            <a:off x="714240" y="571680"/>
            <a:ext cx="4000680" cy="285480"/>
            <a:chOff x="714240" y="571680"/>
            <a:chExt cx="4000680" cy="285480"/>
          </a:xfrm>
        </p:grpSpPr>
        <p:sp>
          <p:nvSpPr>
            <p:cNvPr id="261" name="燕尾形 26"/>
            <p:cNvSpPr/>
            <p:nvPr/>
          </p:nvSpPr>
          <p:spPr>
            <a:xfrm>
              <a:off x="1214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燕尾形 27"/>
            <p:cNvSpPr/>
            <p:nvPr/>
          </p:nvSpPr>
          <p:spPr>
            <a:xfrm>
              <a:off x="2357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燕尾形 28"/>
            <p:cNvSpPr/>
            <p:nvPr/>
          </p:nvSpPr>
          <p:spPr>
            <a:xfrm>
              <a:off x="17856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燕尾形 29"/>
            <p:cNvSpPr/>
            <p:nvPr/>
          </p:nvSpPr>
          <p:spPr>
            <a:xfrm>
              <a:off x="28573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燕尾形 30"/>
            <p:cNvSpPr/>
            <p:nvPr/>
          </p:nvSpPr>
          <p:spPr>
            <a:xfrm>
              <a:off x="7142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燕尾形 31"/>
            <p:cNvSpPr/>
            <p:nvPr/>
          </p:nvSpPr>
          <p:spPr>
            <a:xfrm>
              <a:off x="35719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燕尾形 32"/>
            <p:cNvSpPr/>
            <p:nvPr/>
          </p:nvSpPr>
          <p:spPr>
            <a:xfrm>
              <a:off x="43578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3"/>
          <p:cNvSpPr/>
          <p:nvPr/>
        </p:nvSpPr>
        <p:spPr>
          <a:xfrm>
            <a:off x="0" y="5143680"/>
            <a:ext cx="9144000" cy="171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2786040" y="5500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Click To Edit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4857840"/>
          <a:ext cx="9144000" cy="285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285840">
                <a:tc>
                  <a:txBody>
                    <a:bodyPr lIns="21600" rIns="21600" tIns="21600" bIns="64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e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9d8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e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</a:tr>
            </a:tbl>
          </a:graphicData>
        </a:graphic>
      </p:graphicFrame>
      <p:sp>
        <p:nvSpPr>
          <p:cNvPr id="271" name="_text"/>
          <p:cNvSpPr/>
          <p:nvPr/>
        </p:nvSpPr>
        <p:spPr>
          <a:xfrm>
            <a:off x="357120" y="1071720"/>
            <a:ext cx="4071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don’t want to use the style and size of the fonts as used in this placeholder it’s possible to replace it by selecting differen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8" descr="未标题-7.png"/>
          <p:cNvPicPr/>
          <p:nvPr/>
        </p:nvPicPr>
        <p:blipFill>
          <a:blip r:embed="rId1"/>
          <a:stretch/>
        </p:blipFill>
        <p:spPr>
          <a:xfrm>
            <a:off x="5357880" y="285840"/>
            <a:ext cx="2441520" cy="26431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9" descr="未标题-7.png"/>
          <p:cNvPicPr/>
          <p:nvPr/>
        </p:nvPicPr>
        <p:blipFill>
          <a:blip r:embed="rId2"/>
          <a:stretch/>
        </p:blipFill>
        <p:spPr>
          <a:xfrm>
            <a:off x="7653240" y="1571760"/>
            <a:ext cx="1490760" cy="16142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20" descr="未标题-7.png"/>
          <p:cNvPicPr/>
          <p:nvPr/>
        </p:nvPicPr>
        <p:blipFill>
          <a:blip r:embed="rId3"/>
          <a:stretch/>
        </p:blipFill>
        <p:spPr>
          <a:xfrm>
            <a:off x="4500720" y="2143080"/>
            <a:ext cx="14904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77" name="图片 4" descr="Corporate-identity-vector-set-6-(3)-[转换].png"/>
          <p:cNvPicPr/>
          <p:nvPr/>
        </p:nvPicPr>
        <p:blipFill>
          <a:blip r:embed="rId1"/>
          <a:srcRect l="0" t="0" r="17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未标题-7.png"/>
          <p:cNvPicPr/>
          <p:nvPr/>
        </p:nvPicPr>
        <p:blipFill>
          <a:blip r:embed="rId2"/>
          <a:stretch/>
        </p:blipFill>
        <p:spPr>
          <a:xfrm>
            <a:off x="3571920" y="214200"/>
            <a:ext cx="1649520" cy="178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2714760" y="328608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4T00:04:41Z</dcterms:created>
  <dc:creator>An</dc:creator>
  <dc:description/>
  <dc:language>en-US</dc:language>
  <cp:lastModifiedBy/>
  <dcterms:modified xsi:type="dcterms:W3CDTF">2015-07-04T09:07:1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