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3C1-8B4B-44ED-A268-C226F7BF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626-BFC2-4606-899E-430CC1D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247-56BE-4A77-9CF5-C56479E2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923-2F47-44D7-84E9-60B3F939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DFAA-A756-48CA-8421-DF4F6872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4865-C527-4DA8-A00C-6CD0397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917A-DF83-4FF2-A7D9-D86192F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064A-2553-45DF-9CF3-A2E81014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1253-FBBA-4656-BCB4-567783D2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0922-DCC9-41DA-9036-F3F9DA82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908-FEB4-4644-82D3-A2AD6EC1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5FA-FDFB-430E-9823-162015D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ED9E-CF73-43EB-B2CD-ACAC882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3FCA-2876-45F4-95C7-A5E87FC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262E-9636-45A1-96B8-A5E9E869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CB58-95D3-41F6-BE11-FA3E4100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1E3F-005F-42CA-B75A-39980A98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8F65-D4BE-4A3C-9F4B-678E8A34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C805-D650-47F3-B7A5-58B50479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118C-BA8A-41F8-BB6F-D51C6919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9D76-69A1-4D56-B703-40A2AAE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192D-151A-4F2A-91F8-ABA2C14D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AC8-574B-4043-A5EC-8DDD8DC5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47F3-4D47-4DE9-B803-400D4EE8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688E-9A5E-4C6E-930B-1C5FD10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EE28-60D8-4696-BE72-E3CFCCB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38CD-78AB-4A53-A188-8DAA9984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DA65-07E3-4907-B5DB-A6004C55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930B-2ABF-4CF2-A93E-5C5C865D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C3ED-EF75-4E20-BEF6-DBECE259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B15-0D98-4CF2-9B1B-FF838911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03A-7D5C-43BE-9F3A-E598501B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A35-CEDA-46DD-952B-85EB3A56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DA7-D163-432C-9559-929301B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1FE-E1D1-4415-86D0-7C257FE3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5C9-5213-4B57-BA8F-191D223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38E3-2953-4D79-8C1C-A5D996FB066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3" descr="D:\design-related\png\png-1904.png"/>
          <p:cNvPicPr/>
          <p:nvPr/>
        </p:nvPicPr>
        <p:blipFill>
          <a:blip r:embed="rId4"/>
          <a:stretch/>
        </p:blipFill>
        <p:spPr>
          <a:xfrm>
            <a:off x="-103320" y="-9360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EC5B-2742-488E-8349-977D3C77EE8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" descr="1.jp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design-related\png\png-1904.png"/>
          <p:cNvPicPr/>
          <p:nvPr/>
        </p:nvPicPr>
        <p:blipFill>
          <a:blip r:embed="rId3"/>
          <a:stretch/>
        </p:blipFill>
        <p:spPr>
          <a:xfrm>
            <a:off x="7956720" y="321300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948a54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E5CC-18B7-4C6F-A031-96DF870E2B3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国外三色木板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4581360"/>
            <a:ext cx="6400800" cy="11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b9b8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2958480" y="324648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1800" y="3068280"/>
            <a:ext cx="7162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PART I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Other information needed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Add your title1 here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48a5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8a54"/>
                </a:solidFill>
                <a:latin typeface="Calibri"/>
              </a:rPr>
              <a:t>Add your content Add your content</a:t>
            </a:r>
            <a:endParaRPr b="0" lang="en-US" sz="1600" spc="-1" strike="noStrike">
              <a:solidFill>
                <a:srgbClr val="948a54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48a5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8a54"/>
                </a:solidFill>
                <a:latin typeface="Calibri"/>
              </a:rPr>
              <a:t>Add your content Add your content</a:t>
            </a:r>
            <a:endParaRPr b="0" lang="en-US" sz="1600" spc="-1" strike="noStrike">
              <a:solidFill>
                <a:srgbClr val="948a54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Add your title2 here</a:t>
            </a: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948a5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48a54"/>
                </a:solidFill>
                <a:latin typeface="Calibri"/>
              </a:rPr>
              <a:t>Add your content Add your content</a:t>
            </a:r>
            <a:endParaRPr b="0" lang="en-US" sz="1600" spc="-1" strike="noStrike">
              <a:solidFill>
                <a:srgbClr val="948a54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84807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984807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6F6-72E4-44C1-9624-5DFB9A280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1:39:44Z</dcterms:created>
  <dc:creator>An</dc:creator>
  <dc:description/>
  <dc:language>en-US</dc:language>
  <cp:lastModifiedBy/>
  <dcterms:modified xsi:type="dcterms:W3CDTF">2015-07-04T09:06:5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