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A9F-C116-441F-8DF6-7EE77E59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0E7-13A4-4A6A-B364-433D41F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B89-4304-4179-9EF8-EDD2FEC3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A92-C63A-48F8-91DE-CAFDB4E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685-5DCB-4358-9CD6-EB78BBBA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D34-BE54-42CD-9BF6-64588B0A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6FB-98D5-46E7-8A48-03D95791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064-BF9C-4B23-9288-07C4CB0A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A5A-8E2C-417F-8A92-0A4844A8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59E-9731-432C-A1A6-C73994F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F46-B0CE-43FA-B093-BE49209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4EA-2135-4117-B56F-ABB48E6E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036-EC7B-47C1-B31F-B790D15395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701-A630-4A2F-9FFF-E9E4E8F767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187280" y="0"/>
            <a:ext cx="109800" cy="558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93688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1646280" y="4046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1646280" y="123336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8"/>
          <p:cNvSpPr/>
          <p:nvPr/>
        </p:nvSpPr>
        <p:spPr>
          <a:xfrm>
            <a:off x="1646280" y="2062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"/>
          <p:cNvSpPr/>
          <p:nvPr/>
        </p:nvSpPr>
        <p:spPr>
          <a:xfrm>
            <a:off x="1646280" y="289080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0"/>
          <p:cNvSpPr/>
          <p:nvPr/>
        </p:nvSpPr>
        <p:spPr>
          <a:xfrm>
            <a:off x="1646280" y="3718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"/>
          <p:cNvSpPr/>
          <p:nvPr/>
        </p:nvSpPr>
        <p:spPr>
          <a:xfrm>
            <a:off x="1646280" y="45464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4962600" y="2890800"/>
            <a:ext cx="72374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 flipV="1">
            <a:off x="6262560" y="3189960"/>
            <a:ext cx="593748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7205760" y="3490920"/>
            <a:ext cx="49942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7807320" y="3790800"/>
            <a:ext cx="43927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0" y="289080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 flipV="1">
            <a:off x="0" y="318996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 flipV="1">
            <a:off x="0" y="349128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 flipV="1">
            <a:off x="0" y="379044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"/>
          <p:cNvSpPr/>
          <p:nvPr/>
        </p:nvSpPr>
        <p:spPr>
          <a:xfrm>
            <a:off x="1562040" y="1257480"/>
            <a:ext cx="35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目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5105520" y="2076480"/>
            <a:ext cx="34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"/>
          <p:cNvSpPr/>
          <p:nvPr/>
        </p:nvSpPr>
        <p:spPr>
          <a:xfrm>
            <a:off x="47628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335916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624204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 flipV="1">
            <a:off x="0" y="2890440"/>
            <a:ext cx="31622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628560" y="33984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3162240" y="1181160"/>
            <a:ext cx="36720" cy="56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314880" y="3009960"/>
            <a:ext cx="36360" cy="25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467160" y="3409920"/>
            <a:ext cx="36360" cy="17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686640" y="163836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6686640" y="636588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1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11111E-006 L 1.25E-006 0.07292 E">
                                      <p:cBhvr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25E-006 -2.96296E-006 L 1.25E-006 -0.075 E">
                                      <p:cBhvr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160800" y="-544824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"/>
          <p:cNvSpPr/>
          <p:nvPr/>
        </p:nvSpPr>
        <p:spPr>
          <a:xfrm>
            <a:off x="3197160" y="16095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 rot="1539600">
            <a:off x="7445160" y="-993600"/>
            <a:ext cx="2247840" cy="888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 rot="2905200">
            <a:off x="8985600" y="30996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 rot="1436400">
            <a:off x="10089720" y="170460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9" descr=""/>
          <p:cNvPicPr/>
          <p:nvPr/>
        </p:nvPicPr>
        <p:blipFill>
          <a:blip r:embed="rId1"/>
          <a:stretch/>
        </p:blipFill>
        <p:spPr>
          <a:xfrm>
            <a:off x="8166240" y="2160720"/>
            <a:ext cx="3535200" cy="4381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6320" y="276228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"/>
                            </p:stCondLst>
                            <p:childTnLst>
                              <p:par>
                                <p:cTn id="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3.33333E-006 L 2.91667E-006 0.70069 E">
                                      <p:cBhvr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3160800" y="-34308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31308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346536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511200" y="6699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 rot="5400000">
            <a:off x="6157080" y="-1251720"/>
            <a:ext cx="3672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 rot="5400000">
            <a:off x="6157080" y="-109908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 rot="5400000">
            <a:off x="6157080" y="-94680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slow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"/>
                            </p:stCondLst>
                            <p:childTnLst>
                              <p:par>
                                <p:cTn id="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117-8CE5-4E13-9D5C-7AEC253A39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 rot="5400000">
            <a:off x="6157080" y="-1251720"/>
            <a:ext cx="3672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 rot="5400000">
            <a:off x="6157080" y="-109908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 rot="5400000">
            <a:off x="6157080" y="-94680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3863880" y="1003320"/>
            <a:ext cx="563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谢谢观赏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9390240" y="-82440"/>
            <a:ext cx="107640" cy="470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257184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2:04:00Z</dcterms:created>
  <dc:creator/>
  <dc:description/>
  <dc:language>en-US</dc:language>
  <cp:lastModifiedBy/>
  <dcterms:modified xsi:type="dcterms:W3CDTF">2015-07-03T23:53:21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