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67FE-410B-403B-8520-94348000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AE4F-4A57-4B10-BD95-4CEC9A69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5553-ABB0-4EC8-B359-575E9AF0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C17D-A96E-42C7-BA99-D2E20A45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1D2B-9EE7-4FC6-B6C7-9CD162F6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103-59CE-4603-891E-31CF724A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2438-0867-4BA0-B849-8114701B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2E10-2714-4B9F-BF6F-281A118C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90B-DB0E-439B-9FA9-B141B716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CBA-7BFF-4C03-B3A9-3DAA5AF3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E34-F4E4-43B7-94D7-FA0B6877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6AB-D143-4C72-ACC5-2E25BBBA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0E02-8602-4866-BF3E-415A5CF3BC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11280" y="508644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模板下载免费完整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13600" y="595008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211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14976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7836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67838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2119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7837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602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34261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/>
          <p:cNvSpPr/>
          <p:nvPr/>
        </p:nvSpPr>
        <p:spPr>
          <a:xfrm>
            <a:off x="2926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6408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407016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3547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9977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6069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783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ECC-0AD9-4BDC-B13A-0B279746E1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6855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4977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13546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49978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3140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44978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60696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54979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2854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/>
  <dc:language>en-US</dc:language>
  <cp:lastModifiedBy/>
  <dcterms:modified xsi:type="dcterms:W3CDTF">2015-07-04T08:50:23Z</dcterms:modified>
  <cp:revision>8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